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786132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47280" y="4997160"/>
            <a:ext cx="786132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472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56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05520" y="469008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3400" y="469008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47280" y="499716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05520" y="499716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63400" y="499716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47280" y="4690080"/>
            <a:ext cx="786132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7861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47640" y="1668240"/>
            <a:ext cx="7772400" cy="65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472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47280" y="4690080"/>
            <a:ext cx="786132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56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280" y="4997160"/>
            <a:ext cx="786132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786132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7280" y="4997160"/>
            <a:ext cx="786132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472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56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05520" y="469008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63400" y="469008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47280" y="499716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05520" y="499716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63400" y="499716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7861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47640" y="1668240"/>
            <a:ext cx="7772400" cy="65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472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56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47280" y="4997160"/>
            <a:ext cx="786132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3942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810440" indent="-3942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205000" indent="-392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205000" indent="-392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205000" indent="-392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15920" algn="ctr">
              <a:lnSpc>
                <a:spcPct val="90000"/>
              </a:lnSpc>
              <a:spcBef>
                <a:spcPts val="901"/>
              </a:spcBef>
              <a:buClr>
                <a:srgbClr val="ffcc29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35240" indent="95040" algn="ctr">
              <a:lnSpc>
                <a:spcPct val="90000"/>
              </a:lnSpc>
              <a:spcBef>
                <a:spcPts val="751"/>
              </a:spcBef>
              <a:buClr>
                <a:srgbClr val="ffcc29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35200" indent="95040" algn="ctr">
              <a:lnSpc>
                <a:spcPct val="90000"/>
              </a:lnSpc>
              <a:spcBef>
                <a:spcPts val="751"/>
              </a:spcBef>
              <a:buClr>
                <a:srgbClr val="ffcc29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735200" indent="95040"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735200" indent="95040"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Demo Preshader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Other uses</a:t>
            </a: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	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en if preshaders are not used, looking at the preshaders generated using fxc.exe can help determine what constants should really be consum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ful as a compiler tool even if HLSL is used standalo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/ disassembles entire effect fi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xc –T fx_2_0 in.f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Standard Annotation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45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d to standardize the input to an effec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ws effects to work both inside a DCE application, a previewer, tool pipeline, and graphics eng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es a set of standard metadata for input variab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.e. notifies app of matrix inpu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.e. common texture metadata inf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Terminology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31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rd semanti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“second name” for a vari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d to identify the variable to the application to link to application dat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loat4x4 mWldView : WORLDVIEW;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Terminology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487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rd annot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ing/Value metadata on a vari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ch variable can have an arbitrary number of annotations, but only one semanti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fect for describing texture info, info on what a technique/pass do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xture MyTex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     string name = “tiger.bmp”;     &gt;;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How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01400" y="1236600"/>
            <a:ext cx="8388360" cy="48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ffect system loads and exposes all annotations and semantics in the source fi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application uses the standard to interpret the information loaded from the fi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textures and resources are loaded by the app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plication uses the standard as it meets the requirements of the effects the application wants to work wi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Why use the standard?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42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ws for compatibility between prototyping applic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me effect working acros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39420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Ed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39420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XCompos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39420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CC plug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39420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el file preview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ws for consistency between effects without enforcing naming polic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Examples of standard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rix semantic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39420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LD, WORLDVIEW, VIEWPROJ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cto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39420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MERAPOS, TI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xture metada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39420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name, format, et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Effect Standards Demo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Sample Code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24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ffectEd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39420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terial prototyping method of using effec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Model Previewer samp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39420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ject viewing approach to effec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39420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re similar to how games would use effec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7640" y="1996560"/>
            <a:ext cx="7772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D3DX Effect features</a:t>
            </a: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	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47280" y="4169880"/>
            <a:ext cx="7861320" cy="16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eb98"/>
                </a:solidFill>
                <a:latin typeface="Arial"/>
              </a:rPr>
              <a:t>Craig Peeper</a:t>
            </a:r>
            <a:endParaRPr b="1" lang="en-US" sz="2800" spc="-1" strike="noStrike">
              <a:solidFill>
                <a:srgbClr val="fceb9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eb98"/>
                </a:solidFill>
                <a:latin typeface="Arial"/>
              </a:rPr>
              <a:t>Dev Lead</a:t>
            </a:r>
            <a:endParaRPr b="1" lang="en-US" sz="2800" spc="-1" strike="noStrike">
              <a:solidFill>
                <a:srgbClr val="fceb9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eb98"/>
                </a:solidFill>
                <a:latin typeface="Arial"/>
              </a:rPr>
              <a:t>Windows</a:t>
            </a:r>
            <a:r>
              <a:rPr b="1" lang="en-US" sz="2800" spc="-1" strike="noStrike" baseline="30000">
                <a:solidFill>
                  <a:srgbClr val="fceb98"/>
                </a:solidFill>
                <a:latin typeface="Arial"/>
              </a:rPr>
              <a:t>®</a:t>
            </a:r>
            <a:r>
              <a:rPr b="1" lang="en-US" sz="2800" spc="-1" strike="noStrike">
                <a:solidFill>
                  <a:srgbClr val="fceb98"/>
                </a:solidFill>
                <a:latin typeface="Arial"/>
              </a:rPr>
              <a:t> Gaming &amp; Graphics Technologies</a:t>
            </a:r>
            <a:endParaRPr b="1" lang="en-US" sz="2800" spc="-1" strike="noStrike">
              <a:solidFill>
                <a:srgbClr val="fceb9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eb98"/>
                </a:solidFill>
                <a:latin typeface="Arial"/>
              </a:rPr>
              <a:t>Microsoft</a:t>
            </a:r>
            <a:r>
              <a:rPr b="1" lang="en-US" sz="2800" spc="-1" strike="noStrike" baseline="30000">
                <a:solidFill>
                  <a:srgbClr val="fceb98"/>
                </a:solidFill>
                <a:latin typeface="Arial"/>
              </a:rPr>
              <a:t>®</a:t>
            </a:r>
            <a:r>
              <a:rPr b="1" lang="en-US" sz="2800" spc="-1" strike="noStrike">
                <a:solidFill>
                  <a:srgbClr val="fceb98"/>
                </a:solidFill>
                <a:latin typeface="Arial"/>
              </a:rPr>
              <a:t> Corporation</a:t>
            </a:r>
            <a:endParaRPr b="1" lang="en-US" sz="28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60360" y="5904000"/>
            <a:ext cx="81486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© 2003-2004 Microsoft Corporation. All rights reserved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This presentation is for informational purposes only. Microsoft makes no warranties, express or implied, in this summary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>
            <a:lum bright="50000"/>
          </a:blip>
          <a:stretch/>
        </p:blipFill>
        <p:spPr>
          <a:xfrm>
            <a:off x="1598760" y="2516040"/>
            <a:ext cx="5913360" cy="1276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New Effect Feature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1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shad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rd semantics/annot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What is a Preshader?</a:t>
            </a: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	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preshader is code that is constant at runtime that has been extracted from a pixel or vertex shad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.e.  mWorldView = mul(mWorld, mView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Example Preshader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46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oat4 main(float4 vDiffuse : COLOR0) : COLOR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turn MaterialEmissiv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+ MaterialAmbient * WorldAmbien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+ MaterialDiffuse * LightDiffuse * vDiffuse 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// Unusual for a pixel shader, but have se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// similar code in vertex shad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Generated Code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4289400" cy="44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/preshad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 r0, c3, c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c1, r0, c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 c0, c0, c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/ 3 instru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s_2_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cl v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v r0, c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d r0, r0, v0, c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v oC0, r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/ 3 instru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33920" y="1442880"/>
            <a:ext cx="42894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54600" y="1459080"/>
            <a:ext cx="4289400" cy="53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// no presh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s_2_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cl v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ov r0, c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ov r1, c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ad r1, r0, r1, c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ov r0, c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ul r0, r0, c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ad r0, r0, v0, r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mov oC0, r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//  7 instru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Why?</a:t>
            </a: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	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039320"/>
            <a:ext cx="838836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rd to detect all generated consta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s performance when developing eff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 depend on pre-shader to make things work, until the final set of input variables is decide 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mplifies interface to effect fi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the worldview case, all effects could take the base matrices and generate the ones needed with little runtime overhe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Performance Test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ph of with pre-shaders versus withou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How to enable?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y default preshaders are enabl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shaders compiled in effects generate both the runtime and preshader co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ffect runs preshader code when needed to generate run-time consta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n be disabled by effect compiler fla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3DXSHADER_NO_PRESHAD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23:09:39Z</dcterms:created>
  <dc:creator>Craig Peeper</dc:creator>
  <dc:description>Template design: Revision by C. Witter, SFP
Formatter:
Event Date:
Event Location:
Speech Length:
Audience:
Key Topics:</dc:description>
  <dc:language>en-US</dc:language>
  <cp:lastModifiedBy>Kevin Gee</cp:lastModifiedBy>
  <dcterms:modified xsi:type="dcterms:W3CDTF">2004-03-15T19:23:24Z</dcterms:modified>
  <cp:revision>28</cp:revision>
  <dc:subject>Event Name Goes Here</dc:subject>
  <dc:title>Slide 1</dc:title>
</cp:coreProperties>
</file>