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85C5-B791-46C6-929E-5C1ADCCAA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0 what’s new/what’s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vFace exampl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at4 main(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at vFace : </a:t>
            </a: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VFA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at4 FrontColor : COLOR0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at4 BackColor : COLOR1): COLOR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{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turn (vFace &gt; 0) ? FrontColor : BackColor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vFace asm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20680" y="1415880"/>
            <a:ext cx="7648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s_3_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cl vF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cl_color v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cl_color1 v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 r0, v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mp oC0, -vFace.x, r0, v1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vPo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4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ains the screen coordin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x and y are avail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ed by the “vPos” semant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oat4 PS (float2 vPos : VPOS) : COLOR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urn tex2D(Background,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os * NormalizationConstant)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VS/PS linkage in vs_3_0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3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ead of writing to defined registers in vs_3_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s are to o# regis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o# used is specified with a semantic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xing and matching of VS/PS is possible just like matching of VB/V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semantics are valid for o#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have special mea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SzPct val="1171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SIZE, POSITION0, POSITIONT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NOT mix versions  (???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entroid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6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odification of how texture coordinates are interpolated to ensure that texture coordinates are within the area of the texture specified by the three vertex texture coordin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ly used when packing multiple textures together and MSAA is enabled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MSAA it is easy for texcoords outside the triangle specified by the vertices to be access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entroid Pic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entroid exampl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7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ntroid is a modifier on inpu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ifier on the semant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oat4 PS(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oat2 Tex: TEXCOORD0_CENTROI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urn tex2D(s, Tex)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entroid Vs No Centroid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Derivative Operator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2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pported by ps_2_a and ps_3_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rete differences computed by running 4 pixels in lockste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be computed on any value in a sha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ful for manually computing texture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ed by dsx/dsy intrins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Derivative exampl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1832400"/>
            <a:ext cx="825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Microsoft</a:t>
            </a:r>
            <a:r>
              <a:rPr b="1" lang="en-US" sz="3600" spc="-1" strike="noStrike" baseline="30000">
                <a:solidFill>
                  <a:srgbClr val="ffcc29"/>
                </a:solidFill>
                <a:latin typeface="Arial"/>
              </a:rPr>
              <a:t>®</a:t>
            </a: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 DirectX</a:t>
            </a:r>
            <a:r>
              <a:rPr b="1" lang="en-US" sz="3600" spc="-1" strike="noStrike" baseline="30000">
                <a:solidFill>
                  <a:srgbClr val="ffcc29"/>
                </a:solidFill>
                <a:latin typeface="Arial"/>
              </a:rPr>
              <a:t>®</a:t>
            </a: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High Level Shader Language (HLSL)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47280" y="4169880"/>
            <a:ext cx="830916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Craig Peeper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Dev Lead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Windows</a:t>
            </a:r>
            <a:r>
              <a:rPr b="1" lang="en-US" sz="2800" spc="-1" strike="noStrike" baseline="30000">
                <a:solidFill>
                  <a:srgbClr val="fceb98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 Gaming and Graphics Technologies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Microsoft</a:t>
            </a:r>
            <a:r>
              <a:rPr b="1" lang="en-US" sz="2800" spc="-1" strike="noStrike" baseline="30000">
                <a:solidFill>
                  <a:srgbClr val="fceb98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 Corporation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exDD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1160" y="1275840"/>
            <a:ext cx="8388360" cy="42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s the gradients of a texture to be provide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DD is the method to pre-calc gradients and do lookups lat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in conjunction with dsx/dsy to do texture lookups inside flow con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adients cannot be calculated inside flow contr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ludes instructions that compute gradi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SzPct val="1171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ld and other basic tex in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Understanding gradient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0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p levels are chosen by the speed at which texture coordinates are changing with respect to screen sp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acobian transforms the derivative from screen space to texture spa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Vertex shader profile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S_2_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S_2_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S_3_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VS_2_0 profil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26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2 temp regis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c branching/looping sup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put to fixed regis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6 instr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VS_2_a profil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 temp regis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branching/loop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put to fixed regis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6 instr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VS_3_0 profil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1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2 temp regis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loop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put to decl’d regis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ure sampling sup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12 instructions (minimu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exture lookups from VS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55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S_3_0 adds support for texld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ure lookups with the LOD specifi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 samplers to read f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be used f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placement mapp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nder a texture and then use in V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al ani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ts of other fun th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be significantly slower than not doing look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Vertex Texture Lookup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pler s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oat4 main(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oat4 Tex: TEXCOORD0): POSITION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/ LOD is stored in .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turn tex2Dlod(s, Tex)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Vertex Texture Lookup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vs_3_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cl_texcoord v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dcl_2d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cl_position o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29"/>
                </a:solidFill>
                <a:latin typeface="Arial"/>
              </a:rPr>
              <a:t>texldl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o0, v0, s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Vertex Texture Lookup Demo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HLSL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1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xel shader profi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tex shader profi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2.0 vs 3.0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ixel Shader 3.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much different from 2.0 with ca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llent min spec vs ca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itional input registers (vFace,vPo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ping and Branch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ll 32bit floating poi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tex Shader 3.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tem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ure lookups!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04920" y="1066320"/>
            <a:ext cx="8578800" cy="31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eck out the latest DX9 SDK and watch out for update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it in your research &amp;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 us know what you thin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x@microsoft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ction Item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590400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© 2003-2004 Microsoft Corporation. All rights reserv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1598760" y="2516040"/>
            <a:ext cx="5913360" cy="12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Flow Control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6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ranching sup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lin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oping suppo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really dynamic, but static with break_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rol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tatic Flow Control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6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d when if statement branches based on bool variab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the code that is on the side taken is execu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some hardware it is free on some n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d with vs_2_0 and vs_2_a profi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Static Flow Control Example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Dynamic Flow Control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2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d when if statement branches based on runtime val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heuristic is used to avoid dynamic branches if the code skipped is smal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the code that is on the side taken is execu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d in the vs_2_a pro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Dynamic Flow Control Example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Inlined Flow Control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0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when profile target does not support required flow con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so used when an if block would be more expensive than executing both sides of the i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oth the if and else parts are execu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pending on the conditions this can be expensive or chea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by all prof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Inlined Flow Control Example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12960" y="3165480"/>
            <a:ext cx="65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06668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f (Value &gt;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ition = Value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ition = Value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1790a"/>
                </a:solidFill>
                <a:latin typeface="Times New Roman"/>
              </a:rPr>
              <a:t>// calculate lerp value based on Value &gt;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ov r1.w, c2.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lt r0.w, c3.x, r1.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1790a"/>
                </a:solidFill>
                <a:latin typeface="Times New Roman"/>
              </a:rPr>
              <a:t>// lerp between Value1 and Val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ov r7, -c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d r2, r7, c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ad oPos, r0.w, r2, c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ixel Shader profile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s_2_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s_2_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s_2_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s_3_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tatic Looping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6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d when int LoopCount used to limit loop iter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s with all loop types: for, while, do wh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ly easiest to use via for synta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be efficient for reducing number of executed instru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some hardware it is free on some no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d with vs_2_0 and vs_2_a profi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Static Looping Example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Dynamic Looping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88360" cy="446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ynamic looping is not explicitly present in current shader mode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tatic loop combined with a break statement can be used to implement one thoug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when a loop counter is determined at runtim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uristics are used to determine if loops should be unrolled or not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in the vs_2_a prof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Dynamic Looping Example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Unrolled loop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0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when profile target does not support required flow con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number of iterations is known in advance, this is usually the fastest loop metho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 loops with arbitrary end conditions can be unrolled if maximum number of iterations is know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d by all profi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Unrolled loops Example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12960" y="3165480"/>
            <a:ext cx="656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0666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Flow control performanc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3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static and dynamic flow control can dramatically slow down sha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c flow control is very cheap on some hardware, but not on s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n used correctly can dramatically decrease number of shader switches and associated CPU overhea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.e. Unrolled loops that have variable end conditions can be dramatically faster than static looping on certain hardwar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s_2_0 profile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9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temp regis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texture coordinates/2 col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6 samplers (textur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2 texture looku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4 arithmetic instru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 of 4 dependent texture looku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 swizz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branch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oid support (caps bi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s_2_a profil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2 regis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12 instructions (texture &amp; arithmetic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 texture coordinates/2 col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branch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X/DSY instru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bitrary Swizz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dependent texture read limi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oid support (caps bi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s_2_b profile (new)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6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2 regis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 texture coordinates/2 col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12 instructions (texture and arithmeti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branch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ntroid support (caps bi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s_3_0 (new)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6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mi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12 instructions (minimum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2 regis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 attribute iterators (texcoord/color/etc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SX/DSY sup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anching sup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Face and vPos sup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ntroid sup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vFac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4680" y="1060200"/>
            <a:ext cx="838836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Face allows for double sided ligh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vFace is posi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SzPct val="1171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angle is facing the ey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negativ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751"/>
              </a:spcBef>
              <a:buSzPct val="1171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angle is facing away from the ey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E: vFace is only allowed in CMP and branch instruc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HLSL vFace is specifed by the semantic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vFace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be used in arbitrary expressions, will be mapped to the value -1 to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8:03:54Z</dcterms:created>
  <dc:creator>Craig Peeper</dc:creator>
  <dc:description>Template design: Revision by C. Witter, SFP
Formatter:
Event Date:
Event Location:
Speech Length:
Audience:
Key Topics:</dc:description>
  <dc:language>en-US</dc:language>
  <cp:lastModifiedBy>Kevin Gee</cp:lastModifiedBy>
  <dcterms:modified xsi:type="dcterms:W3CDTF">2004-03-15T19:18:40Z</dcterms:modified>
  <cp:revision>51</cp:revision>
  <dc:subject>Event Name Goes Here</dc:subject>
  <dc:title>Slide 1</dc:title>
</cp:coreProperties>
</file>