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FE41-5DA5-49DF-B950-F3BBF30E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here this trips everyone up STILL?  Locking vertex buffers incorrectly :’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rminolog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78800" cy="45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 Sampling Prof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kes up at regular interval and records the functions being exec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guarantee function recorded will be your proce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gives %age spent in each fun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nimal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ains idle the majority of th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 on existing code without modif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1572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rminolog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7880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 Instrumenting Prof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rt and stop delimiters required for each area being measured, either by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iling into the ap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cepting code entry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te timing results for each area being measu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can be significant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filing cost affects any absolute ti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rerequisites for Profil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578800" cy="50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 what you want in order to determine when you have succee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e your graphics performance as %age of frame bud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 performance goals for a variety of known scen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ten driven by minimum and recommended requir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.g. &lt;n&gt; Animated objects, &lt;m&gt; Static objec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= 20fps on 733PIII, 128Mb 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rerequisites for Profil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578800" cy="442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erministic Behavi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e truly random numb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seudo-based generator with known, repeatable,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is no longer physica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ffects more than graphics pip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I, Physics, Collisions, Visibility schemes, Game code, et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optimized build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just a release build from the comp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all that “test” code, OutputDebugString(), et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rerequisites for Profil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578800" cy="49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X conside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Direct3D Debug runtime first to ensure no warnings nor err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 the Debug Output sli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Maximum Validation bo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latest runtime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make sure you’re running on Retail bits when actually profi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Retail bits, not just Direct3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sync to refresh r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3DPRESENT_INTERVAL_IMMEDI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sure you’re not waiting on D3DQUERYTYPE_EVENT resul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ix for Window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50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rame-based performance profil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rumentation by Code Interce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not require source c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s on retail c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ess you tell your app to disable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head varies based on workload analysis and cap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PS only to full machine cap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rrently multi-frame, single frame deep analysis on way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Demo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6400800" cy="5645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Demo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6476760" cy="575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upported 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388360" cy="31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X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3D 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versions will support future operating systems and Direct3D ver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Future features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79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frame statistics and counters, including D3D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 # of effect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-frame scene cap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ptured scene analy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ection and report of “Bad” Direct3D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 track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ck Direct3D object create/destroy and show object tree for any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te session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el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 us prioritiz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Performance &amp; PIX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267080"/>
            <a:ext cx="7848720" cy="17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Mike Burrows</a:t>
            </a:r>
            <a:br>
              <a:rPr sz="3600"/>
            </a:b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 Gaming &amp; Graphics Technologies</a:t>
            </a:r>
            <a:br>
              <a:rPr sz="2800"/>
            </a:b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Where Can I Get PIX?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388360" cy="32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 Beta n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Arial"/>
              </a:rPr>
              <a:t>http://www.beta.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on the DirectX be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Arial"/>
              </a:rPr>
              <a:t>mailto:dx9beta@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edback, suggestions, et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cc66"/>
                </a:solidFill>
                <a:latin typeface="Arial"/>
              </a:rPr>
              <a:t>mailto:directx@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117360"/>
            <a:ext cx="876312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Graphics Performance Bottlenecks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8840" y="879480"/>
            <a:ext cx="1036440" cy="71928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un A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87600" y="957240"/>
            <a:ext cx="1062000" cy="60012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mebuffer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P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027240" y="812880"/>
            <a:ext cx="1360440" cy="88092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27600" y="88416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rame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0" y="1965240"/>
            <a:ext cx="1062000" cy="60012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 tex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ze/filter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27240" y="1820880"/>
            <a:ext cx="1360440" cy="88092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87600" y="2973240"/>
            <a:ext cx="1062000" cy="60012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27240" y="2828880"/>
            <a:ext cx="1360440" cy="88128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27600" y="189216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27600" y="2973240"/>
            <a:ext cx="1062000" cy="60012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 #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ixel Sha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269040" y="2828880"/>
            <a:ext cx="1360440" cy="88128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87600" y="3981600"/>
            <a:ext cx="1062000" cy="59976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27240" y="3836880"/>
            <a:ext cx="1360440" cy="88128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27600" y="390852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ertex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87600" y="4989600"/>
            <a:ext cx="1062000" cy="600120"/>
          </a:xfrm>
          <a:prstGeom prst="flowChartProcess">
            <a:avLst/>
          </a:prstGeom>
          <a:solidFill>
            <a:srgbClr val="fce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y vertex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mat size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P 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27240" y="4844880"/>
            <a:ext cx="1360440" cy="881280"/>
          </a:xfrm>
          <a:prstGeom prst="flowChartDecision">
            <a:avLst/>
          </a:prstGeom>
          <a:solidFill>
            <a:srgbClr val="ffed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aries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27600" y="491652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G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5" idx="6"/>
            <a:endCxn id="226" idx="1"/>
          </p:cNvCxnSpPr>
          <p:nvPr/>
        </p:nvCxnSpPr>
        <p:spPr>
          <a:xfrm>
            <a:off x="1295280" y="1239480"/>
            <a:ext cx="293040" cy="1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3" name=""/>
          <p:cNvCxnSpPr>
            <a:stCxn id="226" idx="3"/>
            <a:endCxn id="227" idx="1"/>
          </p:cNvCxnSpPr>
          <p:nvPr/>
        </p:nvCxnSpPr>
        <p:spPr>
          <a:xfrm flipV="1">
            <a:off x="2649240" y="1253520"/>
            <a:ext cx="3783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4" name=""/>
          <p:cNvCxnSpPr>
            <a:stCxn id="227" idx="3"/>
            <a:endCxn id="228" idx="2"/>
          </p:cNvCxnSpPr>
          <p:nvPr/>
        </p:nvCxnSpPr>
        <p:spPr>
          <a:xfrm flipV="1">
            <a:off x="4387680" y="1243800"/>
            <a:ext cx="440640" cy="10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5" name=""/>
          <p:cNvCxnSpPr>
            <a:stCxn id="227" idx="2"/>
            <a:endCxn id="229" idx="1"/>
          </p:cNvCxnSpPr>
          <p:nvPr/>
        </p:nvCxnSpPr>
        <p:spPr>
          <a:xfrm rot="5400000">
            <a:off x="2361240" y="919080"/>
            <a:ext cx="572400" cy="2121480"/>
          </a:xfrm>
          <a:prstGeom prst="bentConnector4">
            <a:avLst>
              <a:gd name="adj1" fmla="val 23599"/>
              <a:gd name="adj2" fmla="val 110777"/>
            </a:avLst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6" name=""/>
          <p:cNvCxnSpPr>
            <a:stCxn id="230" idx="2"/>
            <a:endCxn id="231" idx="1"/>
          </p:cNvCxnSpPr>
          <p:nvPr/>
        </p:nvCxnSpPr>
        <p:spPr>
          <a:xfrm rot="5400000">
            <a:off x="2361240" y="1927080"/>
            <a:ext cx="572400" cy="2121480"/>
          </a:xfrm>
          <a:prstGeom prst="bentConnector4">
            <a:avLst>
              <a:gd name="adj1" fmla="val 23599"/>
              <a:gd name="adj2" fmla="val 110777"/>
            </a:avLst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7" name=""/>
          <p:cNvCxnSpPr>
            <a:stCxn id="232" idx="2"/>
            <a:endCxn id="236" idx="1"/>
          </p:cNvCxnSpPr>
          <p:nvPr/>
        </p:nvCxnSpPr>
        <p:spPr>
          <a:xfrm rot="5400000">
            <a:off x="2361600" y="2935080"/>
            <a:ext cx="572040" cy="2121480"/>
          </a:xfrm>
          <a:prstGeom prst="bentConnector4">
            <a:avLst>
              <a:gd name="adj1" fmla="val 23551"/>
              <a:gd name="adj2" fmla="val 110777"/>
            </a:avLst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48" name=""/>
          <p:cNvCxnSpPr>
            <a:stCxn id="237" idx="2"/>
            <a:endCxn id="239" idx="1"/>
          </p:cNvCxnSpPr>
          <p:nvPr/>
        </p:nvCxnSpPr>
        <p:spPr>
          <a:xfrm rot="5400000">
            <a:off x="2361600" y="3943080"/>
            <a:ext cx="572040" cy="2121480"/>
          </a:xfrm>
          <a:prstGeom prst="bentConnector4">
            <a:avLst>
              <a:gd name="adj1" fmla="val 23551"/>
              <a:gd name="adj2" fmla="val 110777"/>
            </a:avLst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sp>
        <p:nvSpPr>
          <p:cNvPr id="249" name=""/>
          <p:cNvSpPr/>
          <p:nvPr/>
        </p:nvSpPr>
        <p:spPr>
          <a:xfrm>
            <a:off x="7696080" y="232416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ixel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ha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96080" y="347652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ill 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00600" y="5832360"/>
            <a:ext cx="1081080" cy="720720"/>
          </a:xfrm>
          <a:prstGeom prst="flowChartConnector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mi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0" idx="2"/>
            <a:endCxn id="251" idx="2"/>
          </p:cNvCxnSpPr>
          <p:nvPr/>
        </p:nvCxnSpPr>
        <p:spPr>
          <a:xfrm flipH="1" rot="16200000">
            <a:off x="4021200" y="5412960"/>
            <a:ext cx="467280" cy="109296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3" name=""/>
          <p:cNvCxnSpPr>
            <a:stCxn id="235" idx="0"/>
            <a:endCxn id="249" idx="2"/>
          </p:cNvCxnSpPr>
          <p:nvPr/>
        </p:nvCxnSpPr>
        <p:spPr>
          <a:xfrm flipH="1" flipV="1" rot="5400000">
            <a:off x="7250760" y="2383200"/>
            <a:ext cx="144720" cy="74664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4" name=""/>
          <p:cNvCxnSpPr>
            <a:stCxn id="235" idx="2"/>
            <a:endCxn id="250" idx="2"/>
          </p:cNvCxnSpPr>
          <p:nvPr/>
        </p:nvCxnSpPr>
        <p:spPr>
          <a:xfrm flipH="1" rot="16200000">
            <a:off x="7259760" y="3400200"/>
            <a:ext cx="127440" cy="746640"/>
          </a:xfrm>
          <a:prstGeom prst="bentConnector2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5" name=""/>
          <p:cNvCxnSpPr>
            <a:stCxn id="230" idx="3"/>
            <a:endCxn id="233" idx="2"/>
          </p:cNvCxnSpPr>
          <p:nvPr/>
        </p:nvCxnSpPr>
        <p:spPr>
          <a:xfrm flipV="1">
            <a:off x="4387680" y="2251800"/>
            <a:ext cx="440640" cy="1044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6" name=""/>
          <p:cNvCxnSpPr>
            <a:stCxn id="232" idx="3"/>
            <a:endCxn id="234" idx="1"/>
          </p:cNvCxnSpPr>
          <p:nvPr/>
        </p:nvCxnSpPr>
        <p:spPr>
          <a:xfrm>
            <a:off x="4387680" y="3269880"/>
            <a:ext cx="44064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7" name=""/>
          <p:cNvCxnSpPr>
            <a:stCxn id="237" idx="3"/>
            <a:endCxn id="238" idx="2"/>
          </p:cNvCxnSpPr>
          <p:nvPr/>
        </p:nvCxnSpPr>
        <p:spPr>
          <a:xfrm flipV="1">
            <a:off x="4387680" y="4268520"/>
            <a:ext cx="440640" cy="10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8" name=""/>
          <p:cNvCxnSpPr>
            <a:stCxn id="240" idx="3"/>
            <a:endCxn id="241" idx="2"/>
          </p:cNvCxnSpPr>
          <p:nvPr/>
        </p:nvCxnSpPr>
        <p:spPr>
          <a:xfrm flipV="1">
            <a:off x="4387680" y="5276520"/>
            <a:ext cx="440640" cy="10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59" name=""/>
          <p:cNvCxnSpPr>
            <a:stCxn id="234" idx="3"/>
            <a:endCxn id="235" idx="1"/>
          </p:cNvCxnSpPr>
          <p:nvPr/>
        </p:nvCxnSpPr>
        <p:spPr>
          <a:xfrm flipV="1">
            <a:off x="5889600" y="3269520"/>
            <a:ext cx="3801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sp>
        <p:nvSpPr>
          <p:cNvPr id="260" name=""/>
          <p:cNvSpPr/>
          <p:nvPr/>
        </p:nvSpPr>
        <p:spPr>
          <a:xfrm>
            <a:off x="4395960" y="1100160"/>
            <a:ext cx="215640" cy="144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87600" y="2612880"/>
            <a:ext cx="174600" cy="141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87600" y="1604880"/>
            <a:ext cx="174600" cy="141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87600" y="3621240"/>
            <a:ext cx="174600" cy="141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6680" y="3836880"/>
            <a:ext cx="174600" cy="141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87600" y="4629240"/>
            <a:ext cx="174600" cy="1411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47960" y="5708520"/>
            <a:ext cx="174600" cy="1414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95960" y="2108160"/>
            <a:ext cx="215640" cy="144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95960" y="3116160"/>
            <a:ext cx="215640" cy="144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16680" y="2541600"/>
            <a:ext cx="216000" cy="144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95960" y="4124160"/>
            <a:ext cx="215640" cy="14472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95960" y="5133960"/>
            <a:ext cx="215640" cy="1443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29" idx="3"/>
            <a:endCxn id="230" idx="1"/>
          </p:cNvCxnSpPr>
          <p:nvPr/>
        </p:nvCxnSpPr>
        <p:spPr>
          <a:xfrm flipV="1">
            <a:off x="2649240" y="2261520"/>
            <a:ext cx="3783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73" name=""/>
          <p:cNvCxnSpPr>
            <a:stCxn id="231" idx="3"/>
            <a:endCxn id="232" idx="1"/>
          </p:cNvCxnSpPr>
          <p:nvPr/>
        </p:nvCxnSpPr>
        <p:spPr>
          <a:xfrm flipV="1">
            <a:off x="2649240" y="3269520"/>
            <a:ext cx="3783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74" name=""/>
          <p:cNvCxnSpPr>
            <a:stCxn id="236" idx="3"/>
            <a:endCxn id="237" idx="1"/>
          </p:cNvCxnSpPr>
          <p:nvPr/>
        </p:nvCxnSpPr>
        <p:spPr>
          <a:xfrm flipV="1">
            <a:off x="2649240" y="4277520"/>
            <a:ext cx="3783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  <p:cxnSp>
        <p:nvCxnSpPr>
          <p:cNvPr id="275" name=""/>
          <p:cNvCxnSpPr>
            <a:stCxn id="239" idx="3"/>
            <a:endCxn id="240" idx="1"/>
          </p:cNvCxnSpPr>
          <p:nvPr/>
        </p:nvCxnSpPr>
        <p:spPr>
          <a:xfrm flipV="1">
            <a:off x="2649240" y="5285520"/>
            <a:ext cx="378360" cy="39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sm" type="triangle" w="med"/>
          </a:ln>
        </p:spPr>
      </p:cxn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Graphics Performance Bottlenecks</a:t>
            </a:r>
            <a:br>
              <a:rPr sz="4000"/>
            </a:b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CPU / GPU in Lock-Step</a:t>
            </a:r>
            <a:endParaRPr b="1" lang="en-US" sz="32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1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5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st way to kill any parallelism without malicious intent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5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k resources without consid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78240" y="4343400"/>
            <a:ext cx="1865160" cy="75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reformatting 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er to G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560" y="4572000"/>
            <a:ext cx="170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untime  / Dr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879560" y="3657600"/>
            <a:ext cx="1744560" cy="685800"/>
          </a:xfrm>
          <a:prstGeom prst="rect">
            <a:avLst/>
          </a:prstGeom>
          <a:solidFill>
            <a:srgbClr val="fa74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7240" y="380988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24600" y="3657600"/>
            <a:ext cx="1091880" cy="685800"/>
          </a:xfrm>
          <a:prstGeom prst="rect">
            <a:avLst/>
          </a:prstGeom>
          <a:solidFill>
            <a:srgbClr val="fa74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k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83400" y="3657600"/>
            <a:ext cx="1103400" cy="685800"/>
          </a:xfrm>
          <a:prstGeom prst="rect">
            <a:avLst/>
          </a:prstGeom>
          <a:solidFill>
            <a:srgbClr val="fa74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c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5105520"/>
            <a:ext cx="3135240" cy="685800"/>
          </a:xfrm>
          <a:prstGeom prst="rect">
            <a:avLst/>
          </a:prstGeom>
          <a:solidFill>
            <a:srgbClr val="66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being used by G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7960" y="5302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P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574040" y="4447800"/>
            <a:ext cx="0" cy="282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609120" y="5105520"/>
            <a:ext cx="8153640" cy="0"/>
          </a:xfrm>
          <a:prstGeom prst="line">
            <a:avLst/>
          </a:prstGeom>
          <a:ln cap="rnd" w="324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09120" y="5791320"/>
            <a:ext cx="8153640" cy="0"/>
          </a:xfrm>
          <a:prstGeom prst="line">
            <a:avLst/>
          </a:prstGeom>
          <a:ln cap="rnd" w="324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09120" y="4343400"/>
            <a:ext cx="8153640" cy="0"/>
          </a:xfrm>
          <a:prstGeom prst="line">
            <a:avLst/>
          </a:prstGeom>
          <a:ln cap="rnd" w="324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609120" y="3657600"/>
            <a:ext cx="8153640" cy="0"/>
          </a:xfrm>
          <a:prstGeom prst="line">
            <a:avLst/>
          </a:prstGeom>
          <a:ln cap="rnd" w="3240">
            <a:solidFill>
              <a:srgbClr val="66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2895480"/>
            <a:ext cx="301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ication forced to wait since resource is i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6773760" y="2874600"/>
            <a:ext cx="120600" cy="1342800"/>
          </a:xfrm>
          <a:custGeom>
            <a:avLst/>
            <a:gdLst>
              <a:gd name="textAreaLeft" fmla="*/ 0 w 120600"/>
              <a:gd name="textAreaRight" fmla="*/ 43560 w 120600"/>
              <a:gd name="textAreaTop" fmla="*/ 34920 h 1342800"/>
              <a:gd name="textAreaBottom" fmla="*/ 1307880 h 134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8534520" cy="46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 indexed tri-lis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st way to fully utilize the pre- and post-TnL cach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-order vertices to be sequential in 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D3DXOptimize*() and D3DXWeldVertices() routi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o maximize cache usage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Be considerate of batch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as many vertices per DrawPrim call as makes s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70000"/>
              </a:lnSpc>
              <a:spcBef>
                <a:spcPts val="751"/>
              </a:spcBef>
              <a:buSzPct val="1171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Don’t overly tax the CPU to have maximal batc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se a vertex shader to batch instanced geomet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nsider a Z-Prep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General Graphics Performance Tip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General Graphics Performance Tip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8836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rt objects front to bac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Sort batches per material/effect and render st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in flexibil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if you use a scene graph then you can easily experiment with alternative sorting algorithms for rendering by material, by model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CPU / GPU block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ver stall waiting for an I/O op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default models, materials and textures with background loading to amortize costs whilst hiding them from the us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388360" cy="415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ortiz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/ destroy resources either at predetermined times or minimize the number per frame to a sa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ding co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lready mentioned have default objects to failback to if a resource is not immediately avai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put everything on the same thr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don’t put everything on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ffer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reads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k with Windows, not against 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XP is the majority gaming platform out there by f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for XP, fall-back to Windows 9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code- not ANSI.  NTFS- not FAT32, et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memory, Virtual* functions, et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the Windows Performance Cou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 your own subsets for use with PIX for Window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dvantage of the additional memory over a console where it makes sen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-calculate rather than recalcul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utputDebugString() is a double-edged 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934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of your most powerful performance tools is your compil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latest ver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7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timizer in native compiler improves in each vers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 and love your compiler flag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ile for the CPUs you are targe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hould all have moved to PIII+ no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70000"/>
              </a:lnSpc>
              <a:spcBef>
                <a:spcPts val="751"/>
              </a:spcBef>
              <a:buSzPct val="1171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get auto SSE code generated for FP 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Studio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.Net 200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ank up the warning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gen concerns, 64-bit warnings, et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 considerate of alignment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901"/>
              </a:spcBef>
              <a:buSzPct val="11401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Tune can be real handy he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7880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TFS is very fast at loading large 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security over FAT32 requires more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ven with FAT32 Virus Checkers are prevalent now and will add to the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void opening and closing the same file frequen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many files infr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ally use packed data files with linear data access pattern and keep the file op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5788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ive the system information about your usage patter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e FILE_SCAN_SEQUENTIAL flag in CreateFile( ) cal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ptimizes access when you read through a file from start to finis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S will read-ahead of your acce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deally organise your data in order requi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rticularly if reading from CD or DV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uplicate data as necessary to keep sequential read pattern if game is fundamentally linear in na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requisites for Profi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X for Window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ormance Tip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78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Use LoadLibrary() to control DLL load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ives you control over when DLLs get load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 function pointer syntax means your code can look the s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ternatively use “Delay Load” linker set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llows your app to start up quick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228320"/>
            <a:ext cx="8578800" cy="490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ll DisableThreadLibraryCalls(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Usually DLLMain gets called with DLL_THREAD_ATTACH for each new thread in a proc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ost DLLs don’t use this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uld just return straight away from DLLMain in this case, but by that time the code has already been paged i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alling DisableThreadLibraryCalls() prevents the system making the call in the first pl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78800" cy="47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tatically initialize DLL global variables o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clare constant variables as con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ompiler may omit the variable altogeth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ill be placed in read only sec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mproves paging characteristics, since read/write pages will be more densely packed with genuine read/writ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ell the compiler which type of exception handling your using (if any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cc29"/>
                </a:solidFill>
                <a:latin typeface="Arial"/>
              </a:rPr>
              <a:t>General Performance Ti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578800" cy="47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emory may not be random-ac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.g. write DWORD to 2 megabytes of paged memory (4k page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st case = 512 page faults, written seri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orst case = ˜1,000,000 page faults (1024 square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sume each page fault takes 10 milliseco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st case = 5 seconds (512 * 10m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orst case = 2.75 hours (1,000,000 * 10ms = 10,000 secon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Call to Action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y PIX for Windows no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8a2e"/>
                </a:solidFill>
                <a:latin typeface="Arial"/>
              </a:rPr>
              <a:t>http://www.beta.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ke profiling a regular rout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can help, but not if everyone asks in the few weeks prior to Thanksgiv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you’re not on the DirectX beta get on it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8a2e"/>
                </a:solidFill>
                <a:latin typeface="Arial"/>
              </a:rPr>
              <a:t>mailto:dx9beta@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edback, suggestions, et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8a2e"/>
                </a:solidFill>
                <a:latin typeface="Arial"/>
              </a:rPr>
              <a:t>mailto:directx@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82400" y="228600"/>
            <a:ext cx="73278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396252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213372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495680" y="228600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274320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46483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4320" y="19810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86200" y="3809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8880" y="3352680"/>
            <a:ext cx="609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562720" y="281952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472428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19810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jority of issues we see are not related to graphics API or GPU us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ity are I/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ing Resources, VMM, Texture Thrash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me API rel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ong flags, incorrect choices, assum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ainder are “Real” Graphics proble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iver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age assump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gorithmic inefficienc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7010280" y="1676520"/>
            <a:ext cx="1905120" cy="4114800"/>
          </a:xfrm>
          <a:prstGeom prst="rect">
            <a:avLst/>
          </a:pr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676520"/>
            <a:ext cx="6781680" cy="4114800"/>
          </a:xfrm>
          <a:prstGeom prst="rect">
            <a:avLst/>
          </a:prstGeom>
          <a:solidFill>
            <a:srgbClr val="66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895480"/>
            <a:ext cx="129564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2895480"/>
            <a:ext cx="129564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276720"/>
            <a:ext cx="380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895480"/>
            <a:ext cx="129528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irect3D Run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21896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327672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133720"/>
            <a:ext cx="1981440" cy="6094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2e8a2e"/>
              </a:gs>
              <a:gs pos="100000">
                <a:srgbClr val="ffcc29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to 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038480" y="388620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29"/>
              </a:gs>
              <a:gs pos="100000">
                <a:srgbClr val="2e8a2e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nel to U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106668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2971800"/>
            <a:ext cx="1219320" cy="60948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e"/>
                </a:solidFill>
                <a:latin typeface="Arial"/>
              </a:rPr>
              <a:t>Command Buf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43800" y="17524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467480" y="2895480"/>
            <a:ext cx="129564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Video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327672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800600"/>
            <a:ext cx="685800" cy="914400"/>
          </a:xfrm>
          <a:prstGeom prst="can">
            <a:avLst>
              <a:gd name="adj" fmla="val 25000"/>
            </a:avLst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657600"/>
            <a:ext cx="533520" cy="53352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685800" y="3657240"/>
            <a:ext cx="457200" cy="10666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411480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362320" y="4648320"/>
            <a:ext cx="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457200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3657600"/>
            <a:ext cx="0" cy="8380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105520"/>
            <a:ext cx="990360" cy="53316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334120"/>
            <a:ext cx="838440" cy="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3657600"/>
            <a:ext cx="38088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066680"/>
            <a:ext cx="82296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filing Direct3D Apps is Diffic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133720"/>
            <a:ext cx="5715000" cy="4572000"/>
          </a:xfrm>
          <a:prstGeom prst="ellipse">
            <a:avLst/>
          </a:prstGeom>
          <a:solidFill>
            <a:srgbClr val="fceb98">
              <a:alpha val="20000"/>
            </a:srgbClr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PU profilers only give part of th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1752480"/>
            <a:ext cx="1904760" cy="4114800"/>
          </a:xfrm>
          <a:prstGeom prst="rect">
            <a:avLst/>
          </a:pr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752480"/>
            <a:ext cx="6782040" cy="4114800"/>
          </a:xfrm>
          <a:prstGeom prst="rect">
            <a:avLst/>
          </a:prstGeom>
          <a:solidFill>
            <a:srgbClr val="66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2971800"/>
            <a:ext cx="129528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971800"/>
            <a:ext cx="129528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3352680"/>
            <a:ext cx="380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971800"/>
            <a:ext cx="129564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irect3D Run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57800" y="2971800"/>
            <a:ext cx="121932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33526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2209680"/>
            <a:ext cx="1981080" cy="609840"/>
          </a:xfrm>
          <a:custGeom>
            <a:avLst/>
            <a:gdLst>
              <a:gd name="textAreaLeft" fmla="*/ 309600 w 1981080"/>
              <a:gd name="textAreaRight" fmla="*/ 1733760 w 198108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2e8a2e"/>
              </a:gs>
              <a:gs pos="100000">
                <a:srgbClr val="ffcc29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to 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961800" y="3962520"/>
            <a:ext cx="1904760" cy="609480"/>
          </a:xfrm>
          <a:custGeom>
            <a:avLst/>
            <a:gdLst>
              <a:gd name="textAreaLeft" fmla="*/ 297000 w 1904760"/>
              <a:gd name="textAreaRight" fmla="*/ 1666440 w 190476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29"/>
              </a:gs>
              <a:gs pos="100000">
                <a:srgbClr val="2e8a2e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nel to U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10670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3048120"/>
            <a:ext cx="1218960" cy="60948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e"/>
                </a:solidFill>
                <a:latin typeface="Arial"/>
              </a:rPr>
              <a:t>Command Buf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67480" y="1828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91520" y="2971800"/>
            <a:ext cx="129528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Video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33526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876920"/>
            <a:ext cx="685800" cy="914400"/>
          </a:xfrm>
          <a:prstGeom prst="can">
            <a:avLst>
              <a:gd name="adj" fmla="val 25000"/>
            </a:avLst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3733920"/>
            <a:ext cx="533520" cy="53316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09480" y="3733560"/>
            <a:ext cx="457200" cy="10666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4191120"/>
            <a:ext cx="990720" cy="53316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286000" y="4724280"/>
            <a:ext cx="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4648320"/>
            <a:ext cx="990720" cy="53316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733920"/>
            <a:ext cx="0" cy="8380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181480"/>
            <a:ext cx="99072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438280" y="3733920"/>
            <a:ext cx="38124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1752480"/>
            <a:ext cx="2819520" cy="3962520"/>
          </a:xfrm>
          <a:prstGeom prst="ellipse">
            <a:avLst/>
          </a:prstGeom>
          <a:solidFill>
            <a:srgbClr val="fceb98">
              <a:alpha val="20000"/>
            </a:srgbClr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PU profilers give another 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1752480"/>
            <a:ext cx="1905120" cy="4114800"/>
          </a:xfrm>
          <a:prstGeom prst="rect">
            <a:avLst/>
          </a:pr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1752480"/>
            <a:ext cx="6781680" cy="4114800"/>
          </a:xfrm>
          <a:prstGeom prst="rect">
            <a:avLst/>
          </a:prstGeom>
          <a:solidFill>
            <a:srgbClr val="66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2971800"/>
            <a:ext cx="129564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971800"/>
            <a:ext cx="129564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352680"/>
            <a:ext cx="380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2971800"/>
            <a:ext cx="129528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irect3D Run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2971800"/>
            <a:ext cx="1218960" cy="76212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8320" y="335268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2209680"/>
            <a:ext cx="1981440" cy="60984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2e8a2e"/>
              </a:gs>
              <a:gs pos="100000">
                <a:srgbClr val="ffcc29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to 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038480" y="3962520"/>
            <a:ext cx="1905120" cy="60948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29"/>
              </a:gs>
              <a:gs pos="100000">
                <a:srgbClr val="2e8a2e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nel to U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1066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048120"/>
            <a:ext cx="1219320" cy="60948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e"/>
                </a:solidFill>
                <a:latin typeface="Arial"/>
              </a:rPr>
              <a:t>Command Buf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18288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2971800"/>
            <a:ext cx="1295640" cy="76212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Video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335268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876920"/>
            <a:ext cx="685800" cy="914400"/>
          </a:xfrm>
          <a:prstGeom prst="can">
            <a:avLst>
              <a:gd name="adj" fmla="val 25000"/>
            </a:avLst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3733920"/>
            <a:ext cx="533520" cy="53316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800" y="3733560"/>
            <a:ext cx="457200" cy="10666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4191120"/>
            <a:ext cx="990360" cy="53316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362320" y="4724280"/>
            <a:ext cx="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4648320"/>
            <a:ext cx="990360" cy="53316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3733920"/>
            <a:ext cx="0" cy="83808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518148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5410080"/>
            <a:ext cx="838440" cy="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514600" y="3733920"/>
            <a:ext cx="38088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2133720"/>
            <a:ext cx="8229600" cy="4290840"/>
          </a:xfrm>
          <a:prstGeom prst="ellipse">
            <a:avLst/>
          </a:prstGeom>
          <a:solidFill>
            <a:srgbClr val="fceb98">
              <a:alpha val="20000"/>
            </a:srgbClr>
          </a:solidFill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9144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X for Windows leverages Plug-ins + OS counters + Instrumented Direct3D to determine whole 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010280" y="1828800"/>
            <a:ext cx="1905120" cy="4114800"/>
          </a:xfrm>
          <a:prstGeom prst="rect">
            <a:avLst/>
          </a:prstGeom>
          <a:solidFill>
            <a:srgbClr val="3399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828800"/>
            <a:ext cx="6781680" cy="4114800"/>
          </a:xfrm>
          <a:prstGeom prst="rect">
            <a:avLst/>
          </a:prstGeom>
          <a:solidFill>
            <a:srgbClr val="66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048120"/>
            <a:ext cx="1295640" cy="76176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048120"/>
            <a:ext cx="1295640" cy="76176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Ap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3429000"/>
            <a:ext cx="3808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3048120"/>
            <a:ext cx="1295280" cy="76176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irect3D Run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048120"/>
            <a:ext cx="1218960" cy="761760"/>
          </a:xfrm>
          <a:prstGeom prst="rect">
            <a:avLst/>
          </a:prstGeom>
          <a:solidFill>
            <a:srgbClr val="ffc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48320" y="3429000"/>
            <a:ext cx="6858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038480" y="2286000"/>
            <a:ext cx="1981440" cy="60948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2e8a2e"/>
              </a:gs>
              <a:gs pos="100000">
                <a:srgbClr val="ffcc29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r to 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8480" y="4038480"/>
            <a:ext cx="1905120" cy="60984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cc29"/>
              </a:gs>
              <a:gs pos="100000">
                <a:srgbClr val="2e8a2e"/>
              </a:gs>
            </a:gsLst>
            <a:lin ang="108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ernel to U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106668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52680" y="3124080"/>
            <a:ext cx="1219320" cy="609840"/>
          </a:xfrm>
          <a:prstGeom prst="rect">
            <a:avLst/>
          </a:prstGeom>
          <a:solidFill>
            <a:srgbClr val="ffcc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78e"/>
                </a:solidFill>
                <a:latin typeface="Arial"/>
              </a:rPr>
              <a:t>Command Buf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19051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7480" y="3048120"/>
            <a:ext cx="1295640" cy="76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478e"/>
                </a:solidFill>
                <a:latin typeface="Arial"/>
              </a:rPr>
              <a:t>Video C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553080" y="3429000"/>
            <a:ext cx="91440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4952880"/>
            <a:ext cx="685800" cy="914400"/>
          </a:xfrm>
          <a:prstGeom prst="can">
            <a:avLst>
              <a:gd name="adj" fmla="val 25000"/>
            </a:avLst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809880"/>
            <a:ext cx="533520" cy="53352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5800" y="3809880"/>
            <a:ext cx="457200" cy="106704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426708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362320" y="4800600"/>
            <a:ext cx="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0120" y="472428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3809880"/>
            <a:ext cx="0" cy="83844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5120" y="5257800"/>
            <a:ext cx="990360" cy="533520"/>
          </a:xfrm>
          <a:prstGeom prst="flowChartMagneticDrum">
            <a:avLst/>
          </a:prstGeom>
          <a:solidFill>
            <a:srgbClr val="fa743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5486400"/>
            <a:ext cx="838440" cy="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514600" y="3809880"/>
            <a:ext cx="380880" cy="457200"/>
          </a:xfrm>
          <a:prstGeom prst="line">
            <a:avLst/>
          </a:prstGeom>
          <a:ln w="57240">
            <a:solidFill>
              <a:srgbClr val="ccffcc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Performance optimization guideline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4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the profiler results to guide your effor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y spend time optimizing areas which will make a differ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ys spent optimizing a really intricate piece of code, which doesn’t register on a profile, is really not the best use of your ti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ile oft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developers even run daily builds to determine performance regre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file on multiple hardware configur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, some developers don’t consider this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22:46:13Z</dcterms:created>
  <dc:creator>Mike Burrows</dc:creator>
  <dc:description/>
  <dc:language>en-US</dc:language>
  <cp:lastModifiedBy>Kevin Gee</cp:lastModifiedBy>
  <dcterms:modified xsi:type="dcterms:W3CDTF">2004-03-16T18:22:11Z</dcterms:modified>
  <cp:revision>70</cp:revision>
  <dc:subject/>
  <dc:title>Windows Performance &amp; PIX</dc:title>
</cp:coreProperties>
</file>