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15800" y="2152800"/>
            <a:ext cx="2684520" cy="903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5920" y="1043280"/>
            <a:ext cx="73868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++ versus C#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39760" y="3971880"/>
            <a:ext cx="1728720" cy="909720"/>
          </a:xfrm>
          <a:prstGeom prst="rect">
            <a:avLst/>
          </a:prstGeom>
          <a:gradFill rotWithShape="0">
            <a:gsLst>
              <a:gs pos="0">
                <a:srgbClr val="8b401f"/>
              </a:gs>
              <a:gs pos="50000">
                <a:srgbClr val="fa7438"/>
              </a:gs>
              <a:gs pos="100000">
                <a:srgbClr val="8b401f"/>
              </a:gs>
            </a:gsLst>
            <a:lin ang="13500000"/>
          </a:gra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971880"/>
            <a:ext cx="1720800" cy="909720"/>
          </a:xfrm>
          <a:prstGeom prst="rect">
            <a:avLst/>
          </a:prstGeom>
          <a:gradFill rotWithShape="0">
            <a:gsLst>
              <a:gs pos="0">
                <a:srgbClr val="4365a8"/>
              </a:gs>
              <a:gs pos="50000">
                <a:srgbClr val="6699ff"/>
              </a:gs>
              <a:gs pos="100000">
                <a:srgbClr val="4365a8"/>
              </a:gs>
            </a:gsLst>
            <a:lin ang="13500000"/>
          </a:gra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rb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6760" y="3971880"/>
            <a:ext cx="1720800" cy="914400"/>
          </a:xfrm>
          <a:prstGeom prst="rect">
            <a:avLst/>
          </a:prstGeom>
          <a:gradFill rotWithShape="0">
            <a:gsLst>
              <a:gs pos="0">
                <a:srgbClr val="438643"/>
              </a:gs>
              <a:gs pos="50000">
                <a:srgbClr val="66cc66"/>
              </a:gs>
              <a:gs pos="100000">
                <a:srgbClr val="438643"/>
              </a:gs>
            </a:gsLst>
            <a:lin ang="13500000"/>
          </a:gradFill>
          <a:ln w="12600">
            <a:solidFill>
              <a:srgbClr val="66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’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ools and Add-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Start Writing Managed Code Today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2240" y="1571760"/>
            <a:ext cx="8388360" cy="42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ment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robu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st proto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 is near real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the interoperability built in, Managed DirectX can integrate directly with your native game eng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s development to work on actual game features rather than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ools and Add-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Start Writing Managed Code Today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388360" cy="351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vel Ed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p mak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-ons and User modif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ns up the mod community to a whole new (and larger) audi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define an object model to interact directly with main game eng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ools and Add-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Start Writing Managed Code Today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388360" cy="36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 as a scripting langu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ier than inventing your own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syntax familiar to develop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compiled on the fly, and execu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interpre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ibilities are endle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5800" y="2152800"/>
            <a:ext cx="2684520" cy="903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76280" y="1043640"/>
            <a:ext cx="7386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eroperabilit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9760" y="3971880"/>
            <a:ext cx="1728720" cy="909720"/>
          </a:xfrm>
          <a:prstGeom prst="rect">
            <a:avLst/>
          </a:prstGeom>
          <a:gradFill rotWithShape="0">
            <a:gsLst>
              <a:gs pos="0">
                <a:srgbClr val="8b401f"/>
              </a:gs>
              <a:gs pos="50000">
                <a:srgbClr val="fa7438"/>
              </a:gs>
              <a:gs pos="100000">
                <a:srgbClr val="8b401f"/>
              </a:gs>
            </a:gsLst>
            <a:lin ang="13500000"/>
          </a:gradFill>
          <a:ln w="12600">
            <a:solidFill>
              <a:srgbClr val="fa74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d UI 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manag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nde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3971880"/>
            <a:ext cx="1720800" cy="909720"/>
          </a:xfrm>
          <a:prstGeom prst="rect">
            <a:avLst/>
          </a:prstGeom>
          <a:gradFill rotWithShape="0">
            <a:gsLst>
              <a:gs pos="0">
                <a:srgbClr val="4365a8"/>
              </a:gs>
              <a:gs pos="50000">
                <a:srgbClr val="6699ff"/>
              </a:gs>
              <a:gs pos="100000">
                <a:srgbClr val="4365a8"/>
              </a:gs>
            </a:gsLst>
            <a:lin ang="13500000"/>
          </a:gra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nefit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th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wr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6760" y="3971880"/>
            <a:ext cx="1720800" cy="914400"/>
          </a:xfrm>
          <a:prstGeom prst="rect">
            <a:avLst/>
          </a:prstGeom>
          <a:gradFill rotWithShape="0">
            <a:gsLst>
              <a:gs pos="0">
                <a:srgbClr val="438643"/>
              </a:gs>
              <a:gs pos="50000">
                <a:srgbClr val="66cc66"/>
              </a:gs>
              <a:gs pos="100000">
                <a:srgbClr val="438643"/>
              </a:gs>
            </a:gsLst>
            <a:lin ang="13500000"/>
          </a:gradFill>
          <a:ln w="12600">
            <a:solidFill>
              <a:srgbClr val="66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d Scrip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Unmanag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61440" y="1580760"/>
            <a:ext cx="8388360" cy="39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er development 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icker to mark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development time spent on actual featur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bugg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ors are normally in log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tracking down ‘hard to find’ memory iss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y would I use that in my game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y would I use that in my game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1560" y="1639440"/>
            <a:ext cx="8388360" cy="41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t-in security mod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ffer Overru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 name sign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fect for quick to release ‘value titles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zzle ga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ds Ga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Managed DirectX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569960"/>
            <a:ext cx="8388360" cy="40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lly featured managed layer for the DirectX runtim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ts within the style guidelines for .N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everything you can do with native Direct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operates with native Direct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’s not all or not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Managed DirectX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160" y="1571760"/>
            <a:ext cx="8388360" cy="37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sses Ease of 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Type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751"/>
              </a:spcBef>
              <a:buSzPct val="13678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Device-&gt;SetRenderState(D3DRS_FOGCOLOR, TRUE)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ed Exception Hand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is 0x8876086C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ses ‘raw’ pow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IT can’t optimize unsafe routin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all To Ac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68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Managed code in your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op with native code as need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cc66"/>
                </a:solidFill>
                <a:latin typeface="Arial"/>
              </a:rPr>
              <a:t>http://msdn.microsoft.com/direct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sgroups (msnews.microsoft.com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g Reports &amp; feed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6cc66"/>
                </a:solidFill>
                <a:latin typeface="Arial"/>
              </a:rPr>
              <a:t>directx@microsoft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anaged Code In Gam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117680"/>
            <a:ext cx="7861320" cy="17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Tom Miller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Software Development Engineer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 Gaming &amp; Graphics Technologies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Microsoft Corporation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roduction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at is managed code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160" y="1766520"/>
            <a:ext cx="8388360" cy="39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R (Common Language Runtime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ntime all managed code runs again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on Librar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rbage colle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nguage agnos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are many languages designed to work with the CLR, including C#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++, Visual Basic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NET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roduction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at makes managed code ‘cool’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38836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 considers it a ‘Bet the company’ fea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ong Community 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e Access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a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tributes as programming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roduction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y use managed code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388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e Access Secur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bugging 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productive develop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e Safe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roduction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at about performance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388360" cy="41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now what methods c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d you know DoEvents has alloca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ic Programming Princi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n’t get laz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because you don’t have to ‘delete’ the memory doesn’t mean it allocating is fre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stand the Garbage Collect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at is the garbage collector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00" y="1554120"/>
            <a:ext cx="3946680" cy="4348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179960" y="1562040"/>
            <a:ext cx="4743360" cy="4071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Understanding Garbage Collection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2480" y="1679040"/>
            <a:ext cx="8388360" cy="36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 can’t control the garbage collection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tional, fast for small colle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n’t collect unmanaged resour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 do have some con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ing use of IDisposable o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tion 2 (Full) Collections will kill your performan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ing Managed Code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Potential Performance Bottlenecks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01560"/>
            <a:ext cx="8388360" cy="481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xing and Unbox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[ ] MyListOfItems = new int[ 10000 ]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yListOfItems.Sort(MySortFunction)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ublic int MySortFunction(object l, object r) 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int1 = (int)l;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 int2 sir = (int)r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turn int1-int2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ing the Event Model and not Disposing of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d-life cris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3T02:24:08Z</dcterms:created>
  <dc:creator>Tom Miller</dc:creator>
  <dc:description>Template design: Revision by C. Witter, SFP
Formatter:
Event Date:
Event Location:
Speech Length:
Audience:
Key Topics:</dc:description>
  <dc:language>en-US</dc:language>
  <cp:lastModifiedBy>Kevin Gee</cp:lastModifiedBy>
  <dcterms:modified xsi:type="dcterms:W3CDTF">2004-03-16T05:03:29Z</dcterms:modified>
  <cp:revision>51</cp:revision>
  <dc:subject>Game Developers Conference 2004</dc:subject>
  <dc:title>Managed Code In Gaming</dc:title>
</cp:coreProperties>
</file>