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1847-AC6E-4B38-B2A2-CDA018D22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 Effect Performance 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to EffectEdi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effect for each dr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ng a Begin/BeginPass for each dr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ng a CommitChanges for each dr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393400" cy="14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olatile Variable Set* calls</a:t>
            </a:r>
            <a:br>
              <a:rPr sz="4800"/>
            </a:b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30040"/>
            <a:ext cx="8388360" cy="43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I behavior in DX9SDK and Summer Update 2003 SD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y set calls that occur between Pass and 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y state affected by the variable set is sent directly to the devi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ue of set is also remembered for future Pass ca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ommitChang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130040"/>
            <a:ext cx="8388360" cy="46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I behavior in next SDK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Set calls are cach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the Set is called between a BeginPass and an EndP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update is put on a list to be applied at the next call to CommitChan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when CommitChanges is called will device state get updated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y change the API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130040"/>
            <a:ext cx="838836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major disadvantages to old A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t people unaware of th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lped one developer who inadvertently set all state twice due to doing both volatile sets and Pass call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ressions and Presh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y expression that involves multiple variables must get reevaluated when each variable is volatile set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e. mul(mWorld, mVie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eds to be updated after both are set not tw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ommitChang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130040"/>
            <a:ext cx="838836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method other than BeginPass that applies device state and executes express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updates device state that has been affected by Set* calls since the last CommitChanges/BeginP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expensive call if no cha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ust returns if no state to up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lways don’t call it if you don’t need 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 do not bend over backwards if uns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ndPas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1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icates that current pass is d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weight fun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fficient Effect Us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call one Begin/BeginPass per material rende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res sorting by eff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xample Loop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006560"/>
            <a:ext cx="838836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NOTE for simplicity this is assuming single pass effec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set common data for all objects here that isn't already in the eff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ffect-&gt;Begin(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ffect-&gt;BeginPass(0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each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{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set the instance data for the current draw c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ffect-&gt;Commitchanges()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/ call draws to draw the obj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ffect-&gt;EndPass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ffect-&gt;End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Grouping by shader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necessary if using shader array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not using arrays, then sorting by effect implies also sorting by sha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using a variable to select the current sh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rt draw calls by effect firs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then sort by changes of the vari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nging the shader index requires a call to BeginP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ifferent data scenario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dynamic da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ly sta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 effect/shader usages 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ffect Perf Demo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1996560"/>
            <a:ext cx="7772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ffects Performance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47280" y="4169880"/>
            <a:ext cx="8348760" cy="16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Craig Peeper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Dev Lead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Windows</a:t>
            </a:r>
            <a:r>
              <a:rPr b="1" lang="en-US" sz="2800" spc="-1" strike="noStrike" baseline="30000">
                <a:solidFill>
                  <a:srgbClr val="fceb98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 Gaming &amp; Graphics Technologies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Microsoft</a:t>
            </a:r>
            <a:r>
              <a:rPr b="1" lang="en-US" sz="2800" spc="-1" strike="noStrike" baseline="30000">
                <a:solidFill>
                  <a:srgbClr val="fceb98"/>
                </a:solidFill>
                <a:latin typeface="Arial"/>
              </a:rPr>
              <a:t>®</a:t>
            </a: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 Corporation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ther useful informa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red variab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antTable vs Eff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sh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hared Variabl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X9.0SDK and Summer Update 2003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ing should only be used for infrequently set vari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head in dependency checking between the effects being shar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xt Upda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ring can be used for both frequently and infrequently set vari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head minimized due to a change in method of dependency maintenan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onstantTable vs Effec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1400" y="1165320"/>
            <a:ext cx="8388360" cy="46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just need  Effects to set constants by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 a look at the constant table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ame methods are available on both interface for efficient variable 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me type conversion is present as we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want to script state changes as well as shader const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s are probably a better way to 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provides better metadata about the interface exposed by the 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at is a Preshader?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eshader is code that is constant at runtime that has been extracted from a pixel or vertex sh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.e.  mWorldView = mul(mWorld, mView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erf implica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7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eshader can help the performance of your appl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effect will need to run the preshader every time Pass is call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itChanges also executes the preshader but only if variables the preshaders depends on are chang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de that is run-time constant can be pulled into application instead of being done via a preshad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Preshader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2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n if you decide to not take advantage of presh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can use the disassembly of preshaders to see what to pull out into a separate vari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/ disassembles entire effect fi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xc –T fx_2_0 in.f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Inclusive timings on API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20480" y="1157040"/>
            <a:ext cx="83883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ming the length of any D3D API entry point can result in odd 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rtain methods that do not do much can occasionally result in large timings due to the internal buffers getting flushed to the hard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ce investigated an expensive function call that moved around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the overhead shows up on different calls for different times, or the max is quite a bit larger than the average, this is a good sign you are getting a flush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ffect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206000"/>
            <a:ext cx="8388360" cy="171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Effects 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to use Effects efficien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s &amp; Trick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ow Effects Work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206000"/>
            <a:ext cx="8388360" cy="49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s are designed to do exactly what they are told to 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certain methods result in device state chang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ortant methods to call infrequentl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ce what each method does is understood, it is easy to optimize both effect overhead and state change overhea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New methods in Updat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206000"/>
            <a:ext cx="838836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ginP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ss renamed to match EndPa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tCha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s volatile sets apparent in the AP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re info later in tal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P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function to indicate when a Pass en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ore function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20636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* (SetFloat, SetMatrix…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ginP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itChang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P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et* Methods</a:t>
            </a: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	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06360"/>
            <a:ext cx="838836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t* methods do two thing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nsform input data into hardware friendly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 items to list of changes needed if in the middle of a pa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Begi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206360"/>
            <a:ext cx="8388360" cy="47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es st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selected level of state s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te st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p Shad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p Sampl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ther miscellaneous setup for p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no state is stored very little work is do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BeginPas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06360"/>
            <a:ext cx="8388360" cy="46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of the heavy weight fun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plies all state specified by a Pa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states explicitly listed in pas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shader constants referenced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ant tables of vertex/pixel shaders are used to determine what constants registers are upd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samplers referenced by pixel sh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ant table used to find samplers us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n state specified by samplers appl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23:19:36Z</dcterms:created>
  <dc:creator>Craig Peeper</dc:creator>
  <dc:description>Template design: Revision by C. Witter, SFP
Formatter:
Event Date:
Event Location:
Speech Length:
Audience:
Key Topics:</dc:description>
  <dc:language>en-US</dc:language>
  <cp:lastModifiedBy>Kevin Gee</cp:lastModifiedBy>
  <dcterms:modified xsi:type="dcterms:W3CDTF">2004-03-15T19:31:21Z</dcterms:modified>
  <cp:revision>34</cp:revision>
  <dc:subject>Event Name Goes Here</dc:subject>
  <dc:title>Slide 1</dc:title>
</cp:coreProperties>
</file>