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CF46-A69C-4A75-AECB-130FF9386F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Networking Pack is only available on XPS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 period for UDP is not configur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to request feedback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hyperlink" Target="http://www.microsoft.com/security/protect/" TargetMode="External"/><Relationship Id="rId4" Type="http://schemas.openxmlformats.org/officeDocument/2006/relationships/image" Target="../media/image13.png"/><Relationship Id="rId5" Type="http://schemas.openxmlformats.org/officeDocument/2006/relationships/hyperlink" Target="http://www.microsoft.com/technet/prodtechnol/winxppro/plan/icf.mspx" TargetMode="External"/><Relationship Id="rId6" Type="http://schemas.openxmlformats.org/officeDocument/2006/relationships/image" Target="../media/image13.png"/><Relationship Id="rId7" Type="http://schemas.openxmlformats.org/officeDocument/2006/relationships/hyperlink" Target="http://www.microsoft.com/windowsxp/home/using/productdoc/en/default.asp?url=/WINDOWSXP/home/using/productdoc/en/hnw_firewall_log_understanding.asp" TargetMode="External"/><Relationship Id="rId8" Type="http://schemas.openxmlformats.org/officeDocument/2006/relationships/hyperlink" Target="http://www.microsoft.com/windowsxp/home/using/productdoc/en/default.asp?url=/WINDOWSXP/home/using/productdoc/en/hnw_firewall_log_understanding.asp" TargetMode="External"/><Relationship Id="rId9" Type="http://schemas.openxmlformats.org/officeDocument/2006/relationships/hyperlink" Target="http://www.microsoft.com/windowsxp/home/using/productdoc/en/default.asp?url=/WINDOWSXP/home/using/productdoc/en/hnw_firewall_log_understanding.asp" TargetMode="External"/><Relationship Id="rId10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msdn.microsoft.com/security/productinfo/xpsp2/default.aspx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msdn.microsoft.com/library/default.asp?url=/library/en-us/ics/ics/icf_plus_arbitrary_ports.asp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microsoft.com/security/protec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Firewall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y a Firewall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9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Firewall provides a barrier against network based intrus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s unsolicited incoming traffic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s a system mostly invisible on the Internet.  (ICMP requests rejected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ocks invalid packe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s a system even if there is a bug which makes it vulnerabl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ow Does It Work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cepts network traffic and provides packet filtering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ket contents are used to determine if packet should be dropped or forward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s incoming and/or outgoing traffi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jects malformed packe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ful packet filtering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itors connections to provide context (state) for making filtering decis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at Works, What Doesn’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4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by defaul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going TCP connection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ely responses to outgoing UDP traffi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work by defaul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solicited incoming TCP connection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oming UDP traffic that is either untimely or unsolici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CMP traffic.  i.e. tracert and ping do not work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ultiplayer Architectur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ally multiplayer games have one of three architectur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er-to-Peer: All participants are connected to each other directly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ent/Server: All participants connect to a central serv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sively Multiplayer (MMP): All participants are connected to a data center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s My Game Affected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458200" cy="39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llowing will not work without additional configuratio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ame hosts using any architectur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y participant in a peer-to-peer sess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following will work if the server is properly configured or in the clear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ents in a client-server session or MMP w/TCP and/or continuous UDP traffi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ternet Connection Firewall (ICF)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The Current Firewall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88360" cy="52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et Connection Firewall (ICF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firewall w/ stateful packet filt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XP, Windows Serve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2003 (Standard &amp; Enterprise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v4/IPv6 w/Advanced Networking Pack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bled by defaul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abled on a per connection basi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not support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ty network stack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vides port mappings to override packet filter on per-port basi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etSharingManager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2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etSharingManage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vid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of the firewall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ment of port mapping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ailable on Windows XP on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v4 firewall control on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IPv6 se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etFwV6Mg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These interfaces will no longer be available in Windows XP SP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commend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8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mmended practic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existing applications provide instructions on websit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tionally provide support in your applicatio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recommend your users disable the firewall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w onto the new Windows Firewall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722960"/>
            <a:ext cx="7772400" cy="12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Games, Firewalls and </a:t>
            </a:r>
            <a:br>
              <a:rPr sz="4400"/>
            </a:br>
            <a:r>
              <a:rPr b="1" lang="en-US" sz="4400" spc="-1" strike="noStrike">
                <a:solidFill>
                  <a:srgbClr val="ffcc29"/>
                </a:solidFill>
                <a:latin typeface="Arial"/>
              </a:rPr>
              <a:t>Microsoft Windows XP SP2</a:t>
            </a:r>
            <a:endParaRPr b="1" lang="en-US" sz="44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47280" y="3854880"/>
            <a:ext cx="78613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eb98"/>
                </a:solidFill>
                <a:latin typeface="Arial"/>
              </a:rPr>
              <a:t>Rod Toll</a:t>
            </a:r>
            <a:endParaRPr b="1" lang="en-US" sz="32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Development Lead, Gaming UX/SE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 Gaming &amp; Graphics Technologies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Firewal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Enhanced Firewall in XP SP2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Firewall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ailable on Windows XP SP2 (All SKU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kely available in Windows Server SP1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Enabled by default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ftware firewall w/ stateful packet filt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ation is global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s IPv4 and IPv6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s 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ty network stack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Firewal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19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security feat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ot time protection of the system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with no exceptions” mode blocks all incoming unsolicited packet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imit open ports to local subnet or specific addres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ier to develop with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eptions list to provide easy configuration of application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rely new API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Firewal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5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ier to use then ICF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UI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omatic popup for applications not on the exceptions li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l subnet file/printer sharing work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te desktop work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osed through the new security cent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teful Packet Filter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1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ful packet filter maintains a list of active connection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going traffic triggers a new entry if one doesn’t exi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ponses from the target of outgoing traffic are allowed.  (Solicited traffic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ions for UDP timeout after inactivity period.  (Approx. 90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st is enforced per adapt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dditional Protec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cket integrity validatio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going packets with spoofed source  addresses are dropp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oming packets with invalid flags are reject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forcement of TCP 3-way connect proces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CMP packets are reject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er is invisible to tracert and p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w Windows Firewall UI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118040" cy="33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ier to fin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rol Panel &gt; Windows 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Center &gt; Windows Firewa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is notified when no firewall is presen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5943600"/>
            <a:ext cx="54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29"/>
                </a:solidFill>
                <a:latin typeface="Arial"/>
              </a:rPr>
              <a:t>Preliminary UI – Subject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4876920" y="1143000"/>
            <a:ext cx="3714480" cy="434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457200" y="4724280"/>
            <a:ext cx="3562200" cy="1238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xceptions Lis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7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lobal list of applications which have been configured to listen through the firewal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thorized by fully qualified path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s on the exception list can be in one of two stat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owed - Enables unsolicited incoming traffi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llowed - Prevents unsolicited incoming traffi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llowed Applic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ed applications have holes in the firewall automatically open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hole remains open as long as the application has the socket op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application terminates abnormally the hole is automatically closed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administrators can add to the lis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ured applications work for limited use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dding to Exceptions Lis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45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cations are added to the exceptions list b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choice through the popup dialo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s through the API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user configura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remely limited list of applications by default on the exceptions lis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remote assistance, remote desktop, UPnP and file and printer shar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urpos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2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s talk is designed to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ribe the firewall technologies available in Window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ow how these technologies impact multiplayer gam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monstrate how to enable your games to work with these products seamless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xceptions List UI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5791320"/>
            <a:ext cx="54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Preliminary UI – Subject 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3827520" cy="44766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181480" y="1752480"/>
            <a:ext cx="3448080" cy="3500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andling Ripple Launcher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1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need to authorize the executable which needs the networ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pple launched applications need to be listed, not the ripple launcher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use copy protection which launches a secondary exe, authorize the secondary ex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Firewall Popup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0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p window is displayed when an application is not in the exception lis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ivated when an application starts using the networ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TCP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ccept() call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UDP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ind() w/ non-zero por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administrators can use the Allow option in the dialog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Firewall Popup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 modal and therefore takes focus providing foreground app is well behav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tempts to get friendly information about app through version resour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e dialog per application per executi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s may choose “Allow”, “Disallow” or “Ask Me Later”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Me Later = Disallow for this execution of this applica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log is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non-blockin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Firewall Popup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9280" y="5116680"/>
            <a:ext cx="542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Preliminary UI – Subject to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52480" y="1523880"/>
            <a:ext cx="5791320" cy="3265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etecting Windows Firewal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6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etFwMg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detect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CreateInstance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tFwMg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bject.  If this fails the system is not XPSP2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Mgr::LocalPolic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trieve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olic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olicy::CurrentProfil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trieve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rof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ter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value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rofile::FirewallEnabl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** APIs Close To Final *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dding an Applica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7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Mg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vides programmatic control over the exception list.  To us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CreateInstance a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etFwMg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bject.  If this fails the system is not XPSP2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etFwMgr::LocalPolic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etrieve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etFwPolic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etFwPolicy::CurrentProfi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retrieve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etFwProfi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Use INetFwProfile::AuthorizedApplic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retrieve th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etFwAuthorizedApplication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fac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** APIs Close To Final *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dding an Application (2)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ng Continu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CreateInstance a new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tFwAuthorizedApplicat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bject and set the properti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the new application through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AuthorizedApplications::Ad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** APIs Close To Final **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moving an Applica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INetFwMg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vides programmatic control over the exception list.  To us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llow steps 1-4 of adding ap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move the application using us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AuthorizedApplications::Remo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** APIs Close To Final *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n with No Excep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0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detect when the firewall is in “On with no exceptions” mode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CreateInstance a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etFwMg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bject.  If this fails the system is not XPSP2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Mgr::LocalPolic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trieve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olic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fa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olicy::CurrentProfil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retrieve th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rof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nterf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9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ck value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INetFwProfile::ExceptionsNotAllow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** APIs Close To Final **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verview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et Connection Firewall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Firewall (XP SP2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Logg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8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Firewall can also provide a log of its activity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bled by default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Pv6 and IPv4 in a unified lo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es to c:\windows\pfirewall.log by defaul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log file’s header describes the file forma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DP Port Zero Binding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7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DP sockets which bind() to port 0 will not have holes in the firewall open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ven if the application is allowed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is considered to be a “client” activit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ly an issue if you’re a server or peer-to-pe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us know </a:t>
            </a:r>
            <a:r>
              <a:rPr b="1" lang="en-US" sz="2800" spc="-1" strike="noStrike" u="sng">
                <a:solidFill>
                  <a:srgbClr val="ffcc29"/>
                </a:solidFill>
                <a:uFillTx/>
                <a:latin typeface="Arial"/>
              </a:rPr>
              <a:t>ASA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f this is an issu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irectPlay</a:t>
            </a:r>
            <a:r>
              <a:rPr b="1" lang="en-US" sz="4800" spc="-1" strike="noStrike" baseline="30000">
                <a:solidFill>
                  <a:srgbClr val="ffcc29"/>
                </a:solidFill>
                <a:latin typeface="Arial"/>
              </a:rPr>
              <a:t>®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 Updat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8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dated DirectPlay 4/8 in Windows XP SP2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s will have to add themselves to the exceptions li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PLAYSVR/DPNSVR are not in the exceptions list by default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s need to add them to the exceptions list themselv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Recommend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the firewall seamless for your user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your application to the exception list during install. Make the user aware you are doing so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ve your application from the exception list during uninstall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ble network features if they won’t work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exceptions mode enabl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is disallowe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existing applications provide instructions on website or patch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ummary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The Short Version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all to Ac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indows Firewall is coming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users with the firewall enabled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tell users to disable it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your application Windows Firewall awar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able multiplayer functionality when it won’t work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st with the Windows Firewall enable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able your users to be secure and have fun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ore Informa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icrosoft “Protect Your PC”:</a:t>
            </a:r>
            <a:br>
              <a:rPr sz="3600"/>
            </a:br>
            <a:r>
              <a:rPr b="1" lang="en-US" sz="2800" spc="-1" strike="noStrike" u="sng">
                <a:solidFill>
                  <a:srgbClr val="66cc66"/>
                </a:solidFill>
                <a:uFillTx/>
                <a:latin typeface="Arial"/>
                <a:hlinkClick r:id="rId3"/>
              </a:rPr>
              <a:t>http://www.microsoft.com/security/protect/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ld Firewall (ICF) overview article:</a:t>
            </a:r>
            <a:br>
              <a:rPr sz="3600"/>
            </a:br>
            <a:r>
              <a:rPr b="1" lang="en-US" sz="2800" spc="-1" strike="noStrike" u="sng">
                <a:solidFill>
                  <a:srgbClr val="66cc66"/>
                </a:solidFill>
                <a:uFillTx/>
                <a:latin typeface="Arial"/>
                <a:hlinkClick r:id="rId5"/>
              </a:rPr>
              <a:t>http://www.microsoft.com/technet/prodtechnol/winxppro/plan/icf.msp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irewall logging information:</a:t>
            </a:r>
            <a:br>
              <a:rPr sz="3600"/>
            </a:br>
            <a:r>
              <a:rPr b="1" lang="en-US" sz="2400" spc="-1" strike="noStrike" u="sng">
                <a:solidFill>
                  <a:srgbClr val="66cc66"/>
                </a:solidFill>
                <a:uFillTx/>
                <a:latin typeface="Arial"/>
                <a:hlinkClick r:id="rId7"/>
              </a:rPr>
              <a:t>http://www.microsoft.com/windowsxp/home/using/productdoc/en/default.asp?url</a:t>
            </a:r>
            <a:r>
              <a:rPr b="1" lang="en-US" sz="2400" spc="-1" strike="noStrike" u="sng">
                <a:solidFill>
                  <a:srgbClr val="66cc66"/>
                </a:solidFill>
                <a:uFillTx/>
                <a:latin typeface="Arial"/>
                <a:hlinkClick r:id="rId8"/>
              </a:rPr>
              <a:t>=/</a:t>
            </a:r>
            <a:r>
              <a:rPr b="1" lang="en-US" sz="2400" spc="-1" strike="noStrike" u="sng">
                <a:solidFill>
                  <a:srgbClr val="66cc66"/>
                </a:solidFill>
                <a:uFillTx/>
                <a:latin typeface="Arial"/>
                <a:hlinkClick r:id="rId9"/>
              </a:rPr>
              <a:t>WINDOWSXP/home/using/productdoc/en/hnw_firewall_log_understanding.as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ore Informa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5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7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XP SP2 Developer Overview:</a:t>
            </a:r>
            <a:br>
              <a:rPr sz="3200"/>
            </a:br>
            <a:r>
              <a:rPr b="1" lang="en-US" sz="3200" spc="-1" strike="noStrike" u="sng">
                <a:solidFill>
                  <a:srgbClr val="66cc66"/>
                </a:solidFill>
                <a:uFillTx/>
                <a:latin typeface="Arial"/>
                <a:hlinkClick r:id="rId3"/>
              </a:rPr>
              <a:t>http://msdn.microsoft.com/security/productinfo/xpsp2/default.asp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PSP2 Firewall Overview:</a:t>
            </a:r>
            <a:br>
              <a:rPr sz="3200"/>
            </a:br>
            <a:r>
              <a:rPr b="1" lang="en-US" sz="3200" spc="-1" strike="noStrike" u="sng">
                <a:solidFill>
                  <a:srgbClr val="66cc66"/>
                </a:solidFill>
                <a:uFillTx/>
                <a:latin typeface="Arial"/>
                <a:hlinkClick r:id="rId5"/>
              </a:rPr>
              <a:t>http://msdn.microsoft.com/library/default.asp?url=/library/en-us/ics/ics/icf_plus_arbitrary_ports.as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7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whitepapers and sample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7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rough MSD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nd the DirectX SDK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directx@microsoft.com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The State of Affairs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he Good New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388360" cy="47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world is becoming connected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umers are purchasing multiple PCs,  networking them togethe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reless access spreading rapidly in U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roadband connections are becoming more common worldwid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Internet is becoming more and more a part of everyday life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tential market for multiplayer games is growing.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he Bad New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et based threats are becoming more commo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ster, Sobig, Mydoom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-to-end connectivity is bro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twork address translators (NATs) are widely deployed in network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ewalls are becoming more commo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ications are not typically designed to handle these situations seamlessly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icrosoft Respons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your PC” initiative </a:t>
            </a:r>
            <a:r>
              <a:rPr b="1" lang="en-US" sz="2800" spc="-1" strike="noStrike" u="sng">
                <a:solidFill>
                  <a:srgbClr val="66cc66"/>
                </a:solidFill>
                <a:uFillTx/>
                <a:latin typeface="Arial"/>
                <a:hlinkClick r:id="rId3"/>
              </a:rPr>
              <a:t>http://www.microsoft.com/security/protec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ep by step instructions, videos, scripts to enable the firewall on your system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 CD w/ Firewall and Antivirus trial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more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ndows XP Service Pack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cludes a firewall that is on by defaul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he Relevanc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88360" cy="458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connection between endpoints are going to be the excepti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Firewall will be widely deployed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by default in Windows XP SP2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y to use and configure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buSzPct val="1302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ing the Windows firewall adds value to your gam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s can concentrate on having fu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d support cost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302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n’t ask users to choose between being secure and having fun!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7:24:07Z</dcterms:created>
  <dc:creator>Rod Toll</dc:creator>
  <dc:description/>
  <dc:language>en-US</dc:language>
  <cp:lastModifiedBy>Kevin Gee</cp:lastModifiedBy>
  <dcterms:modified xsi:type="dcterms:W3CDTF">2004-03-16T04:08:58Z</dcterms:modified>
  <cp:revision>110</cp:revision>
  <dc:subject/>
  <dc:title>End-to-End Connectivity</dc:title>
</cp:coreProperties>
</file>