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2B3-6B83-4AF7-8147-8238B86E5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DAudio = “Azalia” = Intel’s new AC97 spec (ICH6) = basis of UAA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D Audio: min spec = stereo 24-bit 96KHz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tainment” PC = 8-channel 24-bit 192-KHz with SNR &gt; 110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engine in user-mode = stability, extensibility, better perf, well-defined behavior,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cy = UI usability improvements, fewer support c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tch-free = enables user-mode engine, lower latencies, you can use it (public AP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A = “VGA for audio”, pushes the envelope, stability, fewer driver issues (class 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ized drivers = sandboxing, stability (can turn off), flexibility (IHVs can innovate without waiting for 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stent feedback = separating source data from processing parameters/resources;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library = you can just link and use it, debug it, base your engines on it, or just use it as a mega-sample; more frequest releases from us (no compat problems); keeps the low-level API simple.  Here would be: streaming from disk, resource management, wave file parsing, 3D geometry calc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ACT API: load soundbacks, cue sounds, set object positions/velocities/etc, set variables that affect content in ways defined by audio desig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microsoft.com/whdc/hwdev/tech/audio/ATD.mspx" TargetMode="External"/><Relationship Id="rId4" Type="http://schemas.openxmlformats.org/officeDocument/2006/relationships/hyperlink" Target="mailto:directx@microsoft.com" TargetMode="External"/><Relationship Id="rId5" Type="http://schemas.openxmlformats.org/officeDocument/2006/relationships/hyperlink" Target="mailto:atdfb@microsoft.com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microsoft.com/whdc/hwdev/tech/audio/UAA.mspx" TargetMode="External"/><Relationship Id="rId8" Type="http://schemas.openxmlformats.org/officeDocument/2006/relationships/hyperlink" Target="http://www.microsoft.com/whdc/hwdev/tech/audio/UAA.mspx" TargetMode="External"/><Relationship Id="rId9" Type="http://schemas.openxmlformats.org/officeDocument/2006/relationships/hyperlink" Target="mailto:uaa@microsoft.com" TargetMode="External"/><Relationship Id="rId10" Type="http://schemas.openxmlformats.org/officeDocument/2006/relationships/image" Target="../media/image2.png"/><Relationship Id="rId11" Type="http://schemas.openxmlformats.org/officeDocument/2006/relationships/hyperlink" Target="mailto:lh-audio@microsoft.com" TargetMode="External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XACT Dem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66680" y="1600200"/>
            <a:ext cx="2684520" cy="90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all to Ac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33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t on the DirectX be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nd feedback to DirectX@microsoft.com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features are most important to you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ould you set our prioriti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’ll be looking for alpha testers so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More informa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LEAP and H/W acceleration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3"/>
              </a:rPr>
              <a:t>www.microsoft.com/whdc/hwdev/tech/audio/ATD.msp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back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4"/>
              </a:rPr>
              <a:t>mailto:directx@microsoft.c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LEAP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5"/>
              </a:rPr>
              <a:t>mailto:atdfb@microsoft.c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AT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UAA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7"/>
              </a:rPr>
              <a:t>www.microsoft.com/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8"/>
              </a:rPr>
              <a:t>whdc/hwdev/tech/audio/UAA.mspx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back: 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9"/>
              </a:rPr>
              <a:t>mailto:uaa@microsof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Longhorn audio: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No public info yet – coming by Longhorn beta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back: </a:t>
            </a:r>
            <a:r>
              <a:rPr b="1" lang="en-US" sz="2000" spc="-1" strike="noStrike" u="sng">
                <a:solidFill>
                  <a:srgbClr val="66cc66"/>
                </a:solidFill>
                <a:uFillTx/>
                <a:latin typeface="Arial"/>
                <a:hlinkClick r:id="rId11"/>
              </a:rPr>
              <a:t>mailto:lh-audio@microsoft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1378800"/>
            <a:ext cx="8534160" cy="10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Microsoft Windows Game Audio</a:t>
            </a:r>
            <a:br>
              <a:rPr sz="4000"/>
            </a:br>
            <a:r>
              <a:rPr b="1" lang="en-US" sz="3200" spc="-1" strike="noStrike">
                <a:solidFill>
                  <a:srgbClr val="ffcc29"/>
                </a:solidFill>
                <a:latin typeface="Arial"/>
              </a:rPr>
              <a:t>XACT and Other Enhancements</a:t>
            </a:r>
            <a:endParaRPr b="1" lang="en-US" sz="32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029400"/>
            <a:ext cx="786132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Dugan Po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Dev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 Gaming &amp; Graphics Techn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Brian Schmid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Program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Xbox</a:t>
            </a:r>
            <a:r>
              <a:rPr b="1" lang="en-US" sz="2800" spc="-1" strike="noStrike" baseline="30000">
                <a:solidFill>
                  <a:srgbClr val="fceb98"/>
                </a:solidFill>
                <a:latin typeface="Arial"/>
              </a:rPr>
              <a:t>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388360" cy="42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state of Windows game a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ture plans for Windows aud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Code Name “Longhorn” audio stack chan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P AP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rectX Audio Creation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ACT dem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 &amp; 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indows Audio Today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2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7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ctSound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wing its age: audio demands, machine capabilities and soundcard designs have changed a lot since 19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ssive glitches, latency, CPU and memory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7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re audio stack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nel stack is hard to work with, fragile, heavy and slo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using UI for device setup and volume contr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/W accel support limited, inconsistent and expens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70000"/>
              </a:lnSpc>
              <a:spcBef>
                <a:spcPts val="1049"/>
              </a:spcBef>
              <a:buSzPct val="1116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lete game audio solu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70000"/>
              </a:lnSpc>
              <a:spcBef>
                <a:spcPts val="751"/>
              </a:spcBef>
              <a:buSzPct val="13678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PIs too low-level to enable an efficient workflow between the sound designer and the programm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Future of Windows Audi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79440"/>
            <a:ext cx="8388360" cy="37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 audio overhaul in Longhor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y issues address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APIs and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P and XA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hardware dire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-quality integrated audio (HD Audi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vances in hardware DSP 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Longhorn Audio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27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audio engine in user-m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cy manager improves user experie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litch-free initiative: Real-Time scheduling, memory locking, prioritized I/O, driver fix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fied Audio Archite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onentized driv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901"/>
              </a:spcBef>
              <a:buSzPct val="1302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isting games / API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ill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e to 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1828800" y="3886200"/>
            <a:ext cx="5029200" cy="2182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61084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LEAP:</a:t>
            </a:r>
            <a:r>
              <a:rPr b="1" lang="en-US" sz="4000" spc="-1" strike="noStrike">
                <a:solidFill>
                  <a:srgbClr val="ffcc2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Low-level Extensible Audio Processor</a:t>
            </a:r>
            <a:endParaRPr b="1" lang="en-US" sz="2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is of all our new game audio too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 goal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ress persistent feedbac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/W and H/W extensi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stency and stabi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-level, minimalistic, small and perform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r-level features provided as LIBs / 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SzPct val="1116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features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c and streaming voi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bmixes and loop poi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ressed and multichannel forma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SzPct val="11401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effects: filter, EQ, distortion, reverb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XACT: </a:t>
            </a: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DirectX Audio Creation Tool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388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pular Xbox too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-driven game audio sys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es audio workflow (API is trivial; all the meat is in the content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 in-game audio edi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ich, easy to use authoring to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fficient streaming from dis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exible signal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XACT for Window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38836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ier cross-platform develop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rking closely with Xbox te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features related to Windows plat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ks with your applic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es not require an OS compon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ll ship this y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ta after DirectX SDK Summer Upd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quent ongoing upd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19:33:50Z</dcterms:created>
  <dc:creator>Skip McIlvaine</dc:creator>
  <dc:description/>
  <dc:language>en-US</dc:language>
  <cp:lastModifiedBy>Dev</cp:lastModifiedBy>
  <dcterms:modified xsi:type="dcterms:W3CDTF">2004-03-15T19:02:19Z</dcterms:modified>
  <cp:revision>32</cp:revision>
  <dc:subject/>
  <dc:title>Windows Game Audio</dc:title>
</cp:coreProperties>
</file>