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0552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63400" y="469008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4728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0552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63400" y="4997160"/>
            <a:ext cx="2531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78613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47640" y="1668240"/>
            <a:ext cx="7772400" cy="653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5680" y="499716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72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4690080"/>
            <a:ext cx="383616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47280" y="4997160"/>
            <a:ext cx="7861320" cy="2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6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66824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9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Typ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7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float, int, bool, double, half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s and arrays suppor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ctors and Matri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1x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1x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… </a:t>
            </a:r>
            <a:r>
              <a:rPr b="1" lang="en-US" sz="2800" spc="-1" strike="noStrike">
                <a:solidFill>
                  <a:srgbClr val="ffcc29"/>
                </a:solidFill>
                <a:latin typeface="Arial"/>
              </a:rPr>
              <a:t>float4x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d for all basic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29"/>
                </a:solidFill>
                <a:latin typeface="Arial"/>
              </a:rPr>
              <a:t>int1-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cc29"/>
                </a:solidFill>
                <a:latin typeface="Arial"/>
              </a:rPr>
              <a:t>half1-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omponent acces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35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nent access and swizzles supported on vector/matrix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.xy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tion.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.rgb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or.r or Color[0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x._11_12 or Matrix[1][1]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er Func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578800" cy="32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‘C’-like func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utput and input parameters of defined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ers passing – no poin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lined internal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recurs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Variable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2000" y="1036800"/>
            <a:ext cx="9144000" cy="54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ocal / glob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have initializ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have semant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function parame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lobal variables that are not externally visi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not be modified by the shader pro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n be set external to the pro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emantic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6600" y="965160"/>
            <a:ext cx="838836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data binding protocol: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ween Scene elements and effect parame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.e. Material parameters, matrices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ween Vertex Data -&gt; shaders -&gt;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tex shaders, pixel shaders, hardware, and shader frag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.e. Position, normal, texture coordinate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Annot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3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me/Typed Value pair that add meta-data for the ap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.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string UIDirectional = “Light Direction”; &gt;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perator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763120" cy="41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tty much all of C opera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luding ?:  ++  --  +=  -=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new language semantic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pite temp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’s different from C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ithmetic operators are pe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rix multiply is an intrinsic fun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ical operators are pe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bitwise opera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Build a simple shader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56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Lighting.f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bient + Diffu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LSL shader samp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47800"/>
            <a:ext cx="8578800" cy="32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ood Sample shader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anks to Jason Mitchell (ATI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ural wo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x - rings, wobble, no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8f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57088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29"/>
                </a:solidFill>
                <a:latin typeface="Arial"/>
              </a:rPr>
              <a:t>hlsl_wood()</a:t>
            </a:r>
            <a:endParaRPr b="1" lang="en-US" sz="60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966960"/>
            <a:ext cx="9144000" cy="520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hlsl_wood (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Pshade0 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0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Pshade1 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1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Pshade2 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2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zWobble0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zWobble1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4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Peye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6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Neye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COORD7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) :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COLO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coloredNois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wobble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coloredNoise.x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3D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NoiseSampler, Pshade0);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Construct colored noise from three samples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coloredNoise.y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3D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NoiseSampler, Pshade1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coloredNoise.z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3D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NoiseSampler, Pshade2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wobble.x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3D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NoiseSampler, zWobble0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wobble.y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tex3D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NoiseSampler, zWobble1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wobble.z = 0.5f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coloredNoise = coloredNoise * 2.0f - 1.0f;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Make signe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wobble       = wobble       * 2.0f - 1.0f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Scale noise and add to Pshad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noisyWobblyPshade = Pshade0 + coloredNoise * psConst3.w + wobble * psConst4.w 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scaledDistFromZAxis =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sqr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(dot(noisyWobblyPshade.xy, noisyWobblyPshade.xy)) * psConst2.w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Lookup blend factor from pulse trai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blendFactor = tex2D (PulseTrainSampler, float2 (0.0f, scaledDistFromZAxis)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albedo =  psConst2 * blendFactor.x + psConst3 * (1 - blendFactor.x);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Blend wood colors togethe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Compute normalized vector from vertex to light in eye space  (Leye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Leye = (psConst4 - Peye) / len(psConst4 - Peye)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Neye = Neye / len(Neye);             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Normalize interpolated norma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Veye = -(Peye / len(Peye));   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Compute Vey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3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Heye = (Leye + Veye) / len(Leye + Veye);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Compute half-ang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NdotH = clamp(dot(Neye, Heye), 0.0f, 1.0f);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Compute N.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k = blendFactor.z;            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Scale and bias exponent from pulse trai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specular = tex2D (VariablSpecularSampler, float2 (NdotH, k));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Evaluate (N.H)^k via dependent rea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NdotL = dot(Neye, Leye);      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N.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diffuse = NdotL * 0.5f + 0.5f;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"Half-Lambert" technique for more pleasing diffus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gloss = blendFactor.y;                                        </a:t>
            </a:r>
            <a:r>
              <a:rPr b="1" lang="pt-BR" sz="800" spc="-1" strike="noStrike">
                <a:solidFill>
                  <a:srgbClr val="339933"/>
                </a:solidFill>
                <a:latin typeface="Courier New"/>
              </a:rPr>
              <a:t>// gloss the specular term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return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diffuse * </a:t>
            </a:r>
            <a:r>
              <a:rPr b="1" lang="pt-BR" sz="800" spc="-1" strike="noStrike">
                <a:solidFill>
                  <a:srgbClr val="0000ff"/>
                </a:solidFill>
                <a:latin typeface="Courier New"/>
              </a:rPr>
              <a:t>float4</a:t>
            </a: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 (albedo.r, albedo.g, albedo.b, 0.0f) + specular * gloss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179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9560" y="1585080"/>
            <a:ext cx="846792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Microsoft DirectX </a:t>
            </a:r>
            <a:br>
              <a:rPr sz="3600"/>
            </a:br>
            <a:r>
              <a:rPr b="1" lang="en-US" sz="3600" spc="-1" strike="noStrike">
                <a:solidFill>
                  <a:srgbClr val="ffcc29"/>
                </a:solidFill>
                <a:latin typeface="Arial"/>
              </a:rPr>
              <a:t>High Level Shader Language (HLSL) &amp; D3DX Effects Primer</a:t>
            </a:r>
            <a:endParaRPr b="1" lang="en-US" sz="36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47280" y="4114440"/>
            <a:ext cx="7861320" cy="17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eb98"/>
                </a:solidFill>
                <a:latin typeface="Arial"/>
              </a:rPr>
              <a:t>Dave Aronson</a:t>
            </a:r>
            <a:endParaRPr b="1" lang="en-US" sz="36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Program Manager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Windows Gaming &amp; Graphics Technologies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b98"/>
                </a:solidFill>
                <a:latin typeface="Arial"/>
              </a:rPr>
              <a:t>Microsoft Corporation</a:t>
            </a:r>
            <a:endParaRPr b="1" lang="en-US" sz="2800" spc="-1" strike="noStrike">
              <a:solidFill>
                <a:srgbClr val="fceb98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1548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Hlsl_wood() asm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990720"/>
            <a:ext cx="4038840" cy="4867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898d8d"/>
                </a:solidFill>
                <a:latin typeface="Courier New"/>
              </a:rPr>
              <a:t>..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, t0, s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7.x, r0.x, r0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2, t1, s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7.y, r2.x, r2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9.xy, r7, c3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xy, r9, c1.w, t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6, t3, s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z, r6.x, r6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, t4, s0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w, r1.x, r1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zw, r11, c3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x, r11.z, c2.w, r11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y, r11.w, c2.w, r11.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2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3.w, r8, r8, c4.x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rsq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2.w, r3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0.w, r2.w, r3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5.y, c0.w, r10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ov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5.x, c3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, r5, s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7.xyz, c2, -t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.w, r7, r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rsq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.w, r0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9.xyz, r7, r0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.w, t6, t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rsq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0.w, r0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.xyz, r0.w, -t6, r9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9.w, r1, r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rsq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.w, r9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xyz, r1, r1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9.w, t7, t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rsq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1.w, r9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xyz, r11.w, t7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_sat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3.x, r8, r11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ov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3.y, r0.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texl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10, r3, s2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w, r10.x, r0.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ad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9.w, -r0.x, c3.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ul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5, c1, r9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7, c0, r0.x, r5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dp3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z, r8, r9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8.z, r8.z, c3.z, c3.z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ad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r6, r8.z, r7, r8.w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ff"/>
                </a:solidFill>
                <a:latin typeface="Courier New"/>
              </a:rPr>
              <a:t>mov</a:t>
            </a:r>
            <a:r>
              <a:rPr b="1" lang="pt-BR" sz="700" spc="-1" strike="noStrike">
                <a:solidFill>
                  <a:srgbClr val="ffffff"/>
                </a:solidFill>
                <a:latin typeface="Courier New"/>
              </a:rPr>
              <a:t> oC0, r6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36680" y="498168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SL generates 37 ALU Instruc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908600" y="1255680"/>
            <a:ext cx="3916440" cy="2755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s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560" y="999720"/>
            <a:ext cx="8388360" cy="43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mework for Managing sha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llback/LOD sys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 tool mate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 way of representing shading algorithm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able some abstraction between author of effect and user of the eff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cilitates sharing of eff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ffect Model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94240" y="1143000"/>
            <a:ext cx="3047760" cy="5575320"/>
          </a:xfrm>
          <a:prstGeom prst="rect">
            <a:avLst/>
          </a:prstGeom>
          <a:solidFill>
            <a:srgbClr val="6a47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2840" y="1765440"/>
            <a:ext cx="2590560" cy="18288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22840" y="3822840"/>
            <a:ext cx="2590560" cy="137160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2840" y="5423040"/>
            <a:ext cx="2590560" cy="1066680"/>
          </a:xfrm>
          <a:prstGeom prst="rect">
            <a:avLst/>
          </a:prstGeom>
          <a:solidFill>
            <a:srgbClr val="99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5120" y="2222640"/>
            <a:ext cx="2286000" cy="533160"/>
          </a:xfrm>
          <a:prstGeom prst="rect">
            <a:avLst/>
          </a:prstGeom>
          <a:solidFill>
            <a:srgbClr val="d590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75120" y="2908440"/>
            <a:ext cx="2286000" cy="533160"/>
          </a:xfrm>
          <a:prstGeom prst="rect">
            <a:avLst/>
          </a:prstGeom>
          <a:solidFill>
            <a:srgbClr val="d590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5120" y="4203720"/>
            <a:ext cx="2286000" cy="838080"/>
          </a:xfrm>
          <a:prstGeom prst="rect">
            <a:avLst/>
          </a:prstGeom>
          <a:solidFill>
            <a:srgbClr val="d590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75120" y="5803920"/>
            <a:ext cx="2286000" cy="533520"/>
          </a:xfrm>
          <a:prstGeom prst="rect">
            <a:avLst/>
          </a:prstGeom>
          <a:solidFill>
            <a:srgbClr val="d5900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1143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man Old Style"/>
              </a:rPr>
              <a:t>Effect Wa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2840" y="38368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echnique DirectX 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2840" y="176544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echnique DirectX 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22840" y="542304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Technique DirectX 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22096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pass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28954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pass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1911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pass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575928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pass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Use shader in a technique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nguage functions can be compiled as either pixel or vertex progra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SzPct val="1116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not have to specify vertex consta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SzPct val="11401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tant table from shader will be matched up with the corresponding effect variab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Fallback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0680" y="1185840"/>
            <a:ext cx="8388360" cy="36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consistent framework for programming 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xed-function programming using render states, texture stage state, fixed-function vertex process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mbly level vertex and pixel shader program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hading language based programm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ndard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5440" y="1106280"/>
            <a:ext cx="838836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on language that makes tools work with fx files the same wa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dustry Standard acro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t Tool vend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rdware vend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ndard Semantic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time Specific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ld, View, Viewport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xture, Material, Bounds, RenderTarge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Standard Annotation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37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get, Min/Max, Description 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/Post process, object loop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ct descrip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 type, resource na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 formatt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ace, Units, dim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Exampl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7920" y="1239840"/>
            <a:ext cx="8388360" cy="466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Kd: Diff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 UIWidget = “color”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UIMin = (0.0, 0.0, 0.0, 0.0)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UIMax = (1.0, 1.0, 1.0, 1.0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     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oat4 UIStep = (0.1, 0.1, 0.1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ing Space = “material”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= (0.3, 0.2, 0.4, 1.0)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Call to Action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2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LSL is the way to program GP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s are the way to manage 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standards so shaders are easily reusable and sha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gn up for the HLSL tutor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dnesday, Thursday, Frid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LSL allows you to explore your imagin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LSL is the way to program GP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fects are the way to manage 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Questions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60360" y="5904000"/>
            <a:ext cx="8148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© 2003-2004 Microsoft Corporation. All rights reserv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>
            <a:lum bright="50000"/>
          </a:blip>
          <a:stretch/>
        </p:blipFill>
        <p:spPr>
          <a:xfrm>
            <a:off x="1598760" y="2516040"/>
            <a:ext cx="5913360" cy="1276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is HLSL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8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standard language for programming the GP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tex, pixel, and procedural texture shad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’-like synta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ed and Developed in partnership with IHV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y should I use HLSL?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8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y to u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dable and reus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alability across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duce Programming complex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istent Implem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n the problem not the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ork on multiple hardware vend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can it do?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 a procedure on each verte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any aspect of that verte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n a procedure on each pix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e any aspect of that pix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What can’t it do? 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9360" y="1288800"/>
            <a:ext cx="83883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a scene grap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 only optimize so mu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haders can’t be unlimited in leng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et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n’t just translate Renderman shad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itecturally different to Renderman designed to match real time hardwa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eate Geomet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sign Goals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578800" cy="30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 level enough to hide hardware specific detai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ple enough for efficient code gener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miliar enough to reduce learning cur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Arial"/>
              </a:rPr>
              <a:t>Design Baseline</a:t>
            </a:r>
            <a:endParaRPr b="1" lang="en-US" sz="4800" spc="-1" strike="noStrike">
              <a:solidFill>
                <a:srgbClr val="ffcc2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415520"/>
            <a:ext cx="8578800" cy="34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’ -like synta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struction statements end with semi-col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en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with //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 start /* and end with */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ndard built-in typ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‘C’ language referen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4T07:00:46Z</dcterms:created>
  <dc:creator>Dave Aronson</dc:creator>
  <dc:description>Template design: Revision by C. Witter, SFP
Formatter:
Event Date:
Event Location:
Speech Length:
Audience:
Key Topics:</dc:description>
  <dc:language>en-US</dc:language>
  <cp:lastModifiedBy>Mike Burrows</cp:lastModifiedBy>
  <dcterms:modified xsi:type="dcterms:W3CDTF">2004-03-16T04:18:48Z</dcterms:modified>
  <cp:revision>16</cp:revision>
  <dc:subject>Event Name Goes Here</dc:subject>
  <dc:title>Slide 1</dc:title>
</cp:coreProperties>
</file>