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6A7A-A134-4A05-B46B-F8B3F10E3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 use one for the entire 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ke C global scop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reful! Sometimes this code will compile under 1.x, but it might not be doing what you thin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are the basic topics I’m cov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Local Parameter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Scop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393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ble only within one effec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r values that change of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ry primi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matr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arly every primit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col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-Instance dat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hared Parameter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Scop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41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‘shared’ modifi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sible to all effects that share a context object (ID3DXEffectPool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set once and all effects can see the val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for values that don’t change often during a fr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bal ligh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 and Projection matr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rameter Semantic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What do I put in here?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37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e a set of semantics for your appl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ive all parameters a semantic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application to fill in data regardless of variable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ght also allow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ty tools to use your effects if you follow their naming conven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rameter Semantics 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28760" y="1871640"/>
            <a:ext cx="6519960" cy="191448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Textu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extur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rimaryTexture : DiffuseMa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extur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condaryTexture : DiffuseMa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Material Col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vector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lorA : DiffuseMa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vector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lorB : DiffuseMa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vector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ColorC : SpecularMa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nnot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nnotations</a:t>
            </a:r>
            <a:br>
              <a:rPr sz="4800"/>
            </a:br>
            <a:r>
              <a:rPr b="1" lang="en-US" sz="3400" spc="-1" strike="noStrike">
                <a:solidFill>
                  <a:srgbClr val="fceb98"/>
                </a:solidFill>
                <a:latin typeface="Arial"/>
              </a:rPr>
              <a:t>General Purpose Extension Mechanism</a:t>
            </a:r>
            <a:endParaRPr b="1" lang="en-US" sz="3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‘interesting’ than Seman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annot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chniq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t anything you wa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tely application-defi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3D Effects ignore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rameter Annotations</a:t>
            </a:r>
            <a:br>
              <a:rPr sz="4800"/>
            </a:br>
            <a:r>
              <a:rPr b="1" lang="en-US" sz="3400" spc="-1" strike="noStrike">
                <a:solidFill>
                  <a:srgbClr val="fceb98"/>
                </a:solidFill>
                <a:latin typeface="Arial"/>
              </a:rPr>
              <a:t>Tell Me More!</a:t>
            </a:r>
            <a:endParaRPr b="1" lang="en-US" sz="3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40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ault val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nimum or Maximum val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UI for material editing tool or expor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er callbac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ve the application do something when the effect is loaded or before the effect is render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rameter Annotati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 1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9400" y="2219400"/>
            <a:ext cx="6862680" cy="308268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V4COLORPICKER 0x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INTERFACE_TYPE(a)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nterfaceType =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Material Co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vector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yFirstColor : Diffuse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loat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inValue = float4(0,0,0,1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loat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maxValue = float4(1,1,1,1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loat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step = float4(0.1f,0.1f,0.1f,0.0f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desc = “Adjust Diffuse Material Color”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RFACE_TYPE(V4COLORPICKER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gt;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rameter Annotati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 2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9400" y="1847880"/>
            <a:ext cx="6862680" cy="390852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INIT_CALLBACK(fn)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nitCallback = f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RENDER_CALLBACK(fn)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tr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enderCallback = fn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Dynamic Environment M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extur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dynEnvTexture : EnvM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Called when effect is initializ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_CALLBACK(“InitEnvMap”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Called each frame before an object that uses thi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texture is rende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NDER_CALLBACK(“RenderEnvMap”)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width = 256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height = 256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pdateFreq = 50; // min. m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 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gt;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chnique Annotations</a:t>
            </a:r>
            <a:br>
              <a:rPr sz="4800"/>
            </a:br>
            <a:r>
              <a:rPr b="1" lang="en-US" sz="3400" spc="-1" strike="noStrike">
                <a:solidFill>
                  <a:srgbClr val="fceb98"/>
                </a:solidFill>
                <a:latin typeface="Arial"/>
              </a:rPr>
              <a:t>What Does This Thing Do?</a:t>
            </a:r>
            <a:endParaRPr b="1" lang="en-US" sz="3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714320"/>
            <a:ext cx="83883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to describe the functionality of a techni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skinning in hard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morphing in hard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ormance-related 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special rendering mo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dra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dow M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61460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egrating D3DX Effects</a:t>
            </a:r>
            <a:br>
              <a:rPr sz="4800"/>
            </a:b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Tips on using the Effects framework in a production game engine</a:t>
            </a:r>
            <a:endParaRPr b="1" lang="en-US" sz="2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47280" y="3950280"/>
            <a:ext cx="7861320" cy="20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Tom Gambill</a:t>
            </a: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ore Technology Group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NCSoft Corporation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chnique Annotati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39840" y="2085840"/>
            <a:ext cx="6586560" cy="311148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RENDER_MODE(rm)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enderMode = 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define TRANSFORM_MODE(tm)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TransformMode = t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echniq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HardwareSkinningDiffuseMapp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NDER_MODE(RM_NORMAL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FORM_MODE(TM_SKINNING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pas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firstP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     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ss Annotations</a:t>
            </a:r>
            <a:br>
              <a:rPr sz="4800"/>
            </a:br>
            <a:r>
              <a:rPr b="1" lang="en-US" sz="3400" spc="-1" strike="noStrike">
                <a:solidFill>
                  <a:srgbClr val="fceb98"/>
                </a:solidFill>
                <a:latin typeface="Arial"/>
              </a:rPr>
              <a:t>You Want How Many Lights?</a:t>
            </a:r>
            <a:endParaRPr b="1" lang="en-US" sz="3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434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lighting functiona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many ligh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kind of ligh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eatable p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re are more of this type of light, do this pass aga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erize pa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able an environment map pass if a parameter is tr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ss Annotation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01680" y="1695600"/>
            <a:ext cx="6586560" cy="419256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echniq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HardwareSkinningDiffuseMapp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 ... 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pas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DirectionalLigh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GHT_COUNT_DIR(4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SS_FLAGS(REQUIRED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pas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ointLigh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GHT_COUNT_POINT(4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SS_FLAGS(REPEATABLE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pas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EnvM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 PASS_FLAGS(OPTIONAL_ENVMAP); 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... 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ranch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hader Array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Pseudo-Static Branching…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388360" cy="36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ulates branching on low-end shader 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iles a shader with different uniform parame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multiple dimen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lights on one ax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ones on another ax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hader Array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01680" y="1762200"/>
            <a:ext cx="6586560" cy="405432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s MyShader( inputs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unifor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umDirectiona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unifor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umBon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... 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share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VertexShader vsLightingSkinningArray[2*2] =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omp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vs_1_1 MyShader(0,1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omp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vs_1_1 MyShader(1,1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omp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vs_1_1 MyShader(0,2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omp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vs_1_1 MyShader(1,2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p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rtexShader =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vsLightingSkinningArray[numDirLights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(numBones-1)*2)]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tic Branching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73240" y="3645000"/>
            <a:ext cx="6586560" cy="211608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s MyShader( inputs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unifor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umDirectiona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unifor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numBon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 ... }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pa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rtexShader 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compi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vs_2_0 MyShader( numDirLights, numBones 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685520"/>
            <a:ext cx="8388360" cy="21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hardware that supports bran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need shader arr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eds to be simple, compiler will tell you when it can’t compile for a shader ver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52520" y="2057400"/>
            <a:ext cx="61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536480"/>
            <a:ext cx="8388360" cy="32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est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hader Branch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ackground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36480"/>
            <a:ext cx="8388360" cy="39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C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sher of Lineage and Lineage II in A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on City of Heroes, Lineage II, Tabula Rasa, Auto Assault, and others in U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 Technology Gro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shared technology and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gine uses D3DX Eff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sting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536480"/>
            <a:ext cx="8388360" cy="11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sting Effect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Reducing Begin()/End() Overhead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714680"/>
            <a:ext cx="83883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gin() and End() can be expens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sting allows moving common state out of inner loo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use 3 lev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obal Eff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ce per frame default st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se Eff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as a sorting bin - Transparent, Opaque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Effect (Effect Instan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s the shaders and lighting passes in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SzPct val="1171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needs state that differs from the outer ef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sting Effect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xample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01680" y="1704960"/>
            <a:ext cx="6624720" cy="3976560"/>
          </a:xfrm>
          <a:prstGeom prst="rect">
            <a:avLst/>
          </a:prstGeom>
          <a:solidFill>
            <a:srgbClr val="f1f1f1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Effect::Begin();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Scene Default St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aqueBin::Begin();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Common opaque state moved 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ffect0::Begin();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Only state that differs 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nder all instances that use this 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ffect0::End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ffect1::Begin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nder all instances that use this 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ffect1::End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aqueBin::End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lucentBin::Begin(); </a:t>
            </a:r>
            <a:r>
              <a:rPr b="1" lang="en-US" sz="1400" spc="-1" strike="noStrike">
                <a:solidFill>
                  <a:srgbClr val="339933"/>
                </a:solidFill>
                <a:latin typeface="Courier New"/>
              </a:rPr>
              <a:t>// Common blending state he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ffect2:Begin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nder an instance using this 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ffect2:End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lucentBin::End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lobalEffect::End(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sting Effects</a:t>
            </a:r>
            <a:br>
              <a:rPr sz="4800"/>
            </a:b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Additional Notes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714320"/>
            <a:ext cx="8388360" cy="41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D3DXFX_DONOTSAVESHADERST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Begin(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der constants are not backed up and restored on End(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lly write all the new values that you need with each Begin() or BeginPass() c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use </a:t>
            </a:r>
            <a:r>
              <a:rPr b="1" lang="en-US" sz="2400" spc="-1" strike="noStrike">
                <a:solidFill>
                  <a:srgbClr val="fa7438"/>
                </a:solidFill>
                <a:latin typeface="Courier New"/>
              </a:rPr>
              <a:t>D3DXFX_DONOTSAVESTA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f you are nesting eff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state is restored at 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breaks hierarchical nature of n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effect at a nesting level will not start with the same state as the fir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arameter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2:17:41Z</dcterms:created>
  <dc:creator>Tom Gambill</dc:creator>
  <dc:description>Template design: Revision by C. Witter, SFP
Formatter:
Event Date:
Event Location:
Speech Length:
Audience:
Key Topics:</dc:description>
  <dc:language>en-US</dc:language>
  <cp:lastModifiedBy>Kevin Gee</cp:lastModifiedBy>
  <dcterms:modified xsi:type="dcterms:W3CDTF">2004-03-15T19:27:29Z</dcterms:modified>
  <cp:revision>29</cp:revision>
  <dc:subject>GDC 04</dc:subject>
  <dc:title>Integrating D3DX Effects</dc:title>
</cp:coreProperties>
</file>