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1177-3558-4440-9C74-4F78C6DF4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F324-B53E-4823-BAA5-7C013598A44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464A-386D-4920-97A1-3D8526DFFC2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081F-EB99-455D-8B77-9B1B4B081C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7193-970B-4EBF-8108-0C05EC68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49E0-E66C-4E06-BFA4-C4198E0F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860DC-3B96-4580-9994-35627B24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8DC7-F9B2-4C06-84DE-8E7D7318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E2524-0BBE-4BCA-BB7C-B9E27356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CE6DB-6450-428D-860C-7D708454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F9C87-7D02-4027-A03A-0B43871C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78378-CFF8-4BF6-A275-B2C5FF54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4323F-8CD7-43C1-B73B-918E0AD50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916FA-3F1E-47D0-8017-BA077ACF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262F3-E85D-472E-A773-57D4F447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1500-37C6-4C02-A798-1AA2B16C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3A8-B5E7-4727-8174-A450968D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8A00-009A-4DBA-8CD2-C068CDD4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386-D0A2-4169-B961-79EE50D7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44E8-3366-45C0-B1B2-3EEC47A2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57ECC-E0ED-4BFE-95ED-10EAE60D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3294-452B-4EAE-946B-A71CCF0B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9B0A-B2E5-44D5-9D65-AC1DA6EE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38DE-8500-4F76-9C42-C34402E8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0815-92C4-4E13-991E-5D3059F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BBFA-C00C-4FBA-9FA3-6FF5F816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519B-6D18-4CAF-AFD7-0D37A961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9BC9-F65B-4BAE-A25F-B443472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065F-9685-47B8-B95B-71120276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DA4C-B9AA-4A83-90EE-A311F2DF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D6E79-E18F-4A62-8F60-34DFB7CD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BFBF0-26A6-4712-A21D-11FE8B46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C3B6-97D9-4318-B25B-9CB8D654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58D4-D62B-40C1-9DFB-298EBA24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9077-AD4E-4CB4-832D-3579F50E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9D3-D914-4DBF-9044-8FC640E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915F8-3406-4BB8-BD5D-EB1A93CA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370FC-526E-420D-BAD3-FF2F3DCC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F57DB-EF06-4A6A-9D48-5A23C2BC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03E9F-0E02-4BD5-AE63-1C5D1451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D3F5-A97A-4545-91F1-92FBBBE9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C8B09-A8CE-4A15-B49B-AFD2066A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89F18-0E11-485F-8AFA-ADDAB01B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02B6-7829-468F-9F6F-AA812652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40A2-5D8F-4A95-8C25-F20E72DE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8960A-5251-4AFA-AE4C-F542709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384A-5582-4D13-A45C-0171556F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4EF4A-D24B-402B-AC65-752DE929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2F62-E6DF-4784-A755-8B35362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50944-70E9-4BDF-A789-68EA3AF7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9BD9A-3EE2-43AF-86AA-C6C36887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C933-053C-496A-9E6F-F1BA119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A4B5F-1EFE-4610-A5C0-E2F3B8C6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5364-EFA6-40F1-B9F7-195A470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BF1E-95E8-465B-B500-A3C8D1C6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8AA97-E143-485A-BF75-D047E18B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7DDB4-7153-4949-9D22-2948354E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9567-2800-46E2-A49C-B4F81AB51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0C7F-25E7-459A-BFE9-22AE1430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66FF2-2444-4DD6-9216-B7ABA7FB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8197-1035-41C4-A810-5B577682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ADDFE-9B53-4C03-BAD8-C17F461B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055A4-92F8-4AAC-94B8-ED43EDCA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578B-31BB-453F-88A1-FC1E6681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E746D-E286-4D1C-8485-1FB11606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56CB-518C-4030-83D3-DE46344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D4C2-2D73-480A-BBB9-6CBE17A3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7FBC-8E5D-43D4-92DE-1EDD425C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3736-E807-4039-AE4B-0B50191D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0F4E-B0F0-4E54-B990-7DB938D3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1406D-40A8-4DB5-86C3-22E187F1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786C1-0921-4E94-B640-54AD0EA5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A5FDA-340C-4785-9B10-8E7B4859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512C1-6E28-421E-AF5D-205FAFB8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AA6E-9A40-41BC-9C38-EF332858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81BDA-F616-457E-A537-408E63A0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C7FA4-7E1A-427E-964E-9CF5EDFD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AE88C-4D00-476B-9048-98CF33C2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3A9C-E1A0-4084-B2F0-30ED4DA6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04B-D732-4312-AA05-A6CCA7A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70427-8D0C-4945-B4CD-B0457D89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F078-3537-4A49-A669-A30875D5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D955-768F-4AA3-9295-B031D09C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363EF-00AB-40EB-8865-493E67B7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FA960-8C31-4782-9C58-480F0D1E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A567F-C0AA-42F5-BCC4-FA2F53BD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E9F4D-2DA8-4114-AD7E-2A00BF93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BB41F-8614-4120-ABB9-C9982D16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ACAC0-493A-4AA5-B6F6-87A85F0B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E5426-C0AA-4C6B-BD00-317092EB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58BD-3B11-4DDF-96A7-0889C51E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F2BA2-D7FF-49C0-A9DD-2D633CA9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74C5A-6780-46DE-A52A-4C6989D1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200CD-FACB-4A62-9386-E8500934E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7C74-B69F-49A1-9A4D-308E5357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179EF-45AE-4A5B-AB3A-1ABE563B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3E72C-2AEB-411F-81C2-19EC97A8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7F29C-C40F-475C-9842-32626C44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22223-7F70-447F-AA17-CE42925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45B45-E530-4F1F-B8FE-F99238B6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A7EFE-B8E8-4E8E-8309-EA7DC747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30F-CE2F-41FD-AB9A-7721E580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E8BAB9-02B4-4BF5-8FB9-5A063770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6EC3A-E21B-441E-B6B1-3CE2B7C6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03AC7-FBB5-40D7-9131-BB9C7DF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2CE3-16C7-4003-9703-25FAB1D6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A376F-B372-4012-8690-23A9850B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5D2A-95F3-4792-9E6D-A8518579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B622C-F02B-4212-967B-C215F46F9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4DCFE-B932-4913-9B30-F823BCF75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20034-5685-416E-92C8-99DBF33A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2F618-2200-456D-A83E-D444C8FD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9361-8C14-4731-B576-408F052DF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FD4B-65DA-475D-95B5-4962CA86EDDD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450-4961-4CA0-ABE9-1C71D6EB12E3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003B-4746-435E-B136-978B69959147}" type="slidenum">
              <a:rPr b="0" lang="en-US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F51A-BC87-46C2-8800-4CEBC75208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E004-7BCB-492B-81E6-09DA3B5FE24F}" type="slidenum">
              <a:rPr b="1" lang="en-US" sz="2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E5C4-4B48-4D0C-96EF-E40C78E29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570-53DE-4AC0-AF32-F34489E58DDC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B0F5-A28F-4C64-827E-07EDCB245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AEB7-F401-4828-BDC3-A945370C2371}" type="slidenum">
              <a:rPr b="1" lang="en-US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DA89-BB10-4E89-9727-B42F834E0B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DA19-101D-485D-8999-B959B6F0594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17E4-88D7-4018-9FDF-2756DC7E51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f497d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84AF-1B9F-46C0-ADA7-C684A88BC9A7}" type="slidenum">
              <a:rPr b="0" lang="en-US" sz="1200" spc="-1" strike="noStrike">
                <a:solidFill>
                  <a:srgbClr val="1f49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DBF8-60F5-4BA7-B83A-6C1AEEF3E2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D581-54C8-49BB-90FB-825549953A1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295-A369-433F-AD67-8FB3A10430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6957-3AB0-4ED0-B169-9C0BBF30BCA3}" type="slidenum">
              <a:rPr b="1" lang="en-US" sz="2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0" y="4381560"/>
            <a:ext cx="9144000" cy="762120"/>
          </a:xfrm>
          <a:prstGeom prst="rect">
            <a:avLst/>
          </a:prstGeom>
          <a:solidFill>
            <a:srgbClr val="bed1b3"/>
          </a:solidFill>
          <a:ln w="25560">
            <a:solidFill>
              <a:srgbClr val="48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0" y="4381560"/>
            <a:ext cx="9144000" cy="762120"/>
          </a:xfrm>
          <a:prstGeom prst="rect">
            <a:avLst/>
          </a:prstGeom>
          <a:solidFill>
            <a:srgbClr val="bed1b3"/>
          </a:solidFill>
          <a:ln w="25560">
            <a:solidFill>
              <a:srgbClr val="48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8:52:41Z</dcterms:created>
  <dc:creator/>
  <dc:description/>
  <dc:language>en-US</dc:language>
  <cp:lastModifiedBy/>
  <dcterms:modified xsi:type="dcterms:W3CDTF">2022-09-14T22:27:0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33</vt:r8>
  </property>
  <property fmtid="{D5CDD505-2E9C-101B-9397-08002B2CF9AE}" pid="3" name="_Version">
    <vt:lpwstr>12.0.4518</vt:lpwstr>
  </property>
</Properties>
</file>