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92CA-8D5D-4CF4-A57F-25E8F9B5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18F-E251-44BD-B10E-3D510826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7A4-84AE-4E56-9895-322368D7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C182-1603-4DD1-AA86-C1970196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9420-07CE-415F-9249-7CE8069A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638B-2B35-4826-A075-81D2CA15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0917-5A8B-4975-A11F-06DBEAA8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A433-C193-45A1-98D2-C0A81D9E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431-05A1-4872-99B5-5BC2B77D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752-D3E5-4A92-83EC-830C26D3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665-FFBB-4346-B965-793A35A4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1EB5-930C-4CEB-8B3D-08372A68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C0AD-195D-44F1-AF60-F9402910B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-30240"/>
            <a:ext cx="917424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bed1b3"/>
          </a:solidFill>
          <a:ln w="25560">
            <a:solidFill>
              <a:srgbClr val="4878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is is sample text for the text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d6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bed1b3"/>
          </a:solidFill>
          <a:ln w="25560">
            <a:solidFill>
              <a:srgbClr val="4878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is is sample text for the text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1T18:42:42Z</dcterms:created>
  <dc:creator>Work</dc:creator>
  <dc:description/>
  <dc:language>en-US</dc:language>
  <cp:lastModifiedBy>Sun-Ae P</cp:lastModifiedBy>
  <dcterms:modified xsi:type="dcterms:W3CDTF">2022-09-14T22:28:15Z</dcterms:modified>
  <cp:revision>19</cp:revision>
  <dc:subject/>
  <dc:title>Slide 1</dc:title>
</cp:coreProperties>
</file>