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E92-B340-473D-8C15-A87B8565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8E3-7165-4C7C-8590-00F33428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7B5-9042-4524-A2CE-9CAEC310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DE8-EFD8-460C-8982-67FE033F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9A5-9A9D-453B-8BFF-A4615872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000-B6D8-4C06-A649-0FFE1F30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064-8F63-4319-BD13-8ABBDDF1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53A-7C90-4319-B46F-DB1B9A82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41B-77C1-450B-B23B-C8C7AB96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DA3-A3F2-4CF0-840A-F1D97A6C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30E-8A14-4A9B-8060-946DD5C5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8B5-88E6-4721-BE70-8ABD6F8A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0E21-61C6-44C8-9F66-9F7FFC816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25560" y="0"/>
            <a:ext cx="919512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224196"/>
          </a:solidFill>
          <a:ln w="25560">
            <a:solidFill>
              <a:srgbClr val="0ba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This is sample text for the text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224196"/>
          </a:solidFill>
          <a:ln w="25560">
            <a:solidFill>
              <a:srgbClr val="0ba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This is sample text for the text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8:42:42Z</dcterms:created>
  <dc:creator>Work</dc:creator>
  <dc:description/>
  <dc:language>en-US</dc:language>
  <cp:lastModifiedBy>Sun-AePR</cp:lastModifiedBy>
  <dcterms:modified xsi:type="dcterms:W3CDTF">2025-09-10T19:09:21Z</dcterms:modified>
  <cp:revision>27</cp:revision>
  <dc:subject/>
  <dc:title>Slide 1</dc:title>
</cp:coreProperties>
</file>