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637-3F1C-409A-96D6-927AB5983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9D6-441D-483F-9981-C724D8AA6F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D44-B3BE-4E85-BEFB-08B9EAB137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067-E093-4AD1-B68E-6B6EE8BC78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6E1-9B44-4A08-A720-9625AAC2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FE3-D048-4F7F-9D0A-8C91F13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0781B-9BBC-4ECC-BFCC-0BEBC58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FFA1A-B225-40EE-85CE-5D6ACCAA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5411-87F4-4A89-A17E-C98D43E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0AF24-B615-4BE8-B5EA-BC0D819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6FE68-C098-4D42-A57B-8FE7CF5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F3331-E4B2-4F55-8589-5ECFBB9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78F0-E8B4-4A21-B0AB-0FEDD594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86BF1-98E5-42DE-87AA-68BF0C2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C1E70-B56D-4F2A-8C1B-74CCD7D0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5EB-9A04-46E3-8030-A604CE56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E52-A488-4FC4-A15D-CF1D53C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EC42-F214-4D36-AD81-508E23CA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251-385D-48AB-8517-ED36F5C2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F90D-D4F0-4FF8-8485-B1503BD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FC73-D601-4300-B6A8-86706F4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D37E-22F6-4EBC-87F0-7188C92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10E-2EC5-44B5-8416-3106579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9704-8A34-42E2-A5AD-333D265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D4A-91D6-4D8F-A1BF-2B9BA7C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6CEB-3EC7-4E2B-99DF-0F68D66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B035-01BC-442F-8977-ABDA0A2A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F8C-23D0-43AA-B41A-40876648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176-AAD1-43D9-A595-9F3E1185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FDD-9233-40DC-8C21-D8948862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0F38-B34C-4614-8E91-E099C74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1937-FFDA-4253-847D-33A27034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A415-CC1E-4CE7-85DA-817C988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575D-7DFC-4DFF-8322-2669DA4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84BE-4B99-42AC-96EE-6956BAB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798-84FA-4F6F-B63F-DBDAAC78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4F37-570F-4E98-8C7E-5E4DE0E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76C6-4064-4914-BD81-6ADCBE8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5DDA-337E-46EE-BD27-F2FAB3A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721C-066F-4C3C-BB98-5CF3C4A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D20F-B9CB-4F48-A0F5-DCD5196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78D2-4885-40CF-B181-06ED5B63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0631-DC20-4057-92A5-394A427A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A844-57C4-4E64-9400-F293A2D0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5CFA-453C-4AF0-98F8-0C2D36D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943F-D944-4755-AC06-C8516B8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CD3-37C4-41D1-9377-2F3ACC81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86F9-F637-4BF5-9443-A1D04B2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8841-076D-4985-85DC-CCD97BF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5325-8295-4208-A67F-C9EC7D90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C2DD-B730-4967-B125-E4A72AE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D4C3-F118-4647-B317-F26F156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27D1-5E76-4D4B-8973-4B4D031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3572-336A-474A-9AEB-10F6B98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3A2D-6F17-4BD1-82E3-51074578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7BE6-79B7-40B6-A21A-10369D94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22449-0F5E-45DB-BC7C-C075CAB0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A02-F8B0-4A4B-918F-41F8AEF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C6EF-46BD-4992-8259-064A202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446B-A510-4E27-90BB-970E253C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DF53-BD16-403B-8FD3-553D5FA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B832-150A-4682-8520-460EBA66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9755-8F69-4A9A-B9AC-74802BA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DB41-7274-4F88-B7A4-0480208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DF25-534D-49E1-A157-6811425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B377-4A5B-4ECD-A28C-EF74153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39FA-B9EA-4A7F-85BE-A280E58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3526-0F15-4F03-882D-85F2CBDA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95F-69EE-46D1-A146-723D76A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6CD3-03BA-403A-AE21-80598C0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9EE5-E2C5-4DA8-ADA4-D288ADF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F0DC-A23E-4387-810E-C675CDBC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82B5-1FF1-445E-9089-92F5F11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362E-6EA6-4C60-959C-CDA70EC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3657-FF99-47D5-BBC9-9B3A549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82E08-B650-415B-B003-5BECFE68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CC85-F245-4EC5-8BBF-6AB56C5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7CAB-C415-400D-BE36-1816C65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4581B-5468-43A2-A0A5-395171E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F44-D99E-46E7-8D57-8721D23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3C9F-F8B0-4A2B-9AC6-2B4F305A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E1E0-67CB-450C-A019-B4E636F8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FC37D-D8ED-4877-83D2-047BC372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2CE2-4C4A-48DF-9B76-C5F747BC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66A2-2D4B-49C4-BE65-D90180F6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808D-A65B-4B82-B54B-EA923A7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2FBDB-F627-430B-82BD-21726359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54B8B-5057-4633-9C62-1714007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4AB3-7145-4D55-BAA7-145D286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974A-2E9B-4219-943C-244F79C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4D4-A8BD-40CA-9080-3491FAF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3C63-9D31-4474-8C77-FD6C33D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99F3-8CD1-43EE-8EF0-FAE23C3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09D5C-4C0D-405B-A728-E6B3E76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59BD-7BB6-4171-A289-2224D543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7A6E-0EA6-4C80-AAC3-10A69999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8F02-252A-4F3D-BFEA-716E9C2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8D28D-8851-4A7A-8FA6-DBDC91E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83ABD-1BA6-4432-9C26-3C9C24C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E239-E92F-4EF2-A64A-C74FF43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6FBF-99A0-44A4-8A26-D1418892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8E6-F068-4948-84CA-933DF5A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6829F-FE9E-46F5-94D2-D271C19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F5D17-184C-4CCA-A421-1EA1328A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CC70-36AE-4710-BFD3-6C69986F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FF9FA-0ADA-4636-84B2-E7D53B8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910A-AD4B-43F2-AEFD-A03B9F8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D4C4-BF4F-4306-AA16-6C9665DC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F31EE-2A9B-4AC1-80AF-53427A67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7A2CB-7146-4DE9-B54E-7E964E3D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EA801-ACED-4813-A727-7910406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5701B-EF28-42B4-9059-6372FDB6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2009-FEEF-46D1-929B-3C263272C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065-5D15-4024-B80A-3BA2D573E4E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F22-47D8-4D10-BED9-FCF346BD164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A05-F5EA-4DD3-8A1E-DE711A726853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DB35-20AE-48F8-9E9A-F4A4C365B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7DC5-C5EE-426D-A4DE-9B05960EC5B1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1416-0D00-49AF-9CBF-37D292E40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ABAD-C5B8-441D-8AE3-39E96D2035E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4E4-D24A-41BC-95EB-0C58A9A98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852-CDC5-41D3-A32E-E4EE2F53B77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F35-2D44-460F-9925-89773E4AD1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B628-5757-44BF-82F7-FCFBC333EC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0D86-7DA6-4636-A151-881CED5B1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11B-03C8-465C-9161-82652BFB420D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CC8A-1EA3-45B6-B721-716CC56E08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9B2F-1C0A-4B6D-88DB-5AAA08EFA7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843-175D-4D99-BD4E-F4206ED89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7B7B-BC4D-4592-B8EA-42E3B0F31305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0" y="4381560"/>
            <a:ext cx="9144000" cy="762120"/>
          </a:xfrm>
          <a:prstGeom prst="rect">
            <a:avLst/>
          </a:prstGeom>
          <a:solidFill>
            <a:srgbClr val="224196"/>
          </a:solidFill>
          <a:ln w="25560">
            <a:solidFill>
              <a:srgbClr val="0ba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0" y="4381560"/>
            <a:ext cx="9144000" cy="762120"/>
          </a:xfrm>
          <a:prstGeom prst="rect">
            <a:avLst/>
          </a:prstGeom>
          <a:solidFill>
            <a:srgbClr val="224196"/>
          </a:solidFill>
          <a:ln w="25560">
            <a:solidFill>
              <a:srgbClr val="0ba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8:52:41Z</dcterms:created>
  <dc:creator/>
  <dc:description/>
  <dc:language>en-US</dc:language>
  <cp:lastModifiedBy/>
  <dcterms:modified xsi:type="dcterms:W3CDTF">2025-09-10T18:52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