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D703-A8A7-44DD-BA52-824B1C47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F1CB-0348-4976-BE04-69762A7D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A914-4D9F-4581-BFAC-0678B5643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20B-B1FD-443E-BEA2-5C1883B4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620-C5D4-48BC-9FDE-16E1CF8F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8F77-F9A9-4204-AB23-A49E728C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25ED-BD49-429D-80BD-BB4F2F82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021-9578-4034-B745-286C685A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19B7-1A48-48AA-A79C-84A035C1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122-9B5D-4D8E-8255-E19E66A2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4FA3-EA92-4378-BA54-B8C1F052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1E53-F731-4E34-886E-EF62A391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3E25-FACC-42B8-9459-294A01FF9BE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elopment of Redistricting Principles and Standards -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vernor’s Citizen Advisory Commission on Redistric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bruary 21, 2001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urrence of Legislative, Congressional Bounda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verlapping plans can create problem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 of Overlapping Pl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828800"/>
          <a:ext cx="814536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828800"/>
                    <a:ext cx="814536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ties of Intere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cognition of shared or similar interests among citize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ypes of similar or shared interes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litical or geographic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cial or cultur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cial or ethnic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conomic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Communities of Interest - Part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2133720" y="1600200"/>
          <a:ext cx="4636800" cy="49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600200"/>
                    <a:ext cx="4636800" cy="49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Communities of Interest, Part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143000" y="1523880"/>
          <a:ext cx="678168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23880"/>
                    <a:ext cx="678168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s of Communities of Interest, Part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school%20districts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9179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itical Competitive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is “competitive”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relativistic nature of measure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aling with uncertain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imitat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aradigms for Analyzing Competitive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mber of part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publican, DF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publican, DFL, Independen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publican, DFL, Independence, Gree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ethodology for Determining Competitive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minal party suppor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re party suppor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political facto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conomic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oci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rgin of dif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ces Available for Analy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ederal offi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siden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 Senat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 Representativ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te offi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stitutional Offic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te Senat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te Representativ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te General Election Resul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r years 1992-2000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y precinc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pulation Equality of Distri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gressional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an population: 614,93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verall desired rang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s nearly equal as practicable”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ffect of “legitimate state objectives”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So, where’s the secret formula?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pulation Equality of Distri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gislative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ean popula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enate: 73,425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use: 36,713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verall desired rang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%: +/- 3,671 (S) or 1,836 (H) from mea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%: +/- 1,469 (S) or 734 (H) from mea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%: +/- 734 (S) or 367 (H) from mean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ctness of Distri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ype of test methodology to be use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arison to circ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arison to length of perimet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tent of population dispers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imitations of method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rmining Compact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04920" y="1295280"/>
          <a:ext cx="8458200" cy="520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8458200" cy="520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re on Compactn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762120" y="1600200"/>
          <a:ext cx="7619760" cy="493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7619760" cy="49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iguity of Distri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xtent of contigu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paration of territory by wate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iguity by corner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blems with municipalities having noncontiguous territo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ncontiguous Municipal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28600" y="2209680"/>
          <a:ext cx="8615520" cy="41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09680"/>
                    <a:ext cx="8615520" cy="41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eserving Political Subdivi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riteria for dividing political subdivis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pulation equali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actn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iguit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thodology for dividing political subdivis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nimizing number of divisio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viding larger subdivisions before smaller on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ing important geographic featur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15:05:04Z</dcterms:created>
  <dc:creator>Setup</dc:creator>
  <dc:description/>
  <dc:language>en-US</dc:language>
  <cp:lastModifiedBy>Setup</cp:lastModifiedBy>
  <dcterms:modified xsi:type="dcterms:W3CDTF">2001-02-28T18:23:42Z</dcterms:modified>
  <cp:revision>25</cp:revision>
  <dc:subject/>
  <dc:title>Development of Redistricting Principles and Standards - Part 1</dc:title>
</cp:coreProperties>
</file>