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77E5-9ACF-415D-B7C5-A1C9CDEF4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2950-3FF8-4B40-B84C-C4E2AA92C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B90F-0BF2-4668-80D3-48F0BCDE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B7F-E95E-4E2B-9F96-AAD5093F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5026-E2B5-4B96-99AD-799711312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5B0-8091-42F2-9707-6D652DBE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C9AF-6277-4C54-A76C-B8D60297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9BC9-1817-4466-B410-91D53409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DEFF-21E1-436B-A241-E7F86B4F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6CC-C3AF-4162-A421-79BDD0FE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B396-C6A9-46B0-AB09-30D3D615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6D38-7EF6-4E14-8344-71A6D80E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65A-AFE2-4232-B4B2-311E2B64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9F07-F46E-4385-8104-DD1158D0DEB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derstanding the Redistricting Process in Minnesota 2001-200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3809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oseph Mansk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istricting Project Manag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vernor’s Citizen Advisory Commission on Redistrict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nnesota Plann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gust 7, 200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1B7-E823-4337-8C96-A3EFD466D69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trateg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int of depar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e adjustments to existing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ate all new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cy on population disp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dress areas lacking represent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B4F-2B5E-4490-91EA-34489462DF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Principles and Standa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equality of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ctness of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iguity of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iance with Voting Rights A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rvation of communities of interes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rving political subdivi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tical competitiven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995D-7616-47F9-9320-C413F17C73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egal Challe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s not of equal popu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s not compact or contiguo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s do not provide a fair chance for election of certain individua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 composition designed to favor certain voters over oth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 not adopted in a timely mann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7643-D98C-43F6-809A-8B9F278E93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s for Proper Distri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pulation equality - how close to zero variance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ctness - how close in shape to a circle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iguity - are there any “islands” or “peninsulas”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qual protection - are all voters treated in an equal manner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litical competitiveness - do non-incumbent candidates have a fair chance of being elected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0B28-2164-4CAC-B9D1-AE6817D166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olitics of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erall goal is politic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jective is to create a majority of districts in which a party or faction can safely elect its memb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jority will seek to both strengthen itself and weaken its oppon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rvation of the status quo is often a desired outc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5A81-5B3E-4D70-AD46-A59A7924245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cience and Art of Gerrymand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o was Elbridge Gerry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1BCF-838B-4141-A80A-313AE7DE2D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gerrymander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84836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3CC-93AC-44C3-BC24-ADE32D6441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rrymandering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cking - restrict the minority to as few districts as possi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lution - spread the minority among as many districts as possi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4DA2-AEE3-4CA2-ACF9-4CE84240E73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us Report on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 of August 7, 2001 …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vernor’s commission has adopted redistricting principles and standards and is awaiting legislative a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ate and House have passed bills and a “working group” has been appoin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ief Justice Blatz has appointed a five-judge panel to consider redistricting lawsuits pending completion of the legislative proc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9AAD-A0B6-4EB6-B5ED-F02ED7B680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to Get More Information on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vernor’s redistricting commis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ww.mnplan.state.mn.us/redistrict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51.297.240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seph.mansky@state.mn.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ive GIS offi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ww.commissions.leg.state.mn.us/g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51.296.0098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C10-376C-4098-ADF6-7378466E3D8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 the redistricting proc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e the players in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uss the motivation for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 an update on state activi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7533-C256-4C98-9F85-0F7DB4D0FA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Redistrict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rocess of dividing the territory of a political unit for the purpose of electing members of its governing bod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3F46-F0DD-4CDB-9186-8F97CBB900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Reapportionm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cess used to determine the allocation of members of the U.S. House of Representatives among the 50 sta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son the census is authorized in the U.S. constitu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l other activities can be considered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FF8-9FE5-4380-B54E-B98EE02C1D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ical Perspect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 legislative redistricting between 1913 and 195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rt involvement in redistricting since late 1950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2E79-9CAF-43E9-ADF6-C86D185B816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itutional Basis for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arantee each state a republican form of govern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ford all citizens the equal protection of the law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 population equality in each electoral distric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 for equal probability of representat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349-8ABD-4449-AC17-CD375D2974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yers in State Redistricting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ate subcommittee on redistricting (of Rules committe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use redistricting committe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vern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itizen’s Advisory Commission on Redistrict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r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al redistricting pan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9AA-E6AF-45C5-A7E2-392F652A5F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chedu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r 19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st day to enact legislative a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gressional pla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r 30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st day to enact ward plan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d adopt precin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28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st day to adopt count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issioner district pla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ul 2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rst day to file for off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97C-3E48-4915-A9C2-BF0FE6A726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ic Criteria for Election District Bounda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be composed of compact, contiguous territo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be coterminous with precinct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cincts must be coterminous with census block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A0B5-CC21-4B3D-BFF9-974F977F32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1T18:04:32Z</dcterms:created>
  <dc:creator>Hennepin County</dc:creator>
  <dc:description/>
  <dc:language>en-US</dc:language>
  <cp:lastModifiedBy>mansky</cp:lastModifiedBy>
  <cp:lastPrinted>2001-08-04T16:57:31Z</cp:lastPrinted>
  <dcterms:modified xsi:type="dcterms:W3CDTF">2001-08-07T16:14:10Z</dcterms:modified>
  <cp:revision>139</cp:revision>
  <dc:subject/>
  <dc:title>Overview of the Redistricting Process</dc:title>
</cp:coreProperties>
</file>