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3C58-8EC6-45E3-AC5D-986D002F3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7F92-C832-4BAC-9D49-E1EB591AD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6C53-BAEC-4D82-83B5-631C78E4F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69D5-E227-47C5-B24C-3376C3090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5BE9-1A70-411C-AE4C-9A2E08AE4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487D-8349-43B4-A5C1-EEA0B1E38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1DC3-AE29-49C1-9E25-EFDB62F14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FE5B-90D3-450D-9E2F-F11E5A24A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D5FB-5849-45C1-893A-ED100E9C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DD92-0CA5-4831-AD78-D4B05E6E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5614-3CE0-4ED5-A208-9DED30C8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D0AE-CD55-40D9-B5B4-025F8D24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0A01F-D777-4211-AF2E-7F76345EF7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evelopment of Redistricting Principles and Standards - Part 2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vernor’s Citizen Advisory Council on Redistric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bruary 28, 20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8T16:44:07Z</dcterms:created>
  <dc:creator>Setup</dc:creator>
  <dc:description/>
  <dc:language>en-US</dc:language>
  <cp:lastModifiedBy>Setup</cp:lastModifiedBy>
  <dcterms:modified xsi:type="dcterms:W3CDTF">2001-02-28T16:49:35Z</dcterms:modified>
  <cp:revision>1</cp:revision>
  <dc:subject/>
  <dc:title>Development of Redistricting Principles and Standards - Part 2 </dc:title>
</cp:coreProperties>
</file>