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E9A9-306A-4834-A478-16CE7EB70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A72-D7E5-4D64-86CB-277B69A0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002F-870A-4468-AC18-4F5D7693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8892-63BD-4B85-8C53-9EE27549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1D0E-F813-4307-8777-1AC6AA81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EBE-74AE-406B-87D9-CDC239D3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A423-36E8-410F-8C3E-DD623CCE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908F-F243-47A0-8FA7-946EBAE9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082-5B45-458B-8FB0-39248B13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1592-8CAB-42CE-B87F-6A9915E7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9D48-CE18-403C-98B8-65110671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CB3D-B811-4B5F-8995-9D801CF3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D088-075E-4E5D-B900-C1C543EF2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lculating Political Competitiv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2286000"/>
            <a:ext cx="83822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for calculating competitiveness of Republican candid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(R votes SOS98/Total votes SOS98) + (R votes AUD98/Total votes AUD98) +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 votes TREAS98/Total votes TREAS98) + (R votes AG98/Total votes AG98)) /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1T17:25:12Z</dcterms:created>
  <dc:creator>Setup</dc:creator>
  <dc:description/>
  <dc:language>en-US</dc:language>
  <cp:lastModifiedBy>Setup</cp:lastModifiedBy>
  <dcterms:modified xsi:type="dcterms:W3CDTF">2001-03-21T17:37:13Z</dcterms:modified>
  <cp:revision>1</cp:revision>
  <dc:subject/>
  <dc:title>Calculating Political Competitiveness</dc:title>
</cp:coreProperties>
</file>