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85760" y="4177080"/>
            <a:ext cx="69724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85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8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43400" y="182880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01040" y="182880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85760" y="417708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43400" y="417708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01040" y="417708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85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58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85760" y="4177080"/>
            <a:ext cx="69724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085760" y="4177080"/>
            <a:ext cx="69724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5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58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443400" y="182880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801040" y="182880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085760" y="417708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443400" y="417708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801040" y="4177080"/>
            <a:ext cx="22449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685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85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8760" y="417708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8760" y="1828800"/>
            <a:ext cx="34023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85760" y="4177080"/>
            <a:ext cx="697248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>
            <a:off x="0" y="76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 l a i n t i f f - I n t e r v e n o r   V e n t u r a ’s   P r o p o s e d   R e d i s t r i c t i n g   P l a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76320" y="347760"/>
            <a:ext cx="9296640" cy="10944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Click to edit the title text format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41" name=""/>
          <p:cNvSpPr/>
          <p:nvPr/>
        </p:nvSpPr>
        <p:spPr>
          <a:xfrm>
            <a:off x="-76320" y="4157640"/>
            <a:ext cx="9296640" cy="109440"/>
          </a:xfrm>
          <a:prstGeom prst="rect">
            <a:avLst/>
          </a:prstGeom>
          <a:gradFill rotWithShape="0">
            <a:gsLst>
              <a:gs pos="0">
                <a:srgbClr val="007575"/>
              </a:gs>
              <a:gs pos="50000">
                <a:srgbClr val="00ffff"/>
              </a:gs>
              <a:gs pos="100000">
                <a:srgbClr val="00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Aft>
                <a:spcPts val="1199"/>
              </a:spcAft>
              <a:buClr>
                <a:srgbClr val="ffff66"/>
              </a:buClr>
              <a:buSzPct val="75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95000"/>
              </a:lnSpc>
              <a:spcAft>
                <a:spcPts val="1199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66"/>
                </a:solidFill>
                <a:latin typeface="Tahoma"/>
              </a:rPr>
              <a:t>Presentation of</a:t>
            </a:r>
            <a:br>
              <a:rPr sz="3800"/>
            </a:br>
            <a:r>
              <a:rPr b="1" lang="en-US" sz="3800" spc="-1" strike="noStrike">
                <a:solidFill>
                  <a:srgbClr val="ffff66"/>
                </a:solidFill>
                <a:latin typeface="Tahoma"/>
              </a:rPr>
              <a:t>Plaintiff-Intervenor Ventura’s</a:t>
            </a:r>
            <a:br>
              <a:rPr sz="3800"/>
            </a:br>
            <a:r>
              <a:rPr b="1" lang="en-US" sz="3800" spc="-1" strike="noStrike">
                <a:solidFill>
                  <a:srgbClr val="ffff66"/>
                </a:solidFill>
                <a:latin typeface="Tahoma"/>
              </a:rPr>
              <a:t>Proposed Redistricting Plan</a:t>
            </a:r>
            <a:br>
              <a:rPr sz="3800"/>
            </a:b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January 16, 2002</a:t>
            </a:r>
            <a:endParaRPr b="1" lang="en-US" sz="32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343040" y="480060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spcBef>
                <a:spcPts val="200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orsey &amp; Whitney LLP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arianne D. Short, Esq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ichael Jurgens, Esq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39264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State Land Use Map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9" name="Landuse" descr=""/>
          <p:cNvPicPr/>
          <p:nvPr/>
        </p:nvPicPr>
        <p:blipFill>
          <a:blip r:embed="rId1"/>
          <a:stretch/>
        </p:blipFill>
        <p:spPr>
          <a:xfrm>
            <a:off x="1905120" y="914400"/>
            <a:ext cx="5913360" cy="59436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Highlights of Congressional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Minneapolis and St. Paul located in separate distric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5 urban and 3 rural distric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verlap between metropolitan and non-metropolitan areas is minimiz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Separate Districts for </a:t>
            </a:r>
            <a:br>
              <a:rPr sz="3400"/>
            </a:b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Minneapolis and St. Paul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stinct communit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ach has more in common with its neighboring suburbs than with the other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Combining Minneapolis and St. Paul dilutes racial and ethnic minority voting strength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5/3 Formulatio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cognizes the state’s changing demographics, but protects the state’s rural interes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58% of the population now lives in the eleven-county metro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None of the outstate districts share any area with the eleven metropolitan area counties as compared to Zachman (7 of 8), Moe (8 of 8), Cotlow (6 of 8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Partisan Reaction to </a:t>
            </a:r>
            <a:br>
              <a:rPr sz="3400"/>
            </a:b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Congressional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Unnecessary county spli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District 7 created to protect Independence Part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longated shape of District 2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Legislative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48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2w_o%20legend" descr=""/>
          <p:cNvPicPr/>
          <p:nvPr/>
        </p:nvPicPr>
        <p:blipFill>
          <a:blip r:embed="rId1"/>
          <a:stretch/>
        </p:blipFill>
        <p:spPr>
          <a:xfrm>
            <a:off x="1676520" y="549360"/>
            <a:ext cx="5821200" cy="63086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Highlights of Legislative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7601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ecognizes the ring growth conce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Acknowledges political subdivision boundaries and communities of interes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Expands political power for minority voters by increasing the number of opportunity distric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1400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reats incumbents and challengers alik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Ring Growth Concept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Rings are created by the concentric pattern of development outward from the Twin Cit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Ventura plan recognizes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hared communities of interest in the rings of suburbs surrounding the Twin Cities; 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ore urban districts, with surrounding suburban and rural distri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701880" y="3200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Metropolitan Rings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17" name="ringmap" descr=""/>
          <p:cNvPicPr/>
          <p:nvPr/>
        </p:nvPicPr>
        <p:blipFill>
          <a:blip r:embed="rId1"/>
          <a:stretch/>
        </p:blipFill>
        <p:spPr>
          <a:xfrm>
            <a:off x="457200" y="1171440"/>
            <a:ext cx="8458200" cy="56865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Overview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69724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gressional Pl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Legislative Pl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36564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Rochester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20" name="2Rochester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Minority Voting Power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Ventura Plan maintains the same number of majority-minority districts, while creating more influence distri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reation of minority influence districts increases opportunities for minority voters to be heard in the election pro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lacing voters in influence districts rather than over-packed majority districts prevents marginalization of minority voi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Fairness to Incumbents </a:t>
            </a:r>
            <a:br>
              <a:rPr sz="3400"/>
            </a:b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and Challengers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8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irest to the separate parti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tlow – 9 Republican pairings, 5 DFL pairings, 11 mixed pairin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e – 9 Republican pairings, 5 DFL pairings, 8 mixed pairin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Ventura – 12 Republican pairings, 11 DFL pairings, 8 mixed pairin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Zachman – 4 Republican pairings, 7 DFL pairings, 6 mixed pairing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8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st equitable to women candidates, with only 22% of the members paired women, compared to Cotlow (28%), Moe (30%), and Zachman (32%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Fairness to Incumbents</a:t>
            </a:r>
            <a:br>
              <a:rPr sz="3400"/>
            </a:b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and Challengers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Ventura Plan, unlike the other plans, took incumbency into consideration only after the plan had been drafte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other plans protect incumbents of their party; the Ventura plan treats all political parties the sam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Ventura Plan outperforms other plans on Political Competitiveness Index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Partisan Reaction to Legislative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nnecessary county  and municipal spli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mmunities of interest overlooke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nti-incumbent, including Sen. Chaudhar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County Splits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ore county splits because of the following policy choice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mary emphasis on population equal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ary emphasis on compactn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iority given to preserving non-metropolitan regional centers and envir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hen possible, avoid splitting a city with territory in more than one coun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District 48B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132" name="District48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410080" cy="58672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Alternatives to Tweak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f the Panel agrees with suggestions made by the other parties regarding improvements to the Ventura plan, adjustments easily can be made using the Ventura plan as a starting poi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14B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untain Iron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Deerfield Township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Brainerd/Baxter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Moorhead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Conclusio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cause of the process, the Ventura plan best satisfies the neutral redistricting criteria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west mean population varianc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st compact and conveni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ame majority-minority districts, while creating more influence distri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reats incumbents and challengers alik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Distinctive Process Employed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372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Governor’s Citizen Advisory Committee on Redistric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Fifteen-month long public pro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Public meetings and hearin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Information readily accessible on web page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5000"/>
              </a:lnSpc>
              <a:spcBef>
                <a:spcPts val="2801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ff"/>
                </a:solidFill>
                <a:latin typeface="Tahoma"/>
              </a:rPr>
              <a:t>www.mnplan.state.mn.us/redistric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Goal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o create a plan free of partisan considera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Which focuses primarily on equal populat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spcAft>
                <a:spcPts val="18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nd secondarily on convenient, contiguous, and compact distri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Results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Ventura plan has the lowest mean population varianc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801"/>
              </a:spcBef>
              <a:spcAft>
                <a:spcPts val="700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The Ventura plan has the most compact and convenient pl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Partisan Reaction to the Process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5760" y="1828800"/>
            <a:ext cx="6972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 Ventura plan was designed to match incumbent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Cotlow – cookie cutters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Moe – transparently aimed at turning incumbents out of offic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spcAft>
                <a:spcPts val="1500"/>
              </a:spcAft>
              <a:buClr>
                <a:srgbClr val="ffff66"/>
              </a:buClr>
              <a:buSzPct val="7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achman – open seats should be in heavy growth area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2401"/>
              </a:spcBef>
              <a:spcAft>
                <a:spcPts val="601"/>
              </a:spcAft>
              <a:buClr>
                <a:srgbClr val="ffff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These arguments illustrate the difference among the parties’ approach to redistricting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76084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</a:rPr>
              <a:t>District One of Plaintiff-Intervenor Ventura’s Original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  <p:pic>
        <p:nvPicPr>
          <p:cNvPr id="93" name="District1" descr=""/>
          <p:cNvPicPr/>
          <p:nvPr/>
        </p:nvPicPr>
        <p:blipFill>
          <a:blip r:embed="rId1"/>
          <a:stretch/>
        </p:blipFill>
        <p:spPr>
          <a:xfrm>
            <a:off x="2286000" y="1600200"/>
            <a:ext cx="4876920" cy="52578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Tahoma"/>
                <a:ea typeface="Times New Roman"/>
              </a:rPr>
              <a:t>Congressional Plan</a:t>
            </a:r>
            <a:endParaRPr b="1" lang="en-US" sz="3400" spc="-1" strike="noStrike">
              <a:solidFill>
                <a:srgbClr val="ffff66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2f"/>
            </a:gs>
            <a:gs pos="50000">
              <a:srgbClr val="006666"/>
            </a:gs>
            <a:gs pos="100000">
              <a:srgbClr val="002f2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9420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Congressional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5943600" cy="6324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8:41:24Z</dcterms:created>
  <dc:creator>Administrator</dc:creator>
  <dc:description/>
  <dc:language>en-US</dc:language>
  <cp:lastModifiedBy>mansky</cp:lastModifiedBy>
  <cp:lastPrinted>2002-01-16T14:41:37Z</cp:lastPrinted>
  <dcterms:modified xsi:type="dcterms:W3CDTF">2002-01-16T14:42:27Z</dcterms:modified>
  <cp:revision>123</cp:revision>
  <dc:subject/>
  <dc:title>Presentation of Plaintiff-Intervenor Ventura’s Proposed Redistricting Plan Dorsey &amp; Whitney LLP Marianne D. Short, Esq. Michael Jurgens, Esq.</dc:title>
</cp:coreProperties>
</file>