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E360-7F51-444A-A821-6B9F8F65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A26-84ED-4803-8583-9BFFABE1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835E-F309-443A-AACC-94CD1CE8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FC2-2732-486C-B827-A780E030B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6B3-1594-432F-BD12-6A44E270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2EF-7457-4897-A4E0-64F67CFC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9898-5890-422C-920E-D45636D0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FF6-988C-4F0F-98FE-3D54FDB5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DD7C-7E20-4878-9BF1-EA8EB9E70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0163-02C9-4534-9430-A6BD7CA7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D582-0D2B-400E-A2D2-95D1798F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8FD-19E5-4685-8AE8-08CB12EB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1A65-6AC8-4ED4-A08D-C37C126CA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72960" y="268200"/>
            <a:ext cx="83962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2960" y="268200"/>
            <a:ext cx="83962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2960" y="268200"/>
            <a:ext cx="83962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5800" y="457200"/>
          <a:ext cx="80773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80773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62120" y="1996920"/>
          <a:ext cx="7772400" cy="417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996920"/>
                    <a:ext cx="7772400" cy="41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72960" y="268200"/>
            <a:ext cx="83962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72960" y="268200"/>
            <a:ext cx="83962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72960" y="268200"/>
            <a:ext cx="83962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72960" y="268200"/>
          <a:ext cx="8398080" cy="632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268200"/>
                    <a:ext cx="8398080" cy="63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72960" y="268200"/>
            <a:ext cx="83962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219240"/>
            <a:ext cx="83822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479080" cy="64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184320"/>
            <a:ext cx="838224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3520" y="1422360"/>
            <a:ext cx="7848360" cy="490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0773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72960" y="268200"/>
            <a:ext cx="83962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72960" y="268200"/>
            <a:ext cx="83962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2960" y="268200"/>
            <a:ext cx="83962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72960" y="268200"/>
            <a:ext cx="83962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72960" y="268200"/>
            <a:ext cx="839628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20:36:22Z</dcterms:created>
  <dc:creator>Martha McMurry</dc:creator>
  <dc:description/>
  <dc:language>en-US</dc:language>
  <cp:lastModifiedBy>Setup</cp:lastModifiedBy>
  <cp:lastPrinted>2001-03-15T17:23:24Z</cp:lastPrinted>
  <dcterms:modified xsi:type="dcterms:W3CDTF">2001-03-15T17:30:41Z</dcterms:modified>
  <cp:revision>15</cp:revision>
  <dc:subject/>
  <dc:title>No Slide Title</dc:title>
</cp:coreProperties>
</file>