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5662-7E4D-4E8C-8255-63A1FABFB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90E-3A72-4345-83AE-E0DD6F97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6538-9D84-4BE8-8122-5782BB66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0CC-E688-47C2-A0F8-1EEF2F9E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60D-C9D2-4F86-A918-F8EAD1286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839-A434-4286-8709-74ABE56B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C353-3812-43E3-8645-620DB9C1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05D2-FA63-4F6F-9AA1-CFE0E165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678A-42C7-4FF8-AAD8-FD9AC1C8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3A4-731F-412F-A9E1-A7D1550E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629-A5B7-46AA-AE91-9739CABF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BCAF-1B53-4BE9-9DE8-5C5AD002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8D4-D856-487D-BD41-E9A0660A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A4C7-5FE5-4A14-B16D-2E04A46A8B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standing the Redistricting Process in Minnesota 2001-200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4495320"/>
            <a:ext cx="6324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Joseph Mansk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chedule*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 1, 200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deral cens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 31, 200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rtification of census resul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 19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 and legislativ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s comple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 30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rd and precinct boundar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s comple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28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y commissioner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hool district plans comple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ul 2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lings open for genera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ote:  This schedule assumes legal challenges to the congressional and/or legislative plan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Cri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e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ctn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gu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unities of intere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ic Criteria for Election District Bounda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mposed of compact, contiguous territ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terminous with precin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cinct boundaries must be coterminous with census tract or block boundaries for at least two years following the cen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Responsibil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pare new legislative and congressional district plans by March 19, 200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unicate redistricting data to each county auditor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y Responsibil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 new county commissioner district plan either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in 80 days after the legislative plan has been adopted 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least 15 weeks before the state primar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wait for municipalities to establish new precin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nicipal Responsibil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 new ward plan and new precinct boundaries either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in 60 days after the legislative plan has been adopted 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least 19 weeks before state primar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any changes to polling place locations at least 25 days before the state prima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ool District Responsibil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 new school board election district plan either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in 80 days after the legislative plan has been adopted 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least 15 weeks before the state primar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districts may not split precincts when creating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ly required in school districts not electing all board members at-lar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sus Ge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nor civil divisions (MC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it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w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organized territo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oc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ortant Geographic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 and MCD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distri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gressional and legislative distri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ensus tract and block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cin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ling place loc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Da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d by US Census Bureau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 tract and, in some areas, bloc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ction results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 from elections 1992-200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cinct-level resul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dating voter registration syste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bility to geocode polling place loc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the redistricting pro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the motivation for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the criteria used to develop redistricting pl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cribing Redistricting Pl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cin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CD, tract and bloc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tes and bou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trate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int of depar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e adjustments to existing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ll new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y on population disp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political issues of interest to the commun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eria for Legislative and Congressional Pl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mber of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gislative: as determined by the legisla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: eight districts (2002-2010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vari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gislative: variance for each district must be &lt;= +/- 2% from me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: essentially no variance permitted from the mean popula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to Redistricting Pl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st likely initially filed in state court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llenges in federal court system possible if state fails to perform du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y voter can challenge the pl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meliness of challenge may be a fact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-County Coord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ctronic data exchan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 and legislative plans to count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y commissioner, ward, school board election district plans to s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cinct boundaries to s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pdate voter registration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cinct ta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cinct find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ter record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y-Municipal Coord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need for special redistricting lev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commodate new county commissioner distri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ling of maps of new ward and precin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act on voting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nicipal-School District Coord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commodate school board election district boundaries (if any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duce number of split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lection of polling pla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egal Challe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stitutional challen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der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l population (one person - one vot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l protection (14th amendmen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l popul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venient, contiguous territo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eographic challen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ct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unities of interes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tical challen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8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s for Proper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equality - how close to zero varianc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ctness - how close in shape to a circl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guity - are there any “islands” or “peninsulas”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al protection - is there an equal opportunity for representation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olitics of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all goal is politic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ive is to create a majority of districts in which a party or faction can safely elect its memb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ity will seek to both strengthen itself and weaken its oppon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ation of the status quo is often a desired outc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district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cess of dividing the territory of a political unit for the purpose of electing members of its governing bod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ience and Art of Gerrymand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o was Elbridge Gerry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ques open to possible legal challen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lu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ck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me frame for redistricting is short - preparation is of the ess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pare for potential legal challenges when preparing redistricting pl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ick to the fa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ep the public involv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apportionm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pportionment: the process of determining the number of members to which each state is entitled in the U.S. House of Representa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other activities following the reapportionment process can be considered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actical Effect of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tical representation in governing bodies with members elected by distri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bution of state and federal reven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blic i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Does Redistricting in Minnesot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: congressional and legislative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 board: commissioner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ity council: wards and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board: school board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al districts: library, park and hospital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itutional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arantee each state a republican form of gover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ford all citizens the equal protection of the law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population equality in each electoral distri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for equal probability of represent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utory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just election district boundaries following each federal cen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eate election districts that are as equal in population as practica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eate election districts of compact, contiguous territor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 creates legislative and congressional plans defined by county, MCD, tract and bloc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ing CD, LD, MCD boundaries as base, municipalities create precincts from individual tracts or blocks, then ward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 board creates commissioner district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board creates election district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8:04:32Z</dcterms:created>
  <dc:creator>Hennepin County</dc:creator>
  <dc:description/>
  <dc:language>en-US</dc:language>
  <cp:lastModifiedBy>Setup</cp:lastModifiedBy>
  <cp:lastPrinted>2001-01-04T16:39:52Z</cp:lastPrinted>
  <dcterms:modified xsi:type="dcterms:W3CDTF">2001-01-04T16:40:25Z</dcterms:modified>
  <cp:revision>107</cp:revision>
  <dc:subject/>
  <dc:title>Overview of the Redistricting Process</dc:title>
</cp:coreProperties>
</file>