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4CE-8BE4-4ECC-8FD9-0B090DD3C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187-D1DB-489C-98E9-8B3C97FF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BA5-442F-4E88-BB01-24F2744C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644B-5CA1-4D7B-BE94-2687EDB6A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05F8-9820-4FCB-A040-31317253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3FF-61ED-49C6-BEE8-08A797F06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CC7-D925-419B-9972-00CBA14D4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9AF-B5D6-469C-BC30-1E0787F85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22B-384B-4CD2-AB0A-732B0761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CB71-F650-4169-AE9A-D5AF78A7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D4F4-332F-48A9-8220-E67C805D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A812-62F8-4B55-88C6-906C819F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62BD-A277-4466-B81D-9BF27F1ED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ation on Governor Ventura’s Redistricting Pla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Redistricting Pa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16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slide here showing Senate District 1 from Oct 31 legislative plan, showing location of incumbent senators and represent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slide of metro area suburban rings with legislative district boundaries on top - show center cities, ring 1, and ring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slide of map of our district 48B, showing location of incumbent sen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Approach to Redistri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ointment of the Governor’s Citizen Advisory Commission on Redistri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npartisan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t business openly and deliber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advice to the governor on redistricting plans and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istricting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with Voting Rights 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ation of communities of inter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ing political subdivision bound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itical competitiveness of di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gressional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metro/urban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non-metro/rural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neapolis and St Paul in separate distri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 population growth in metro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representation for rural parts of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ro/Urban Area Distr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- Southern subu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- St Paul and suburbs (53% suburb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- Minneapolis and inner-ring subu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- Suburban Hennepin County, southern Anoka Coun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- North suburban/exurban growth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cross metro/non-metro boundary o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er Minnesota Distri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- Southeast Minnesota (agricultural with important regional urban cent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- Western Minnesota (strongly agricultural orien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- Northeast Minnesota (mining, forest products, and recreation orient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ert land-use map with congressional district over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islativ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itutional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pulation variance from id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compact distr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ting Rights Act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political power for minority voters by increasing the number of opportunity distr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tory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zant of political subdivision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nel’s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zant of communities of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f incumb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districting Method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population e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compa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ize minority voter influ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e similar communities in the same distri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the residence of incumb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01:17:03Z</dcterms:created>
  <dc:creator>mansky</dc:creator>
  <dc:description/>
  <dc:language>en-US</dc:language>
  <cp:lastModifiedBy>mansky</cp:lastModifiedBy>
  <dcterms:modified xsi:type="dcterms:W3CDTF">2002-01-14T02:10:12Z</dcterms:modified>
  <cp:revision>15</cp:revision>
  <dc:subject/>
  <dc:title>Presentation on Governor Ventura’s Redistricting Plans </dc:title>
</cp:coreProperties>
</file>