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1923-6B76-45A6-9FA2-28C396C59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10BA-4B35-47AD-B99B-1A45EF376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B5C6-0637-4C2F-9D53-E0744616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7BEB-8FA4-4A00-91EF-80C15C0B8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579A-0594-43B0-A5D0-F47F226DE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EC96-ADB1-4F09-AC0B-E2B02CEDD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08F1-BB33-4F41-8E63-A8A083E5A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94C2-4F21-4BCE-8F77-25F5A0163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F824-A9A3-432C-856B-C6BD47EC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3886-C82F-46B5-A4AC-97A14C92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BDF2-E978-419A-8656-1CD8DF46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AD3D-452E-489F-8265-5E65099C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79B6-F9C2-4E2A-BAFC-CDE620E8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C613-D2CA-4A9A-AFF7-9B8A6B20D7A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8483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derstanding the Redistricting Process in Minnesota 2001-200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38098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oseph Mansk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istricting Project Manage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overnor’s Citizen Advisory Commission on Redistricting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innesota Planning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ugust 7, 2001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316A-EE30-4599-891F-BF976A5E43D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pulation Deviation from 2000 Mean Valu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House Distri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2000%20population%20changes%20by%20House%20district%20-%20state" descr=""/>
          <p:cNvPicPr/>
          <p:nvPr/>
        </p:nvPicPr>
        <p:blipFill>
          <a:blip r:embed="rId1"/>
          <a:stretch/>
        </p:blipFill>
        <p:spPr>
          <a:xfrm>
            <a:off x="1981080" y="1066680"/>
            <a:ext cx="5156280" cy="558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AE3D-DEEC-4AFD-94AA-11DEEFFA3C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pulation Deviation from 2000 Mean Valu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House District (Metro Are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2000%20population%20changes%20by%20House%20district%20-%20metro%20area" descr=""/>
          <p:cNvPicPr/>
          <p:nvPr/>
        </p:nvPicPr>
        <p:blipFill>
          <a:blip r:embed="rId1"/>
          <a:stretch/>
        </p:blipFill>
        <p:spPr>
          <a:xfrm>
            <a:off x="2057400" y="1905120"/>
            <a:ext cx="5073480" cy="474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4059-78C6-443A-A905-7D2D83CB61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districting Strateg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int of depart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ke adjustments to existing election district boundari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reate all new election district boundari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licy on population dispar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dress areas lacking represent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8977-BEC9-411A-8FC0-9A8EA57780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districting Principles and Standar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pulation equality of distri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actness of distri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tiguity of distri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liance with Voting Rights Ac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eservation of communities of interes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eserving political subdivisio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litical competitivenes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7E72-13D5-464E-A627-E6BF9A789DA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tential Legal Challe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tricts not of equal popul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tricts not compact or contiguo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tricts do not provide a fair chance for election of certain individual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trict composition designed to favor certain voters over othe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an not adopted in a timely mann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E0A3-3A66-4CBC-A607-719EEA0756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sts for Proper Distri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pulation equality - how close to zero variance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actness - how close in shape to a circle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tiguity - are there any “islands” or “peninsulas”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qual protection - are all voters treated in an equal manner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litical competitiveness - do non-incumbent candidates have a fair chance of being elected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5B27-C249-4F0F-9351-86CE4E4A78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olitics of Redistric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verall goal is political contro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bjective is to create a majority of districts in which a party or faction can safely elect its membe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jority will seek to both strengthen itself and weaken its oppone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eservation of the status quo is often a desired outcom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50A5-0C10-420C-9B35-C35D68ACF23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cience and Art of Gerrymander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o was Elbridge Gerry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110C-5183-4EC3-842C-3A8587383B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gerrymander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848360" cy="5943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99A1-F633-4EF2-96BC-18EB16CD49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rrymandering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cking - restrict the minority to as few districts as possib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lution - spread the minority among as many districts as possib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3BFA-21A5-4EF0-95F6-79AAA6AF428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day’s Objective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view the redistricting proces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fine the players in redistrict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cuss the motivation for redistrict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vide an update on state activit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54C3-689E-46AC-B0C2-AB0E311D88A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tus Report on Redistric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s of August 7, 2001 …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overnor’s commission has adopted redistricting principles and standard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nate and House have passed bills and a “working group” has been appointe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hief Justice Blatz has appointed a five-judge panel to consider redistricting lawsuits pending completion of the legislative proces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C92C-5465-409C-A025-6581C23FF7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ere to Get More Information on Redistric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overnor’s redistricting commiss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ww.mnplan.state.mn.us/redistrictin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651.297.2406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oseph.mansky@state.mn.u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gislative GIS offi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ww.commissions.leg.state.mn.us/gi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651.296.0098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8F56-D37E-4EB1-BC72-1A053D0D84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Redistrict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process of dividing the territory of a political unit for the purpose of electing members of its governing bod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2450-997C-4B55-9283-71D00A9377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Reapportionmen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ocess used to determine the allocation of members of the U.S. House of Representatives among the 50 stat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ason the census is authorized in the U.S. constitu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ll other activities can be considered redistrict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8489-F8E8-457D-B798-8E94054B6E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ical Perspectiv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 legislative redistricting between 1913 and 1959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urt involvement in redistricting since late 1950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B193-C82A-4DB5-AAA5-B866C4E4FB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stitutional Basis for Redistric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uarantee each state a republican form of govern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fford all citizens the equal protection of the law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vide population equality in each electoral distric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vide for equal probability of representation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A30B-0FB2-44F0-9E33-C1488526CD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yers in State Redistricting Proc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gislat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nate subcommittee on redistricting (of Rules committee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ouse redistricting committe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overn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itizen’s Advisory Commission on Redistrictin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ur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pecial redistricting pane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A8FE-BED4-437D-ADFF-E5F8230962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districting Schedu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r 19, 200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ast day to enact legislative an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gressional pla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pr 30, 200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ast day to enact ward plans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nd adopt precinct boundari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y 28, 200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ast day to adopt count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missioner district plan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ul 2, 200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irst day to file for offi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C48A-ABF2-40CB-8A15-2F7FD69CDD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graphic Criteria for Election District Boundar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ust be composed of compact, contiguous territor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ust be coterminous with precinct boundar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ecincts must be coterminous with census block boundar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FB71-8C74-46A2-9943-2131CA4830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1T18:04:32Z</dcterms:created>
  <dc:creator>Hennepin County</dc:creator>
  <dc:description/>
  <dc:language>en-US</dc:language>
  <cp:lastModifiedBy>mansky</cp:lastModifiedBy>
  <cp:lastPrinted>2001-04-19T16:22:06Z</cp:lastPrinted>
  <dcterms:modified xsi:type="dcterms:W3CDTF">2001-08-04T16:50:42Z</dcterms:modified>
  <cp:revision>137</cp:revision>
  <dc:subject/>
  <dc:title>Overview of the Redistricting Process</dc:title>
</cp:coreProperties>
</file>