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764B-C551-4736-B8DA-35B5DA84C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48A1-8DB2-4AB2-8789-C203E32B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457-2F27-4F88-967B-3629F4D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6B4-C1A8-4CF9-832A-E631BEDE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D70D-8A53-4424-821A-E575EBBF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A260-3287-4F71-9E36-E1F8F534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05EE-0488-4041-B1FF-44DBEEE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FFDE-45E0-4AFB-989C-6B3A6FC3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883A-4CE2-4E82-B6EE-80A813B1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BFB-E3D5-4FA6-8F5C-D3C8A68C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B789-72F1-4F3A-AFDD-AA43AE98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5890-6BC6-458F-9FCB-C8C76D78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508F-14D7-4A88-84ED-66ACE9CC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9E3A-1B3C-45F4-9ACA-CAC664DAD2F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4495320"/>
            <a:ext cx="6324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oseph Mansky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districting Project Manager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ebruary 2001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0BD-AE1C-4A97-8B04-29F8DA555F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1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 cens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 28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tification of census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and legislat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rd and precinct bounda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 district 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lings open for gener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ote:  This schedule assumes legal challenges to the congressional and/or legislative pla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F74-2592-4D15-994F-A9ED821209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census tract or block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4FE6-B81D-407D-9BB3-4FE96099B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act of Popula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resentation in elective bodies reflects population distribu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te and federal aid formulas use population as a ba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lf-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598D-99ED-483A-9084-83B7D09EA6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imated Population Change by Senate District 1990-199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057400" y="1752480"/>
          <a:ext cx="50734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752480"/>
                    <a:ext cx="50734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CB4-0781-411F-BF8D-A3D8D75D90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Da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d by US Census Bureau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y tract and, in some areas, block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ection results da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sults from elections 1992-2000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ecinct-level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B51-35F7-4F39-9606-CE62A83A8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7C8-0096-472B-ADC3-7AC931B0A3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of equal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compact or contiguo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do not provide a fair chance for election of certain individual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composition designed to favor certain voters over oth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not adopted in a timely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06A0-1487-41CA-958E-DFDD34E3FB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qual protection - are all voters treated in an equal manner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olitical competitiveness - do non-incumbent candidates have a fair chance of being elected?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080-C68B-49FB-8717-2E67A8CC3F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9A13-FEE5-4CAE-B890-1E781F7351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use the design of districts to favor a candidate, party or grou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1632-0E69-4D6E-98F6-74C515918A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the players in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B322-5070-419E-BCC3-E8EC31C158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rrymandering Techniq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cking - restrict the minority to as few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lution - spread the minority among as many districts as possi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2C9-A8BA-451E-BE95-B548BBB74A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5C7-1406-4B2F-99CF-442E3216C7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pportionment: the process of determining the number of members to which each state is entitled in the U.S. House of Representa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following the reapportionment proces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2594-629E-4CA0-9126-CD2C1C9305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ical Perspectiv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legislative redistricting between 1913 and 1959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rt involvement in redistricting since late 1950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A38-68E1-4171-BA60-748719C48D7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oes Redistricting in Minneso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: congressional and legislative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: commissioner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ty council: wards and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: school board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districts: library, park and hospital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91A3-0D39-4879-85DB-64DD03757E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92E0-694B-46D7-B61F-6DA7581889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tory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just election district boundaries following each federal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that are as equal in population as practic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of compact, contiguous territor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34EE-AAAF-4EE1-B41F-74ADD5E9BA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layers in 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nate subcommittee on redistricting (of Rules committee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ouse redistricting committe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verno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itizen’s Advisory Commission on Redistrict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innesota Plann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69E7-0AE3-4C02-8CE7-C77C52EDD4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Setup</cp:lastModifiedBy>
  <cp:lastPrinted>2001-02-14T17:26:04Z</cp:lastPrinted>
  <dcterms:modified xsi:type="dcterms:W3CDTF">2001-02-16T16:31:24Z</dcterms:modified>
  <cp:revision>108</cp:revision>
  <dc:subject/>
  <dc:title>Overview of the Redistricting Process</dc:title>
</cp:coreProperties>
</file>