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120" y="0"/>
            <a:ext cx="30258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000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6760"/>
            <a:ext cx="3025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120" y="8816760"/>
            <a:ext cx="302580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39261B-1693-47F4-9F4B-EC86D4CFB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000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1956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610-B35B-48D9-8711-C31AA6394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A3B6-54A2-4E59-8724-A63884E5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3CA1-1BB1-4252-9FAC-3EAB64AD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37C9-C38F-4227-935E-4604DFEB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8AD-4C22-47E5-9331-421FB6C1F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149-C795-476D-91F2-739EDFA5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EDC2-5E58-4142-BF9A-B29D20A4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CA2F-246B-4E90-9FFC-8FE546B9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4FB8-4264-4916-B075-FD19A4D5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355A-BAE4-4ED3-9B6D-8DC27FB6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9FFC-8885-44B0-A031-E813F227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6741-C20D-4E40-8B0A-26BF47F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DD6E-2784-4A6A-BB02-A7202A4BA3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84836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nderstanding the Redistricting Process in Minnesota 2001-200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4920" y="3276720"/>
            <a:ext cx="6324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y Joseph Mansk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nnesota School Boards Association Conferenc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nneapolis, Minnesot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January 12, 2001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2AE-14D8-4C77-A5B9-9E35291888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 creates congressional and legislative pl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ing CD, LD, MCD boundaries as base, municipalities create precincts from individual tracts or blocks, then ward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 creates commissioner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 creates election districts from groups of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9AE0-0D2A-4650-9EDA-B805962F82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chedule*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1, 200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ederal censu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c 31, 2000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rtification of census result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r 19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gressional and legislative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s comple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pr 30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ard and precinct boundary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ns comple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y 28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unty commissioner and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chool district plans complete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Jul 2, 200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lings open for general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lec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Note:  This schedule assumes legal challenges to the congressional and/or legislative plan.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AC5F-4063-4E41-A39B-AA631213CF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Criteri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munities of interes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ECE4-A534-43CA-A13C-E91AA096B7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ic Criteria for Election District Boundar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mposed of compact, contiguous territo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terminous with precinct bound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ust be coterminous with census tract or block boundaries for at least two years following the cen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A07C-72E7-4CB5-8E29-3EA7ECB089D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hool Board Responsibilit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nly required in school districts not electing all board members at-lar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lete new school board election district plan either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in 80 days after the legislative plan has been adopted or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t least 15 weeks before the state primary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signate each election district by numb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districts may not split precincts when creating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CB52-9509-40E2-8A3B-6ED4F5CF6D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Proce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 must confirm or change election district boundaries after each cen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blic hearing must be held with one week notice give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 compensation may be paid to school board members until this is don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solution becomes effective on the date of the 2002 state primar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2DA-A03C-4B2E-BF53-B080A84067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districting Strategi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int of departur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ke adjustments to existing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reate all new election district boundari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licy on population disparit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dress areas lacking represent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E31-866F-4B24-9C22-FC1D8C2CFD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nicipal-School District Coordin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ccommodate school board election district boundaries (if any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duce number of split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lection of polling plac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EFF-13FB-45D7-8FF1-B4783A09BA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egal Challe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s not of equal popul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 composition designed to favor certain voters over oth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 not adopted in a timely m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undaries not drawn on visible, clearly recognizable physical featur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 prepared in an arbitrary or capricious manner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trict not compact or contiguo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9370-0C63-4A8C-8902-1241B8889D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s for Proper District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opulation equality - how close to zero varianc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mpactness - how close in shape to a circle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guity - are there any “islands” or “peninsulas”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qual protection - are all voters treated in an equal manner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B88-890A-4F5A-B3C2-2950CB08B1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day’s Objectives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the redistricting proces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cuss the motivation for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view the criteria used to develop redistricting plan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fine the need for coordination of redistricting activit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D29A-FDA7-4D96-A864-03B0E74F1A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Politics of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verall goal is politic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bjective is to create a majority of districts in which a party or faction can safely elect its membe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jority will seek to both strengthen itself and weaken its opponen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reservation of the status quo is often a desired outcom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759-FC6D-4E36-82A7-1D081C29318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Science and Art of Gerrymander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o was Elbridge Gerry?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echniques open to possible legal challeng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ilutio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cking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2795-3816-44A3-93E9-66473461AC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you have the necessary resources for the job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urate maps and boundary d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urate population d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ccurate address da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ick to the fa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ep the public involve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ay on schedu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9E0-EC05-4963-B499-4AAD1703DB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district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e process of dividing the territory of a political unit for the purpose of electing members of its governing bod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08C7-5F5B-4340-B392-A4F2804385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Reapportionmen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apportionment: the process of determining the number of members to which each state is entitled in the U.S. House of Representativ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l other activities following the reapportionment process can be considered redistrict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8960-D697-46AB-ACF4-AB92FBE721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ffect of Population Chang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lter representation on governing bodies having members elected by distric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crease/decrease state and federal revenue distributed on a per capita basi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mprove/degrade public imag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882C-021F-43CE-9745-03E3A5F8EA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Trends in Minnesot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ntinued population growth in the 11-county metropolitan ar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anging population distribution within the metropolitan are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table population in central cities, nearby suburb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apid growth in 3rd, 4th ring suburbs and   in exurban are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01DD-373E-45AB-BCE4-C38B2D0AEB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Does Redistricting in Minnesot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gislature: congressional and legislative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unty board: commissioner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ity council: wards and precin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ial districts: library, park and hospital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chool board: school board election district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8EA1-5EA8-4002-A75E-2DB9BB9FBD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titutional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uarantee each state a republican form of governmen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fford all citizens the equal protection of the law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population equality in each electoral district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rovide for equal probability of represent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F9C-54B2-45A2-80AA-61404159D9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atutory Basis for Redistrict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djust election district boundaries following each federal censu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election districts that are as equal in population as practicabl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election districts of compact, contiguous territory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BB3C-CCAE-42C2-AEA3-BAB3E9CB12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1T18:04:32Z</dcterms:created>
  <dc:creator>Hennepin County</dc:creator>
  <dc:description/>
  <dc:language>en-US</dc:language>
  <cp:lastModifiedBy>Setup</cp:lastModifiedBy>
  <cp:lastPrinted>2001-01-08T17:54:08Z</cp:lastPrinted>
  <dcterms:modified xsi:type="dcterms:W3CDTF">2001-01-08T18:43:09Z</dcterms:modified>
  <cp:revision>109</cp:revision>
  <dc:subject/>
  <dc:title>Overview of the Redistricting Process</dc:title>
</cp:coreProperties>
</file>