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3ED7-45F1-4793-912F-DC115FFF2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678-0621-42A5-845C-EF60F739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2DE-A268-4E5D-AAF2-E866887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C630-1302-46EB-8045-FB52B596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943-3530-4EEF-8AB9-2BC02E4A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962-99B8-4465-A5CB-CACB745A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1525-503B-4C2B-A7DF-1F3DFA95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F9C2-C9BB-4BF9-A083-18F18ECF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A444-E7F5-40AA-B399-2F0219E7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1A7-BEDC-4DCE-9F92-38C72D82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3C6C-17C3-4D85-8650-948A9ECE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0900-6B1A-4FF1-A2E2-91763D05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5ACD-0FB5-43D0-83C1-FB9880C5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7CB3-3C14-4B1E-9C91-10B8F13F16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standing the Redistricting Process in Minnesota 2001-20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3809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seph Mansk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istricting Project Mana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vernor’s Citizen Advisory Commission on Redistrict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nnesota Plan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gust 7, 200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BF17-0D2D-4B6A-8D79-666E712B8C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areas lacking represent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B2FB-3B02-4294-98A3-EF4D2C903F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inciples and Standa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iance with Voting Rights A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communities of intere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ing political subdivi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competitive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8DFD-3595-4055-A7E4-0FCDF251AE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egal Challe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of equal pop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compact or contiguo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do not provide a fair chance for election of certain individua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 composition designed to favor certain voters over oth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 not adopted in a timely m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8D7-DE89-46D9-97DC-4481E9BA6A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for Proper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 protection - are all voters treated in an equal manner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itical competitiveness - do non-incumbent candidates have a fair chance of being elected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2C8-9794-4CEA-A4BC-E64DF62CD47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litics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all goal is politic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create a majority of districts in which a party or faction can safely elect its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ity will seek to both strengthen itself and weaken its op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the status quo is often a desired outc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2FAC-D14F-45B3-866E-9DF9CD5C4D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ce and Art of Gerryma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Elbridge Gerr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8594-04E1-40BC-A430-E9D619E811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gerrymander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781C-5E46-46DD-9B97-B5CD672FA65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rrymandering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cking - restrict the minority to as few districts as possi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lution - spread the minority among as many districts as possi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D2A3-84AA-451C-A747-832AE864FE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s Report on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 of August 7, 2001 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vernor’s commission has adopted redistricting principles and standards and is awaiting legislative a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ate and House have passed bills and a “working group” has been appoin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ef Justice Blatz has appointed a five-judge panel to consider redistricting lawsuits pending completion of the legislative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C86-EE24-48A5-B59E-D7B879CD53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to Get More Information on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’s redistricting commis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ww.mnplan.state.mn.us/redistric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51.297.240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seph.mansky@state.mn.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ive GIS off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ww.commissions.leg.state.mn.us/g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51.296.009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DE8-E682-461D-B851-8DDD8EA55F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the redistricting pro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 the players in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the motivation for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 an update on state activ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11A-7593-471B-9923-D514641A21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distric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cess of dividing the territory of a political unit for the purpose of electing members of its governing bo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42CD-BBF6-4109-B48F-2E84C5A1A7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apportionm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cess used to determine the allocation of members of the U.S. House of Representatives among the 50 sta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son the census is authorized in the U.S. constit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other activities can be considered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111-37FA-4C83-AD95-17FD29D86FF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legislative redistricting between 1913 and 195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rt involvement in redistricting since late 1950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EBA5-7D49-4BE1-9C79-59771EB915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itutional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arantee each state a republican form of gover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rd all citizens the equal protection of the la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population equality in each electoral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for equal probability of represent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0C3-2BDB-413E-8E7D-01722772E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yers in State 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ate subcommittee on redistricting (of Rules committe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use redistricting committe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tizen’s Advisory Commission on Redistric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r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al redistricting pa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538-07FF-4021-B117-36A6FDA94E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ched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 19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enact legislative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30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enact ward plan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d adopt precin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28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adopt count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ssioner district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ul 2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rst day to file for off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5AE6-2CB7-4EF2-8DE9-6B47C80114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ic Criteria for Election District Bound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mposed of compact, 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terminous with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ncts must be coterminous with census block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94D1-A8E7-470D-B2FA-B689E66523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mansky</cp:lastModifiedBy>
  <cp:lastPrinted>2001-08-04T16:57:31Z</cp:lastPrinted>
  <dcterms:modified xsi:type="dcterms:W3CDTF">2001-08-04T16:57:37Z</dcterms:modified>
  <cp:revision>139</cp:revision>
  <dc:subject/>
  <dc:title>Overview of the Redistricting Process</dc:title>
</cp:coreProperties>
</file>