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D42-D776-472B-BD4C-C31912A6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464-C313-4C63-A8EA-56EFF5F19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1E32-2689-40BC-A5CF-F81F9C1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5F1-C708-48AA-8F7A-5C882324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BB18-6BD5-4143-B1AE-5B61467A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BA50-ADF2-4702-84B4-CE8263C5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9A00-E94D-4B00-8952-132DCCF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32B-E169-46D1-82A1-38A0C7D6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333C-7F88-4519-AFD7-D0EFA8D2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DA0-78D3-4F45-99C7-FEA778FE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2E4-780D-47F1-B7A3-11B512DC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A0E0-CF9B-47D2-8E1C-F8763EA0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040C-3F63-4A0C-B39E-A831DC95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6A65-6B42-49D3-A28E-D343D7AEC43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Brief Review of the Redistricting Process in Minneso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Citizen Advisory Commission o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int Pau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ugust 6,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of the Term “Reelec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ter redistricting, a candidate may use the term “reelect” only if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candidate is the incumbent for the office sough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office represents any part of the new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ing Redistricting Plans in Cour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opulation (one person - one vote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rotection (14th amendmen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crimination against protected groups (Voting Rights Act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qual popula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nvenient, contiguous territor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process (timing, etc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protection - is there an equal opportunity for representatio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open to possible leg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 frame for redistricting is short - preparation is of the ess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pare for potential legal challenges when preparing redistricting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ick to the fa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ep the public involv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r More Information 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Redistricting Commis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hone: 651-297-24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-mail: joseph.mansky@state.mn.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 site: www.mnplan.state.mn.us/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eb site: www.commissions.leg.state.mn.us/g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rrent Status of State Redistricting Activiti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vernor’s redistricting commis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vernor’s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pointment of special redistricting pa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rt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 creates legislative and congressional plans defined by county, MCD, tract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ing CD, LD, MCD boundaries as base, municipalities create precincts from individual tracts or blocks, then ward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 creates commissioner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creates election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adline for completion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slative and congression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adline for completion of war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and and precinct bounda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ange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adline for completion of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 district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lings open for gener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Cri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oting Rights Act protec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political issues of interest to the co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-Municipal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2286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need for special redistricting lev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new county commissioner distri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ing split precincts (school district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vailability of accessible polling pl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ity Council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ards must in “as equal in population as 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practicable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es in ward boundaries do not disqualify an incumbent from serving out the remainder of ter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yor and council do not get paid if they fail to redistrict wards on ti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 Commissione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must be “nearly equal in population as possible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variance for one district may not exceed 10% of average for all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issioners may serve out term if no longer in district after June 15, 20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commissioners run for election following redistricting, except in districts where small changes have occurred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mansky</cp:lastModifiedBy>
  <cp:lastPrinted>2001-08-04T16:31:53Z</cp:lastPrinted>
  <dcterms:modified xsi:type="dcterms:W3CDTF">2001-08-04T16:36:21Z</dcterms:modified>
  <cp:revision>123</cp:revision>
  <dc:subject/>
  <dc:title>Overview of the Redistricting Process</dc:title>
</cp:coreProperties>
</file>