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AEDDE-6703-4699-88E9-B4050B09C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3D3F-9958-4143-A123-908128EE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F93-17C3-41D6-931F-573A2B5C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E257-C311-4B17-9960-624F9195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5D0-D257-4E62-800B-93E2D839E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1820-E9CF-4B41-AA6E-895CC702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41CE-E360-4707-8B51-65E98856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F52-439F-423C-A7C6-703AA8FF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62D-4BEB-4E6A-A38D-974E2E37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3DD-B528-4423-8910-F78FF89D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5C2F-6917-4754-B81A-5C44291C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BD5E-D972-4BC7-98C0-411B0E0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A5F1-1125-4C6A-A1B8-02F54A7B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C3C9A-D2D1-4A53-BBAC-09BDDC05BB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standing the Redistricting Process in Minnesota 2001-20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3809880"/>
            <a:ext cx="6477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oseph Mansk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districting Project Manag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nnesota Plann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nuary 23, 200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y Responsibi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 new county commissioner district plan either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in 80 days after the legislative plan has been adopted 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least 15 weeks before the state prima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wait for municipalities to establish new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nicipal Responsibi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 new ward plan and new precinct boundaries either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in 60 days after the legislative plan has been adopted 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least 19 weeks before state prima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any changes to polling place locations at least 25 days before the state prima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ol District Responsibi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 new school board election district plan either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in 80 days after the legislative plan has been adopted 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least 15 weeks before the state prima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districts may not split precincts when creating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ly required in school districts not electing all board members at-lar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ensus Geograp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nor civil divisions (MCDs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t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ow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organized territo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ra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lo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d by US Census Bureau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tract and, in some areas, bloc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ction results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 from elections 1992-200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inct-level resul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dating voter registration system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bility to geocode polling place locat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cribing Redistricting Pl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, MCD, tract, and blo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es and boun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int of depar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e adjustments to existing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ll new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y on population disp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areas lacking represent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-County Coord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ctronic data exchan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 and legislative plans to count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y commissioner, ward, school board election district plans to s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inct boundaries to sta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pdate voter registration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inct tab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inct find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Voter records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unty-Municipal Coord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need for special redistricting lev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ommodate new county commissioner distri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ling of maps of new ward and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act on voting syste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nicipal-School District Coord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ommodate school board election district boundaries (if any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duce number of split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lection of polling pla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distric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cess of dividing the territory of a political unit for the purpose of electing members of its governing bod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ties of Inter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subdivi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acial or language minorities protected under the Voting Rights A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ther cultural grouping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graph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ologic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eria for Evaluating Pl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pulation equality - how close to zero varianc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ctness - how close in shape to a circl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iguity - are there any “islands” or “peninsulas” of territory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 protection - fair chance to get elected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rrymandering -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ave “packing” and/or “dilution” techniques been used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apportionm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pportionment: the process of determining the number of members to which each state is entitled in the U.S. House of Representa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other activities following the reapportionment process can be considered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egal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pulation equa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ctness and contigu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unities of interes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districting deadli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ablishment of congressional and legislative districts: Minnesota Statutes 204B.14, subd. 1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ablishment of county, municipal, school board and other election districts: Minnesota Statutes 204B.13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stablishment of new precincts: Minnesota Statutes 204B.14, subd. 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Does Redistricting in Minnesot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: congressional, legislative, and Metropolitan Council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s: commissioner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ty councils: wards and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: school board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al districts: library, park and hospital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recting for Population Dispar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905120" y="1295280"/>
          <a:ext cx="5384520" cy="53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295280"/>
                    <a:ext cx="5384520" cy="53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gressional and legislative plans defined by county, MCD, tract and blo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ing CD, LD, MCD boundaries as base, municipalities create precincts from individual tracts or blocks, then ward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 creates commissioner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 creates election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chedule*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r 1, 2000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deral censu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 28, 2000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ertification of census result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r 5, 200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ecinct caucuses conducted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Mar 19, 2002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Statutory deadline for completion of 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congressional and legislative plan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pr 30, 200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adline for new ward plans and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establishment of precinc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oundaries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y 28, 200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adline for new count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mmissioner and school board plans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 2, 2002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lings open for state general electio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ote:  This schedule assumes that the entire period of time available will be used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ic Criteria for Election District Bound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ction districts must be composed of compact, contiguous terri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nct boundaries must be coterminous with census tract or block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 single precinct must not include territory in more than one congressional, legislative, county commissioner district, or war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8:04:32Z</dcterms:created>
  <dc:creator>Hennepin County</dc:creator>
  <dc:description/>
  <dc:language>en-US</dc:language>
  <cp:lastModifiedBy>Setup</cp:lastModifiedBy>
  <cp:lastPrinted>2000-05-02T15:55:06Z</cp:lastPrinted>
  <dcterms:modified xsi:type="dcterms:W3CDTF">2001-01-18T16:41:44Z</dcterms:modified>
  <cp:revision>99</cp:revision>
  <dc:subject/>
  <dc:title>Overview of the Redistricting Process</dc:title>
</cp:coreProperties>
</file>