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1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000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6760"/>
            <a:ext cx="3025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120" y="8816760"/>
            <a:ext cx="3025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909165A-7AA1-4FF5-B747-65C175C8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E6B8-6A41-4A0E-A351-239C98F0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31C5-6934-4A6E-8368-89CAF584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52B-4DF6-4E5C-B595-EABE51480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FF5F-8AF7-4A8F-B531-F12C80C1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6F3-4ABE-4D18-AE71-34809BE0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9DF8-A93A-4620-BBEC-85066860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62D-AD63-4184-AFC3-26CC4D92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E02-477C-4F2D-B14A-F7A49ABB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28E-8A89-475F-B60C-7EBAABDE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9F48-5253-4EB8-92F9-A626338B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F7B-D2A1-4723-A803-649B766B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BFF-65AE-4B2C-9A76-20382EF7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07985-3922-4FE3-8DA8-8D1CBDCF28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449532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Joseph Mansk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B59-2648-4F05-AAD4-3C7A7CF16F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e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pare new legislative and congressional district plans by March 19, 2002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cate redistricting data to each county auditor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BD8-0B57-4B01-B660-B4EDBA5B6B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political issues of interest to the commun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D579-FB12-4EFC-BCAA-3D22558F07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riteria for Legislative and Congressional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umber of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islative: as determined by the legislatu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: eight districts (2002-2010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vari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gislative: variance for each district must be &lt;= +/- 2% from mea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: essentially no variance permitted from the mean population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69F-6A85-4A51-807D-88756E27F88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llenges to Redistricting Pl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ost likely initially filed in state court syste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llenges in federal court system possible if state fails to perform du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ny voter can challenge the pl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meliness of challenge may be a fact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F80-BE97-4DD4-B7D0-503AAD22DA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al protection - is there an equal opportunity for representation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5B86-CC54-4519-BB85-00B923A72C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0BB0-82C9-412C-8CDB-FB6C04D58D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open to possible legal challe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lu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ck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8D07-532A-4F94-AF0B-18C0A6EC2B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E36-04A5-4B32-BAE6-256B7787DB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pportionment: the process of determining the number of members to which each state is entitled in the U.S. House of Representa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following the reapportionment proces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EDB-C3A2-4F4B-A2E3-7D370ACA08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actical Effect of Populatio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tical representation in governing bodies with members elected by distri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bution of state and federal revenu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blic 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0561-EA0E-413D-B9CA-A729D3E8ED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oes Redistricting in Minneso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: congressional and legislative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: commissioner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ty council: wards and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: school board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al districts: library, park and hospital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7DB0-BF30-4A1D-B44F-07F110FBA2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itution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arantee each state a republican form of gover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rd all citizens the equal protection of the la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population equality in each electoral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for equal probability of represent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997E-9A93-47BF-9708-6DDC9B1088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tory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just election district boundaries following each federal cen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that are as equal in population as practic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of compact, contiguous territor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D6F-3C29-4195-863A-9B675A8736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 creates legislative and congressional plans defined by county, MCD, tract and block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ing CD, LD, MCD boundaries as base, municipalities create precincts from individual tracts or blocks, then ward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 creates commissioner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 creates election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F696-3379-4818-8C23-3501727654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Cri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ties of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EA9E-6E37-4B4B-8510-1B9D734837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JOSEPH MANSKY</cp:lastModifiedBy>
  <cp:lastPrinted>2001-01-08T18:22:16Z</cp:lastPrinted>
  <dcterms:modified xsi:type="dcterms:W3CDTF">2001-01-19T16:03:19Z</dcterms:modified>
  <cp:revision>111</cp:revision>
  <dc:subject/>
  <dc:title>Overview of the Redistricting Process</dc:title>
</cp:coreProperties>
</file>