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436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6572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436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6572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3000" y="114480"/>
            <a:ext cx="82278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spcBef>
                <a:spcPts val="1874"/>
              </a:spcBef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052640" indent="-190800">
              <a:spcBef>
                <a:spcPts val="1874"/>
              </a:spcBef>
              <a:buClr>
                <a:srgbClr val="33333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433520" indent="-19044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80880" y="8380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it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410080" y="838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838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24680" y="838080"/>
            <a:ext cx="99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75F3FCAA-84D9-45E7-A3F7-D824EFD4570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/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1960" y="835200"/>
            <a:ext cx="5115240" cy="29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Tit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08640" y="835200"/>
            <a:ext cx="2436840" cy="29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ate of Audit: MM/J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848720" y="835200"/>
            <a:ext cx="1122120" cy="29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Page 1/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1960" y="1127160"/>
            <a:ext cx="867888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Cont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1960" y="1585800"/>
            <a:ext cx="28926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84560" y="1585800"/>
            <a:ext cx="28922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76800" y="1585800"/>
            <a:ext cx="28926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1960" y="1903320"/>
            <a:ext cx="2892600" cy="18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Iss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84560" y="1903320"/>
            <a:ext cx="2892240" cy="18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Issu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76800" y="1903320"/>
            <a:ext cx="2892600" cy="18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Issu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1960" y="3797280"/>
            <a:ext cx="2892600" cy="21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commend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84560" y="3797280"/>
            <a:ext cx="2892240" cy="21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commenda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76800" y="3797280"/>
            <a:ext cx="2892600" cy="21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commenda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1960" y="5918040"/>
            <a:ext cx="177480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Date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02360" y="5918040"/>
            <a:ext cx="376704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f. Impl. Report  (if applicable)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6760" y="5918040"/>
            <a:ext cx="314352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Audi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1960" y="835200"/>
            <a:ext cx="8693280" cy="5513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69600" y="87120"/>
            <a:ext cx="8397720" cy="4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Arial Black"/>
              </a:rPr>
              <a:t>Global Internal Audit Services – Priority Board Issue no. ....</a:t>
            </a:r>
            <a:r>
              <a:rPr b="0" lang="de-DE" sz="1900" spc="-1" strike="noStrike">
                <a:solidFill>
                  <a:srgbClr val="333333"/>
                </a:solidFill>
                <a:latin typeface="Arial Black"/>
              </a:rPr>
              <a:t> </a:t>
            </a:r>
            <a:r>
              <a:rPr b="0" lang="en-US" sz="1100" spc="-1" strike="noStrike">
                <a:solidFill>
                  <a:srgbClr val="003366"/>
                </a:solidFill>
                <a:latin typeface="Arial Black"/>
              </a:rPr>
              <a:t>Conducted in Accordance with the International Standards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Arial Black"/>
              </a:rPr>
              <a:t>for the Professional Practice of Internal Auditing</a:t>
            </a:r>
            <a:endParaRPr b="0" lang="en-US" sz="1100" spc="-1" strike="noStrike">
              <a:solidFill>
                <a:srgbClr val="333333"/>
              </a:solidFill>
              <a:latin typeface="Arial Black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4T15:16:14Z</dcterms:created>
  <dc:creator/>
  <dc:description/>
  <dc:language>en-US</dc:language>
  <cp:lastModifiedBy>D047510</cp:lastModifiedBy>
  <dcterms:modified xsi:type="dcterms:W3CDTF">2007-10-09T13:19:13Z</dcterms:modified>
  <cp:revision>6</cp:revision>
  <dc:subject/>
  <dc:title>Global Internal Audit Services – Priority Board Issue no. .... Conducted in Accordance with the International Standards  for the Professional Practice of Internal Auditing</dc:title>
</cp:coreProperties>
</file>