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10.jpeg" ContentType="image/jpeg"/>
  <Override PartName="/ppt/media/image3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7.png" ContentType="image/png"/>
  <Override PartName="/ppt/media/image50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F2A-918F-4B6A-87BE-87FD8B3B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B8F-EE90-4331-AEE5-5D4EA629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FC6-4E47-4C0F-886C-0F3DEA0D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792-2205-433F-B04E-111EADA5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5258-3C9B-4E3C-958B-AF08D264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8DA4-95D9-43AB-8B83-3352C6E1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8F0-1D4F-4594-B411-73EA0D4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AAF7-C088-4485-BFDB-EBD3BE1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1B3E-943C-491B-93E8-10734C1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6F77-2A1F-4351-94F4-518A5B3C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836-AA35-4CAA-82A1-0A6B6F1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565-22F4-4E65-B8CC-65B12C18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190B-349E-4D5F-9E24-4C2037F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6F72-A702-415C-8D77-EDF78C50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5D1-B53E-4C5B-AF37-C8B7DF06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49C8-1D8E-4606-97ED-03AE807B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3323-5666-496E-82D8-622E0B76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5815-75F4-44F9-912A-8E1D2827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08DF-2D6D-4D0C-93A6-2545C5F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FCD2-123E-411F-B257-1D74824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B8D9-302F-486B-9759-8272DBE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8F16-BB84-4583-AE00-0D775D3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AF3-5087-4DE8-97AF-51C7099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1798-ACB9-4BC9-A675-9648B6FA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98D5-1FC7-41A8-87B5-F4FA442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1D8F-BB4B-4B74-B81E-AA1B535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83FD-D5B9-42A2-A0EC-F40AE89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93D7-BEA0-4027-ADCB-629D7C6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20BD-BD80-4BEE-BFD3-95645EF1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6B55-E242-4A94-8592-845A1011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1B43-E7D1-4809-A137-337D253B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FC0C-B34E-4109-8C06-6BD9E1B4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01BF2-FC04-409F-96C6-31028910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28E-E15A-4AC9-8C64-208AC3D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796A-34B0-4BA5-95B1-10832A1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C9CA-DB6A-4F61-9643-1778B34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0ECC-4BD1-43E5-9F9B-E711ACDE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D6D3-9684-439A-B12C-41164E9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E336-6378-46CA-8B90-1DB613F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F3A1-0DE8-4583-8A8E-6363EA9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0E2E-2085-4AE2-B64D-BDB81C8F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26FF-4FBA-4353-9285-C5B23D04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15AF-A5B6-4948-B602-B6F07F7A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D9DF-095B-406C-9ABF-FA611200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097-C66D-4496-B03D-8A2A7DA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F846-827F-468B-8874-C2CF58A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45C2-482C-41B2-B51F-A94D862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8AC9-FD84-4B33-BC8E-41673503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9C31-09FF-494D-88AD-3ABB6E47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99D2-171E-476B-8AB9-AD06EF4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9F6A-9DC4-46CA-AB6A-96E636D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6684-27D1-4405-A465-1E97FCB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2937-2BEF-40D9-97D1-0A14553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9350-57BB-46A9-83F1-7409E7F6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6874-9BF2-4332-A941-A107AF84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276-3D32-4827-AEED-1E9398F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7947-B177-4633-A2A0-4534C326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F21A-E341-4B28-AF26-68FDFFDE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9250-B0B3-4DF0-8C66-E3F06BB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14F3-0A08-4ECF-B7CF-38DB1EC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8AA4-5730-4528-B736-21B57930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7A84-24B3-42E4-82A8-1DC00A1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E523-2627-403E-94A8-7FE8198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B677-73EA-47EB-A2BC-551EDE4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7B9A-A9E6-49B4-9D50-DC41DBC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3C31-C5ED-4DCB-A21F-E0C865EF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EC1-CE8A-40F8-9465-B7CC642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082CB-43BE-40F3-B49B-A8F41D7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22EF-E9B9-4104-91E5-AE434686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45593-00D0-4B9A-8703-E3CD131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9D04-3A2A-4825-9758-FB1812FB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6E4D1-5003-446D-92EC-A33B2E5A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0195A-5752-4836-83A9-B1052AE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06B8-2545-4D98-83C5-653691EA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44E0-F3D3-4AD2-98E9-1EC5EFC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83D46-73B8-45C5-9AF0-3CDE0B56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3EFB-EF95-4CA4-82F7-1B09644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BE4-8588-472F-A76D-588D45FD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4EF3-8D37-4890-B6DB-EEAFE94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FA20-CE50-4AB0-8739-1C10A80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4FC7-4922-40DB-B362-BF9FFB7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AAD8-9164-4070-A13B-B431862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E2F8-4248-4EF7-B025-BC9F502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1D7-BA5F-4058-AE3A-1E45853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661-9DE9-4D6A-BE37-2DE678B5A2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774-41F9-4162-8E9A-46C1FD5677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1F2-BA04-474C-87BC-E71C45B0EB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88E-A15A-4962-B86C-DEFB4465FF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A16-175F-4C9E-A7B2-18A820B5759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41B-11AE-4405-8B27-C54618FD2E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D121-2B9A-4D28-BDE1-68B27446C1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" descr=""/>
          <p:cNvPicPr/>
          <p:nvPr/>
        </p:nvPicPr>
        <p:blipFill>
          <a:blip r:embed="rId1"/>
          <a:stretch/>
        </p:blipFill>
        <p:spPr>
          <a:xfrm>
            <a:off x="2548080" y="1638360"/>
            <a:ext cx="4047840" cy="3581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2"/>
          <p:cNvSpPr/>
          <p:nvPr/>
        </p:nvSpPr>
        <p:spPr>
          <a:xfrm>
            <a:off x="611280" y="476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Arial Black"/>
              </a:rPr>
              <a:t>РОЗПОРЯДОК ДНЯ ШКОЛЯ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3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http://www.09-gsm.ru/media/news_icons/7666.jpg"/>
          <p:cNvPicPr/>
          <p:nvPr/>
        </p:nvPicPr>
        <p:blipFill>
          <a:blip r:embed="rId3"/>
          <a:stretch/>
        </p:blipFill>
        <p:spPr>
          <a:xfrm>
            <a:off x="190440" y="1236600"/>
            <a:ext cx="238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0"/>
            <a:ext cx="4741920" cy="2120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http://nsh-school.ru/wp-content/uploads/2013/10/peremena.jpg"/>
          <p:cNvPicPr/>
          <p:nvPr/>
        </p:nvPicPr>
        <p:blipFill>
          <a:blip r:embed="rId2"/>
          <a:stretch/>
        </p:blipFill>
        <p:spPr>
          <a:xfrm>
            <a:off x="0" y="2637000"/>
            <a:ext cx="8999640" cy="36954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8" descr=""/>
          <p:cNvPicPr/>
          <p:nvPr/>
        </p:nvPicPr>
        <p:blipFill>
          <a:blip r:embed="rId3"/>
          <a:stretch/>
        </p:blipFill>
        <p:spPr>
          <a:xfrm>
            <a:off x="7632720" y="318960"/>
            <a:ext cx="136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8" descr=""/>
          <p:cNvPicPr/>
          <p:nvPr/>
        </p:nvPicPr>
        <p:blipFill>
          <a:blip r:embed="rId1"/>
          <a:stretch/>
        </p:blipFill>
        <p:spPr>
          <a:xfrm>
            <a:off x="249120" y="476280"/>
            <a:ext cx="4743720" cy="7063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7"/>
          <p:cNvSpPr/>
          <p:nvPr/>
        </p:nvSpPr>
        <p:spPr>
          <a:xfrm>
            <a:off x="611280" y="12682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Раз-два — всі пірнаю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Три, чотири — виринаю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П'ять, шість — на в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Кріпнуть крильця молод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Сім, вісім — що є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Всі до берега попл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Дев'ять, десять — обтруси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e840c"/>
                </a:solidFill>
                <a:latin typeface="Arial"/>
              </a:rPr>
              <a:t>І за парти опусти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http://go4.imgsmail.ru/imgpreview?key=d4c7da56b31dbf4&amp;mb=imgdb_preview_548"/>
          <p:cNvPicPr/>
          <p:nvPr/>
        </p:nvPicPr>
        <p:blipFill>
          <a:blip r:embed="rId2"/>
          <a:stretch/>
        </p:blipFill>
        <p:spPr>
          <a:xfrm>
            <a:off x="4989600" y="2637000"/>
            <a:ext cx="3537000" cy="240156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9" descr=""/>
          <p:cNvPicPr/>
          <p:nvPr/>
        </p:nvPicPr>
        <p:blipFill>
          <a:blip r:embed="rId3"/>
          <a:stretch/>
        </p:blipFill>
        <p:spPr>
          <a:xfrm>
            <a:off x="7775640" y="5373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9" descr=""/>
          <p:cNvPicPr/>
          <p:nvPr/>
        </p:nvPicPr>
        <p:blipFill>
          <a:blip r:embed="rId1"/>
          <a:stretch/>
        </p:blipFill>
        <p:spPr>
          <a:xfrm>
            <a:off x="2938320" y="189000"/>
            <a:ext cx="4741920" cy="1633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8" descr=""/>
          <p:cNvPicPr/>
          <p:nvPr/>
        </p:nvPicPr>
        <p:blipFill>
          <a:blip r:embed="rId2"/>
          <a:stretch/>
        </p:blipFill>
        <p:spPr>
          <a:xfrm>
            <a:off x="250920" y="3207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Физкультминутка"/>
          <p:cNvPicPr/>
          <p:nvPr/>
        </p:nvPicPr>
        <p:blipFill>
          <a:blip r:embed="rId3"/>
          <a:srcRect l="56177" t="28688" r="4453" b="15664"/>
          <a:stretch/>
        </p:blipFill>
        <p:spPr>
          <a:xfrm>
            <a:off x="2944800" y="206064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Овал 6"/>
          <p:cNvSpPr/>
          <p:nvPr/>
        </p:nvSpPr>
        <p:spPr>
          <a:xfrm>
            <a:off x="465120" y="5773680"/>
            <a:ext cx="644400" cy="349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Прямоугольник 8" descr=""/>
          <p:cNvPicPr/>
          <p:nvPr/>
        </p:nvPicPr>
        <p:blipFill>
          <a:blip r:embed="rId1"/>
          <a:stretch/>
        </p:blipFill>
        <p:spPr>
          <a:xfrm>
            <a:off x="463680" y="493560"/>
            <a:ext cx="4741560" cy="1322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http://pesochnizza.ru/wp-content/uploads/2012/12/deti-obedaut.jpg"/>
          <p:cNvPicPr/>
          <p:nvPr/>
        </p:nvPicPr>
        <p:blipFill>
          <a:blip r:embed="rId2"/>
          <a:stretch/>
        </p:blipFill>
        <p:spPr>
          <a:xfrm>
            <a:off x="1109520" y="1989000"/>
            <a:ext cx="6696360" cy="42721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9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8" descr=""/>
          <p:cNvPicPr/>
          <p:nvPr/>
        </p:nvPicPr>
        <p:blipFill>
          <a:blip r:embed="rId1"/>
          <a:stretch/>
        </p:blipFill>
        <p:spPr>
          <a:xfrm>
            <a:off x="828720" y="96840"/>
            <a:ext cx="8315280" cy="13240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"/>
          <p:cNvPicPr/>
          <p:nvPr/>
        </p:nvPicPr>
        <p:blipFill>
          <a:blip r:embed="rId2"/>
          <a:stretch/>
        </p:blipFill>
        <p:spPr>
          <a:xfrm>
            <a:off x="250920" y="3207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http://sosed-domosed.ru/wp-content/uploads/2014/03/V-kakie-igryi-poigrat-s-detmi-na-ulitse-300x270.jpg"/>
          <p:cNvPicPr/>
          <p:nvPr/>
        </p:nvPicPr>
        <p:blipFill>
          <a:blip r:embed="rId3"/>
          <a:stretch/>
        </p:blipFill>
        <p:spPr>
          <a:xfrm>
            <a:off x="1770120" y="1557360"/>
            <a:ext cx="52452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12" descr=""/>
          <p:cNvPicPr/>
          <p:nvPr/>
        </p:nvPicPr>
        <p:blipFill>
          <a:blip r:embed="rId1"/>
          <a:stretch/>
        </p:blipFill>
        <p:spPr>
          <a:xfrm>
            <a:off x="-396720" y="262080"/>
            <a:ext cx="4736880" cy="1596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http://metodisty.ru/user_upload/02_2015/1424262408.jpg"/>
          <p:cNvPicPr/>
          <p:nvPr/>
        </p:nvPicPr>
        <p:blipFill>
          <a:blip r:embed="rId2"/>
          <a:stretch/>
        </p:blipFill>
        <p:spPr>
          <a:xfrm>
            <a:off x="2124000" y="2205000"/>
            <a:ext cx="5138640" cy="38466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9" descr=""/>
          <p:cNvPicPr/>
          <p:nvPr/>
        </p:nvPicPr>
        <p:blipFill>
          <a:blip r:embed="rId3"/>
          <a:stretch/>
        </p:blipFill>
        <p:spPr>
          <a:xfrm>
            <a:off x="7451640" y="51588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Прямоугольник 11" descr=""/>
          <p:cNvPicPr/>
          <p:nvPr/>
        </p:nvPicPr>
        <p:blipFill>
          <a:blip r:embed="rId1"/>
          <a:stretch/>
        </p:blipFill>
        <p:spPr>
          <a:xfrm>
            <a:off x="2341440" y="262080"/>
            <a:ext cx="4735800" cy="707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http://dddeti.ru/sites/default/files/styles/large/public/021.jpg?itok=ty1Beppn"/>
          <p:cNvPicPr/>
          <p:nvPr/>
        </p:nvPicPr>
        <p:blipFill>
          <a:blip r:embed="rId2"/>
          <a:stretch/>
        </p:blipFill>
        <p:spPr>
          <a:xfrm>
            <a:off x="324000" y="1700280"/>
            <a:ext cx="4572000" cy="39718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13" descr=""/>
          <p:cNvPicPr/>
          <p:nvPr/>
        </p:nvPicPr>
        <p:blipFill>
          <a:blip r:embed="rId3"/>
          <a:stretch/>
        </p:blipFill>
        <p:spPr>
          <a:xfrm>
            <a:off x="6551640" y="2781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89000"/>
            <a:ext cx="8967960" cy="1322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http://www.izuminki.com/images/10-sposobov-provesti-uborku-pri-pomoshhi-naturalnyx-sredstv/1.jpg"/>
          <p:cNvPicPr/>
          <p:nvPr/>
        </p:nvPicPr>
        <p:blipFill>
          <a:blip r:embed="rId2"/>
          <a:stretch/>
        </p:blipFill>
        <p:spPr>
          <a:xfrm>
            <a:off x="1290600" y="1989000"/>
            <a:ext cx="6381720" cy="39816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9" descr=""/>
          <p:cNvPicPr/>
          <p:nvPr/>
        </p:nvPicPr>
        <p:blipFill>
          <a:blip r:embed="rId3"/>
          <a:stretch/>
        </p:blipFill>
        <p:spPr>
          <a:xfrm>
            <a:off x="7596360" y="46227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Прямоугольник 7" descr=""/>
          <p:cNvPicPr/>
          <p:nvPr/>
        </p:nvPicPr>
        <p:blipFill>
          <a:blip r:embed="rId1"/>
          <a:stretch/>
        </p:blipFill>
        <p:spPr>
          <a:xfrm>
            <a:off x="1170000" y="212760"/>
            <a:ext cx="4737240" cy="708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http://www.clipartbest.com/cliparts/nTX/eA9/nTXeA9nTB.gif"/>
          <p:cNvPicPr/>
          <p:nvPr/>
        </p:nvPicPr>
        <p:blipFill>
          <a:blip r:embed="rId2"/>
          <a:stretch/>
        </p:blipFill>
        <p:spPr>
          <a:xfrm>
            <a:off x="1074600" y="1128600"/>
            <a:ext cx="5659560" cy="486576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8" descr=""/>
          <p:cNvPicPr/>
          <p:nvPr/>
        </p:nvPicPr>
        <p:blipFill>
          <a:blip r:embed="rId3"/>
          <a:stretch/>
        </p:blipFill>
        <p:spPr>
          <a:xfrm>
            <a:off x="7524720" y="5684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324000" y="2355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Прямоугольник 9" descr=""/>
          <p:cNvPicPr/>
          <p:nvPr/>
        </p:nvPicPr>
        <p:blipFill>
          <a:blip r:embed="rId1"/>
          <a:stretch/>
        </p:blipFill>
        <p:spPr>
          <a:xfrm>
            <a:off x="317520" y="249120"/>
            <a:ext cx="5675400" cy="16290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2" descr=""/>
          <p:cNvPicPr/>
          <p:nvPr/>
        </p:nvPicPr>
        <p:blipFill>
          <a:blip r:embed="rId2"/>
          <a:stretch/>
        </p:blipFill>
        <p:spPr>
          <a:xfrm>
            <a:off x="6369120" y="2346480"/>
            <a:ext cx="2774880" cy="369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6" descr="http://brjunetka.ru/wp-content/uploads/2014/01/Glavnoe-nayti-podhod-k-rebenku.jpg"/>
          <p:cNvPicPr/>
          <p:nvPr/>
        </p:nvPicPr>
        <p:blipFill>
          <a:blip r:embed="rId3"/>
          <a:stretch/>
        </p:blipFill>
        <p:spPr>
          <a:xfrm>
            <a:off x="1014480" y="2257560"/>
            <a:ext cx="4981680" cy="38764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5" descr=""/>
          <p:cNvPicPr/>
          <p:nvPr/>
        </p:nvPicPr>
        <p:blipFill>
          <a:blip r:embed="rId4"/>
          <a:stretch/>
        </p:blipFill>
        <p:spPr>
          <a:xfrm>
            <a:off x="6369120" y="2365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395280" y="152280"/>
            <a:ext cx="8334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В понеділок пізно вста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І портфель свій не зіб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                    </a:t>
            </a: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У вівторок болів живот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                    </a:t>
            </a: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Бо Їв лише я бутерброд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В середу кіно дививс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За уроки не садив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              </a:t>
            </a: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Зараз спати вже по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              </a:t>
            </a: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А у мене гра та 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Сварить мене вся сім</a:t>
            </a:r>
            <a:r>
              <a:rPr b="1" i="1" lang="en-US" sz="2800" spc="-1" strike="noStrike">
                <a:solidFill>
                  <a:srgbClr val="432b20"/>
                </a:solidFill>
                <a:latin typeface="Calibri"/>
              </a:rPr>
              <a:t>`</a:t>
            </a:r>
            <a:r>
              <a:rPr b="1" i="1" lang="uk-UA" sz="2800" spc="-1" strike="noStrike">
                <a:solidFill>
                  <a:srgbClr val="432b20"/>
                </a:solidFill>
                <a:latin typeface="Calibri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32b20"/>
                </a:solidFill>
                <a:latin typeface="Calibri"/>
              </a:rPr>
              <a:t>Чому такий нещасний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6230880" y="3645000"/>
            <a:ext cx="2592360" cy="29541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"/>
          <p:cNvPicPr/>
          <p:nvPr/>
        </p:nvPicPr>
        <p:blipFill>
          <a:blip r:embed="rId2"/>
          <a:stretch/>
        </p:blipFill>
        <p:spPr>
          <a:xfrm>
            <a:off x="7215120" y="141120"/>
            <a:ext cx="1903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4" descr="Новый_рисунок__2_.png"/>
          <p:cNvPicPr/>
          <p:nvPr/>
        </p:nvPicPr>
        <p:blipFill>
          <a:blip r:embed="rId1"/>
          <a:stretch/>
        </p:blipFill>
        <p:spPr>
          <a:xfrm>
            <a:off x="7277040" y="3878280"/>
            <a:ext cx="1866960" cy="172080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9" descr=""/>
          <p:cNvPicPr/>
          <p:nvPr/>
        </p:nvPicPr>
        <p:blipFill>
          <a:blip r:embed="rId2"/>
          <a:stretch/>
        </p:blipFill>
        <p:spPr>
          <a:xfrm>
            <a:off x="0" y="103320"/>
            <a:ext cx="5224320" cy="1323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http://pixelbrush.ru/uploads/posts/2010-10/1286517041_0710f34db3image2416890.jpg"/>
          <p:cNvPicPr/>
          <p:nvPr/>
        </p:nvPicPr>
        <p:blipFill>
          <a:blip r:embed="rId3"/>
          <a:stretch/>
        </p:blipFill>
        <p:spPr>
          <a:xfrm>
            <a:off x="303120" y="2568600"/>
            <a:ext cx="5238720" cy="35146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" descr=""/>
          <p:cNvPicPr/>
          <p:nvPr/>
        </p:nvPicPr>
        <p:blipFill>
          <a:blip r:embed="rId4"/>
          <a:stretch/>
        </p:blipFill>
        <p:spPr>
          <a:xfrm>
            <a:off x="4448160" y="341280"/>
            <a:ext cx="5149800" cy="33242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10" descr=""/>
          <p:cNvPicPr/>
          <p:nvPr/>
        </p:nvPicPr>
        <p:blipFill>
          <a:blip r:embed="rId5"/>
          <a:stretch/>
        </p:blipFill>
        <p:spPr>
          <a:xfrm>
            <a:off x="5749920" y="43340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s006.radikal.ru/i215/1009/90/1258a2f4d436.jpg"/>
          <p:cNvPicPr/>
          <p:nvPr/>
        </p:nvPicPr>
        <p:blipFill>
          <a:blip r:embed="rId1"/>
          <a:stretch/>
        </p:blipFill>
        <p:spPr>
          <a:xfrm>
            <a:off x="3625920" y="2803680"/>
            <a:ext cx="5518080" cy="40543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"/>
          <p:cNvPicPr/>
          <p:nvPr/>
        </p:nvPicPr>
        <p:blipFill>
          <a:blip r:embed="rId2"/>
          <a:stretch/>
        </p:blipFill>
        <p:spPr>
          <a:xfrm>
            <a:off x="55440" y="189000"/>
            <a:ext cx="3086280" cy="319068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8" descr=""/>
          <p:cNvPicPr/>
          <p:nvPr/>
        </p:nvPicPr>
        <p:blipFill>
          <a:blip r:embed="rId3"/>
          <a:stretch/>
        </p:blipFill>
        <p:spPr>
          <a:xfrm>
            <a:off x="3597120" y="500040"/>
            <a:ext cx="5222880" cy="16336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"/>
          <p:cNvPicPr/>
          <p:nvPr/>
        </p:nvPicPr>
        <p:blipFill>
          <a:blip r:embed="rId4"/>
          <a:stretch/>
        </p:blipFill>
        <p:spPr>
          <a:xfrm>
            <a:off x="512640" y="3379680"/>
            <a:ext cx="2872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с двумя вырезанными соседними углами 5"/>
          <p:cNvSpPr/>
          <p:nvPr/>
        </p:nvSpPr>
        <p:spPr>
          <a:xfrm>
            <a:off x="250920" y="189000"/>
            <a:ext cx="8642160" cy="6421320"/>
          </a:xfrm>
          <a:custGeom>
            <a:avLst/>
            <a:gdLst/>
            <a:ahLst/>
            <a:rect l="l" t="t" r="r" b="b"/>
            <a:pathLst>
              <a:path w="8642350" h="6421437">
                <a:moveTo>
                  <a:pt x="1070261" y="0"/>
                </a:moveTo>
                <a:lnTo>
                  <a:pt x="7572089" y="0"/>
                </a:lnTo>
                <a:lnTo>
                  <a:pt x="8642350" y="1070261"/>
                </a:lnTo>
                <a:lnTo>
                  <a:pt x="8642350" y="6421437"/>
                </a:lnTo>
                <a:lnTo>
                  <a:pt x="8642350" y="6421437"/>
                </a:lnTo>
                <a:lnTo>
                  <a:pt x="0" y="6421437"/>
                </a:lnTo>
                <a:lnTo>
                  <a:pt x="0" y="6421437"/>
                </a:lnTo>
                <a:lnTo>
                  <a:pt x="0" y="1070261"/>
                </a:lnTo>
                <a:lnTo>
                  <a:pt x="1070261" y="0"/>
                </a:lnTo>
                <a:close/>
              </a:path>
            </a:pathLst>
          </a:custGeom>
          <a:noFill/>
          <a:ln w="57240">
            <a:solidFill>
              <a:srgbClr val="4074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1547640" y="404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e840c"/>
                </a:solidFill>
                <a:latin typeface="Arial"/>
              </a:rPr>
              <a:t>Перевір</a:t>
            </a:r>
            <a:r>
              <a:rPr b="1" lang="uk-UA" sz="1800" spc="-1" strike="noStrike">
                <a:solidFill>
                  <a:srgbClr val="de840c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de840c"/>
                </a:solidFill>
                <a:latin typeface="Arial"/>
              </a:rPr>
              <a:t>себ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1"/>
          <p:cNvSpPr/>
          <p:nvPr/>
        </p:nvSpPr>
        <p:spPr>
          <a:xfrm>
            <a:off x="971640" y="1557360"/>
            <a:ext cx="6480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ежим дня школяра має включа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Навчання у школі, приготування домашніх завд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Відпочинок на свіжому повіт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Правильне харч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Достатній сон та час підготовки до 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Рухливі ігри та занятт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Особиста гігіє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de84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e840c"/>
                </a:solidFill>
                <a:latin typeface="Arial"/>
              </a:rPr>
              <a:t>Прибирання , допомога батькам, догляд за власними ре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7" descr=""/>
          <p:cNvPicPr/>
          <p:nvPr/>
        </p:nvPicPr>
        <p:blipFill>
          <a:blip r:embed="rId1"/>
          <a:stretch/>
        </p:blipFill>
        <p:spPr>
          <a:xfrm>
            <a:off x="7451640" y="4778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98" name="Line 7"/>
          <p:cNvSpPr/>
          <p:nvPr/>
        </p:nvSpPr>
        <p:spPr>
          <a:xfrm flipH="1">
            <a:off x="2257200" y="1544760"/>
            <a:ext cx="1168200" cy="8762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5851440" y="1608120"/>
            <a:ext cx="1024200" cy="81288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4632480" y="1593720"/>
            <a:ext cx="4680" cy="9194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"/>
          <p:cNvSpPr/>
          <p:nvPr/>
        </p:nvSpPr>
        <p:spPr>
          <a:xfrm>
            <a:off x="150840" y="2513160"/>
            <a:ext cx="448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Arial Black"/>
              </a:rPr>
              <a:t>Зниження працездатності та перев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3063960" y="3894120"/>
            <a:ext cx="34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Arial Black"/>
              </a:rPr>
              <a:t>Захворю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/>
          <p:cNvSpPr/>
          <p:nvPr/>
        </p:nvSpPr>
        <p:spPr>
          <a:xfrm>
            <a:off x="5286240" y="2516040"/>
            <a:ext cx="358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2c16"/>
                </a:solidFill>
                <a:latin typeface="Arial Black"/>
              </a:rPr>
              <a:t>Затримка росту та розвитку ди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6" descr=""/>
          <p:cNvPicPr/>
          <p:nvPr/>
        </p:nvPicPr>
        <p:blipFill>
          <a:blip r:embed="rId2"/>
          <a:stretch/>
        </p:blipFill>
        <p:spPr>
          <a:xfrm>
            <a:off x="4000680" y="4541760"/>
            <a:ext cx="1095120" cy="1467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http://www.tofeelwell.ru/wp-content/uploads/2012/08/nizkii-rost.jpg"/>
          <p:cNvPicPr/>
          <p:nvPr/>
        </p:nvPicPr>
        <p:blipFill>
          <a:blip r:embed="rId3"/>
          <a:stretch/>
        </p:blipFill>
        <p:spPr>
          <a:xfrm>
            <a:off x="6087960" y="3897360"/>
            <a:ext cx="261000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http://go2.imgsmail.ru/imgpreview?key=51488dd91d1009a6&amp;mb=imgdb_preview_231"/>
          <p:cNvPicPr/>
          <p:nvPr/>
        </p:nvPicPr>
        <p:blipFill>
          <a:blip r:embed="rId4"/>
          <a:stretch/>
        </p:blipFill>
        <p:spPr>
          <a:xfrm>
            <a:off x="312840" y="39736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ext Box 26" descr=""/>
          <p:cNvPicPr/>
          <p:nvPr/>
        </p:nvPicPr>
        <p:blipFill>
          <a:blip r:embed="rId1"/>
          <a:stretch/>
        </p:blipFill>
        <p:spPr>
          <a:xfrm>
            <a:off x="4462560" y="1616040"/>
            <a:ext cx="4681440" cy="230364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7" descr=""/>
          <p:cNvPicPr/>
          <p:nvPr/>
        </p:nvPicPr>
        <p:blipFill>
          <a:blip r:embed="rId2"/>
          <a:stretch/>
        </p:blipFill>
        <p:spPr>
          <a:xfrm>
            <a:off x="2157480" y="212760"/>
            <a:ext cx="4030560" cy="10666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"/>
          <p:cNvPicPr/>
          <p:nvPr/>
        </p:nvPicPr>
        <p:blipFill>
          <a:blip r:embed="rId3"/>
          <a:stretch/>
        </p:blipFill>
        <p:spPr>
          <a:xfrm>
            <a:off x="6156360" y="43228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http://fotohomka.ru/images/Dec/10/0451e97f27415d54d449ca4c672dd30f/mini_3.jpg"/>
          <p:cNvPicPr/>
          <p:nvPr/>
        </p:nvPicPr>
        <p:blipFill>
          <a:blip r:embed="rId4"/>
          <a:stretch/>
        </p:blipFill>
        <p:spPr>
          <a:xfrm>
            <a:off x="179280" y="1365120"/>
            <a:ext cx="48578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179280" y="1268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79280" y="2924280"/>
            <a:ext cx="25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rebuchet MS"/>
              </a:rPr>
              <a:t>Прогулянки, 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5884920" y="113508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Навчання в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і в шко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081840" y="299736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rebuchet MS"/>
              </a:rPr>
              <a:t>Ігрова діяльність, гур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413400" y="550080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rebuchet MS"/>
              </a:rPr>
              <a:t>Відпочінок по інтере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203640" y="554184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Особиста гігіє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3203640" y="26028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авильне харч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Робота в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5884920" y="2025360"/>
            <a:ext cx="1368360" cy="6476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4643280" y="1125360"/>
            <a:ext cx="0" cy="93528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4632480" y="4680000"/>
            <a:ext cx="10800" cy="8366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0"/>
          <p:cNvSpPr/>
          <p:nvPr/>
        </p:nvSpPr>
        <p:spPr>
          <a:xfrm>
            <a:off x="5862600" y="3573360"/>
            <a:ext cx="797040" cy="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24" descr=""/>
          <p:cNvPicPr/>
          <p:nvPr/>
        </p:nvPicPr>
        <p:blipFill>
          <a:blip r:embed="rId1"/>
          <a:stretch/>
        </p:blipFill>
        <p:spPr>
          <a:xfrm>
            <a:off x="3352680" y="191304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5" descr=""/>
          <p:cNvPicPr/>
          <p:nvPr/>
        </p:nvPicPr>
        <p:blipFill>
          <a:blip r:embed="rId2"/>
          <a:stretch/>
        </p:blipFill>
        <p:spPr>
          <a:xfrm>
            <a:off x="3363840" y="1913040"/>
            <a:ext cx="24685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 Box 1030" descr=""/>
          <p:cNvPicPr/>
          <p:nvPr/>
        </p:nvPicPr>
        <p:blipFill>
          <a:blip r:embed="rId1"/>
          <a:stretch/>
        </p:blipFill>
        <p:spPr>
          <a:xfrm>
            <a:off x="542880" y="695160"/>
            <a:ext cx="4310280" cy="25545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8" descr=""/>
          <p:cNvPicPr/>
          <p:nvPr/>
        </p:nvPicPr>
        <p:blipFill>
          <a:blip r:embed="rId2"/>
          <a:stretch/>
        </p:blipFill>
        <p:spPr>
          <a:xfrm>
            <a:off x="4572000" y="367524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http://mistergid.ru/image/upload/2011-08-11/330026694634_1245346219_1.jpg"/>
          <p:cNvPicPr/>
          <p:nvPr/>
        </p:nvPicPr>
        <p:blipFill>
          <a:blip r:embed="rId3"/>
          <a:stretch/>
        </p:blipFill>
        <p:spPr>
          <a:xfrm>
            <a:off x="311040" y="3716280"/>
            <a:ext cx="3733920" cy="2467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https://www.o-detstve.ru/assets/images/forteachers/School/iniciativa/ipanova5.jpg"/>
          <p:cNvPicPr/>
          <p:nvPr/>
        </p:nvPicPr>
        <p:blipFill>
          <a:blip r:embed="rId4"/>
          <a:stretch/>
        </p:blipFill>
        <p:spPr>
          <a:xfrm>
            <a:off x="6443640" y="264960"/>
            <a:ext cx="238140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Прямоугольник 14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3219480" cy="2247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http://active-mama.com/wp-content/uploads/2015/11/rasporyadok-dnya-shkolnika-1.jpg"/>
          <p:cNvPicPr/>
          <p:nvPr/>
        </p:nvPicPr>
        <p:blipFill>
          <a:blip r:embed="rId2"/>
          <a:srcRect l="7049" t="6963" r="19506" b="3573"/>
          <a:stretch/>
        </p:blipFill>
        <p:spPr>
          <a:xfrm>
            <a:off x="4545000" y="322200"/>
            <a:ext cx="4452840" cy="59277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"/>
          <p:cNvPicPr/>
          <p:nvPr/>
        </p:nvPicPr>
        <p:blipFill>
          <a:blip r:embed="rId3"/>
          <a:stretch/>
        </p:blipFill>
        <p:spPr>
          <a:xfrm>
            <a:off x="1152360" y="3781440"/>
            <a:ext cx="24688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1" descr=""/>
          <p:cNvPicPr/>
          <p:nvPr/>
        </p:nvPicPr>
        <p:blipFill>
          <a:blip r:embed="rId1"/>
          <a:stretch/>
        </p:blipFill>
        <p:spPr>
          <a:xfrm>
            <a:off x="324000" y="1414440"/>
            <a:ext cx="3644640" cy="224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http://www.uchportal.ru/_ld/169/26370914.jpg"/>
          <p:cNvPicPr/>
          <p:nvPr/>
        </p:nvPicPr>
        <p:blipFill>
          <a:blip r:embed="rId2"/>
          <a:srcRect l="21668" t="18889" r="15837" b="6666"/>
          <a:stretch/>
        </p:blipFill>
        <p:spPr>
          <a:xfrm>
            <a:off x="3743280" y="1125360"/>
            <a:ext cx="5400720" cy="48247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"/>
          <p:cNvPicPr/>
          <p:nvPr/>
        </p:nvPicPr>
        <p:blipFill>
          <a:blip r:embed="rId3"/>
          <a:stretch/>
        </p:blipFill>
        <p:spPr>
          <a:xfrm>
            <a:off x="324000" y="402444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936720" y="2924280"/>
            <a:ext cx="6659640" cy="349236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7" descr=""/>
          <p:cNvPicPr/>
          <p:nvPr/>
        </p:nvPicPr>
        <p:blipFill>
          <a:blip r:embed="rId2"/>
          <a:stretch/>
        </p:blipFill>
        <p:spPr>
          <a:xfrm>
            <a:off x="1554120" y="401760"/>
            <a:ext cx="47372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7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4737240" cy="1633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http://www.uchportal.ru/_ld/169/36267813.jpg"/>
          <p:cNvPicPr/>
          <p:nvPr/>
        </p:nvPicPr>
        <p:blipFill>
          <a:blip r:embed="rId2"/>
          <a:srcRect l="12756" t="20196" r="14695" b="7522"/>
          <a:stretch/>
        </p:blipFill>
        <p:spPr>
          <a:xfrm>
            <a:off x="1187280" y="1989000"/>
            <a:ext cx="5781960" cy="43196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8" descr=""/>
          <p:cNvPicPr/>
          <p:nvPr/>
        </p:nvPicPr>
        <p:blipFill>
          <a:blip r:embed="rId3"/>
          <a:stretch/>
        </p:blipFill>
        <p:spPr>
          <a:xfrm>
            <a:off x="6516720" y="404640"/>
            <a:ext cx="215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ева Нина Юрьевна</dc:creator>
  <dc:description/>
  <cp:keywords>Здоровьесберегающий подход в применении ИКТ. Режим дня школьника</cp:keywords>
  <dc:language>en-US</dc:language>
  <cp:lastModifiedBy>asus</cp:lastModifiedBy>
  <dcterms:modified xsi:type="dcterms:W3CDTF">2016-09-03T18:35:30Z</dcterms:modified>
  <cp:revision>125</cp:revision>
  <dc:subject>Здоровьесберегающий подход в применении ИКТ</dc:subject>
  <dc:title>Режим дня школьника</dc:title>
</cp:coreProperties>
</file>