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075-434B-4A76-8CD6-E89C2553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1BB-B797-41B7-B19F-1099C674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8A8-36E7-40EA-9838-413DD5D3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DE7-EEEF-4F87-9304-13954E4D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66C2-A3C6-4FC8-BC82-69F4EC0E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FABD-5A06-4A9F-A552-5329996A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08DD-B842-4C11-AD53-D11BC1D5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AB7A-E190-426E-A164-BA9AF085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AA70-FC36-4F30-8B83-AC7A76AC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0C87-140B-47BD-A292-89F252FB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6150-80DF-437E-B96B-3B1FA69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D5F-762E-4471-A4BE-DC46B1AD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4125-A9BD-4C31-A0A3-932B64F2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370C-7C9C-48D3-91AD-A524765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DDD6-2059-4342-955C-7A148F0B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449F-F65E-4B41-99E6-D06006FD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8E3A-618D-4CFC-95B5-E8B3C854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7E9-C58E-4689-A057-3B98B409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B30-0CBC-4345-9B11-10A883CC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11A-EE0F-46C6-89DA-466E3F3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536-E72B-4AD9-8C89-CFDA47AA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54B-D8D8-4906-BFAE-C3EA1761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37E-B9DD-49FB-8C3B-885574C8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B52-BEE5-4441-915D-86F5C90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599E-5FB2-4762-B3BD-AEA8A97E8C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8ECE-F2D3-414E-91CE-A22A080C36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JStalin_Secretary_general_CCCP_1942_flipped.jpg&amp;filetimestamp=20091127103228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enin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adonna_en_Chelsea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arilyn_Monroe,_The_Prince_and_the_Showgirl,_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ophia_Loren_L.A.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Pel&#233;_23092007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Ani_Lorak_ESC_Party_2009_8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&#1050;&#1074;&#1110;&#1090;&#1082;&#1072;-&#1054;&#1089;&#1085;&#1086;&#1074;%27&#1103;&#1085;&#1077;&#1085;&#1082;&#1086;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Myrny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&#1054;&#1089;&#1090;&#1072;&#1087;_&#1042;&#1080;&#1096;&#1085;&#1103;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Oles_Oleksand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&#1052;&#1072;&#1088;&#1082;&#1086;&#1042;&#1086;&#1074;&#1095;&#1086;&#1082;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&#1055;&#1095;&#1110;&#1083;&#1082;&#1072;189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esya_Ukrainka_portrait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Jack_London_young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&#1060;&#1072;&#1081;&#1083;:Sholom_Aleichem_listens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800" spc="-1" strike="noStrike">
                <a:solidFill>
                  <a:srgbClr val="ffff00"/>
                </a:solidFill>
                <a:latin typeface="comic"/>
              </a:rPr>
              <a:t>ЛІТЕРАТУРНІ ПСЕВДОНІМИ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03 Adagio Molto E Cantibile.mp3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2924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00"/>
                </a:solidFill>
                <a:latin typeface="Arial"/>
              </a:rPr>
              <a:t>ПОЛІТИЧНІ ПСЕВДОНІМИ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Иосиф Виссарионович Стал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3471840" cy="4797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57340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осип Сталі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932360" y="907920"/>
            <a:ext cx="3600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І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 при народженні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осип Віссаріонович Джугашвілі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Владимир Ильич Ленин (Ульянов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3421080" cy="4508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0" y="585324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Володимир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ні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076720" y="1268280"/>
            <a:ext cx="3816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І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 при народженні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Ульянов Володимир Іллі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>
                <a:solidFill>
                  <a:srgbClr val="ffff00"/>
                </a:solidFill>
                <a:latin typeface="comic"/>
              </a:rPr>
              <a:t>АРТИСТИЧНІ ПСЕВДОНІМ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360" y="692280"/>
            <a:ext cx="3889440" cy="4897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24000" y="6165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адон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788000" y="170028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І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 при народженні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адонна Луїза Вероніка Чикк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480" y="836640"/>
            <a:ext cx="3888000" cy="4897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50920" y="609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ерилин Монр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003640" y="170028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І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 при народженні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ма Джин Мортенс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7200" y="907920"/>
            <a:ext cx="3708360" cy="4637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24000" y="59500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ф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і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ре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І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 при народженні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фія Шикол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elé 2309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3216240" cy="518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68360" y="587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Пелє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356000" y="1052640"/>
            <a:ext cx="42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вне ім'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Едісон Арантіс ду Насіменту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Edison Arantes do Nascimen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Ані Лорак, Євробачення 20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263760" cy="4896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4427640" y="981000"/>
            <a:ext cx="374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правжнє ім'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уєк Кароліна Мирославів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08000" y="587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і Ло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4125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Ім'я при народженні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етяна Григорівна Лібер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Tina karol.jpg"/>
          <p:cNvPicPr/>
          <p:nvPr/>
        </p:nvPicPr>
        <p:blipFill>
          <a:blip r:embed="rId1"/>
          <a:stretch/>
        </p:blipFill>
        <p:spPr>
          <a:xfrm>
            <a:off x="519120" y="692280"/>
            <a:ext cx="3730680" cy="496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4000" y="558972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іна Каро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Квітка-Основ'яненко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3659040" cy="4653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79280" y="5661000"/>
            <a:ext cx="4032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ригорій Федорович Квітка-Основ'яненк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643280" y="620640"/>
            <a:ext cx="39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народженні: Квітка Григорій Федоро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68360" y="-1179360"/>
          <a:ext cx="6875640" cy="5227560"/>
        </p:xfrm>
        <a:graphic>
          <a:graphicData uri="http://schemas.openxmlformats.org/drawingml/2006/table">
            <a:tbl>
              <a:tblPr/>
              <a:tblGrid>
                <a:gridCol w="2980080"/>
                <a:gridCol w="38955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59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Ім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`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я при народженні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ндрій Михайлович Данилк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6" descr="Verka Serduchka ESC 2007.JPG"/>
          <p:cNvPicPr/>
          <p:nvPr/>
        </p:nvPicPr>
        <p:blipFill>
          <a:blip r:embed="rId1"/>
          <a:stretch/>
        </p:blipFill>
        <p:spPr>
          <a:xfrm>
            <a:off x="611280" y="549360"/>
            <a:ext cx="3841560" cy="4149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5"/>
          <p:cNvSpPr/>
          <p:nvPr/>
        </p:nvSpPr>
        <p:spPr>
          <a:xfrm>
            <a:off x="611280" y="5877000"/>
            <a:ext cx="49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ірка Сердю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yrny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361152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0" y="5950080"/>
            <a:ext cx="432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анас Мирн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572000" y="476280"/>
            <a:ext cx="3960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народженні: Рудченко Панас Яко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Остап Вишня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5867280" cy="3903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79280" y="502776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тап Вишн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народженні: Павло Михайлович Губ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les Oleksand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0480" y="836640"/>
            <a:ext cx="3681360" cy="4464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0" y="580536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лександр Оле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16360" y="549360"/>
            <a:ext cx="39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народженні: Олександр Іванович Канди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МаркоВовчок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49360"/>
            <a:ext cx="3179880" cy="4824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0" y="6165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арко Вовчо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11640" y="1125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народженні: Марія Вілінсь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Пчілка189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3403800" cy="4868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79280" y="616572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01080" y="590328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лена Пчілк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859280" y="1052640"/>
            <a:ext cx="3960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ласне і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 :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ач Ольга Петрівна </a:t>
            </a:r>
            <a:br>
              <a:rPr sz="24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esya Ukrainka portra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20640"/>
            <a:ext cx="3208320" cy="4680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5280" y="5877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Леся Украи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11640" y="11970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І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 при народженні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Лариса  Петрівна Кос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Jack London you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3014640" cy="3960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5280" y="4437000"/>
            <a:ext cx="28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жек Лонд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І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 при народженні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жон Грифитц Че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Sholom Aleichem listen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60280"/>
            <a:ext cx="4032360" cy="3854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4500720" y="4508640"/>
            <a:ext cx="417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Шолом-Алейх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І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 при народженні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ломон (Шолом) Наумович (Нохумович) Рабин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27:20Z</dcterms:created>
  <dc:creator>User</dc:creator>
  <dc:description/>
  <dc:language>en-US</dc:language>
  <cp:lastModifiedBy>Кучер</cp:lastModifiedBy>
  <dcterms:modified xsi:type="dcterms:W3CDTF">2013-11-06T14:51:36Z</dcterms:modified>
  <cp:revision>14</cp:revision>
  <dc:subject/>
  <dc:title>Слайд 1</dc:title>
</cp:coreProperties>
</file>