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70B-D883-477B-84E3-7BE13FD0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9EA-0FEF-4E4B-93B5-F3D5333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3C0-0CC3-4E79-95A1-ADC7E3BA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7D8-4F2D-4A80-9C9F-950D2961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9ACC-2FD8-4012-91B9-DDED3C30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5C0E-E8E2-4830-AF6F-5C812EA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628-85AB-4457-B1C2-47558D7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3BA-39F4-4F37-AA4D-7675F2E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6769-0DD4-4965-950F-08A3B7B0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D8C-5FCC-459F-B88B-25A3D808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EA85-2805-454F-AF24-7096D2C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4EE-524F-4D65-93E7-BB132F6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350-04FC-42C5-824D-F6805C7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918B-FA20-4E8E-BA6D-074418DB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6801-52B7-40A1-BA75-7ED38B9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3D9-9B05-4E55-A59C-8845D87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CEF6-3FB2-4B28-B3AC-86045D69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EA2B-70C4-4DFA-9B60-BCBC9CAE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23BB-1A0A-46EB-A5C7-F86F287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0FB7-058D-4D8C-A874-E25E523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5E4C-1C06-445B-B838-43FD4950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AC9F-9EA0-4428-9CCB-845C68A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8B9-5F81-423A-A7A1-1D067B7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D62D-03C4-44FE-A4FC-2271945E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52C5-FA4D-4470-9171-B6198090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7C8C-36B0-4AED-BAAB-D5F463B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8D6D-6F85-4137-B6A6-706F3B1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1BD6-C142-4773-BD1F-BF3068E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C6BA-9AB4-462A-83BC-C56931C5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7BFA-4953-4897-ADB7-1367D999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7E27-420B-474B-A787-28EF3E9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BF9F-99EE-44F2-AF33-ADE2C34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644B-430D-4678-A2BC-41AB896E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A02-2712-4A77-9D73-F84D4B71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4DE0-6A9D-4D54-ACC2-4FE2D7F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85BD-46DF-4D46-BE95-6B0A424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5541-ACB5-48AA-8FD4-E61E8DF6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2BD9-826F-4A05-AB67-C051EF08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CCE0-C502-4D8F-9C77-454E293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C7C3-2278-482D-B4D9-44341AC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EA78-C6B1-44BB-A0A9-2A6A3F6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54C2-B95D-4F26-A691-13273779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AF06-9653-43E0-85DE-4C8C5D3A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0FD-6091-4E0F-84C8-FE627FF1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3D7-0505-4E49-8276-9BBB6B1E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1A9-7C64-47DB-9988-13F31BE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32A-597F-4572-8DE0-0E225F3D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D20-E0F7-450A-8D7E-7A8CEE3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50A-FFB9-4E60-B315-7942E636C8C4}" type="slidenum"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BB14-71AB-438F-9AE3-5265F47F8F37}" type="slidenum"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731-71C4-470D-AD62-C3B63D0ED5EB}" type="slidenum"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3DA6-8EA7-4B24-815C-BE67B2A1B759}" type="slidenum">
              <a:rPr b="0" lang="ru-RU" sz="10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1023840" y="2938320"/>
            <a:ext cx="7066080" cy="2438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33080" y="836280"/>
            <a:ext cx="6514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7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АЙВЕ І ПРОПУЩЕНЕ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півдні, півноч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Європи розташований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Балканський, Синайськ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півострів. За природними умовами  Греція  поділяється  на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Південну, Північну,  Східну, Західну, Передню, Середн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з трьох боків Грецію омивають ….. моря Поряд із Балканським півостровом розташований великий острів -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Південній Греції  розташована найбільша гора Греції - ….. , де за міфами, жили б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8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Я ТАК ДУМАЮ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600200"/>
            <a:ext cx="74674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им би ти хотів бути в Афінах аристократом чи кимось із демосу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Як це позначилося б на твоєму соціальному житті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9. Зупинка</a:t>
            </a:r>
            <a:br>
              <a:rPr sz="4100"/>
            </a:br>
            <a:r>
              <a:rPr b="1" lang="uk-UA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АГАЛЬН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.Греція розташована на півострові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) Балканському; б) Апеннінському; в) Піренейсько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.Грецію омивають мор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земне, Егейське, Іонічн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земне, Егейське, Чорн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земне, Егейське, Каспійсь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.Поряд із Грецією розташований великий острі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) Корсик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) Крит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) Кри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4.Свою Батьківщину — Грецію — греки називал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) Електорою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) Експо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) Елладо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5.На острові Крит існувала цивілізаці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) Грецьк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) Морськ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) Мінойсь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6.Причиною зникнення Мінойської цивілізації на острові Крит ста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елика епідемія чу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иверження вулка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мста бог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10920" y="691920"/>
            <a:ext cx="7705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Грецію в кінці III тис. до н. е. підкорили племе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) ацтеків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) ахейців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) арії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У кінці III тис. до н. е. в Греції виникає цивілізаці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тлантична (Мінойсь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хейська (Мікенсь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валонська (Маракансь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Центром ахейської цивілізації було міст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) Мікени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) Афіни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) Спар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Об'єднаний похід греків близько 1200 року дон. е. відбувся проти міс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) Ілірія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) Іліон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) Ібері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Місто Іліон ще називаю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) Троя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) Зброя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) Кро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Автором «Іліади» бу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) Геродот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б) Гектор;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) Г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660066"/>
                </a:solidFill>
                <a:latin typeface="Times New Roman"/>
              </a:rPr>
              <a:t>Домашнє завдання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16000" y="907920"/>
            <a:ext cx="77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cc"/>
                </a:solidFill>
                <a:latin typeface="Times New Roman"/>
              </a:rPr>
              <a:t>Намалювати малюнок до те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55640" y="1989000"/>
            <a:ext cx="749952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br>
              <a:rPr sz="5400"/>
            </a:b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До зустрічі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31640" y="475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евіз уроку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2421000"/>
            <a:ext cx="80042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3600" spc="-1" strike="noStrike">
                <a:solidFill>
                  <a:srgbClr val="0000cc"/>
                </a:solidFill>
                <a:latin typeface="Times New Roman"/>
              </a:rPr>
              <a:t>Вчитися і розмірковувати – даремна праця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cc"/>
                </a:solidFill>
                <a:latin typeface="Times New Roman"/>
              </a:rPr>
              <a:t>Розмірковувати та не вчитися  - небезп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660066"/>
                </a:solidFill>
                <a:latin typeface="Times New Roman"/>
              </a:rPr>
              <a:t>Потрапити на корабель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700280"/>
          <a:ext cx="7920000" cy="4105080"/>
        </p:xfrm>
        <a:graphic>
          <a:graphicData uri="http://schemas.openxmlformats.org/drawingml/2006/table">
            <a:tbl>
              <a:tblPr/>
              <a:tblGrid>
                <a:gridCol w="492120"/>
                <a:gridCol w="493560"/>
                <a:gridCol w="503280"/>
                <a:gridCol w="492120"/>
                <a:gridCol w="493920"/>
                <a:gridCol w="503280"/>
                <a:gridCol w="490320"/>
                <a:gridCol w="492120"/>
                <a:gridCol w="492120"/>
                <a:gridCol w="490680"/>
                <a:gridCol w="492120"/>
                <a:gridCol w="492120"/>
                <a:gridCol w="490320"/>
                <a:gridCol w="492120"/>
                <a:gridCol w="492120"/>
                <a:gridCol w="517680"/>
              </a:tblGrid>
              <a:tr h="58716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08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08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6"/>
          <p:cNvSpPr/>
          <p:nvPr/>
        </p:nvSpPr>
        <p:spPr>
          <a:xfrm>
            <a:off x="468360" y="1700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л     і    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3492360" y="2349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е     м    о    к   р     а     т     і    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484360" y="292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     л 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г    а     р   х     і    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971640" y="3573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     і      н    о    й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ь    к   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3564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о    л    о    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1979640" y="4724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    і     к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н   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395280" y="530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     и    р     а    н    і 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1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ГЕОГРАФІЧН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Греція розташована на півдні Європи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Греція розташована на Балканському півострові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Поблизу Греції розташований острів Кри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У давнину Грецію називали Елладою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Греція поділяється на 4 частини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Олімп знаходиться в Пд. Греції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Грецію омивають води Чорного моря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Пд. Грецію називають півострів Пелопеннес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Материкову Грецію омивають води 4 морів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В Середню Грецію можна пройти  лише Філіпінським проходо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6588000" y="148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7454880" y="29242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7454880" y="32846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74072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7524720" y="220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7451640" y="256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7236000" y="35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7164360" y="400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694836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7167600" y="4365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2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ХРОНОЛОГІЧН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Похід Греків на Трою відбувся в 1240 р. до н.е. Скільки років томі він відбувся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Облога Трої тривала 10 р. Коли вона закінчилася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У якому році Одіссей повернувся додому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У 1000 р. до н.е. розпочалася Велика грецька колонізація? Скільки років тому це було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У 688 р. до н.е. спартанці були розбиті військами Агросу. Коли виповнилося 2500 р. від цієї події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У 621 р. до н.е. архонт Драконт уперше записав закони Афін. Через скільки років  після приходу до влади Хаммураппі Вавилонського відбулися ці події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080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3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ПОНЯТІЙН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Содержимое 3" descr="6aa2d58abbdd.jpg"/>
          <p:cNvPicPr/>
          <p:nvPr/>
        </p:nvPicPr>
        <p:blipFill>
          <a:blip r:embed="rId1"/>
          <a:stretch/>
        </p:blipFill>
        <p:spPr>
          <a:xfrm>
            <a:off x="1258920" y="1413000"/>
            <a:ext cx="6481800" cy="49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4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ВПІЙМАЙ ФАК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Древняя Греция. Храмы (2).mp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1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660066"/>
                </a:solidFill>
                <a:latin typeface="Times New Roman"/>
              </a:rPr>
              <a:t>5. Зупинка </a:t>
            </a:r>
            <a:br>
              <a:rPr sz="4100"/>
            </a:b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АШИФРОВК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075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6, 12, 16, 16, 7, 22, 19, 3, 1, 20, 33, 23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1, 17, 19, 15, 16, 12, 3, 17, 7,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21, 1, 15, 19, 18, 12, 3, 22, 31, 15, 12, 10, 1, 15, 19, 18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71640" y="3357720"/>
          <a:ext cx="6696000" cy="2735280"/>
        </p:xfrm>
        <a:graphic>
          <a:graphicData uri="http://schemas.openxmlformats.org/drawingml/2006/table">
            <a:tbl>
              <a:tblPr/>
              <a:tblGrid>
                <a:gridCol w="609480"/>
                <a:gridCol w="608040"/>
                <a:gridCol w="609480"/>
                <a:gridCol w="608040"/>
                <a:gridCol w="608040"/>
                <a:gridCol w="609840"/>
                <a:gridCol w="607680"/>
                <a:gridCol w="609840"/>
                <a:gridCol w="608040"/>
                <a:gridCol w="609480"/>
                <a:gridCol w="60804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12240">
                      <a:solidFill>
                        <a:srgbClr val="1b587c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1224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1b587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split dir="in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66"/>
                </a:solidFill>
                <a:latin typeface="Times New Roman"/>
              </a:rPr>
              <a:t>6. Зупинка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З ОДІССЕЄМ ПО СВІТ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Содержимое 3" descr="1353720386-0487985-www.nevsepic.com.ua.jpg"/>
          <p:cNvPicPr/>
          <p:nvPr/>
        </p:nvPicPr>
        <p:blipFill>
          <a:blip r:embed="rId1"/>
          <a:stretch/>
        </p:blipFill>
        <p:spPr>
          <a:xfrm>
            <a:off x="722160" y="1600200"/>
            <a:ext cx="7666200" cy="500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2:34:35Z</dcterms:created>
  <dc:creator>Admin</dc:creator>
  <dc:description/>
  <dc:language>en-US</dc:language>
  <cp:lastModifiedBy>Admin</cp:lastModifiedBy>
  <dcterms:modified xsi:type="dcterms:W3CDTF">2014-01-18T15:21:06Z</dcterms:modified>
  <cp:revision>17</cp:revision>
  <dc:subject/>
  <dc:title>Подорож до греції</dc:title>
</cp:coreProperties>
</file>