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484C6-3D7D-4DDE-ACEF-F1F724F32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51B69-84D3-49B0-8393-5D2B3462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97C99-1662-4DFB-921A-B2066CC7C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314E6-C66B-418B-80E2-49E0BCBA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9597-9D43-487C-844A-54BCEDB3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A50C-1FEB-440E-A7CD-A71C54BA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F99C-0D68-49C6-88E7-7458709D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BD6B-9CEA-444E-8D9B-2ABD5C23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A5A6-48AF-4E32-956F-40FF8289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CF37-6C75-440D-B4A6-819F7856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EFFA-12B6-49F5-B42D-24D10191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ABB7F-CDDD-4E3E-8573-3DC26889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6AE0-83F5-45B8-A1CB-8D06E65D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1768-33FB-4D36-90C2-275B7D63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9743-22F1-4ECF-9F57-B0679682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BEC2-273E-4217-9609-1F261B60B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9811-DED6-44E4-B2BE-84D99407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8F1D5-50FF-4950-8637-11453626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15206-AECC-4BD2-A8D9-55A91B65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6C43F-1A1F-4904-A284-F317C583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3DA34-454D-4A9B-A254-1058A797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9F330-668E-4BA3-AA0B-AA771E5B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7A13D-D726-47D3-A98C-324F556F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56703-40FB-492E-8CE4-AD52C2BE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1152-4E50-4499-8A67-ADF550200B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0078-3557-4D12-95BB-53CD216ACD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640" y="1197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1928"/>
                </a:solidFill>
                <a:latin typeface="Arial"/>
              </a:rPr>
              <a:t>HEALTH IS THE IMPORTANT TREASURE.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5" name="Picture 2" descr="C:\Users\коля\Desktop\doctor_01.gif"/>
          <p:cNvPicPr/>
          <p:nvPr/>
        </p:nvPicPr>
        <p:blipFill>
          <a:blip r:embed="rId1"/>
          <a:stretch/>
        </p:blipFill>
        <p:spPr>
          <a:xfrm>
            <a:off x="2843280" y="2852640"/>
            <a:ext cx="3500280" cy="3722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0f17"/>
                </a:solidFill>
                <a:latin typeface="Arial"/>
              </a:rPr>
              <a:t>Task 5</a:t>
            </a:r>
            <a:br>
              <a:rPr sz="4400"/>
            </a:br>
            <a:r>
              <a:rPr b="1" lang="en-US" sz="4400" spc="-1" strike="noStrike">
                <a:solidFill>
                  <a:srgbClr val="070f17"/>
                </a:solidFill>
                <a:latin typeface="Arial"/>
              </a:rPr>
              <a:t>Useful – unusefu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ocolate                    Mi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ggs                            Hot do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rrot                          Bu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weets                        F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ney                         Can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ead                          Ap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at                           Ch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ke                           Chee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0f17"/>
                </a:solidFill>
                <a:latin typeface="Arial"/>
              </a:rPr>
              <a:t>Task 6</a:t>
            </a:r>
            <a:br>
              <a:rPr sz="4400"/>
            </a:br>
            <a:r>
              <a:rPr b="1" lang="en-US" sz="4400" spc="-1" strike="noStrike">
                <a:solidFill>
                  <a:srgbClr val="070f17"/>
                </a:solidFill>
                <a:latin typeface="Arial"/>
              </a:rPr>
              <a:t>English proverb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 is be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 apple a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happy he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healthy m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rly to bed, early to r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tter to be sa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n sor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a healthy bo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n weal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eps the doctor aw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a good medic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s a man healthy, wealthy and wi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0f17"/>
                </a:solidFill>
                <a:latin typeface="Arial"/>
              </a:rPr>
              <a:t>Doctor’s advis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t healthy food which contains hydro carbonates, fats, minerals. They are in meat, fish, eggs, cheese, butter, oil, nuts, bread, sugar, cereal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 to the dentist regularl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sh your hands before meal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tch TV more then an hou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y computer a lo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ke a cold showe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2" descr="C:\Users\коля\Desktop\Risunok2.png"/>
          <p:cNvPicPr/>
          <p:nvPr/>
        </p:nvPicPr>
        <p:blipFill>
          <a:blip r:embed="rId7"/>
          <a:stretch/>
        </p:blipFill>
        <p:spPr>
          <a:xfrm>
            <a:off x="4788000" y="1600200"/>
            <a:ext cx="3538440" cy="45338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0f17"/>
                </a:solidFill>
                <a:latin typeface="Arial"/>
              </a:rPr>
              <a:t>Task 7</a:t>
            </a:r>
            <a:br>
              <a:rPr sz="4400"/>
            </a:br>
            <a:r>
              <a:rPr b="1" lang="en-US" sz="4400" spc="-1" strike="noStrike">
                <a:solidFill>
                  <a:srgbClr val="070f17"/>
                </a:solidFill>
                <a:latin typeface="Arial"/>
              </a:rPr>
              <a:t>Project wor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3" name="Picture 2" descr="C:\Users\коля\Desktop\245272841038.gif"/>
          <p:cNvPicPr/>
          <p:nvPr/>
        </p:nvPicPr>
        <p:blipFill>
          <a:blip r:embed="rId1"/>
          <a:stretch/>
        </p:blipFill>
        <p:spPr>
          <a:xfrm>
            <a:off x="1913040" y="1724040"/>
            <a:ext cx="5322960" cy="4800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E YOU HEALTHY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2411280" y="2781360"/>
            <a:ext cx="4537080" cy="37940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0f17"/>
                </a:solidFill>
                <a:latin typeface="Arial"/>
              </a:rPr>
              <a:t>Let’s sing a so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f You’re a Kid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2" descr="C:\Users\коля\Desktop\www.proekt.profincom.ru.jpg"/>
          <p:cNvPicPr/>
          <p:nvPr/>
        </p:nvPicPr>
        <p:blipFill>
          <a:blip r:embed="rId1"/>
          <a:stretch/>
        </p:blipFill>
        <p:spPr>
          <a:xfrm>
            <a:off x="4643280" y="1700280"/>
            <a:ext cx="4038840" cy="44719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0f17"/>
                </a:solidFill>
                <a:latin typeface="Arial"/>
              </a:rPr>
              <a:t>Home tas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ke up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list of healthy and unhealthy fo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Picture 2" descr="C:\Users\коля\Desktop\3109_0.jpg"/>
          <p:cNvPicPr/>
          <p:nvPr/>
        </p:nvPicPr>
        <p:blipFill>
          <a:blip r:embed="rId1"/>
          <a:stretch/>
        </p:blipFill>
        <p:spPr>
          <a:xfrm>
            <a:off x="4762440" y="1557360"/>
            <a:ext cx="3810240" cy="446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ARE YOU HEALTHY?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Arial"/>
              </a:rPr>
              <a:t>GREE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- if you fall ill during the year and seldom miss lessons – you’re health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ORANG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- if you fall ill  mostly during the epidemics – you’re healthy in some way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RE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- if you often fall ill during the year and miss  your lessons – your health is in danger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0f17"/>
                </a:solidFill>
                <a:latin typeface="Arial"/>
              </a:rPr>
              <a:t>ANSWER THE QUES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en do we call the doctor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en do we think about health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en do we begin to take care of our health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n you call yourself an absolutely healthy person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179280" y="549000"/>
            <a:ext cx="431640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1928"/>
                </a:solidFill>
                <a:latin typeface="Arial"/>
              </a:rPr>
              <a:t>HEALT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1928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e51928"/>
                </a:solidFill>
                <a:latin typeface="Arial"/>
              </a:rPr>
              <a:t>IS THE IMPORTANT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1928"/>
                </a:solidFill>
                <a:latin typeface="Arial"/>
              </a:rPr>
              <a:t>TEAS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Picture 2" descr="C:\Users\коля\Desktop\8009.gif"/>
          <p:cNvPicPr/>
          <p:nvPr/>
        </p:nvPicPr>
        <p:blipFill>
          <a:blip r:embed="rId1"/>
          <a:stretch/>
        </p:blipFill>
        <p:spPr>
          <a:xfrm>
            <a:off x="4637160" y="765000"/>
            <a:ext cx="3884400" cy="532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0f17"/>
                </a:solidFill>
                <a:latin typeface="Arial"/>
              </a:rPr>
              <a:t>Task 1</a:t>
            </a:r>
            <a:br>
              <a:rPr sz="4400"/>
            </a:br>
            <a:r>
              <a:rPr b="1" lang="en-US" sz="4400" spc="-1" strike="noStrike">
                <a:solidFill>
                  <a:srgbClr val="070f17"/>
                </a:solidFill>
                <a:latin typeface="Arial"/>
              </a:rPr>
              <a:t>Associa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rite your associations with the word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Health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Picture 2" descr="C:\Users\коля\Desktop\5d5a98c87b10t.jpg"/>
          <p:cNvPicPr/>
          <p:nvPr/>
        </p:nvPicPr>
        <p:blipFill>
          <a:blip r:embed="rId1"/>
          <a:stretch/>
        </p:blipFill>
        <p:spPr>
          <a:xfrm>
            <a:off x="4500720" y="1982880"/>
            <a:ext cx="3887640" cy="4110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0f17"/>
                </a:solidFill>
                <a:latin typeface="Arial"/>
              </a:rPr>
              <a:t>Task 2</a:t>
            </a:r>
            <a:br>
              <a:rPr sz="4400"/>
            </a:br>
            <a:r>
              <a:rPr b="1" lang="en-US" sz="4400" spc="-1" strike="noStrike">
                <a:solidFill>
                  <a:srgbClr val="070f17"/>
                </a:solidFill>
                <a:latin typeface="Arial"/>
              </a:rPr>
              <a:t>Put on the wor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9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en we have a toothache we go to a -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9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feeling of being heart is -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9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f we are ill we usually call the - 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9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e go to a dentist if we have a bad -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9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ou should – your hand before meal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0f17"/>
                </a:solidFill>
                <a:latin typeface="Arial"/>
              </a:rPr>
              <a:t>Task 3 </a:t>
            </a:r>
            <a:br>
              <a:rPr sz="4400"/>
            </a:br>
            <a:r>
              <a:rPr b="1" lang="en-US" sz="4400" spc="-1" strike="noStrike">
                <a:solidFill>
                  <a:srgbClr val="070f17"/>
                </a:solidFill>
                <a:latin typeface="Arial"/>
              </a:rPr>
              <a:t>Make up the dialogue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8" name="Picture 2" descr="C:\Users\коля\Desktop\50494.jpg"/>
          <p:cNvPicPr/>
          <p:nvPr/>
        </p:nvPicPr>
        <p:blipFill>
          <a:blip r:embed="rId1"/>
          <a:stretch/>
        </p:blipFill>
        <p:spPr>
          <a:xfrm>
            <a:off x="1763640" y="1844640"/>
            <a:ext cx="5472360" cy="4637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0f17"/>
                </a:solidFill>
                <a:latin typeface="Arial"/>
              </a:rPr>
              <a:t>Task 4</a:t>
            </a:r>
            <a:br>
              <a:rPr sz="4400"/>
            </a:br>
            <a:r>
              <a:rPr b="1" lang="en-US" sz="4400" spc="-1" strike="noStrike">
                <a:solidFill>
                  <a:srgbClr val="070f17"/>
                </a:solidFill>
                <a:latin typeface="Arial"/>
              </a:rPr>
              <a:t>Answer the ques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o watches TV more then an hour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o doesn’t wash his/her hands before meal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o plays the computer a lot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o goes in for sport regularly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o goes to the dentist regularly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o takes a cold shower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o eats a lot of fruits and vegetables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o cleans and airs his/her room regularly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4:15:52Z</dcterms:created>
  <dc:creator>Ольга</dc:creator>
  <dc:description/>
  <dc:language>en-US</dc:language>
  <cp:lastModifiedBy>Ольга</cp:lastModifiedBy>
  <dcterms:modified xsi:type="dcterms:W3CDTF">2012-01-24T17:58:57Z</dcterms:modified>
  <cp:revision>4</cp:revision>
  <dc:subject/>
  <dc:title>HEALTH IS THE IMPORTANT TREASURE.</dc:title>
</cp:coreProperties>
</file>