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2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0B7-F895-408D-9001-E2F91F1F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92A-AFFC-4CEB-BE75-2C387A63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501-BEE8-41AD-8238-C0EA3F8C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C83-290D-46F1-8374-56BD4F3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157-218F-40B2-A63E-0131D5F0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AB2-A21F-42D8-8C44-46AD60F4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C0E-7A77-463D-856C-B95498E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ABC-8EF8-4BB6-92DF-5EBAA684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C7F-835A-4E23-806F-DEBE2322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C739-C11D-4155-8B3F-EDCA5EB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BD4-82F6-42E1-8FEC-C5732DA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090-91A1-472B-9BB8-127F0AE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C97C-8BCB-4922-BFA5-65AF26BDC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76092"/>
                </a:solidFill>
                <a:latin typeface="Calibri"/>
              </a:rPr>
              <a:t>Створення інноваційного освітнього середовища, яке впливає на процес соціалізації учнів та їх соціальну практи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shag.com.ua/vikoristannya-interaktivnih-metodiv-navchannya-dlya-rozvitku-t/7513_html_m3a41ccac.png"/>
          <p:cNvPicPr/>
          <p:nvPr/>
        </p:nvPicPr>
        <p:blipFill>
          <a:blip r:embed="rId1"/>
          <a:stretch/>
        </p:blipFill>
        <p:spPr>
          <a:xfrm>
            <a:off x="0" y="2981160"/>
            <a:ext cx="5435640" cy="38768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724360" y="5805360"/>
            <a:ext cx="3095640" cy="79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. Дн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п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ЗО НВК №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ах С.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:\photofile_1353605338_290442886_big.JPG"/>
          <p:cNvPicPr/>
          <p:nvPr/>
        </p:nvPicPr>
        <p:blipFill>
          <a:blip r:embed="rId2"/>
          <a:stretch/>
        </p:blipFill>
        <p:spPr>
          <a:xfrm>
            <a:off x="5651640" y="3500280"/>
            <a:ext cx="3073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Щоб  зацікавити  дітей  володіти  різними  розумовими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ераціями  на  таких  уроках, треба  використовувати  нестандартні  форми  їх  проведення. Це  уроки-творчі  звіти, уроки-аукціони, уроки-програми  передач, уроки-практикуми, уроки-ярмарки, уроки-подорожі, уроки-КВК, уроки-дослідження  та  інш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E:\photofile_1358917574_2027692689_big.JPG"/>
          <p:cNvPicPr/>
          <p:nvPr/>
        </p:nvPicPr>
        <p:blipFill>
          <a:blip r:embed="rId1"/>
          <a:stretch/>
        </p:blipFill>
        <p:spPr>
          <a:xfrm>
            <a:off x="611280" y="692280"/>
            <a:ext cx="3397320" cy="226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photofile_1358917971_328755178_big.JPG"/>
          <p:cNvPicPr/>
          <p:nvPr/>
        </p:nvPicPr>
        <p:blipFill>
          <a:blip r:embed="rId2"/>
          <a:stretch/>
        </p:blipFill>
        <p:spPr>
          <a:xfrm>
            <a:off x="4356000" y="1557360"/>
            <a:ext cx="33973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-5-638.jpg"/>
          <p:cNvPicPr/>
          <p:nvPr/>
        </p:nvPicPr>
        <p:blipFill>
          <a:blip r:embed="rId1"/>
          <a:stretch/>
        </p:blipFill>
        <p:spPr>
          <a:xfrm>
            <a:off x="324000" y="189000"/>
            <a:ext cx="8631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8137.png"/>
          <p:cNvPicPr/>
          <p:nvPr/>
        </p:nvPicPr>
        <p:blipFill>
          <a:blip r:embed="rId1"/>
          <a:stretch/>
        </p:blipFill>
        <p:spPr>
          <a:xfrm>
            <a:off x="1763640" y="1123920"/>
            <a:ext cx="5948280" cy="3600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4" descr="IMG_20151126_103308"/>
          <p:cNvPicPr/>
          <p:nvPr/>
        </p:nvPicPr>
        <p:blipFill>
          <a:blip r:embed="rId2"/>
          <a:stretch/>
        </p:blipFill>
        <p:spPr>
          <a:xfrm>
            <a:off x="324000" y="429264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6" descr="P1440120"/>
          <p:cNvPicPr/>
          <p:nvPr/>
        </p:nvPicPr>
        <p:blipFill>
          <a:blip r:embed="rId3"/>
          <a:stretch/>
        </p:blipFill>
        <p:spPr>
          <a:xfrm>
            <a:off x="468360" y="69228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9" descr="IMG_20160325_121011"/>
          <p:cNvPicPr/>
          <p:nvPr/>
        </p:nvPicPr>
        <p:blipFill>
          <a:blip r:embed="rId4"/>
          <a:stretch/>
        </p:blipFill>
        <p:spPr>
          <a:xfrm>
            <a:off x="6300720" y="260280"/>
            <a:ext cx="2041560" cy="15350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1" descr="P1440174"/>
          <p:cNvPicPr/>
          <p:nvPr/>
        </p:nvPicPr>
        <p:blipFill>
          <a:blip r:embed="rId5"/>
          <a:stretch/>
        </p:blipFill>
        <p:spPr>
          <a:xfrm>
            <a:off x="7020000" y="213372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4" descr="IMG_20160411_140136"/>
          <p:cNvPicPr/>
          <p:nvPr/>
        </p:nvPicPr>
        <p:blipFill>
          <a:blip r:embed="rId6"/>
          <a:stretch/>
        </p:blipFill>
        <p:spPr>
          <a:xfrm>
            <a:off x="2700360" y="4797360"/>
            <a:ext cx="2205000" cy="1656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7" descr="IMG_20160411_140625"/>
          <p:cNvPicPr/>
          <p:nvPr/>
        </p:nvPicPr>
        <p:blipFill>
          <a:blip r:embed="rId7"/>
          <a:stretch/>
        </p:blipFill>
        <p:spPr>
          <a:xfrm>
            <a:off x="5003640" y="4508640"/>
            <a:ext cx="2310120" cy="1728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8" descr="IMG_20160412_121649"/>
          <p:cNvPicPr/>
          <p:nvPr/>
        </p:nvPicPr>
        <p:blipFill>
          <a:blip r:embed="rId8"/>
          <a:stretch/>
        </p:blipFill>
        <p:spPr>
          <a:xfrm>
            <a:off x="318960" y="2205000"/>
            <a:ext cx="202104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3" descr="IMG_20160412_122643"/>
          <p:cNvPicPr/>
          <p:nvPr/>
        </p:nvPicPr>
        <p:blipFill>
          <a:blip r:embed="rId9"/>
          <a:stretch/>
        </p:blipFill>
        <p:spPr>
          <a:xfrm>
            <a:off x="2411280" y="189000"/>
            <a:ext cx="17640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matem.in.ua/uriznomanitnennya-form-i-metodiv-navchannya-na-urokah-ukrayins/384784_html_5b270dd0.png"/>
          <p:cNvPicPr/>
          <p:nvPr/>
        </p:nvPicPr>
        <p:blipFill>
          <a:blip r:embed="rId1"/>
          <a:stretch/>
        </p:blipFill>
        <p:spPr>
          <a:xfrm>
            <a:off x="539640" y="692280"/>
            <a:ext cx="8056800" cy="39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E:\photofile_1364539154_1977897377_big.JPG"/>
          <p:cNvPicPr/>
          <p:nvPr/>
        </p:nvPicPr>
        <p:blipFill>
          <a:blip r:embed="rId2"/>
          <a:stretch/>
        </p:blipFill>
        <p:spPr>
          <a:xfrm>
            <a:off x="826920" y="422100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:\photofile_1364539186_220372085_big.JPG"/>
          <p:cNvPicPr/>
          <p:nvPr/>
        </p:nvPicPr>
        <p:blipFill>
          <a:blip r:embed="rId3"/>
          <a:stretch/>
        </p:blipFill>
        <p:spPr>
          <a:xfrm>
            <a:off x="4284720" y="4221000"/>
            <a:ext cx="3240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refs.in.ua/slajd-2-poryadok-dennij-dopovid-spivpracya-simyi-ta-shkoli--di/22204_html_10a29fa5.jpg"/>
          <p:cNvPicPr/>
          <p:nvPr/>
        </p:nvPicPr>
        <p:blipFill>
          <a:blip r:embed="rId1"/>
          <a:stretch/>
        </p:blipFill>
        <p:spPr>
          <a:xfrm>
            <a:off x="250920" y="189000"/>
            <a:ext cx="844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Гра “Сонце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права «Портрет сучасного вчителя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вдання: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Перед вами сонце.(Сонце зображене на слайді). Кожен промінь – це риса характеру сучасного вчителя. Проміння сонця зігріють вихованців, якщо ви назвете ті риси характеру,  які на ваш погляд мають бути в сучасного в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      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і називають риси характеру вчителя, який зможе стимулювати у вихованців прагнення до саморозвитку , самовдосконалення, самореалізації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clipartbest.com/cliparts/RcA/And/RcAAndrei.png"/>
          <p:cNvPicPr/>
          <p:nvPr/>
        </p:nvPicPr>
        <p:blipFill>
          <a:blip r:embed="rId1"/>
          <a:stretch/>
        </p:blipFill>
        <p:spPr>
          <a:xfrm>
            <a:off x="6300720" y="404640"/>
            <a:ext cx="2111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gruppa5.detsad1844.ru/sites/default/files/images/sun.png"/>
          <p:cNvPicPr/>
          <p:nvPr/>
        </p:nvPicPr>
        <p:blipFill>
          <a:blip r:embed="rId1"/>
          <a:stretch/>
        </p:blipFill>
        <p:spPr>
          <a:xfrm>
            <a:off x="1116000" y="260280"/>
            <a:ext cx="6624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т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тарая школ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 по улице шел человек. Он проходил мимо старой школы и увидел большую очередь. Ему стало интересно, почему здесь так много людей. Подойдя ближе, он увидел объявление, в котором говорилось о новом наборе учащихся в данное учебное заведение. Человеку стало любопытно, почему столько желающих поступить именно в эту школу. Рядом с данным объявлением он увидел еще одно, где описывались школьные дисциплины, которые детям предстояло изучать. Среди них человек нашел следующие: уроки лицемерия и виртуозного обмана, сквернословия, высокомерия и прочие. И тут прохожий понял, что в этой школе ему делать нечего, и прошел мим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ораль притчі  зводиться до одного: наші учні повинні  обирати самі правильний шлях, а ми - і батьки – зобов’язані ненав’язливо и акуратно їм в цьому допомогти.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ПРИТЧА  </a:t>
            </a:r>
            <a:r>
              <a:rPr b="1" i="1" lang="uk-UA" sz="4400" spc="-1" strike="noStrike">
                <a:solidFill>
                  <a:srgbClr val="000000"/>
                </a:solidFill>
                <a:latin typeface="Calibri"/>
              </a:rPr>
              <a:t>Нехай це буду я!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«Люди переносили важкий вантаж. Він був запакований у мішки різного розміру. Кожен підходив, та брав, як зазвичай  мішок полегше. Тільки одна людина кожного разу брала на себе найтяжчу ношу і доставляла її на місце. Коли у неї запитали, чому вона добровільно вибирає найтяжчу ношу, адже були люди і сильніші за неї, вона відповіла: «Комусь потрібно ж буде її перенести . Рано чи пізно. </a:t>
            </a: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3000" spc="-1" strike="noStrike">
                <a:solidFill>
                  <a:srgbClr val="000000"/>
                </a:solidFill>
                <a:latin typeface="Calibri"/>
              </a:rPr>
              <a:t>Нехай це буду я!</a:t>
            </a:r>
            <a:r>
              <a:rPr b="0" i="1" lang="uk-UA" sz="3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-26-638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ловними завданнями освіти в Україні є виховання громадянина України, формування соціально зрілої, працелюбної, творчої особистості, якій притаманно почуття власної гідності, повага до прав і свобод людини, свідоме ставлення до обов’язків людини і громадянина, гордість за свою Батьківщину, здатність до саморозуміння і самовдосконалення, активної участі у соціальному житті країни. У формуванні означених важливих якостей, розвитку соціальної компетентності, вихованні особистості громадянина сучасної демократичної держави важливе місце займає середовище - все те, що оточує дитину від народження до кінця життя, починаючи з сім’ї, шкільного оточення і завершуючи середовищем соціальним, у якому вона народжується і яке створює умови для її розвитку і вихова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E:\lineechka-13.gif"/>
          <p:cNvPicPr/>
          <p:nvPr/>
        </p:nvPicPr>
        <p:blipFill>
          <a:blip r:embed="rId1"/>
          <a:stretch/>
        </p:blipFill>
        <p:spPr>
          <a:xfrm>
            <a:off x="395280" y="4581360"/>
            <a:ext cx="4594320" cy="14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:\photofile_1353605344_1136053798_big.JPG"/>
          <p:cNvPicPr/>
          <p:nvPr/>
        </p:nvPicPr>
        <p:blipFill>
          <a:blip r:embed="rId2"/>
          <a:stretch/>
        </p:blipFill>
        <p:spPr>
          <a:xfrm>
            <a:off x="5435640" y="4292640"/>
            <a:ext cx="3073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«Соціалізація» визначається як накопичення людиною соціального досвіду та відтворення його у власній життєдіяльності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Найбільш важливим періодом соціалізації є дошкільний та шкільний вік, коли дитина не лише набуває знання, формує власний світогляд, але і отримує навички самоконтролю, взаємодії з колективом, уміння вирішувати складні життєві ситуації. Саме у навчально-виховному процесі відбувається розвиток усіх складових самовдосконалення особистості, у першу чергу потреби у самоствердженні та самореалізації, що є невід’ємною частиною соціального становлення сучасної люд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E:\lineechka-13.gif"/>
          <p:cNvPicPr/>
          <p:nvPr/>
        </p:nvPicPr>
        <p:blipFill>
          <a:blip r:embed="rId1"/>
          <a:stretch/>
        </p:blipFill>
        <p:spPr>
          <a:xfrm>
            <a:off x="324000" y="189000"/>
            <a:ext cx="5400360" cy="1857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E:\photofile_1354075688_1128531796_big.JPG"/>
          <p:cNvPicPr/>
          <p:nvPr/>
        </p:nvPicPr>
        <p:blipFill>
          <a:blip r:embed="rId2"/>
          <a:stretch/>
        </p:blipFill>
        <p:spPr>
          <a:xfrm>
            <a:off x="5651640" y="189000"/>
            <a:ext cx="3001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3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  основі  педагогічної  технології  «Створення  ситуації  успіху»  лежить  особистісно  орієнтований  підхід  до  процесу  навчання  та  виховання. Тому, ретельно  готуючись  до  уроків, слід врахувати  не  тільки  своєрідність  кожного  класного  колективу, але  й  психологію, вікові  особливості, потенційні  можливості  кожного  учня, знаходити і  старатися реалізувати  на  уроках  такі  методичні  прийоми, які  дають  учням  відчуття  самостійності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і  творчої  участі  в  процесі  вивчення  предме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E:\photofile_1324107657_844493304_big.JPG"/>
          <p:cNvPicPr/>
          <p:nvPr/>
        </p:nvPicPr>
        <p:blipFill>
          <a:blip r:embed="rId1"/>
          <a:stretch/>
        </p:blipFill>
        <p:spPr>
          <a:xfrm>
            <a:off x="324000" y="3357720"/>
            <a:ext cx="388764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E:\photofile_1347475275_662818266_big.JPG"/>
          <p:cNvPicPr/>
          <p:nvPr/>
        </p:nvPicPr>
        <p:blipFill>
          <a:blip r:embed="rId2"/>
          <a:stretch/>
        </p:blipFill>
        <p:spPr>
          <a:xfrm>
            <a:off x="4572000" y="3357720"/>
            <a:ext cx="3887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76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агатися зробити кожен урок особливим, не схожим на попередній. Усе  залежить  від  особистості  вчителя, рівня  його  майстерн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 процесі пошуків шляхів створення ситуації успіху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коналася, що використання  інноваційних технологій на уроках  набагато збільшує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ізнавальну активність та самостійність учнів, мотивує потребу самовдосконаленн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:\photofile_1354075688_1128531796_big.JPG"/>
          <p:cNvPicPr/>
          <p:nvPr/>
        </p:nvPicPr>
        <p:blipFill>
          <a:blip r:embed="rId1"/>
          <a:stretch/>
        </p:blipFill>
        <p:spPr>
          <a:xfrm>
            <a:off x="684360" y="3141720"/>
            <a:ext cx="3563640" cy="237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photofile_1354076548_557086890_big.JPG"/>
          <p:cNvPicPr/>
          <p:nvPr/>
        </p:nvPicPr>
        <p:blipFill>
          <a:blip r:embed="rId2"/>
          <a:stretch/>
        </p:blipFill>
        <p:spPr>
          <a:xfrm>
            <a:off x="4572000" y="3068640"/>
            <a:ext cx="36370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лементи інноваційних технологій потрібно використовувати  на  кожному  уроці, тому, що це справа потрібна,цікава і перспективна. Учням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обається  працювати  в  експертних  та  перехресних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ах, у  парах, проявляючи  себе  в  таких  видах  діяльності, як  інтелектуальна  розминка, інформаційний пропуск, інтерв’ювання, «Редакційний  кошик», «Коло  ідей»,  «Мікрофон»,  «Дерево  рішень», «Займи  позицію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E:\photofile_1354075966_747744261_big.JPG"/>
          <p:cNvPicPr/>
          <p:nvPr/>
        </p:nvPicPr>
        <p:blipFill>
          <a:blip r:embed="rId1"/>
          <a:stretch/>
        </p:blipFill>
        <p:spPr>
          <a:xfrm>
            <a:off x="539640" y="3141720"/>
            <a:ext cx="3829320" cy="255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E:\photofile_1354076277_1123323756_big.JPG"/>
          <p:cNvPicPr/>
          <p:nvPr/>
        </p:nvPicPr>
        <p:blipFill>
          <a:blip r:embed="rId2"/>
          <a:stretch/>
        </p:blipFill>
        <p:spPr>
          <a:xfrm>
            <a:off x="4500720" y="3141720"/>
            <a:ext cx="3779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-6-638.jpg"/>
          <p:cNvPicPr/>
          <p:nvPr/>
        </p:nvPicPr>
        <p:blipFill>
          <a:blip r:embed="rId1"/>
          <a:stretch/>
        </p:blipFill>
        <p:spPr>
          <a:xfrm>
            <a:off x="395280" y="260280"/>
            <a:ext cx="8344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  цікавістю  школярі  працюють  над  створенням  різних  типів  проекті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інформаційних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лідницьких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их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ють  позитивні  результати  для  створення  ситуації  успіху  уроки  узаг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ння  й систематизації  знань. Їх  особливість  полягає  в  тому, що  учні  не  тільки  оперують  уже  відомими  поняттями  (правилами),  фактами, але  відкривають  для  себе  нові  зв’язки  між  ними, системність  мовних  одиниць. Ситуація  успіху  забезпечується  також  і  тим, що  учні  протягом  уроку  мають  можливість  самі  обирати  завдання, оцінювати  себе  за  листами  контролю, звертатися  до  вчителя  як  до  консультан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E:\photofile_1354077300_304525593_big.JPG"/>
          <p:cNvPicPr/>
          <p:nvPr/>
        </p:nvPicPr>
        <p:blipFill>
          <a:blip r:embed="rId1"/>
          <a:stretch/>
        </p:blipFill>
        <p:spPr>
          <a:xfrm>
            <a:off x="1042920" y="4221000"/>
            <a:ext cx="3506760" cy="233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E:\photofile_1354944683_1081919307_big.JPG"/>
          <p:cNvPicPr/>
          <p:nvPr/>
        </p:nvPicPr>
        <p:blipFill>
          <a:blip r:embed="rId2"/>
          <a:stretch/>
        </p:blipFill>
        <p:spPr>
          <a:xfrm>
            <a:off x="4859280" y="4221000"/>
            <a:ext cx="3506760" cy="233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E:\photofile_1354944683_1081919307_big.JPG"/>
          <p:cNvPicPr/>
          <p:nvPr/>
        </p:nvPicPr>
        <p:blipFill>
          <a:blip r:embed="rId3"/>
          <a:stretch/>
        </p:blipFill>
        <p:spPr>
          <a:xfrm>
            <a:off x="4859280" y="4221000"/>
            <a:ext cx="350676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-7-638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1T14:20:10Z</dcterms:created>
  <dc:creator>Lenovo</dc:creator>
  <dc:description/>
  <dc:language>en-US</dc:language>
  <cp:lastModifiedBy>Lenovo</cp:lastModifiedBy>
  <dcterms:modified xsi:type="dcterms:W3CDTF">2016-11-27T12:18:15Z</dcterms:modified>
  <cp:revision>27</cp:revision>
  <dc:subject/>
  <dc:title>Створення інноваційного освітнього середовища, яке впливає на процес соціалізації учнів та їх соціальну практику</dc:title>
</cp:coreProperties>
</file>