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4.png" ContentType="image/png"/>
  <Override PartName="/ppt/media/image1.gif" ContentType="image/gif"/>
  <Override PartName="/ppt/media/image24.gif" ContentType="image/gif"/>
  <Override PartName="/ppt/media/image12.png" ContentType="image/png"/>
  <Override PartName="/ppt/media/image7.png" ContentType="image/png"/>
  <Override PartName="/ppt/media/image23.png" ContentType="image/png"/>
  <Override PartName="/ppt/media/image22.png" ContentType="image/png"/>
  <Override PartName="/ppt/media/image19.gif" ContentType="image/gif"/>
  <Override PartName="/ppt/media/image5.png" ContentType="image/png"/>
  <Override PartName="/ppt/media/image10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F7AD-B8B1-4BB3-9E59-5D6E7B50F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BC98-9EA0-4D12-9F22-57E0F6C4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0DCB-1040-4D00-AFEF-926BE1E96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42E6-3B4E-477A-8599-FD72047AF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BF89F-1115-4153-87E6-25D97BCAB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84EC-0485-4C1A-9BF3-399C3485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6A48-CCF6-4902-818E-BF449B8B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7499-57FF-49E3-B2B3-10CB8BBA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74AC-84D9-49A9-B8EC-4CC545CA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251C-4321-42BD-A42A-4C1EFD74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4B93-61A0-4592-B1C0-F3390E01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75F8-F6E1-4833-87E7-65B480E0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3C53-9594-4A7F-B50E-3095DD01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2207-EDFA-49A4-BFB4-D1211F1A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E60C-7B91-4FB1-9E48-6139A193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CB80-E67D-4208-B562-63AD32598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9C57-4437-4778-AE1C-DEC0E4FA5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799BD-2C07-4B87-A3D1-D7AFE01E1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E902D-6936-416B-867D-584D8153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D20E5-F0FD-4B59-8756-0AADE372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D5D14-077D-4166-8F4D-F663A25B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319F0-219D-47E1-A451-C734A797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A51B-BEE1-454E-9FB2-FCCB05FA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9623F-31BB-4384-B179-A58B1B13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53C64-64E6-43DE-8336-99A8BA22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BE4DF-B6A0-469C-9019-B6E49606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7D503-B72F-4F93-A1EC-8EACA85E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A1862-3355-4439-92C0-46F86E48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18A14-D977-452F-B5CE-911BC5549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EBDF9-2475-4B66-94C4-68C02497E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E675A-5B10-490A-BCBB-96A69CDE5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4E9F6-28C6-43C8-946A-F1DA82AC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8563F-3C47-4C26-A0EF-4C09F6AE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A9A4-F4C1-4AFA-9015-0BB05ECD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5B18C-D178-46B1-A04B-7812DB4B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6851A-95B6-419C-9B37-DC6FEC21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70BB6-5496-44AE-9399-89593B20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1B150-3D5B-439B-9DC7-DFB72EC5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72A92-E0DD-43C4-BF1B-6A4E8D37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728C1-6451-4266-87ED-9821E7AE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9368C-760D-4EB5-8C07-5F0A494D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3DA12-716D-4C31-94B9-695677370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7C3BF-D663-4DE7-A731-E2F69C045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FD168-FE72-40FF-A5ED-4EAE361E8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9491-CC10-409A-8373-EA95259C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20653-2134-40E9-8187-5717EABD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2AAE2-6522-4C37-B906-F9BED52D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5F489-6846-4FAC-9998-A76EC553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C8ED3-B141-4731-8A73-9BC71E52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3AAD2-8DBE-4168-B540-044E9255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840A0-02FC-46BC-B1B6-86F0D1D1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35F5A-E693-4B92-985A-61A10DDA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E8222-176D-4FDB-B465-99ED14DC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60BE8-F24D-4AB6-ADE1-3EDA50A8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A90E2-1B93-4DA4-B565-29ECA0748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29D2-708A-45EE-9E49-C31EB157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3F908-5A4E-4233-BD32-36C82F1F2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18387-DF18-4611-B1E0-F0896CA16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9A7D7-F802-4A27-B0D3-DC3CFB26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F6DBE-C708-4D06-9F10-D42154F1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D021E-624F-4346-BCAF-AB2D43F2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C1AA8-C6A0-45CE-90CF-1F65FCCA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DC2AF-F966-49FF-8664-D2B65136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5CE56-87EA-4D26-AD36-02A661A7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B0F5D-DF71-43D5-951D-FA1948F4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83500-C32E-4FD8-8FC1-E99F2518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93EB-9B51-4466-98FF-1E3B2F94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0B5FA-ACC4-424D-8920-519B89CC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5A504-FF5D-4794-8817-7A5EB56F5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302A0-F441-4B26-B576-B5A7332BE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3CBA0-FAED-488C-8C5A-DB2A9EE2E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D0CCC-D556-47DE-88DE-5AAD4913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EB5A5-0F54-4C82-B6AA-FB57A6C8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BA9DA-19C8-46B6-853A-65D7E5C8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83898-2370-4461-87C8-1E9E824D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CB862-E8DA-451D-8EF0-446DFF59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08C69-1B6A-472D-B480-542EBF7E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F050-F8A1-473C-8211-F461FEE9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AA711-4CFD-4092-ADE9-C8CC9F63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A8F01-54DE-4068-9BB1-837BD99C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B647D-603B-4276-9A94-B6B82A6C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8E875-E9C1-403D-8DBA-34B830BDF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CB98E-F7C1-41D6-9CB5-38D345118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98478-FAFF-4026-9F35-775CCA640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48AB5-6125-4AD7-ABEC-28A46563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47135-6128-4E00-9009-60A225E3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ABACA-2EA6-4F39-831B-A60BE0AC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91C01-DD6D-4B35-8D13-DEC322C0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8D23-1B8B-4EDE-A2C2-82517BC1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8CADF-FBF0-4E2A-88DD-2553BFA4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C8C00-D26D-4216-8245-31E89B8F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8A78D-8929-4F08-9BDF-E55A3960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196E9-8DDF-450E-ABE5-68DB64CE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8F24D-971F-4F00-AA55-C44E2AF8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D9A0B-7217-456A-B5FA-D6D7A0FA6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24859-F9CC-4A4A-AF4E-EDD63B4C2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5CC6-135B-4D93-977E-31DB9D20C94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A039-5630-469E-AA56-CD2880C406D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DD9B-DD80-4F97-973C-8EA5DE16103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649E-18C3-4AAC-9C12-7846B70ADCC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E8ED-B3A3-42CF-ADE0-3BCC7B9CA5C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38A8-8D25-47D2-A6BD-3424416F102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2D89-44EC-4338-AEDA-995A6446F0F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572A-981D-47F5-95C2-FBB5A929708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5" name="Picture 3" descr="D:\Мои документы\good-morning3.gif"/>
          <p:cNvPicPr/>
          <p:nvPr/>
        </p:nvPicPr>
        <p:blipFill>
          <a:blip r:embed="rId1"/>
          <a:stretch/>
        </p:blipFill>
        <p:spPr>
          <a:xfrm>
            <a:off x="685800" y="457200"/>
            <a:ext cx="7953480" cy="62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1142640" y="456840"/>
            <a:ext cx="6418440" cy="93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haroni"/>
                <a:ea typeface="Aharoni"/>
              </a:rPr>
              <a:t>The answer: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1776240" y="1241280"/>
            <a:ext cx="55915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84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28480" y="571464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lain these adjectives. Use them to complete similes 1-9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playful   • proud   • quiet  • wise  • busy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•gentle  • strong   • stubborn    slow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9" name="Picture 11" descr=""/>
          <p:cNvPicPr/>
          <p:nvPr/>
        </p:nvPicPr>
        <p:blipFill>
          <a:blip r:embed="rId1"/>
          <a:stretch/>
        </p:blipFill>
        <p:spPr>
          <a:xfrm>
            <a:off x="1428840" y="304920"/>
            <a:ext cx="62643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1061640" y="533520"/>
            <a:ext cx="6481800" cy="123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mily is a little world created by love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11" name="Picture 4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5486400" cy="40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ndara"/>
              </a:rPr>
              <a:t>Let’s have a res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3" name="Picture 4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2904840" cy="19936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"/>
          <p:cNvPicPr/>
          <p:nvPr/>
        </p:nvPicPr>
        <p:blipFill>
          <a:blip r:embed="rId2"/>
          <a:stretch/>
        </p:blipFill>
        <p:spPr>
          <a:xfrm>
            <a:off x="3733920" y="2081160"/>
            <a:ext cx="518796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ndara"/>
              </a:rPr>
              <a:t>Let’s play! “Who Is in Your Family?”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419720" y="2133720"/>
            <a:ext cx="404784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Candara"/>
              </a:rPr>
              <a:t>Is … your father?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Candara"/>
              </a:rPr>
              <a:t>Is … your mother?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Candara"/>
              </a:rPr>
              <a:t>Is … your aunt?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Candara"/>
              </a:rPr>
              <a:t>Is … your uncle?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Candara"/>
              </a:rPr>
              <a:t>Is … your nephew?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Candara"/>
              </a:rPr>
              <a:t>Is … your niece?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59200" indent="-25920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Candara"/>
              </a:rPr>
              <a:t>Is … your friend?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17" name="Picture 5" descr=""/>
          <p:cNvPicPr/>
          <p:nvPr/>
        </p:nvPicPr>
        <p:blipFill>
          <a:blip r:embed="rId1"/>
          <a:stretch/>
        </p:blipFill>
        <p:spPr>
          <a:xfrm>
            <a:off x="131760" y="2057400"/>
            <a:ext cx="436248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1447920" y="762120"/>
            <a:ext cx="6418080" cy="93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lack"/>
              </a:rPr>
              <a:t>Let’s do some exercises!</a:t>
            </a:r>
            <a:endParaRPr b="0" lang="en-US" sz="3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19" name="Picture 4" descr="D:\Новая папка\J0324704.png"/>
          <p:cNvPicPr/>
          <p:nvPr/>
        </p:nvPicPr>
        <p:blipFill>
          <a:blip r:embed="rId1"/>
          <a:stretch/>
        </p:blipFill>
        <p:spPr>
          <a:xfrm>
            <a:off x="2362320" y="2209680"/>
            <a:ext cx="42526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579096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haroni"/>
                <a:ea typeface="Aharoni"/>
              </a:rPr>
              <a:t>Listening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ndara"/>
              </a:rPr>
              <a:t>A ROBBER OR A ROBERT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22" name="Picture 3" descr=""/>
          <p:cNvPicPr/>
          <p:nvPr/>
        </p:nvPicPr>
        <p:blipFill>
          <a:blip r:embed="rId1"/>
          <a:stretch/>
        </p:blipFill>
        <p:spPr>
          <a:xfrm>
            <a:off x="685800" y="2357280"/>
            <a:ext cx="3124080" cy="31244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"/>
          <p:cNvPicPr/>
          <p:nvPr/>
        </p:nvPicPr>
        <p:blipFill>
          <a:blip r:embed="rId2"/>
          <a:stretch/>
        </p:blipFill>
        <p:spPr>
          <a:xfrm>
            <a:off x="4554360" y="2357280"/>
            <a:ext cx="35989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28600" y="9903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6436b"/>
                </a:solidFill>
                <a:latin typeface="Candara"/>
              </a:rPr>
              <a:t>1. Natalie was …</a:t>
            </a:r>
            <a:br>
              <a:rPr sz="2900"/>
            </a:br>
            <a:r>
              <a:rPr b="1" lang="en-US" sz="2900" spc="-1" strike="noStrike">
                <a:solidFill>
                  <a:srgbClr val="06436b"/>
                </a:solidFill>
                <a:latin typeface="Candara"/>
              </a:rPr>
              <a:t>a) sleeping         b) watching TV     c) reading a book</a:t>
            </a:r>
            <a:br>
              <a:rPr sz="2900"/>
            </a:br>
            <a:r>
              <a:rPr b="1" lang="en-US" sz="2900" spc="-1" strike="noStrike">
                <a:solidFill>
                  <a:srgbClr val="06436b"/>
                </a:solidFill>
                <a:latin typeface="Candara"/>
              </a:rPr>
              <a:t>2. The noise was coming from the …</a:t>
            </a:r>
            <a:br>
              <a:rPr sz="2900"/>
            </a:br>
            <a:r>
              <a:rPr b="1" lang="en-US" sz="2900" spc="-1" strike="noStrike">
                <a:solidFill>
                  <a:srgbClr val="06436b"/>
                </a:solidFill>
                <a:latin typeface="Candara"/>
              </a:rPr>
              <a:t>a) hall                   b) kitchen               c) street</a:t>
            </a:r>
            <a:br>
              <a:rPr sz="2900"/>
            </a:br>
            <a:r>
              <a:rPr b="1" lang="en-US" sz="2900" spc="-1" strike="noStrike">
                <a:solidFill>
                  <a:srgbClr val="06436b"/>
                </a:solidFill>
                <a:latin typeface="Candara"/>
              </a:rPr>
              <a:t>3. Natalie took …</a:t>
            </a:r>
            <a:br>
              <a:rPr sz="2900"/>
            </a:br>
            <a:r>
              <a:rPr b="1" lang="en-US" sz="2900" spc="-1" strike="noStrike">
                <a:solidFill>
                  <a:srgbClr val="06436b"/>
                </a:solidFill>
                <a:latin typeface="Candara"/>
              </a:rPr>
              <a:t>a) a vase              b) a knife                 c) a hammer</a:t>
            </a:r>
            <a:br>
              <a:rPr sz="2900"/>
            </a:br>
            <a:r>
              <a:rPr b="1" lang="en-US" sz="2900" spc="-1" strike="noStrike">
                <a:solidFill>
                  <a:srgbClr val="06436b"/>
                </a:solidFill>
                <a:latin typeface="Candara"/>
              </a:rPr>
              <a:t>4. The man was looking for something …</a:t>
            </a:r>
            <a:br>
              <a:rPr sz="2900"/>
            </a:br>
            <a:r>
              <a:rPr b="1" lang="en-US" sz="2900" spc="-1" strike="noStrike">
                <a:solidFill>
                  <a:srgbClr val="06436b"/>
                </a:solidFill>
                <a:latin typeface="Candara"/>
              </a:rPr>
              <a:t>a) in the wardrobe                   b) in the bookcase   </a:t>
            </a:r>
            <a:br>
              <a:rPr sz="2900"/>
            </a:br>
            <a:r>
              <a:rPr b="1" lang="en-US" sz="2900" spc="-1" strike="noStrike">
                <a:solidFill>
                  <a:srgbClr val="06436b"/>
                </a:solidFill>
                <a:latin typeface="Candara"/>
              </a:rPr>
              <a:t>                                  c) in the fridge</a:t>
            </a:r>
            <a:br>
              <a:rPr sz="2900"/>
            </a:br>
            <a:r>
              <a:rPr b="1" lang="en-US" sz="2900" spc="-1" strike="noStrike">
                <a:solidFill>
                  <a:srgbClr val="06436b"/>
                </a:solidFill>
                <a:latin typeface="Candara"/>
              </a:rPr>
              <a:t>5. The man was … .</a:t>
            </a:r>
            <a:br>
              <a:rPr sz="2900"/>
            </a:br>
            <a:r>
              <a:rPr b="1" lang="en-US" sz="2900" spc="-1" strike="noStrike">
                <a:solidFill>
                  <a:srgbClr val="06436b"/>
                </a:solidFill>
                <a:latin typeface="Candara"/>
              </a:rPr>
              <a:t>a) her brother      b) her father         c) a robber</a:t>
            </a:r>
            <a:endParaRPr b="0" lang="en-US" sz="29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61760" y="456840"/>
            <a:ext cx="5956200" cy="5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Candara"/>
              </a:rPr>
              <a:t>Choose the letter of the correct variant: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2" descr="D:\Мои документы\d836884747d63b227bde722bcf2b33f0.gif"/>
          <p:cNvPicPr/>
          <p:nvPr/>
        </p:nvPicPr>
        <p:blipFill>
          <a:blip r:embed="rId1"/>
          <a:stretch/>
        </p:blipFill>
        <p:spPr>
          <a:xfrm>
            <a:off x="5638680" y="2314440"/>
            <a:ext cx="3510000" cy="416268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837720" y="2133720"/>
            <a:ext cx="7409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Candara"/>
              </a:rPr>
              <a:t>This is mother, kind and dear.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Candara"/>
              </a:rPr>
              <a:t>This is father, standing near.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Candara"/>
              </a:rPr>
              <a:t>This is brother, see how tall.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Candara"/>
              </a:rPr>
              <a:t>This is sister with her doll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en-US" sz="3200" spc="-1" strike="noStrike">
                <a:solidFill>
                  <a:srgbClr val="073e87"/>
                </a:solidFill>
                <a:latin typeface="Candara"/>
              </a:rPr>
              <a:t>This is baby, sweet and small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en-US" sz="3200" spc="-1" strike="noStrike">
                <a:solidFill>
                  <a:srgbClr val="073e87"/>
                </a:solidFill>
                <a:latin typeface="Candara"/>
              </a:rPr>
              <a:t>These are family, one and all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ndara"/>
              </a:rPr>
              <a:t>Let’s sing a song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556272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ndara"/>
              </a:rPr>
              <a:t>Speaking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609480" y="213372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31" name="Picture 2" descr=""/>
          <p:cNvPicPr/>
          <p:nvPr/>
        </p:nvPicPr>
        <p:blipFill>
          <a:blip r:embed="rId1"/>
          <a:stretch/>
        </p:blipFill>
        <p:spPr>
          <a:xfrm>
            <a:off x="992160" y="1357200"/>
            <a:ext cx="662796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4419720" y="3200400"/>
            <a:ext cx="4221000" cy="312408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6436b"/>
                </a:solidFill>
                <a:latin typeface="Aharoni"/>
                <a:ea typeface="Aharoni"/>
              </a:rPr>
              <a:t>Don’t forget to be </a:t>
            </a:r>
            <a:br>
              <a:rPr sz="4000"/>
            </a:br>
            <a:r>
              <a:rPr b="0" lang="en-US" sz="4000" spc="-1" strike="noStrike">
                <a:solidFill>
                  <a:srgbClr val="06436b"/>
                </a:solidFill>
                <a:latin typeface="Aharoni"/>
                <a:ea typeface="Aharoni"/>
              </a:rPr>
              <a:t>active</a:t>
            </a:r>
            <a:br>
              <a:rPr sz="4000"/>
            </a:br>
            <a:r>
              <a:rPr b="0" lang="en-US" sz="4000" spc="-1" strike="noStrike">
                <a:solidFill>
                  <a:srgbClr val="06436b"/>
                </a:solidFill>
                <a:latin typeface="Aharoni"/>
                <a:ea typeface="Aharoni"/>
              </a:rPr>
              <a:t>polite</a:t>
            </a:r>
            <a:br>
              <a:rPr sz="4000"/>
            </a:br>
            <a:r>
              <a:rPr b="0" lang="en-US" sz="4000" spc="-1" strike="noStrike">
                <a:solidFill>
                  <a:srgbClr val="06436b"/>
                </a:solidFill>
                <a:latin typeface="Aharoni"/>
                <a:ea typeface="Aharoni"/>
              </a:rPr>
              <a:t>attentive</a:t>
            </a:r>
            <a:br>
              <a:rPr sz="4000"/>
            </a:br>
            <a:r>
              <a:rPr b="0" lang="en-US" sz="4000" spc="-1" strike="noStrike">
                <a:solidFill>
                  <a:srgbClr val="06436b"/>
                </a:solidFill>
                <a:latin typeface="Aharoni"/>
                <a:ea typeface="Aharoni"/>
              </a:rPr>
              <a:t>talented</a:t>
            </a:r>
            <a:br>
              <a:rPr sz="4000"/>
            </a:br>
            <a:r>
              <a:rPr b="0" lang="en-US" sz="4000" spc="-1" strike="noStrike">
                <a:solidFill>
                  <a:srgbClr val="06436b"/>
                </a:solidFill>
                <a:latin typeface="Aharoni"/>
                <a:ea typeface="Aharoni"/>
              </a:rPr>
              <a:t>merry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9" name="Picture 5" descr="D:\Мои документы\468711495.jpg"/>
          <p:cNvPicPr/>
          <p:nvPr/>
        </p:nvPicPr>
        <p:blipFill>
          <a:blip r:embed="rId2"/>
          <a:stretch/>
        </p:blipFill>
        <p:spPr>
          <a:xfrm>
            <a:off x="380880" y="1967040"/>
            <a:ext cx="274320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"/>
          <p:cNvPicPr/>
          <p:nvPr/>
        </p:nvPicPr>
        <p:blipFill>
          <a:blip r:embed="rId1"/>
          <a:stretch/>
        </p:blipFill>
        <p:spPr>
          <a:xfrm>
            <a:off x="790560" y="533520"/>
            <a:ext cx="7675560" cy="541008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6436b"/>
                </a:solidFill>
                <a:latin typeface="Candara"/>
              </a:rPr>
              <a:t>Homework </a:t>
            </a:r>
            <a:br>
              <a:rPr sz="4400"/>
            </a:br>
            <a:r>
              <a:rPr b="1" lang="uk-UA" sz="4400" spc="-1" strike="noStrike">
                <a:solidFill>
                  <a:srgbClr val="06436b"/>
                </a:solidFill>
                <a:latin typeface="Candara"/>
              </a:rPr>
              <a:t>РЗ, впр. 1(письм.) с. 27 або </a:t>
            </a:r>
            <a:br>
              <a:rPr sz="4400"/>
            </a:br>
            <a:r>
              <a:rPr b="1" lang="uk-UA" sz="4400" spc="-1" strike="noStrike">
                <a:solidFill>
                  <a:srgbClr val="06436b"/>
                </a:solidFill>
                <a:latin typeface="Candara"/>
              </a:rPr>
              <a:t>впр. 2 (письм.) с. 28</a:t>
            </a:r>
            <a:br>
              <a:rPr sz="4400"/>
            </a:br>
            <a:r>
              <a:rPr b="1" lang="uk-UA" sz="4400" spc="-1" strike="noStrike">
                <a:solidFill>
                  <a:srgbClr val="06436b"/>
                </a:solidFill>
                <a:latin typeface="Candara"/>
              </a:rPr>
              <a:t>повт. лексику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ndara"/>
              </a:rPr>
              <a:t>Did you like today’s lesson?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73e87"/>
                </a:solidFill>
                <a:latin typeface="Candara"/>
              </a:rPr>
              <a:t>Yes, I did.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64508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73e87"/>
                </a:solidFill>
                <a:latin typeface="Candara"/>
              </a:rPr>
              <a:t>No, I didn’t.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5410080" y="3417840"/>
            <a:ext cx="2286000" cy="263844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3" descr=""/>
          <p:cNvPicPr/>
          <p:nvPr/>
        </p:nvPicPr>
        <p:blipFill>
          <a:blip r:embed="rId2"/>
          <a:stretch/>
        </p:blipFill>
        <p:spPr>
          <a:xfrm>
            <a:off x="533520" y="3417840"/>
            <a:ext cx="364788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D:\Мои документы\good_bye_scraps_2.gif"/>
          <p:cNvPicPr/>
          <p:nvPr/>
        </p:nvPicPr>
        <p:blipFill>
          <a:blip r:embed="rId1"/>
          <a:stretch/>
        </p:blipFill>
        <p:spPr>
          <a:xfrm>
            <a:off x="2133720" y="341280"/>
            <a:ext cx="4846680" cy="613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8080" y="762120"/>
            <a:ext cx="7772400" cy="200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haroni"/>
                <a:ea typeface="Aharoni"/>
              </a:rPr>
              <a:t>The family is one of nature's masterpieces. 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Прямоугольник 3"/>
          <p:cNvSpPr/>
          <p:nvPr/>
        </p:nvSpPr>
        <p:spPr>
          <a:xfrm>
            <a:off x="1981080" y="345456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eorge Santay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1"/>
          <a:stretch/>
        </p:blipFill>
        <p:spPr>
          <a:xfrm>
            <a:off x="1143000" y="2840040"/>
            <a:ext cx="281952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1b6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77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haroni"/>
                <a:ea typeface="Aharoni"/>
              </a:rPr>
              <a:t>My family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94" name="Рисунок 1" descr=""/>
          <p:cNvPicPr/>
          <p:nvPr/>
        </p:nvPicPr>
        <p:blipFill>
          <a:blip r:embed="rId1"/>
          <a:stretch/>
        </p:blipFill>
        <p:spPr>
          <a:xfrm>
            <a:off x="2819520" y="2666880"/>
            <a:ext cx="380988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200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73e87"/>
                </a:solidFill>
                <a:latin typeface="Candara"/>
              </a:rPr>
              <a:t>Grandma, brother, sister, teddy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73e87"/>
                </a:solidFill>
                <a:latin typeface="Candara"/>
              </a:rPr>
              <a:t>Mum, grandpa, rubber, dad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73e87"/>
                </a:solidFill>
                <a:latin typeface="Candara"/>
              </a:rPr>
              <a:t>Daddy, school, mummy,  sister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en-US" sz="3600" spc="-1" strike="noStrike">
                <a:solidFill>
                  <a:srgbClr val="073e87"/>
                </a:solidFill>
                <a:latin typeface="Candara"/>
              </a:rPr>
              <a:t>Brother, table, family, grandma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Find the odd one ou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Par_nts                              Unc_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h_l_ren                            A_n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Gra_dpare_ts                   S_ s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omplete the words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0" name="Picture 2" descr=""/>
          <p:cNvPicPr/>
          <p:nvPr/>
        </p:nvPicPr>
        <p:blipFill>
          <a:blip r:embed="rId1"/>
          <a:stretch/>
        </p:blipFill>
        <p:spPr>
          <a:xfrm>
            <a:off x="2514600" y="1066680"/>
            <a:ext cx="4626000" cy="32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Par</a:t>
            </a:r>
            <a:r>
              <a:rPr b="0" lang="en-US" sz="2400" spc="-1" strike="noStrike">
                <a:solidFill>
                  <a:srgbClr val="c00000"/>
                </a:solidFill>
                <a:latin typeface="Candara"/>
              </a:rPr>
              <a:t>e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nts                               Unc</a:t>
            </a:r>
            <a:r>
              <a:rPr b="0" lang="en-US" sz="2400" spc="-1" strike="noStrike">
                <a:solidFill>
                  <a:srgbClr val="c00000"/>
                </a:solidFill>
                <a:latin typeface="Candara"/>
              </a:rPr>
              <a:t>l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h</a:t>
            </a:r>
            <a:r>
              <a:rPr b="0" lang="en-US" sz="2400" spc="-1" strike="noStrike">
                <a:solidFill>
                  <a:srgbClr val="c00000"/>
                </a:solidFill>
                <a:latin typeface="Candara"/>
              </a:rPr>
              <a:t>i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l</a:t>
            </a:r>
            <a:r>
              <a:rPr b="0" lang="en-US" sz="2400" spc="-1" strike="noStrike">
                <a:solidFill>
                  <a:srgbClr val="c00000"/>
                </a:solidFill>
                <a:latin typeface="Candara"/>
              </a:rPr>
              <a:t>d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ren                              A</a:t>
            </a:r>
            <a:r>
              <a:rPr b="0" lang="en-US" sz="2400" spc="-1" strike="noStrike">
                <a:solidFill>
                  <a:srgbClr val="c00000"/>
                </a:solidFill>
                <a:latin typeface="Candara"/>
              </a:rPr>
              <a:t>u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n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Gra</a:t>
            </a:r>
            <a:r>
              <a:rPr b="0" lang="en-US" sz="2400" spc="-1" strike="noStrike">
                <a:solidFill>
                  <a:srgbClr val="c00000"/>
                </a:solidFill>
                <a:latin typeface="Candara"/>
              </a:rPr>
              <a:t>n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dpare</a:t>
            </a:r>
            <a:r>
              <a:rPr b="0" lang="en-US" sz="2400" spc="-1" strike="noStrike">
                <a:solidFill>
                  <a:srgbClr val="c00000"/>
                </a:solidFill>
                <a:latin typeface="Candara"/>
              </a:rPr>
              <a:t>n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s                   S</a:t>
            </a:r>
            <a:r>
              <a:rPr b="0" lang="en-US" sz="2400" spc="-1" strike="noStrike">
                <a:solidFill>
                  <a:srgbClr val="c00000"/>
                </a:solidFill>
                <a:latin typeface="Candara"/>
              </a:rPr>
              <a:t>i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Calibri"/>
              </a:rPr>
              <a:t>Check</a:t>
            </a: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 up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73544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1066680" y="380520"/>
            <a:ext cx="6718320" cy="199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батьки; 2) тато; 3) тітка;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 дочка; 5) дідусь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05" name="Picture 35" descr=""/>
          <p:cNvPicPr/>
          <p:nvPr/>
        </p:nvPicPr>
        <p:blipFill>
          <a:blip r:embed="rId1"/>
          <a:stretch/>
        </p:blipFill>
        <p:spPr>
          <a:xfrm>
            <a:off x="1905120" y="2438280"/>
            <a:ext cx="510516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ЛЯ</cp:lastModifiedBy>
  <dcterms:modified xsi:type="dcterms:W3CDTF">2011-11-22T16:18:27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