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44C-5610-4F2D-8521-2630EF66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EA6-73A0-4F79-BAD4-D2F875A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2C9-4FB8-463F-98A5-084C7E2C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956-C2E1-4F99-911D-E6A5BECF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C7B-ACC6-407F-A35A-68A3358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30F-80C6-4B47-B7FB-BDA8C16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12C-0DD7-425D-B1E7-C4FAA3D7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5A4-CF39-4AA0-8F13-3F4A881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39E-8AB1-484C-9F25-D2E1F30A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423-6BE1-4A8B-923F-BEC49E8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B4D-A7B1-452B-A61E-414840B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801-BA01-4694-B67F-BF214D3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25F1-09F7-46CB-A292-AFC051BBB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Початок академічного красномовства в Україні припадав на 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XVII</a:t>
            </a: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 —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XVIII </a:t>
            </a: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ст. і пов'язаний із діяльністю Києво-Могилянської академії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45068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"Справжнє красномовство - це вміння   сказати все, що треб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і не більше, ніж треба"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(Ф. Ларошфуко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alibri"/>
              </a:rPr>
              <a:t>Домашнє завд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ідготувати доповідь на тем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в’язану з виучуваними предме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(із залученням тез  наукової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уково-популярної літерату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Представники академічного</a:t>
            </a:r>
            <a:br>
              <a:rPr sz="3200"/>
            </a:b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 красномовства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XX</a:t>
            </a: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 ст.</a:t>
            </a:r>
            <a:r>
              <a:rPr b="0" lang="uk-UA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століт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1981080"/>
            <a:ext cx="2057400" cy="3200400"/>
            <a:chOff x="990720" y="1981080"/>
            <a:chExt cx="2057400" cy="3200400"/>
          </a:xfrm>
        </p:grpSpPr>
        <p:pic>
          <p:nvPicPr>
            <p:cNvPr id="4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990720" y="1981080"/>
              <a:ext cx="2057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990720" y="1981080"/>
              <a:ext cx="205740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9324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 І. Вернадсь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2381400" cy="317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8000" y="53334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М. І. Вави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195264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8200" y="5333400"/>
            <a:ext cx="16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Л. Д. Ланда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Жанри академічного красномовств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лекція (вузівська, шкіль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уково-популярна лекц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укова доповід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укове повідомл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науковий огл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5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3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9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33"/>
                </a:solidFill>
                <a:latin typeface="Calibri"/>
              </a:rPr>
              <a:t>Доповіді буваю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58128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990033"/>
                </a:solidFill>
                <a:latin typeface="Comic Sans MS"/>
              </a:rPr>
              <a:t>ділов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666880"/>
            <a:ext cx="3733560" cy="10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990033"/>
                </a:solidFill>
                <a:latin typeface="Comic Sans MS"/>
              </a:rPr>
              <a:t>політичн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038480"/>
            <a:ext cx="3733920" cy="107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990033"/>
                </a:solidFill>
                <a:latin typeface="Comic Sans MS"/>
              </a:rPr>
              <a:t>звітн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3591000" cy="107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990033"/>
                </a:solidFill>
                <a:latin typeface="Comic Sans MS"/>
              </a:rPr>
              <a:t>наукові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Прийоми </a:t>
            </a:r>
            <a:br>
              <a:rPr sz="4000"/>
            </a:br>
            <a:r>
              <a:rPr b="1" lang="uk-UA" sz="4000" spc="-1" strike="noStrike">
                <a:solidFill>
                  <a:srgbClr val="800000"/>
                </a:solidFill>
                <a:latin typeface="Calibri"/>
              </a:rPr>
              <a:t>ораторського мистец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) Прийом  питання-відповід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) Перехід від монологу до діалогу (полемік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) Прийом  створення  проблемної  ситуац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) Прийом новизни інформації, гіпотез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5) Показ  практичної  значимості  інформації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6) Використання гумо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7) Короткий  відступ  від  те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8) Уповільнення  темпу  з  поступовим  пониженням  сили  голо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9) Прийом градації  — наростання змістового та  емоційного значення  слов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7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2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6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16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16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Calibri"/>
              </a:rPr>
              <a:t>Техніка  мов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Дикція                 </a:t>
            </a: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Мишка раз прийшла до кіш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                                 </a:t>
            </a: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Уклонилась кішці в ніж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                                 </a:t>
            </a: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Кішці – сміш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                               </a:t>
            </a:r>
            <a:r>
              <a:rPr b="1" i="1" lang="uk-UA" sz="2800" spc="-1" strike="noStrike">
                <a:solidFill>
                  <a:srgbClr val="800000"/>
                </a:solidFill>
                <a:latin typeface="Calibri"/>
              </a:rPr>
              <a:t>Мишці – нітрі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Те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Темб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Інтонаці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Calibri"/>
              </a:rPr>
              <a:t>Прочитайте. Поясніть зміст порад.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.    Увічливість обеззброює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    Вимовляйте слово \"ви\" голосно, а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\"я\" - пошепки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    У товаристві не намагайтеся переговори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сіх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4.    Хто любить людей - того й люди люблять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.    Якщо ви хочете дістати мед, не перекидай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ули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5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47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63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83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800000"/>
                </a:solidFill>
                <a:latin typeface="Calibri"/>
              </a:rPr>
              <a:t>Робота   в парах:</a:t>
            </a:r>
            <a:br>
              <a:rPr sz="32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Знайдіть і виправте помилки,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що трапляються під час виступ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. Першим ділом треб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.  Ви прави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.  Хочу сказати про зовсім друг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.  Невільно приходить на думку слідуюч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5.  Мова йде про саме важн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6.  Я настоюю на том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7.  Мені кажеться, щ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8.  Скажу ще пару слів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9.  Мій виступ не протирічить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0. Саме основне питанн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1. Заслуговує уваги такий факт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5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5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400" spc="-1" strike="noStrike">
                <a:solidFill>
                  <a:srgbClr val="800000"/>
                </a:solidFill>
                <a:latin typeface="Calibri"/>
              </a:rPr>
              <a:t>Звертанн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Панове... Шановні вчителі та учні… Вельмишановні колеги... Дорогі друзі... Дорогі наші випускники...)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4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800000"/>
                </a:solidFill>
                <a:latin typeface="Calibri"/>
              </a:rPr>
              <a:t>привітання, представлення, висловлення радост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Радий вітати... Щасливий бачити... Дозвольте представитися... Радий нагоді поспілкуватися..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2400" spc="-1" strike="noStrike">
                <a:solidFill>
                  <a:srgbClr val="800000"/>
                </a:solidFill>
                <a:latin typeface="Calibri"/>
              </a:rPr>
              <a:t>вживання займенників І та II особи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(Вам відомо, що... Я зроблю спробу пояснити... Безперечно, вас непокоїть... Я спробую вас заспокоїти... Нас турбує...)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800000"/>
                </a:solidFill>
                <a:latin typeface="Calibri"/>
              </a:rPr>
              <a:t>дієслів у формі І та II особи наказового способ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Міркуймо разом! Спробуймо розібратися! Звернімо увагу... Замислімось... Відразу зауважимо... Скажемо відверто...Конкретизуймо... Відзначте собі... Зверніть увагу... Занотуйте... Виправте, якщо я помиляюсь…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Админ</cp:lastModifiedBy>
  <dcterms:modified xsi:type="dcterms:W3CDTF">2005-12-31T21:34:35Z</dcterms:modified>
  <cp:revision>14</cp:revision>
  <dc:subject/>
  <dc:title>Название презентации</dc:title>
</cp:coreProperties>
</file>