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D99-C9C6-4E3A-BC1F-F82E4617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AF6-5DC4-41AE-B629-5AD3330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C8B-2FFE-4874-9E7D-A7427F53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155-45E0-470A-9DC8-13E105FD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E18-83F9-477D-A8F5-0DE0985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99F-E62B-4A15-8F4D-A0F14932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D6B-EB50-4F3E-AC90-25EB930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97A-56CB-4CF3-94FE-8ED5ACDD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F60-0E63-43EA-B990-DA93CBE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8A9-1684-498C-9053-7C28A83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A94-E6D2-4EFD-BE8F-A160C12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E94-3421-44A5-BD01-5792772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DB4-D372-4386-935B-44ADCFD6A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520" y="609480"/>
            <a:ext cx="4038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22860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800000"/>
                </a:solidFill>
                <a:latin typeface="Arial"/>
              </a:rPr>
              <a:t>Доповідь на тему, пов’язану з предметами, що вивчаються (із залученням наукової, науково-популярної літератури). Прийоми встановлення і збереження контакту з аудитор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9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 к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219320"/>
            <a:ext cx="297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Єрьоменко О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1243080" cy="16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47920" y="5029200"/>
            <a:ext cx="13348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733560" y="8380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..єс, Вільн..юс, б..ювет, духм..яні, Стеф..юк, в..язні, контр..-адмірал, дит..ясел, зобов..язань, св…яткують, пред..явник, р..юкзак, роз..ятрити, В..єтнам, Дем..яненко, цв..яхи, з..єднав, різьб..яр, В..язьма, Мін..юст, кур..йоз, медв..янисті, хом..яки, м..яз, Мурав..йов, в..юн, бр..язкіт, р..юмсати, пів..ящика, м..юзикл, різдв..яною, під..їжджає, зар..яд, р..ясніти, зв..яжеш, М..юнхен, р..яжа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5909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Готуємось до З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800000"/>
                </a:solidFill>
                <a:latin typeface="Arial"/>
              </a:rPr>
              <a:t>Запишіть слова у дві коло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 місці крапок поставили апостро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2) на місці крапок не поставили апостро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800000"/>
                </a:solidFill>
                <a:latin typeface="Arial"/>
              </a:rPr>
              <a:t>Ключ.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З останніх букв прочитаєте висл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33920" y="990720"/>
            <a:ext cx="518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00"/>
                </a:solidFill>
                <a:latin typeface="Arial"/>
              </a:rPr>
              <a:t>Мета:</a:t>
            </a:r>
            <a:r>
              <a:rPr b="1" lang="uk-UA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йомити з особливостями підготовки доповіді, прийомами встановлення й збереження контакту з  аудиторіє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ти інтелектуально-мовленнєві вміння, необхідні для активно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вленнєвої діяль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щеплювати правила етики, інтерес 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вдосконалення, пізнання нового; виховувати  самостійність, повагу до рідної мови, її краси та багат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914400"/>
            <a:ext cx="2286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00"/>
                </a:solidFill>
                <a:latin typeface="Arial"/>
              </a:rPr>
              <a:t>Тип уроку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бінований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вчення нового матеріалу, формування вмінь 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вич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05-12-31T21:34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