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4.png" ContentType="image/png"/>
  <Override PartName="/ppt/media/image29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19440" y="115920"/>
            <a:ext cx="9163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19440" y="115920"/>
            <a:ext cx="9163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93600"/>
            <a:ext cx="916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ДЕТСКИЕ\Цветочный\Det_flower_Slide.jpg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K:\ProPowerPoint\Шаблоны\ДЕТСКИЕ\Цветочный\Det_flower_Slide.jpg"/>
          <p:cNvPicPr/>
          <p:nvPr/>
        </p:nvPicPr>
        <p:blipFill>
          <a:blip r:embed="rId2"/>
          <a:stretch/>
        </p:blipFill>
        <p:spPr>
          <a:xfrm>
            <a:off x="-19080" y="-2700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3300"/>
                </a:solidFill>
                <a:latin typeface="Calibri"/>
              </a:rPr>
              <a:t>Штучні матеріал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9" descr="small_11"/>
          <p:cNvPicPr/>
          <p:nvPr/>
        </p:nvPicPr>
        <p:blipFill>
          <a:blip r:embed="rId1"/>
          <a:srcRect l="23951" t="0" r="24349" b="0"/>
          <a:stretch/>
        </p:blipFill>
        <p:spPr>
          <a:xfrm>
            <a:off x="149400" y="1125360"/>
            <a:ext cx="2145960" cy="2735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316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рчовий пласт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Пластиковий посуд, пляшки та фасувальні матеріали виготовляються з різних полімерів. Ці речовини безпечн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л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легкий еластичний пористий матеріал, який одержал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 синтетичних поліме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2397240" y="1744560"/>
            <a:ext cx="2087280" cy="208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2" name="Picture 12" descr="porolon"/>
          <p:cNvPicPr/>
          <p:nvPr/>
        </p:nvPicPr>
        <p:blipFill>
          <a:blip r:embed="rId3"/>
          <a:stretch/>
        </p:blipFill>
        <p:spPr>
          <a:xfrm>
            <a:off x="1092240" y="4000680"/>
            <a:ext cx="3048120" cy="1876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3300"/>
                </a:solidFill>
                <a:latin typeface="Calibri"/>
              </a:rPr>
              <a:t>Штучні матеріал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486080"/>
            <a:ext cx="40384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п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 високопухке  неткане волокно, що виробляється із 100% поліестерних волок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8703" r="0" b="0"/>
          <a:stretch/>
        </p:blipFill>
        <p:spPr>
          <a:xfrm>
            <a:off x="250920" y="1341360"/>
            <a:ext cx="2376360" cy="217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148360" y="3500280"/>
            <a:ext cx="1912680" cy="244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2771640" y="1341360"/>
            <a:ext cx="1717920" cy="215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8" name="Rectangle 10"/>
          <p:cNvSpPr/>
          <p:nvPr/>
        </p:nvSpPr>
        <p:spPr>
          <a:xfrm>
            <a:off x="539640" y="4005360"/>
            <a:ext cx="417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Ва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хнаста маса слабо переплетених між собою волок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alibri"/>
              </a:rPr>
              <a:t>Зразки виробів </a:t>
            </a:r>
            <a:r>
              <a:rPr b="1" lang="uk-UA" sz="4000" spc="-1" strike="noStrike">
                <a:solidFill>
                  <a:srgbClr val="cc3300"/>
                </a:solidFill>
                <a:latin typeface="Calibri"/>
              </a:rPr>
              <a:t>із пластикових пляш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>
            <a:lum contrast="12000"/>
          </a:blip>
          <a:srcRect l="0" t="0" r="44772" b="0"/>
          <a:stretch/>
        </p:blipFill>
        <p:spPr>
          <a:xfrm>
            <a:off x="5508720" y="3645000"/>
            <a:ext cx="128412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564000" y="1125360"/>
            <a:ext cx="1639800" cy="21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5940360" y="1125360"/>
            <a:ext cx="17337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-4993" b="0"/>
          <a:stretch/>
        </p:blipFill>
        <p:spPr>
          <a:xfrm>
            <a:off x="614520" y="1125360"/>
            <a:ext cx="2228760" cy="21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828720" y="3616200"/>
            <a:ext cx="180648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3492360" y="3645000"/>
            <a:ext cx="1838520" cy="2160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1385280" y="323208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оль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804480" y="32781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Шкату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642080" y="234936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Шкату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356480" y="5799240"/>
            <a:ext cx="7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037400" y="580536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667640" y="5300640"/>
            <a:ext cx="14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7">
            <a:lum contrast="12000"/>
          </a:blip>
          <a:srcRect l="55117" t="0" r="2621" b="0"/>
          <a:stretch/>
        </p:blipFill>
        <p:spPr>
          <a:xfrm>
            <a:off x="6948360" y="3716280"/>
            <a:ext cx="10432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cc3300"/>
                </a:solidFill>
                <a:latin typeface="Calibri"/>
              </a:rPr>
              <a:t>Вироби з поролону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237440" y="1125360"/>
            <a:ext cx="15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rcRect l="0" t="0" r="2430" b="0"/>
          <a:stretch/>
        </p:blipFill>
        <p:spPr>
          <a:xfrm>
            <a:off x="1116000" y="3933720"/>
            <a:ext cx="2376360" cy="1738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 Box 8"/>
          <p:cNvSpPr/>
          <p:nvPr/>
        </p:nvSpPr>
        <p:spPr>
          <a:xfrm>
            <a:off x="1229760" y="32846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Хатинка для к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141440" y="328464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одушки на д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68720" y="331956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Жа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728720" y="5805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й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651640" y="5769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podushki-dekorativnye-krasivye-300x225"/>
          <p:cNvPicPr/>
          <p:nvPr/>
        </p:nvPicPr>
        <p:blipFill>
          <a:blip r:embed="rId3"/>
          <a:stretch/>
        </p:blipFill>
        <p:spPr>
          <a:xfrm>
            <a:off x="3780000" y="1125360"/>
            <a:ext cx="2786040" cy="2089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2" name="Picture 16" descr="budka"/>
          <p:cNvPicPr/>
          <p:nvPr/>
        </p:nvPicPr>
        <p:blipFill>
          <a:blip r:embed="rId4">
            <a:lum contrast="6000"/>
          </a:blip>
          <a:srcRect l="0" t="0" r="-3931" b="0"/>
          <a:stretch/>
        </p:blipFill>
        <p:spPr>
          <a:xfrm>
            <a:off x="1116000" y="1125360"/>
            <a:ext cx="2303640" cy="211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3" name="Picture 18" descr="divan1"/>
          <p:cNvPicPr/>
          <p:nvPr/>
        </p:nvPicPr>
        <p:blipFill>
          <a:blip r:embed="rId5"/>
          <a:stretch/>
        </p:blipFill>
        <p:spPr>
          <a:xfrm>
            <a:off x="4572000" y="3903840"/>
            <a:ext cx="3313080" cy="1914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cc3300"/>
                </a:solidFill>
                <a:latin typeface="Calibri"/>
              </a:rPr>
              <a:t>Зразки виробів  із синтепону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lum contrast="6000"/>
          </a:blip>
          <a:srcRect l="0" t="0" r="-2400" b="17208"/>
          <a:stretch/>
        </p:blipFill>
        <p:spPr>
          <a:xfrm>
            <a:off x="2770200" y="3825720"/>
            <a:ext cx="3025800" cy="22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357960" y="11685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441360" y="414972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увенір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ален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733800" y="342900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’які ігр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3619440" y="34290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о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img_20150124_135002_30"/>
          <p:cNvPicPr/>
          <p:nvPr/>
        </p:nvPicPr>
        <p:blipFill>
          <a:blip r:embed="rId3">
            <a:lum contrast="12000"/>
          </a:blip>
          <a:srcRect l="0" t="4395" r="19823" b="7682"/>
          <a:stretch/>
        </p:blipFill>
        <p:spPr>
          <a:xfrm>
            <a:off x="179280" y="1052640"/>
            <a:ext cx="2165400" cy="316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podushka-kot-bayun-1320"/>
          <p:cNvPicPr/>
          <p:nvPr/>
        </p:nvPicPr>
        <p:blipFill>
          <a:blip r:embed="rId4">
            <a:lum bright="6000"/>
          </a:blip>
          <a:srcRect l="6054" t="0" r="0" b="3642"/>
          <a:stretch/>
        </p:blipFill>
        <p:spPr>
          <a:xfrm>
            <a:off x="2770200" y="1125360"/>
            <a:ext cx="2951280" cy="2297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5">
            <a:lum contrast="12000"/>
          </a:blip>
          <a:srcRect l="0" t="0" r="0" b="2649"/>
          <a:stretch/>
        </p:blipFill>
        <p:spPr>
          <a:xfrm>
            <a:off x="6359400" y="3801960"/>
            <a:ext cx="2460600" cy="224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6">
            <a:lum contrast="18000"/>
          </a:blip>
          <a:srcRect l="0" t="0" r="-13100" b="0"/>
          <a:stretch/>
        </p:blipFill>
        <p:spPr>
          <a:xfrm>
            <a:off x="826920" y="4941720"/>
            <a:ext cx="1081080" cy="1059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9440" y="115920"/>
            <a:ext cx="9163080" cy="719280"/>
          </a:xfrm>
          <a:prstGeom prst="rect">
            <a:avLst/>
          </a:prstGeom>
          <a:solidFill>
            <a:srgbClr val="ffffff">
              <a:alpha val="86000"/>
            </a:srgbClr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cc3300"/>
                </a:solidFill>
                <a:latin typeface="Calibri"/>
              </a:rPr>
              <a:t>Зразки виробів  із ват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>
            <a:lum contrast="12000"/>
          </a:blip>
          <a:srcRect l="0" t="0" r="-6431" b="0"/>
          <a:stretch/>
        </p:blipFill>
        <p:spPr>
          <a:xfrm>
            <a:off x="611280" y="1587600"/>
            <a:ext cx="2162160" cy="155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1513080" cy="1095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>
            <a:lum contrast="30000"/>
          </a:blip>
          <a:srcRect l="0" t="0" r="-2979" b="0"/>
          <a:stretch/>
        </p:blipFill>
        <p:spPr>
          <a:xfrm>
            <a:off x="900000" y="4292640"/>
            <a:ext cx="1656000" cy="1490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971280" y="31417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Баране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845400" y="29973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нігов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277800" y="551664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Аплікації із 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rGxlVfhPCLs"/>
          <p:cNvPicPr/>
          <p:nvPr/>
        </p:nvPicPr>
        <p:blipFill>
          <a:blip r:embed="rId4">
            <a:lum contrast="18000"/>
          </a:blip>
          <a:srcRect l="-2301" t="0" r="0" b="0"/>
          <a:stretch/>
        </p:blipFill>
        <p:spPr>
          <a:xfrm>
            <a:off x="6156360" y="3789360"/>
            <a:ext cx="2593800" cy="186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281120133422"/>
          <p:cNvPicPr/>
          <p:nvPr/>
        </p:nvPicPr>
        <p:blipFill>
          <a:blip r:embed="rId5">
            <a:lum contrast="6000"/>
          </a:blip>
          <a:srcRect l="0" t="5181" r="0" b="0"/>
          <a:stretch/>
        </p:blipFill>
        <p:spPr>
          <a:xfrm>
            <a:off x="2987640" y="1341360"/>
            <a:ext cx="2827440" cy="4033800"/>
          </a:xfrm>
          <a:prstGeom prst="rect">
            <a:avLst/>
          </a:prstGeom>
          <a:ln w="0">
            <a:noFill/>
          </a:ln>
        </p:spPr>
      </p:pic>
      <p:sp>
        <p:nvSpPr>
          <p:cNvPr id="133" name="Line 21"/>
          <p:cNvSpPr/>
          <p:nvPr/>
        </p:nvSpPr>
        <p:spPr>
          <a:xfrm flipH="1">
            <a:off x="284292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550872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 flipV="1">
            <a:off x="414036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49:46Z</dcterms:created>
  <dc:creator>   </dc:creator>
  <dc:description/>
  <dc:language>en-US</dc:language>
  <cp:lastModifiedBy>RePack by Diakov</cp:lastModifiedBy>
  <dcterms:modified xsi:type="dcterms:W3CDTF">2016-11-03T16:22:46Z</dcterms:modified>
  <cp:revision>19</cp:revision>
  <dc:subject/>
  <dc:title>Виготовлення штучних квітів об'ємної форми</dc:title>
</cp:coreProperties>
</file>