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F9B-F792-4ED9-B584-C6CA011A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303-2C03-418F-9ECA-F2C2E47D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950-1FBF-4892-8428-F4D4B236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29B-3327-4E20-A3FF-D8EFA209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EAF-8AB2-44C1-9F44-95C3B476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279-4C1A-4066-8B1E-441B672E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7BF-A5E0-4E99-8874-DD3331BD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B54-E6F1-4A54-AF1C-5668E149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045-BEF9-4B1B-A3C1-9F7F9B56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17A-3E89-4A00-B425-89763F0F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333-D4A3-4D21-AA84-06DE5C9A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B5E-4A73-423C-B6F8-B0B1536E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9ED7-D4F1-4760-A8D9-D5F13EFD8DF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870600" cy="41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hule. Es gibt Probleme…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hool probl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4" descr="MCj04303680000[1]"/>
          <p:cNvPicPr/>
          <p:nvPr/>
        </p:nvPicPr>
        <p:blipFill>
          <a:blip r:embed="rId1"/>
          <a:stretch/>
        </p:blipFill>
        <p:spPr>
          <a:xfrm>
            <a:off x="6804000" y="4653000"/>
            <a:ext cx="1803600" cy="1778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Cj03981490000[1]"/>
          <p:cNvPicPr/>
          <p:nvPr/>
        </p:nvPicPr>
        <p:blipFill>
          <a:blip r:embed="rId2"/>
          <a:stretch/>
        </p:blipFill>
        <p:spPr>
          <a:xfrm>
            <a:off x="3635280" y="2060640"/>
            <a:ext cx="1538280" cy="1805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Cj03986290000[1]"/>
          <p:cNvPicPr/>
          <p:nvPr/>
        </p:nvPicPr>
        <p:blipFill>
          <a:blip r:embed="rId3"/>
          <a:stretch/>
        </p:blipFill>
        <p:spPr>
          <a:xfrm>
            <a:off x="324000" y="404640"/>
            <a:ext cx="1836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0e4fbfa93cdc"/>
          <p:cNvPicPr/>
          <p:nvPr/>
        </p:nvPicPr>
        <p:blipFill>
          <a:blip r:embed="rId1"/>
          <a:stretch/>
        </p:blipFill>
        <p:spPr>
          <a:xfrm>
            <a:off x="1835280" y="189000"/>
            <a:ext cx="5905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Содержимое 3" descr=""/>
          <p:cNvPicPr/>
          <p:nvPr/>
        </p:nvPicPr>
        <p:blipFill>
          <a:blip r:embed="rId1"/>
          <a:stretch/>
        </p:blipFill>
        <p:spPr>
          <a:xfrm>
            <a:off x="685800" y="428760"/>
            <a:ext cx="7696080" cy="50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Содержимое 3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7810200" cy="50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Содержимое 3" descr=""/>
          <p:cNvPicPr/>
          <p:nvPr/>
        </p:nvPicPr>
        <p:blipFill>
          <a:blip r:embed="rId1"/>
          <a:stretch/>
        </p:blipFill>
        <p:spPr>
          <a:xfrm>
            <a:off x="685800" y="642960"/>
            <a:ext cx="7696080" cy="484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3" descr=""/>
          <p:cNvPicPr/>
          <p:nvPr/>
        </p:nvPicPr>
        <p:blipFill>
          <a:blip r:embed="rId1"/>
          <a:stretch/>
        </p:blipFill>
        <p:spPr>
          <a:xfrm>
            <a:off x="685800" y="571680"/>
            <a:ext cx="7696080" cy="491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4">
            <a:hlinkClick r:id="" action="ppaction://hlinkshowjump?jump=previousslide"/>
          </p:cNvPr>
          <p:cNvSpPr/>
          <p:nvPr/>
        </p:nvSpPr>
        <p:spPr>
          <a:xfrm>
            <a:off x="6804000" y="5734080"/>
            <a:ext cx="1871640" cy="719280"/>
          </a:xfrm>
          <a:custGeom>
            <a:avLst/>
            <a:gdLst>
              <a:gd name="textAreaLeft" fmla="*/ 46440 w 1871640"/>
              <a:gd name="textAreaRight" fmla="*/ 1825200 w 1871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56188" h="21600">
                <a:moveTo>
                  <a:pt x="0" y="0"/>
                </a:moveTo>
                <a:lnTo>
                  <a:pt x="56188" y="0"/>
                </a:lnTo>
                <a:lnTo>
                  <a:pt x="56188" y="21600"/>
                </a:lnTo>
                <a:lnTo>
                  <a:pt x="0" y="21600"/>
                </a:lnTo>
                <a:close/>
              </a:path>
              <a:path fill="lightenLess" w="56188" h="21600">
                <a:moveTo>
                  <a:pt x="0" y="0"/>
                </a:moveTo>
                <a:lnTo>
                  <a:pt x="56188" y="0"/>
                </a:lnTo>
                <a:lnTo>
                  <a:pt x="54788" y="1400"/>
                </a:lnTo>
                <a:lnTo>
                  <a:pt x="1400" y="1400"/>
                </a:lnTo>
                <a:close/>
              </a:path>
              <a:path fill="darken" w="56188" h="21600">
                <a:moveTo>
                  <a:pt x="56188" y="0"/>
                </a:moveTo>
                <a:lnTo>
                  <a:pt x="56188" y="21600"/>
                </a:lnTo>
                <a:lnTo>
                  <a:pt x="54788" y="20200"/>
                </a:lnTo>
                <a:lnTo>
                  <a:pt x="54788" y="1400"/>
                </a:lnTo>
                <a:close/>
              </a:path>
              <a:path fill="darkenLess" w="56188" h="21600">
                <a:moveTo>
                  <a:pt x="56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88" y="20200"/>
                </a:lnTo>
                <a:close/>
              </a:path>
              <a:path fill="lighten" w="56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88" h="21600">
                <a:moveTo>
                  <a:pt x="21088" y="10800"/>
                </a:moveTo>
                <a:lnTo>
                  <a:pt x="35101" y="3794"/>
                </a:lnTo>
                <a:lnTo>
                  <a:pt x="3510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5" descr="MCj03981290000[1]"/>
          <p:cNvPicPr/>
          <p:nvPr/>
        </p:nvPicPr>
        <p:blipFill>
          <a:blip r:embed="rId1"/>
          <a:stretch/>
        </p:blipFill>
        <p:spPr>
          <a:xfrm>
            <a:off x="971640" y="2637000"/>
            <a:ext cx="1677960" cy="1812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MCj03981310000[1]"/>
          <p:cNvPicPr/>
          <p:nvPr/>
        </p:nvPicPr>
        <p:blipFill>
          <a:blip r:embed="rId2"/>
          <a:stretch/>
        </p:blipFill>
        <p:spPr>
          <a:xfrm>
            <a:off x="3924360" y="333360"/>
            <a:ext cx="1295280" cy="183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MCj03975040000[1]"/>
          <p:cNvPicPr/>
          <p:nvPr/>
        </p:nvPicPr>
        <p:blipFill>
          <a:blip r:embed="rId3"/>
          <a:stretch/>
        </p:blipFill>
        <p:spPr>
          <a:xfrm>
            <a:off x="6443640" y="3357720"/>
            <a:ext cx="182556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38"/>
          <p:cNvGrpSpPr/>
          <p:nvPr/>
        </p:nvGrpSpPr>
        <p:grpSpPr>
          <a:xfrm>
            <a:off x="3059280" y="2565360"/>
            <a:ext cx="3457440" cy="1584360"/>
            <a:chOff x="3059280" y="2565360"/>
            <a:chExt cx="3457440" cy="1584360"/>
          </a:xfrm>
        </p:grpSpPr>
        <p:sp>
          <p:nvSpPr>
            <p:cNvPr id="130" name="Oval 4"/>
            <p:cNvSpPr/>
            <p:nvPr/>
          </p:nvSpPr>
          <p:spPr>
            <a:xfrm>
              <a:off x="3059280" y="2565360"/>
              <a:ext cx="3457440" cy="1584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Text Box 5"/>
            <p:cNvSpPr/>
            <p:nvPr/>
          </p:nvSpPr>
          <p:spPr>
            <a:xfrm>
              <a:off x="4859280" y="3068640"/>
              <a:ext cx="1297080" cy="947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Schul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Text Box 6"/>
            <p:cNvSpPr/>
            <p:nvPr/>
          </p:nvSpPr>
          <p:spPr>
            <a:xfrm>
              <a:off x="3203640" y="2997360"/>
              <a:ext cx="143964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200"/>
                  </a:solidFill>
                  <a:latin typeface="Comic Sans MS"/>
                </a:rPr>
                <a:t>School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 flipH="1">
              <a:off x="4356000" y="2565360"/>
              <a:ext cx="720720" cy="15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4" name="Line 9"/>
          <p:cNvSpPr/>
          <p:nvPr/>
        </p:nvSpPr>
        <p:spPr>
          <a:xfrm flipV="1">
            <a:off x="5364000" y="1483920"/>
            <a:ext cx="503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10"/>
          <p:cNvSpPr/>
          <p:nvPr/>
        </p:nvSpPr>
        <p:spPr>
          <a:xfrm flipV="1">
            <a:off x="5867280" y="234936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Line 11"/>
          <p:cNvSpPr/>
          <p:nvPr/>
        </p:nvSpPr>
        <p:spPr>
          <a:xfrm flipV="1">
            <a:off x="6516720" y="2997360"/>
            <a:ext cx="934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6156360" y="3789360"/>
            <a:ext cx="9367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5435640" y="407664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5076720" y="4076640"/>
            <a:ext cx="2872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15"/>
          <p:cNvSpPr/>
          <p:nvPr/>
        </p:nvSpPr>
        <p:spPr>
          <a:xfrm flipH="1">
            <a:off x="2195640" y="3933720"/>
            <a:ext cx="1512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1835280" y="3573360"/>
            <a:ext cx="129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17"/>
          <p:cNvSpPr/>
          <p:nvPr/>
        </p:nvSpPr>
        <p:spPr>
          <a:xfrm flipH="1" flipV="1">
            <a:off x="1547280" y="2708280"/>
            <a:ext cx="1584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8"/>
          <p:cNvSpPr/>
          <p:nvPr/>
        </p:nvSpPr>
        <p:spPr>
          <a:xfrm flipH="1" flipV="1">
            <a:off x="2627280" y="198900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9"/>
          <p:cNvSpPr/>
          <p:nvPr/>
        </p:nvSpPr>
        <p:spPr>
          <a:xfrm flipH="1" flipV="1">
            <a:off x="3564000" y="1196640"/>
            <a:ext cx="720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Line 20"/>
          <p:cNvSpPr/>
          <p:nvPr/>
        </p:nvSpPr>
        <p:spPr>
          <a:xfrm flipH="1" flipV="1">
            <a:off x="4571640" y="1052640"/>
            <a:ext cx="14436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5580000" y="11905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undenpla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6372360" y="206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ehrer und Schule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6804000" y="270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chulfache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7020000" y="364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ufung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6012000" y="4869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rm in den Paus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4859280" y="5589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usaufgab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4067280" y="6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udying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2195640" y="9079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1547640" y="1628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acher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468360" y="242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udent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468360" y="3429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nowledg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1042920" y="429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ubject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34"/>
          <p:cNvSpPr/>
          <p:nvPr/>
        </p:nvSpPr>
        <p:spPr>
          <a:xfrm flipH="1">
            <a:off x="2410920" y="4005360"/>
            <a:ext cx="1513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1547640" y="5084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assmate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241128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ade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37"/>
          <p:cNvSpPr/>
          <p:nvPr/>
        </p:nvSpPr>
        <p:spPr>
          <a:xfrm flipH="1">
            <a:off x="3059280" y="4005360"/>
            <a:ext cx="1008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39"/>
          <p:cNvSpPr/>
          <p:nvPr/>
        </p:nvSpPr>
        <p:spPr>
          <a:xfrm flipH="1">
            <a:off x="3995640" y="4076640"/>
            <a:ext cx="216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40"/>
          <p:cNvSpPr/>
          <p:nvPr/>
        </p:nvSpPr>
        <p:spPr>
          <a:xfrm>
            <a:off x="3492360" y="544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eak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4608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ulproblem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98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ess in der Schule wegen der schlechen Not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berfulten Klass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lechte Kontakte mit den Mitschulern und Lehr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gweile Stun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ritare und ungerechte Lehr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u viel Hausaufgab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MCj03975260000[1]"/>
          <p:cNvPicPr/>
          <p:nvPr/>
        </p:nvPicPr>
        <p:blipFill>
          <a:blip r:embed="rId1"/>
          <a:stretch/>
        </p:blipFill>
        <p:spPr>
          <a:xfrm>
            <a:off x="6659640" y="4653000"/>
            <a:ext cx="18334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58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ool problems of Brita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5640" y="1125000"/>
            <a:ext cx="75582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ad discipline at the lesso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imitive programmes at different school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plicated programmes at public school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ully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lot of students in state school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igh cost of education at public school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rict teachers and lazy student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ck of respect to each oth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lot of homewor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ck of motiv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oring teachers and subjec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MCj03981550000[1]"/>
          <p:cNvPicPr/>
          <p:nvPr/>
        </p:nvPicPr>
        <p:blipFill>
          <a:blip r:embed="rId1"/>
          <a:stretch/>
        </p:blipFill>
        <p:spPr>
          <a:xfrm>
            <a:off x="6877080" y="4508640"/>
            <a:ext cx="15685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mbcn258l"/>
          <p:cNvPicPr/>
          <p:nvPr/>
        </p:nvPicPr>
        <p:blipFill>
          <a:blip r:embed="rId1"/>
          <a:stretch/>
        </p:blipFill>
        <p:spPr>
          <a:xfrm>
            <a:off x="1752480" y="53352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jhan1194l"/>
          <p:cNvPicPr/>
          <p:nvPr/>
        </p:nvPicPr>
        <p:blipFill>
          <a:blip r:embed="rId1"/>
          <a:stretch/>
        </p:blipFill>
        <p:spPr>
          <a:xfrm>
            <a:off x="1295280" y="533520"/>
            <a:ext cx="629280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mmi0222l"/>
          <p:cNvPicPr/>
          <p:nvPr/>
        </p:nvPicPr>
        <p:blipFill>
          <a:blip r:embed="rId1"/>
          <a:stretch/>
        </p:blipFill>
        <p:spPr>
          <a:xfrm>
            <a:off x="2057400" y="228600"/>
            <a:ext cx="52974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rman7274l"/>
          <p:cNvPicPr/>
          <p:nvPr/>
        </p:nvPicPr>
        <p:blipFill>
          <a:blip r:embed="rId1"/>
          <a:stretch/>
        </p:blipFill>
        <p:spPr>
          <a:xfrm>
            <a:off x="1752480" y="533520"/>
            <a:ext cx="5869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10920" y="3716280"/>
            <a:ext cx="288108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Zu viel Hausaufgab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716360" y="5589720"/>
            <a:ext cx="359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oring teachers and subjects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611280" y="112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berfulte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Klass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611280" y="1557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chlechte Kontakte mit den Mitschulern und Lehrern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611280" y="242100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ngweile Stunden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611280" y="2852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utoritare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ungerechte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hrer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nd faule Schuler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716360" y="326880"/>
            <a:ext cx="35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ad discipline at lessons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716360" y="907920"/>
            <a:ext cx="395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imitive programmes at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fferent schools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716360" y="1479600"/>
            <a:ext cx="395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mplicated programmes at public schools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4716360" y="206064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ullying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4716360" y="2416320"/>
            <a:ext cx="352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 lot of students in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ate schools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716360" y="2924280"/>
            <a:ext cx="38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igh cost of education at public schools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4716360" y="349560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ict teachers and lazy students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4716360" y="417204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ck of respect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4716360" y="460548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 lot of homework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4716360" y="510840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0.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ck of motivation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611280" y="299880"/>
            <a:ext cx="37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ess in der Schule wegen der schlechen Noten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2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2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800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800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13:02Z</dcterms:created>
  <dc:creator>Преподаватель</dc:creator>
  <dc:description/>
  <dc:language>en-US</dc:language>
  <cp:lastModifiedBy>12345</cp:lastModifiedBy>
  <dcterms:modified xsi:type="dcterms:W3CDTF">2016-11-22T18:37:44Z</dcterms:modified>
  <cp:revision>27</cp:revision>
  <dc:subject/>
  <dc:title>Schule. Es gibt Problems…   School problems.</dc:title>
</cp:coreProperties>
</file>