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9A4-4D4A-4713-BC66-A7C5C52C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730-2F61-4000-A315-79FD800B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4BF-026F-4952-8E29-5348FBBB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B0A-D430-4992-B75C-B3B58CD6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2F6-AD60-4B47-99D5-8B2B6718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841-B499-402F-8AF0-B521AA14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FDD-9BED-4C48-B7EC-F7D537FB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6DC-316D-4B7E-8A69-0BDC6FD9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651-D060-42DC-B29F-A05E28C0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415-C83E-4381-8285-0AEDDF9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118-3EBC-4802-865A-EB2AD15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2ED-FAF8-4226-B255-13589A1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rkiz de Sad scrip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rkiz de Sad scrip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DB35-2FD6-476E-98E7-D67F3814C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rkiz de Sad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8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диддл сыр"/>
          <p:cNvPicPr/>
          <p:nvPr/>
        </p:nvPicPr>
        <p:blipFill>
          <a:blip r:embed="rId1"/>
          <a:stretch/>
        </p:blipFill>
        <p:spPr>
          <a:xfrm>
            <a:off x="0" y="584820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фон1"/>
          <p:cNvPicPr/>
          <p:nvPr/>
        </p:nvPicPr>
        <p:blipFill>
          <a:blip r:embed="rId2"/>
          <a:stretch/>
        </p:blipFill>
        <p:spPr>
          <a:xfrm>
            <a:off x="2268360" y="0"/>
            <a:ext cx="53532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диддл сыр"/>
          <p:cNvPicPr/>
          <p:nvPr/>
        </p:nvPicPr>
        <p:blipFill>
          <a:blip r:embed="rId3"/>
          <a:stretch/>
        </p:blipFill>
        <p:spPr>
          <a:xfrm>
            <a:off x="0" y="458136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диддл сыр"/>
          <p:cNvPicPr/>
          <p:nvPr/>
        </p:nvPicPr>
        <p:blipFill>
          <a:blip r:embed="rId4"/>
          <a:stretch/>
        </p:blipFill>
        <p:spPr>
          <a:xfrm>
            <a:off x="0" y="342900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диддл сыр"/>
          <p:cNvPicPr/>
          <p:nvPr/>
        </p:nvPicPr>
        <p:blipFill>
          <a:blip r:embed="rId5"/>
          <a:stretch/>
        </p:blipFill>
        <p:spPr>
          <a:xfrm>
            <a:off x="0" y="227484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диддл сыр"/>
          <p:cNvPicPr/>
          <p:nvPr/>
        </p:nvPicPr>
        <p:blipFill>
          <a:blip r:embed="rId6"/>
          <a:stretch/>
        </p:blipFill>
        <p:spPr>
          <a:xfrm>
            <a:off x="0" y="112392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диддл сыр"/>
          <p:cNvPicPr/>
          <p:nvPr/>
        </p:nvPicPr>
        <p:blipFill>
          <a:blip r:embed="rId7"/>
          <a:stretch/>
        </p:blipFill>
        <p:spPr>
          <a:xfrm>
            <a:off x="0" y="-27000"/>
            <a:ext cx="866880" cy="1009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2484360" y="260280"/>
            <a:ext cx="46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99"/>
                </a:solidFill>
                <a:latin typeface="Vladimir Script"/>
              </a:rPr>
              <a:t>Правила </a:t>
            </a:r>
            <a:endParaRPr b="0" lang="en-US" sz="6000" spc="-1" strike="noStrike">
              <a:solidFill>
                <a:srgbClr val="000000"/>
              </a:solidFill>
              <a:latin typeface="Markiz de Sad scrip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99"/>
                </a:solidFill>
                <a:latin typeface="Vladimir Script"/>
              </a:rPr>
              <a:t>поведінки </a:t>
            </a:r>
            <a:endParaRPr b="0" lang="en-US" sz="6000" spc="-1" strike="noStrike">
              <a:solidFill>
                <a:srgbClr val="000000"/>
              </a:solidFill>
              <a:latin typeface="Markiz de Sad scrip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99"/>
                </a:solidFill>
                <a:latin typeface="Vladimir Script"/>
              </a:rPr>
              <a:t>в школі</a:t>
            </a:r>
            <a:endParaRPr b="0" lang="en-US" sz="6000" spc="-1" strike="noStrike">
              <a:solidFill>
                <a:srgbClr val="000000"/>
              </a:solidFill>
              <a:latin typeface="Markiz de Sad script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Результат пошуку зображень за запитом &quot;поведінка у школі&quot;"/>
          <p:cNvPicPr/>
          <p:nvPr/>
        </p:nvPicPr>
        <p:blipFill>
          <a:blip r:embed="rId1"/>
          <a:stretch/>
        </p:blipFill>
        <p:spPr>
          <a:xfrm>
            <a:off x="0" y="0"/>
            <a:ext cx="4211640" cy="3159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284720" y="25992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Ці правила, мій друг, пр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Виконуй їх і у жит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Ніколи вже не доведе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Казати: “Вибач. Не хо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 </a:t>
            </a: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тебе штовхнути, обізв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чи за косички потяга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чи з ніг звалити, вибить з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Я ненавмисне. Ти ж мій друг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І скільки б слів ти не сказ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Ти шкоду другові завд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Чи вибачить твій друг т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Коли цей біль образ м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Тому прошу вас, любі ді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Щоб у безпеці в школі ж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Дотримуйтеся неух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0021"/>
                </a:solidFill>
                <a:latin typeface="Bookman Old Style"/>
              </a:rPr>
              <a:t>Безпечних правил поведі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Результат пошуку зображень за запитом &quot;gif вибач мені&quot;"/>
          <p:cNvPicPr/>
          <p:nvPr/>
        </p:nvPicPr>
        <p:blipFill>
          <a:blip r:embed="rId2"/>
          <a:stretch/>
        </p:blipFill>
        <p:spPr>
          <a:xfrm>
            <a:off x="0" y="0"/>
            <a:ext cx="8748720" cy="2414520"/>
          </a:xfrm>
          <a:prstGeom prst="rect">
            <a:avLst/>
          </a:prstGeom>
          <a:ln w="0">
            <a:noFill/>
          </a:ln>
        </p:spPr>
      </p:pic>
      <p:pic>
        <p:nvPicPr>
          <p:cNvPr id="75" name="Заголовок 1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841824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Результат пошуку зображень за запитом &quot;шаблон для презентации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66"/>
                </a:solidFill>
                <a:latin typeface="Bookman Old Style"/>
              </a:rPr>
              <a:t>У презентації використано власні вірші автора презентації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55640" y="2924280"/>
            <a:ext cx="78487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Bookman Old Style"/>
              </a:rPr>
              <a:t>Піскун Ольги Леоніді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Bookman Old Style"/>
              </a:rPr>
              <a:t>Ілюстративний</a:t>
            </a:r>
            <a:r>
              <a:rPr b="1" i="1" lang="uk-UA" sz="4400" spc="-1" strike="noStrike">
                <a:solidFill>
                  <a:srgbClr val="000066"/>
                </a:solidFill>
                <a:latin typeface="Bookman Old Style"/>
              </a:rPr>
              <a:t> матеріал з Інтернет ресурс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Результат пошуку зображень за запитом &quot;скачати шаблони презентацій у школі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5832720" cy="666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Вихованій дитинц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Не слід припускатися поми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у своїй поведінц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А щоб їх не допуск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Треба правила всі зн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Як поводитися чем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Щоб дружити з тобою бу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приєм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Як дружити чес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Щоб біди не стал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Century Schoolbook"/>
              </a:rPr>
              <a:t>Через необереж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2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35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8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65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85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Результат пошуку зображень за запитом &quot;скачати шаблони презентацій у школі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124000" y="188640"/>
            <a:ext cx="7020000" cy="666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9900"/>
                </a:solidFill>
                <a:latin typeface="Bookman Old Style"/>
              </a:rPr>
              <a:t>Сьогодні, друже, ти пов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9900"/>
                </a:solidFill>
                <a:latin typeface="Bookman Old Style"/>
              </a:rPr>
              <a:t>Поведінки правила і друж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9900"/>
                </a:solidFill>
                <a:latin typeface="Bookman Old Style"/>
              </a:rPr>
              <a:t>Що не знав, запам'ят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9900"/>
                </a:solidFill>
                <a:latin typeface="Bookman Old Style"/>
              </a:rPr>
              <a:t>І всім друзям переда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9900"/>
                </a:solidFill>
                <a:latin typeface="Bookman Old Style"/>
              </a:rPr>
              <a:t>Щоб не сталося бі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9900"/>
                </a:solidFill>
                <a:latin typeface="Bookman Old Style"/>
              </a:rPr>
              <a:t>Безпечно ти себе в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Результат пошуку зображень за запитом &quot;безпека у школі&quot;"/>
          <p:cNvPicPr/>
          <p:nvPr/>
        </p:nvPicPr>
        <p:blipFill>
          <a:blip r:embed="rId2"/>
          <a:stretch/>
        </p:blipFill>
        <p:spPr>
          <a:xfrm>
            <a:off x="4572000" y="4149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Результат пошуку зображень за запитом &quot;скачати шаблони презентацій у школі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95280" y="0"/>
            <a:ext cx="694836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Bookman Old Style"/>
              </a:rPr>
              <a:t>Прийшов до школи, не бар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Bookman Old Style"/>
              </a:rPr>
              <a:t>Мерщій до класу піднім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Bookman Old Style"/>
              </a:rPr>
              <a:t>Ти не біжи, а йди спокій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Bookman Old Style"/>
              </a:rPr>
              <a:t>Під ноги теж дивись постій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Bookman Old Style"/>
              </a:rPr>
              <a:t>І </a:t>
            </a: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ґ</a:t>
            </a:r>
            <a:r>
              <a:rPr b="1" i="1" lang="uk-UA" sz="2800" spc="-1" strike="noStrike">
                <a:solidFill>
                  <a:srgbClr val="990000"/>
                </a:solidFill>
                <a:latin typeface="Bookman Old Style"/>
              </a:rPr>
              <a:t>ав в дорозі не ло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Тоді не станеться бі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Результат пошуку зображень за запитом &quot;безпечна поведінка у школі&quot;"/>
          <p:cNvPicPr/>
          <p:nvPr/>
        </p:nvPicPr>
        <p:blipFill>
          <a:blip r:embed="rId2"/>
          <a:stretch/>
        </p:blipFill>
        <p:spPr>
          <a:xfrm>
            <a:off x="6156360" y="34290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Результат пошуку зображень за запитом &quot;поведінка у школі&quot;"/>
          <p:cNvPicPr/>
          <p:nvPr/>
        </p:nvPicPr>
        <p:blipFill>
          <a:blip r:embed="rId3"/>
          <a:stretch/>
        </p:blipFill>
        <p:spPr>
          <a:xfrm>
            <a:off x="2771640" y="3933720"/>
            <a:ext cx="1895760" cy="2409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Результат пошуку зображень за запитом &quot;скачати шаблони презентацій у школі&quot;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88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6732720" cy="6669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Bookman Old Style"/>
              </a:rPr>
              <a:t>Ти на перервах не гас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Bookman Old Style"/>
              </a:rPr>
              <a:t>Дівчат за коси не тяг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Bookman Old Style"/>
              </a:rPr>
              <a:t>А з другом поспілку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Bookman Old Style"/>
              </a:rPr>
              <a:t>І до уроку приготу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00"/>
                </a:solidFill>
                <a:latin typeface="Bookman Old Style"/>
              </a:rPr>
              <a:t>Ти безлад в класі не ч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00"/>
                </a:solidFill>
                <a:latin typeface="Bookman Old Style"/>
              </a:rPr>
              <a:t>І не станеться бі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Результат пошуку зображень за запитом &quot;поведінка у школі&quot;"/>
          <p:cNvPicPr/>
          <p:nvPr/>
        </p:nvPicPr>
        <p:blipFill>
          <a:blip r:embed="rId2"/>
          <a:stretch/>
        </p:blipFill>
        <p:spPr>
          <a:xfrm>
            <a:off x="826920" y="4675320"/>
            <a:ext cx="3935520" cy="2182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Результат пошуку зображень за запитом &quot;безпечна поведінка у школі&quot;"/>
          <p:cNvPicPr/>
          <p:nvPr/>
        </p:nvPicPr>
        <p:blipFill>
          <a:blip r:embed="rId3"/>
          <a:stretch/>
        </p:blipFill>
        <p:spPr>
          <a:xfrm>
            <a:off x="4716360" y="3284640"/>
            <a:ext cx="2160720" cy="1966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Результат пошуку зображень за запитом &quot;поведінка у школі&quot;"/>
          <p:cNvPicPr/>
          <p:nvPr/>
        </p:nvPicPr>
        <p:blipFill>
          <a:blip r:embed="rId4"/>
          <a:stretch/>
        </p:blipFill>
        <p:spPr>
          <a:xfrm>
            <a:off x="0" y="2708280"/>
            <a:ext cx="20858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Результат пошуку зображень за запитом &quot;скачати шаблони презентацій у школі&quot;"/>
          <p:cNvPicPr/>
          <p:nvPr/>
        </p:nvPicPr>
        <p:blipFill>
          <a:blip r:embed="rId1"/>
          <a:stretch/>
        </p:blipFill>
        <p:spPr>
          <a:xfrm>
            <a:off x="0" y="0"/>
            <a:ext cx="8964720" cy="6732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95280" y="0"/>
            <a:ext cx="676908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Bookman Old Style"/>
              </a:rPr>
              <a:t>Урок для тебе, юний друж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Bookman Old Style"/>
              </a:rPr>
              <a:t>Не циркова арена – ні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Bookman Old Style"/>
              </a:rPr>
              <a:t>Тому крутитися не гож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Bookman Old Style"/>
              </a:rPr>
              <a:t>Відволікатися не слі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Bookman Old Style"/>
              </a:rPr>
              <a:t>Не заважай учитись ді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Bookman Old Style"/>
              </a:rPr>
              <a:t>І сам знання ти здобу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Bookman Old Style"/>
              </a:rPr>
              <a:t>Бо лише в тиші можуть уч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Bookman Old Style"/>
              </a:rPr>
              <a:t>Отримати міцні зн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Результат пошуку зображень за запитом &quot;безпечна поведінка у школі&quot;"/>
          <p:cNvPicPr/>
          <p:nvPr/>
        </p:nvPicPr>
        <p:blipFill>
          <a:blip r:embed="rId2"/>
          <a:stretch/>
        </p:blipFill>
        <p:spPr>
          <a:xfrm>
            <a:off x="630072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Результат пошуку зображень за запитом &quot;діти з вихователем&quot;"/>
          <p:cNvPicPr/>
          <p:nvPr/>
        </p:nvPicPr>
        <p:blipFill>
          <a:blip r:embed="rId1"/>
          <a:stretch/>
        </p:blipFill>
        <p:spPr>
          <a:xfrm>
            <a:off x="0" y="3716280"/>
            <a:ext cx="6372360" cy="3141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68000" y="-360"/>
            <a:ext cx="6418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Якщо на групу ходиш 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Без вихователя не й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Ні в гардероб, ні у їдальн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Ні в коридор, ні до вбиральн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І, навіть, щоб попити вод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Ти запитай на це все зг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Ти на прогулянку й до кла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Йдеш з вихователькою разо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Заняття ти їй не зривай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Роби уроки – не стрибай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По кабінету не хо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66"/>
                </a:solidFill>
                <a:latin typeface="Bookman Old Style"/>
              </a:rPr>
              <a:t>Дітей не смикай без ну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Результат пошуку зображень за запитом &quot;безпечна поведінка у школі&quot;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067280" y="-360"/>
            <a:ext cx="4897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Розглянь картинку, др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пи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І поміркуй уважно 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Чому робити так не мож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Яка біда чекає т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Адже ковзання на перил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Штовхання, бігання і ґвал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Ніколи не пройдуть безслі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Bookman Old Style"/>
              </a:rPr>
              <a:t>І призведуть до тяжких трав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Результат пошуку зображень за запитом &quot;поведінка у школі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24:15Z</dcterms:created>
  <dc:creator>Люсенька</dc:creator>
  <dc:description/>
  <dc:language>en-US</dc:language>
  <cp:lastModifiedBy>Оля</cp:lastModifiedBy>
  <dcterms:modified xsi:type="dcterms:W3CDTF">2016-11-29T20:04:21Z</dcterms:modified>
  <cp:revision>19</cp:revision>
  <dc:subject/>
  <dc:title>Слайд 1</dc:title>
</cp:coreProperties>
</file>