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D48C-0810-4FE0-AD82-F66EC242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D3B0-FB4E-48A6-A7ED-46C7437E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37E2-8D8F-4119-A4D6-7EFCF376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F73A-030A-49C0-B7E8-63C9C410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B4E4-F85F-4AB2-9C20-CB25C9D3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816B-F290-48C2-A7E7-79C3D131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C9E9-77FF-4086-BB2D-AB778A5D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196A-2C55-4559-BACD-F16243C8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20D7-8A49-4B73-89A5-9967A76E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8DA8-D4F5-4AB9-B2CF-22F52A47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54F5-B802-442C-8DEF-597D0A0F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145B-A0EA-458D-B2CA-78F33D01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8154-2377-4698-9913-1E9DE86B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3518-9693-4B5E-9682-E4D856E1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4B9B-3EE1-49C2-A5E4-4C15B182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974C-BFB4-4AAA-B317-C3C1018A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673B-DF93-4F3A-8F2D-D0F2E72D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1BC4-EECA-4BBC-9BDE-335CD211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29DB-22CF-4B36-A761-CF74DBB2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7FAA-E7FE-4A3D-9059-49082F67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915B-2DF9-4416-B818-0A1FA55F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6566-63BE-4364-A142-8D07327A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9DB3-789E-4D21-AA1E-015575C3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3D2-FC8E-425A-B6D4-0C861B6D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3669-9F9D-49C5-BE11-6B245C35C4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FBBE-6524-4531-AFB5-BE3E0B391A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8964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Григ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р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ютюнни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«Климко». Воєнне дитинство повісті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522936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читель: Вотінцева Валентина  Івані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3048120" cy="244944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росворд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«С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орінками життєвого і творчого шляху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 Тютюнник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4358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83000" y="2104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835280" y="2781360"/>
          <a:ext cx="5622840" cy="3105000"/>
        </p:xfrm>
        <a:graphic>
          <a:graphicData uri="http://schemas.openxmlformats.org/drawingml/2006/table">
            <a:tbl>
              <a:tblPr/>
              <a:tblGrid>
                <a:gridCol w="411120"/>
                <a:gridCol w="411120"/>
                <a:gridCol w="457200"/>
                <a:gridCol w="342720"/>
                <a:gridCol w="34308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горизон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і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Назва села, де народився Г. Тютюнник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фесія батька письменника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ісля ув’язнення батька Г. Тютюнник живе у його брата на..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ітка, яка запропонувала у неї жити Климку після того, як він залишився самотнім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ісце, де жили Климко і дядько Кирило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к називали Славку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вертик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і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 повісті автобіографічної трилогії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Я люблю стареньких і малих – і тих, і тих за мудрість і доброт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Григір Тютюнн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ff"/>
                </a:solidFill>
                <a:latin typeface="Arial"/>
              </a:rPr>
              <a:t>Тема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зображення нелегкого шляху Климка до великого міст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ff"/>
                </a:solidFill>
                <a:latin typeface="Arial"/>
              </a:rPr>
              <a:t>Ідея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уславлення сили волі, мужності, завзятості, впевненості, працьовитості (на прикладі подорожі Климка)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ff"/>
                </a:solidFill>
                <a:latin typeface="Arial"/>
              </a:rPr>
              <a:t>Основна думка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ільки сильна духом людина може подолати будь-які труднощі, перешкод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Композиці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Експозиція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знайомство з дідом Бочонк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Зав’язка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червиві сухарі, пошуки їжі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Кульмінація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хвороба Климкових ніг, самолікуванн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Розв’язка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хлопець побачив велике місто у долині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юч до тестового опитування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–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-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-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-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-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-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-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-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-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-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-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Домашнє завданн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Спираючись на життєвий досвід,   написати твір </a:t>
            </a:r>
            <a:r>
              <a:rPr b="1" i="1" lang="uk-UA" sz="3600" spc="-1" strike="noStrike">
                <a:solidFill>
                  <a:srgbClr val="ffffff"/>
                </a:solidFill>
                <a:latin typeface="Arial"/>
              </a:rPr>
              <a:t>«Яких ситуацій нашого з вами життя Климко не сприйме? Що вразить його до глибини душі?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12:31:36Z</dcterms:created>
  <dc:creator>Администратор</dc:creator>
  <dc:description/>
  <dc:language>en-US</dc:language>
  <cp:lastModifiedBy>Администратор</cp:lastModifiedBy>
  <dcterms:modified xsi:type="dcterms:W3CDTF">2012-10-30T15:33:49Z</dcterms:modified>
  <cp:revision>4</cp:revision>
  <dc:subject/>
  <dc:title>Григір  Тютюнник «Климко». Воєнне дитинство повісті</dc:title>
</cp:coreProperties>
</file>