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D53-3A67-43EC-A5CA-9E6EE412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A04-4D23-458D-95DA-2CB2AB22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E62-91A4-40AE-AC6D-AC47992A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418-874A-467D-BCBB-7C1C375C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87C86-31FA-4FC2-B09A-1767BFE6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DC8C8-6FED-4620-9F96-9F29F2E8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F79B1-F871-4FDB-BE85-EF2DADE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D1829-66F2-49AA-BF02-4A63F48A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7D680-B94C-4E4B-87E2-40F60E34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3AADB-559C-4AF0-B46C-D98C358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FD754-E015-4B46-954C-80F11FC6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BC5-97BE-4294-B636-C7BA26A3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2DE87-3F00-4DA9-B013-9896AC0B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36867-DCD8-4EEE-B03B-4FD49CBC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6DC13-5628-4CA3-A5F2-461FAC09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BFF0C-A395-4290-8B09-3795C93F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DFFEB-5AA1-483C-B4A9-B55C345F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E0E-3245-4716-B951-FFD80FC9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34D-C450-42B4-B5C3-1E783FB7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F47-5511-48D0-9337-9DB229EB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64B-E442-42F9-B15A-58069327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2BD-BF68-429F-B7F8-060AF4EE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211-110A-44F3-89C1-C85BE575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C45-ECCA-4671-A981-6E27EFAD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7A62-E88B-45F7-A5B6-018B3A67D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65D-270F-4EA3-ACBD-5BDDD7BD32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дкритий урок</a:t>
            </a:r>
            <a:br>
              <a:rPr sz="4400"/>
            </a:b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4 клас</a:t>
            </a:r>
            <a:br>
              <a:rPr sz="4400"/>
            </a:b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Тема: «Музика народів Закавказз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читель муз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твієнко Світлана Андріївн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Музична подор</a:t>
            </a:r>
            <a:r>
              <a:rPr b="1" i="1" lang="uk-UA" sz="5400" spc="-1" strike="noStrike">
                <a:solidFill>
                  <a:srgbClr val="ffff00"/>
                </a:solidFill>
                <a:latin typeface="Tahoma"/>
              </a:rPr>
              <a:t>і</a:t>
            </a: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ж до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5e0e0"/>
                </a:solidFill>
                <a:latin typeface="Tahoma"/>
              </a:rPr>
              <a:t>Кавказьких кра</a:t>
            </a:r>
            <a:r>
              <a:rPr b="1" lang="uk-UA" sz="5400" spc="-1" strike="noStrike">
                <a:solidFill>
                  <a:srgbClr val="85e0e0"/>
                </a:solidFill>
                <a:latin typeface="Tahoma"/>
              </a:rPr>
              <a:t>ї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Александр Пушкин - Кавказ.mp4" descr=""/>
          <p:cNvPicPr/>
          <p:nvPr/>
        </p:nvPicPr>
        <p:blipFill>
          <a:blip r:embed="rId1"/>
          <a:stretch/>
        </p:blipFill>
        <p:spPr>
          <a:xfrm>
            <a:off x="-762120" y="762120"/>
            <a:ext cx="100918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2408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ИРОДА ЗАКАВКАЗЗ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3111668_large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ИРОДА ЗАКАВКАЗЗ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86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ИРОДА ЗАКАВКАЗЗ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5716182_104a1b33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НАРОДИ ЗАКАВКАЗЗ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ГРУЗИ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ahoma"/>
              </a:rPr>
              <a:t>ВІРМ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АЗЕРБАЙНДЖАНЦІ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762480" y="-22860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ГРУЗ</a:t>
            </a:r>
            <a:r>
              <a:rPr b="1" lang="uk-UA" sz="4000" spc="-1" strike="noStrike">
                <a:solidFill>
                  <a:srgbClr val="ffc000"/>
                </a:solidFill>
                <a:latin typeface="Tahoma"/>
              </a:rPr>
              <a:t>ІЯ: 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АНЕЦЬ ЛЕЗГИН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Мой фильм.mp4" descr=""/>
          <p:cNvPicPr/>
          <p:nvPr/>
        </p:nvPicPr>
        <p:blipFill>
          <a:blip r:embed="rId1"/>
          <a:stretch/>
        </p:blipFill>
        <p:spPr>
          <a:xfrm>
            <a:off x="-304920" y="914400"/>
            <a:ext cx="976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6706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ahoma"/>
              </a:rPr>
              <a:t>Вірменія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мпозитор </a:t>
            </a:r>
            <a:r>
              <a:rPr b="1" i="1" lang="ru-RU" sz="4000" spc="-1" strike="noStrike">
                <a:solidFill>
                  <a:srgbClr val="82ff82"/>
                </a:solidFill>
                <a:latin typeface="Tahoma"/>
              </a:rPr>
              <a:t>АРАМ ХАЧАТУРЯ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алет «Гаян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алет «Спартак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04920" y="1798560"/>
            <a:ext cx="39621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рам Хачатурян балет «Гаян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Gopak &amp; Lezghinka.mp4" descr=""/>
          <p:cNvPicPr/>
          <p:nvPr/>
        </p:nvPicPr>
        <p:blipFill>
          <a:blip r:embed="rId1"/>
          <a:stretch/>
        </p:blipFill>
        <p:spPr>
          <a:xfrm>
            <a:off x="0" y="1143000"/>
            <a:ext cx="92203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3941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3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рам Хачатурян балет «Гаян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Tahoma"/>
              </a:rPr>
              <a:t>ГОПАК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743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Музична подор</a:t>
            </a:r>
            <a:r>
              <a:rPr b="1" i="1" lang="uk-UA" sz="5400" spc="-1" strike="noStrike">
                <a:solidFill>
                  <a:srgbClr val="ffff00"/>
                </a:solidFill>
                <a:latin typeface="Tahoma"/>
              </a:rPr>
              <a:t>і</a:t>
            </a: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ж до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2445840" y="324468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714084cfe21ac6874e90ce789bae9a8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Tahoma"/>
              </a:rPr>
              <a:t>АЗЕЙБАРДЖ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2" descr="D:\Света\Уроки музыки\4 клас\22\Моментальный снимок 1 (25.02.2013 22-15).png"/>
          <p:cNvPicPr/>
          <p:nvPr/>
        </p:nvPicPr>
        <p:blipFill>
          <a:blip r:embed="rId1"/>
          <a:stretch/>
        </p:blipFill>
        <p:spPr>
          <a:xfrm>
            <a:off x="609480" y="1905120"/>
            <a:ext cx="7742520" cy="4343400"/>
          </a:xfrm>
          <a:prstGeom prst="rect">
            <a:avLst/>
          </a:prstGeom>
          <a:ln w="0">
            <a:noFill/>
          </a:ln>
        </p:spPr>
      </p:pic>
      <p:pic>
        <p:nvPicPr>
          <p:cNvPr id="130" name="36 Азербайджанська нар.пісня Курчатка.mp3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5140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Tahoma"/>
              </a:rPr>
              <a:t>Музична подорож до Кавказ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" descr="D:\Света\Уроки музыки\4 клас\22\Моментальный снимок 1 (25.02.2013 22-15).png"/>
          <p:cNvPicPr/>
          <p:nvPr/>
        </p:nvPicPr>
        <p:blipFill>
          <a:blip r:embed="rId1"/>
          <a:stretch/>
        </p:blipFill>
        <p:spPr>
          <a:xfrm>
            <a:off x="0" y="4572000"/>
            <a:ext cx="3776760" cy="2119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2590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Вірмені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композитор </a:t>
            </a:r>
            <a:r>
              <a:rPr b="1" i="1" lang="ru-RU" sz="1800" spc="-1" strike="noStrike">
                <a:solidFill>
                  <a:srgbClr val="82ff82"/>
                </a:solidFill>
                <a:latin typeface="Tahoma"/>
              </a:rPr>
              <a:t>АРАМ ХАЧАТУР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3886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000"/>
                </a:solidFill>
                <a:latin typeface="Tahoma"/>
              </a:rPr>
              <a:t>АЗЕЙБАРДЖАН пісня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“Курчата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867280" y="3657600"/>
            <a:ext cx="2502000" cy="3002040"/>
          </a:xfrm>
          <a:prstGeom prst="rect">
            <a:avLst/>
          </a:prstGeom>
          <a:ln w="0">
            <a:noFill/>
          </a:ln>
        </p:spPr>
      </p:pic>
      <p:pic>
        <p:nvPicPr>
          <p:cNvPr id="136" name="Мой фильм.mp4" descr=""/>
          <p:cNvPicPr/>
          <p:nvPr/>
        </p:nvPicPr>
        <p:blipFill>
          <a:blip r:embed="rId3"/>
          <a:stretch/>
        </p:blipFill>
        <p:spPr>
          <a:xfrm>
            <a:off x="152280" y="2133720"/>
            <a:ext cx="2982960" cy="1676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9"/>
          <p:cNvSpPr/>
          <p:nvPr/>
        </p:nvSpPr>
        <p:spPr>
          <a:xfrm>
            <a:off x="420840" y="152388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ГРУЗ</a:t>
            </a:r>
            <a:r>
              <a:rPr b="1" lang="uk-UA" sz="2800" spc="-1" strike="noStrike">
                <a:solidFill>
                  <a:srgbClr val="ffc000"/>
                </a:solidFill>
                <a:latin typeface="Tahoma"/>
              </a:rPr>
              <a:t>ІЯ: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АНЕЦЬ ЛЕЗГИ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0"/>
          <a:ext cx="8610480" cy="6980400"/>
        </p:xfrm>
        <a:graphic>
          <a:graphicData uri="http://schemas.openxmlformats.org/drawingml/2006/table">
            <a:tbl>
              <a:tblPr/>
              <a:tblGrid>
                <a:gridCol w="1434960"/>
                <a:gridCol w="1435320"/>
                <a:gridCol w="1434960"/>
                <a:gridCol w="1435320"/>
                <a:gridCol w="1434960"/>
                <a:gridCol w="1434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0"/>
          <a:ext cx="8610480" cy="6980400"/>
        </p:xfrm>
        <a:graphic>
          <a:graphicData uri="http://schemas.openxmlformats.org/drawingml/2006/table">
            <a:tbl>
              <a:tblPr/>
              <a:tblGrid>
                <a:gridCol w="1434960"/>
                <a:gridCol w="1435320"/>
                <a:gridCol w="1434960"/>
                <a:gridCol w="1435320"/>
                <a:gridCol w="1434960"/>
                <a:gridCol w="1434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0"/>
          <a:ext cx="8610480" cy="6980400"/>
        </p:xfrm>
        <a:graphic>
          <a:graphicData uri="http://schemas.openxmlformats.org/drawingml/2006/table">
            <a:tbl>
              <a:tblPr/>
              <a:tblGrid>
                <a:gridCol w="1434960"/>
                <a:gridCol w="1435320"/>
                <a:gridCol w="1434960"/>
                <a:gridCol w="1435320"/>
                <a:gridCol w="1434960"/>
                <a:gridCol w="1434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0"/>
          <a:ext cx="8610480" cy="6980400"/>
        </p:xfrm>
        <a:graphic>
          <a:graphicData uri="http://schemas.openxmlformats.org/drawingml/2006/table">
            <a:tbl>
              <a:tblPr/>
              <a:tblGrid>
                <a:gridCol w="1434960"/>
                <a:gridCol w="1435320"/>
                <a:gridCol w="1434960"/>
                <a:gridCol w="1435320"/>
                <a:gridCol w="1434960"/>
                <a:gridCol w="1434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0"/>
          <a:ext cx="8610480" cy="6980400"/>
        </p:xfrm>
        <a:graphic>
          <a:graphicData uri="http://schemas.openxmlformats.org/drawingml/2006/table">
            <a:tbl>
              <a:tblPr/>
              <a:tblGrid>
                <a:gridCol w="1434960"/>
                <a:gridCol w="1435320"/>
                <a:gridCol w="1434960"/>
                <a:gridCol w="1435320"/>
                <a:gridCol w="1434960"/>
                <a:gridCol w="1434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0"/>
          <a:ext cx="8610480" cy="6980400"/>
        </p:xfrm>
        <a:graphic>
          <a:graphicData uri="http://schemas.openxmlformats.org/drawingml/2006/table">
            <a:tbl>
              <a:tblPr/>
              <a:tblGrid>
                <a:gridCol w="1434960"/>
                <a:gridCol w="1435320"/>
                <a:gridCol w="1434960"/>
                <a:gridCol w="1435320"/>
                <a:gridCol w="1434960"/>
                <a:gridCol w="1434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0"/>
          <a:ext cx="8610480" cy="6980400"/>
        </p:xfrm>
        <a:graphic>
          <a:graphicData uri="http://schemas.openxmlformats.org/drawingml/2006/table">
            <a:tbl>
              <a:tblPr/>
              <a:tblGrid>
                <a:gridCol w="1434960"/>
                <a:gridCol w="1435320"/>
                <a:gridCol w="1434960"/>
                <a:gridCol w="1435320"/>
                <a:gridCol w="1434960"/>
                <a:gridCol w="1434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5e0e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З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b8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сим</dc:creator>
  <dc:description/>
  <dc:language>en-US</dc:language>
  <cp:lastModifiedBy>Админ</cp:lastModifiedBy>
  <dcterms:modified xsi:type="dcterms:W3CDTF">2016-11-03T20:02:3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