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6.jpeg" ContentType="image/jpeg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2C0-1A7C-4648-B06A-EECF47FEE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540E-181D-4BA2-876F-F44470C2C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D7F-6EEA-401C-90E1-ED3813F7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7A7-2AA4-4C38-AEA3-0CAFF8BE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271-49B3-4636-B417-AD92D995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4F1-D499-4C20-A99D-EE71F549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B84-98EC-4212-9CB0-18B7D81C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FB6-71EF-49D6-AF25-E6122DD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6E5-7657-4B59-96D9-10525D5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40A-6230-4B43-91BE-E85E0F5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FFA-AB4A-48DD-B09E-5896551C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CF2-1FAF-4F52-97BE-08D8841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524-5127-4743-9793-BD0093D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835-171D-418D-A2EB-7B66FD30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7F05-50BA-425C-9976-823AAE463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Україна"/>
          <p:cNvPicPr/>
          <p:nvPr/>
        </p:nvPicPr>
        <p:blipFill>
          <a:blip r:embed="rId1"/>
          <a:stretch/>
        </p:blipFill>
        <p:spPr>
          <a:xfrm>
            <a:off x="353880" y="1420920"/>
            <a:ext cx="6284880" cy="44434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00080" y="285840"/>
            <a:ext cx="753444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f7f7f"/>
                </a:solidFill>
                <a:latin typeface="Arial"/>
              </a:rPr>
              <a:t>Для чого потрібно вміти «читати»</a:t>
            </a:r>
            <a:endParaRPr b="1" lang="en-US" sz="1800" spc="1" strike="noStrike">
              <a:ln w="0">
                <a:noFill/>
              </a:ln>
              <a:solidFill>
                <a:srgbClr val="7f7f7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f7f7f"/>
                </a:solidFill>
                <a:latin typeface="Arial"/>
              </a:rPr>
              <a:t>план місцевості та карти</a:t>
            </a:r>
            <a:endParaRPr b="1" lang="en-US" sz="1800" spc="1" strike="noStrike">
              <a:ln w="0">
                <a:noFill/>
              </a:ln>
              <a:solidFill>
                <a:srgbClr val="7f7f7f"/>
              </a:solidFill>
              <a:latin typeface="Arial"/>
              <a:ea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214880" y="5357880"/>
            <a:ext cx="4500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ідготу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вчитель початкових клас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одвірського НВ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Орлова Людмила Олександ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ДЛЯ ДОПИТЛИВИХ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наш час точні плани місцевості складаються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помогою її фотографування із літака, гелікоптера 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смічного супутника. Об'єкти сфотографовано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цевості зображаються як їх план або познача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овними знаками у масштаб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овні знаки плану місцевості називаю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пографічними знаками. Вони є азбукою плану. Як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ння букв не можна прочитати й слова, так і б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ння умовних знаків не можна дізнатися, 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бражено на пла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Із зошита з природознавства  Т. М. Байб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14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1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82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6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7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206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70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2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98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971640" y="2637000"/>
            <a:ext cx="6842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Частина суші на карті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кі позначені зеленим кольоро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332000" y="3213000"/>
            <a:ext cx="6842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Природна заглибина, починається струмочком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арті позначається лініям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китного кольору різної товщин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403280" y="2924280"/>
            <a:ext cx="6842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Ділянки земної поверхні,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же піднятої над рівнинами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кі позначаються на карті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ичневим кольоро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1763640" y="2565360"/>
            <a:ext cx="6842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Країни без людей, міста без будинків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іси без дерев, моря без вод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2050920" y="2637000"/>
            <a:ext cx="6842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Частини океанів, які заходять у сушу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арті позначаються блакитним кольоро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2928960" y="3286080"/>
            <a:ext cx="538956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Частини суші, на карті позначені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овтим кольоро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20"/>
          <p:cNvSpPr txBox="1"/>
          <p:nvPr/>
        </p:nvSpPr>
        <p:spPr>
          <a:xfrm>
            <a:off x="1857240" y="428760"/>
            <a:ext cx="678672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 " ЩО ЯК ПОЗНАЧЕНО?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СЛОВА В КЛІТИНОЧКИ ВПИШИ Й КРОСВОРД ЦІКАВИЙ РОЗВ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  <a:ea typeface="Arial"/>
              </a:rPr>
              <a:t>’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Я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http://subject.com.ua/lesson/nature/4klas/4klas.files/image017.jpg"/>
          <p:cNvPicPr/>
          <p:nvPr/>
        </p:nvPicPr>
        <p:blipFill>
          <a:blip r:embed="rId1"/>
          <a:stretch/>
        </p:blipFill>
        <p:spPr>
          <a:xfrm>
            <a:off x="357120" y="1285920"/>
            <a:ext cx="4071960" cy="3357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643280" y="1000080"/>
            <a:ext cx="42148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714920" y="152064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. Лінія, що сполучає на глобусі обидва полюси. (Мериді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Найдовша паралель. (Еква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Точка,у якій сходяться всі меридіани. (Полю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Лінії, паралельні екватору. (Паралел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. Модель Землі. (Глобу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57120" y="1125360"/>
          <a:ext cx="8607600" cy="4754880"/>
        </p:xfrm>
        <a:graphic>
          <a:graphicData uri="http://schemas.openxmlformats.org/drawingml/2006/table">
            <a:tbl>
              <a:tblPr/>
              <a:tblGrid>
                <a:gridCol w="2868840"/>
                <a:gridCol w="3062160"/>
                <a:gridCol w="26766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ПІЛЬН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ІДМІНН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ображення земної поверхні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Зображення зменшен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Вигляд зверх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Умовні позна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Зображують невеликі ділянки місцев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Зображують великі ділянки місцев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Масштаб вели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Масштаб мал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івніч позначають стрілко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рони світу визначають за меридіанами і парал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Детальне зображення місцев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Зображують тільки великі об’єк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е враховується кулеподібність Земл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ховується кулеподібність Земл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WordArt 142"/>
          <p:cNvSpPr txBox="1"/>
          <p:nvPr/>
        </p:nvSpPr>
        <p:spPr>
          <a:xfrm>
            <a:off x="250920" y="260280"/>
            <a:ext cx="8553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івняльна характеристика плану і кар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5929200" y="3429000"/>
            <a:ext cx="2889360" cy="2538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285840" y="830160"/>
            <a:ext cx="5500440" cy="49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Verdana"/>
                <a:ea typeface="Verdana"/>
              </a:rPr>
              <a:t>Робота в гру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Verdana"/>
                <a:ea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b30d88"/>
                </a:solidFill>
                <a:latin typeface="Verdana"/>
                <a:ea typeface="Verdana"/>
              </a:rPr>
              <a:t>І гр.</a:t>
            </a:r>
            <a:r>
              <a:rPr b="1" lang="ru-RU" sz="2000" spc="-1" strike="noStrike">
                <a:solidFill>
                  <a:srgbClr val="b30d88"/>
                </a:solidFill>
                <a:latin typeface="Verdana"/>
                <a:ea typeface="Verdana"/>
              </a:rPr>
              <a:t> Прочитайте розповідь козака Подорожника та порівняйте свою відповідь із його розповідд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050"/>
                </a:solidFill>
                <a:latin typeface="Verdana"/>
                <a:ea typeface="Verdana"/>
              </a:rPr>
              <a:t>2 гр. </a:t>
            </a:r>
            <a:r>
              <a:rPr b="1" lang="ru-RU" sz="2000" spc="-1" strike="noStrike">
                <a:solidFill>
                  <a:srgbClr val="00b050"/>
                </a:solidFill>
                <a:latin typeface="Verdana"/>
                <a:ea typeface="Verdana"/>
              </a:rPr>
              <a:t>Що розповіла розумниця Дзвіночка про використання планів та карт? Що означає розвивати свою географічну грамотні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97a0"/>
                </a:solidFill>
                <a:latin typeface="Verdana"/>
                <a:ea typeface="Verdana"/>
              </a:rPr>
              <a:t>3 гр. Розкажіть про значення  слова атлас. Національний атлас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артинки по запросу національний атлас україни"/>
          <p:cNvPicPr/>
          <p:nvPr/>
        </p:nvPicPr>
        <p:blipFill>
          <a:blip r:embed="rId2"/>
          <a:stretch/>
        </p:blipFill>
        <p:spPr>
          <a:xfrm>
            <a:off x="6429240" y="285840"/>
            <a:ext cx="1905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867760" y="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597a0"/>
                </a:solidFill>
                <a:latin typeface="Arial"/>
              </a:rPr>
              <a:t>Відпочи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Веселая зарядка.mp4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0370010052"/>
          <p:cNvPicPr/>
          <p:nvPr/>
        </p:nvPicPr>
        <p:blipFill>
          <a:blip r:embed="rId1"/>
          <a:stretch/>
        </p:blipFill>
        <p:spPr>
          <a:xfrm>
            <a:off x="0" y="0"/>
            <a:ext cx="3924360" cy="391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619280" y="227664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якій частині плану місцевості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ходиться селище Снігове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692360" y="2205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якій частині плану місцевості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ходиться мішаний ліс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1763640" y="213372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кий масштаб даного плану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ісцевості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1547640" y="1341360"/>
            <a:ext cx="654084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якій відстані від с. Сніговий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ходиться залізниця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кщо відстань від залізниці до об'єкта на плані 3 см?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1619280" y="1341360"/>
            <a:ext cx="654048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якій відстані від плодового сад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ходиться річка 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кщо відстань від саду до об'єкта на плані 5 мм?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WordArt 4" descr=""/>
          <p:cNvPicPr/>
          <p:nvPr/>
        </p:nvPicPr>
        <p:blipFill>
          <a:blip r:embed="rId3"/>
          <a:stretch/>
        </p:blipFill>
        <p:spPr>
          <a:xfrm>
            <a:off x="804960" y="225360"/>
            <a:ext cx="798516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Самостійна робот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Підпиши, де малюнок стола, а де – його план. Ч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кресли план підручника, довжина якого 21 см, а ширина – 14 см. Масштаб: 1 см – 7 с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tretch/>
        </p:blipFill>
        <p:spPr>
          <a:xfrm>
            <a:off x="4214880" y="2500200"/>
            <a:ext cx="4354560" cy="104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age2"/>
          <p:cNvPicPr/>
          <p:nvPr/>
        </p:nvPicPr>
        <p:blipFill>
          <a:blip r:embed="rId2"/>
          <a:stretch/>
        </p:blipFill>
        <p:spPr>
          <a:xfrm>
            <a:off x="5072040" y="4643280"/>
            <a:ext cx="36291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3"/>
          <p:cNvSpPr txBox="1"/>
          <p:nvPr/>
        </p:nvSpPr>
        <p:spPr>
          <a:xfrm>
            <a:off x="2428920" y="214200"/>
            <a:ext cx="4800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 ЦІКА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79280" y="836640"/>
            <a:ext cx="86076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графічні назви навколо на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85840" y="1428840"/>
            <a:ext cx="8424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ff"/>
                </a:solidFill>
                <a:latin typeface="Arial"/>
              </a:rPr>
              <a:t>Тонку вовняну тканину КАШЕМІР, з якої шиють шкільну форму, назвали так за місцем її народження у КАШМІРІ- штат Інд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cc00"/>
                </a:solidFill>
                <a:latin typeface="Arial"/>
              </a:rPr>
              <a:t>МАЙОНЕЗ уперше виготовили в місті МАЙОН на острові в Іс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Назва морозива ПЛОМБІР походить від французького міста ПЛОМБ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Є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Назва “ джинси” також стосується географії. Перші ДЖИНСИ з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явилися в 50 роках ХІХ століття у Сан-Франциско. Виготовили їх із брезенту. Тканину для цього виробляли тоді в італійському місті ГЕНУЇ. Назву її дещо змінили. Так і утворилося “ джин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6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690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922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57120" y="1021320"/>
            <a:ext cx="7786800" cy="44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00000"/>
                </a:solidFill>
                <a:latin typeface="Verdana"/>
                <a:ea typeface="Verdana"/>
              </a:rPr>
              <a:t>Закінчи ре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  <a:ea typeface="Verdana"/>
              </a:rPr>
              <a:t>Загальне уявлення про поверхню нашої Землі дають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  <a:ea typeface="Verdana"/>
              </a:rPr>
              <a:t>План і карта необхідні в нашому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  <a:ea typeface="Verdana"/>
              </a:rPr>
              <a:t>Уміння читати карту визначає ……. грамот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  <a:ea typeface="Verdana"/>
              </a:rPr>
              <a:t>Джерело сучасної інформації про нашу країну- Національний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  <a:ea typeface="Verdana"/>
              </a:rPr>
              <a:t>Географічна карта, на якій нанесено лише обриси - ……… к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57160" y="0"/>
            <a:ext cx="782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14200"/>
            <a:ext cx="8352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b6bcf"/>
                </a:solidFill>
                <a:latin typeface="Arial"/>
              </a:rPr>
              <a:t>Мета урок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Закріпити й поглибити знання п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ан місцевості, масштаб, географічну ка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Вчитися читати карту, використовуючи умов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значення та масшта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 Розвивати спостережливі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.Використовувати одержані знання та вмінн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25984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иттєвих ситуаці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и по запросу презентація до уроку природознавства для чого вміти читати план і карту"/>
          <p:cNvPicPr/>
          <p:nvPr/>
        </p:nvPicPr>
        <p:blipFill>
          <a:blip r:embed="rId1"/>
          <a:stretch/>
        </p:blipFill>
        <p:spPr>
          <a:xfrm>
            <a:off x="6643800" y="428760"/>
            <a:ext cx="2239920" cy="167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по запросу презентація до уроку природознавства для чого вміти читати план і карту"/>
          <p:cNvPicPr/>
          <p:nvPr/>
        </p:nvPicPr>
        <p:blipFill>
          <a:blip r:embed="rId2"/>
          <a:stretch/>
        </p:blipFill>
        <p:spPr>
          <a:xfrm>
            <a:off x="4143240" y="4500720"/>
            <a:ext cx="40006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7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67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67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285480"/>
            <a:ext cx="73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5600" y="2357280"/>
            <a:ext cx="75438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Повтори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9-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За бажанн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шукати цікавий матеріал по тем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малювати малю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kniga03"/>
          <p:cNvPicPr/>
          <p:nvPr/>
        </p:nvPicPr>
        <p:blipFill>
          <a:blip r:embed="rId1"/>
          <a:stretch/>
        </p:blipFill>
        <p:spPr>
          <a:xfrm>
            <a:off x="214200" y="214200"/>
            <a:ext cx="1820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ОРГАНІЗАЦІЯ УЧНІВ ДО У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уроці дружно працю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лухайте, мір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питання відповід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ліджуйте, вивчай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мітливість проявля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Пользователь\Pictures\Новая папка\звонок.gif"/>
          <p:cNvPicPr/>
          <p:nvPr/>
        </p:nvPicPr>
        <p:blipFill>
          <a:blip r:embed="rId1"/>
          <a:stretch/>
        </p:blipFill>
        <p:spPr>
          <a:xfrm>
            <a:off x="6429240" y="3643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ЕМОЦІЙНЕ НАЛАШТУВАННЯ </a:t>
            </a:r>
            <a:br>
              <a:rPr sz="4000"/>
            </a:b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НА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Якщо хочеш, щоб життя тоб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посміхнуло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0066"/>
                </a:solidFill>
                <a:latin typeface="Arial"/>
              </a:rPr>
              <a:t>Спочатку сам посміхнися життю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C:\Users\Пользователь\Pictures\смайлик.gif"/>
          <p:cNvPicPr/>
          <p:nvPr/>
        </p:nvPicPr>
        <p:blipFill>
          <a:blip r:embed="rId1"/>
          <a:stretch/>
        </p:blipFill>
        <p:spPr>
          <a:xfrm>
            <a:off x="5572080" y="357192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4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9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2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ПЕРЕВІР СЕБЕ!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4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аном предмета називає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) його малюнок; б) його розмі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) його вигляд звер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Зменшене й узагальнене зображення земної поверхні або її частин за допомогою умовних знаків у певному масштабі називає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) планом місцевості; б) малюнком місцевості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)географічною карт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age6"/>
          <p:cNvPicPr/>
          <p:nvPr/>
        </p:nvPicPr>
        <p:blipFill>
          <a:blip r:embed="rId1"/>
          <a:stretch/>
        </p:blipFill>
        <p:spPr>
          <a:xfrm>
            <a:off x="6143760" y="5214960"/>
            <a:ext cx="204768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files.school-collection.edu.ru/dlrstore/00000c51-1000-4ddd-517d-3600483aebf5/objects/_tipy_geogr_00001026/2-3-polit-karta.png"/>
          <p:cNvPicPr/>
          <p:nvPr/>
        </p:nvPicPr>
        <p:blipFill>
          <a:blip r:embed="rId2"/>
          <a:stretch/>
        </p:blipFill>
        <p:spPr>
          <a:xfrm>
            <a:off x="6500880" y="1500120"/>
            <a:ext cx="2257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ПЕРЕВІР СЕБЕ!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4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Екватор поділяє земну поверхню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Південну і Північну півкулі;б) західну і східну півку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Лінії на карті згори донизу, що показують напрям північ — південь,— ц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паралелі;б) меридіани;в) екв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Лінії на карті зліва направо, що показують напрям захід — схід,— ц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) паралелі;б) меридіани;в) екв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.Масштаб показу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а) довжину і ширину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) у скільки разів зменшено справжні розміри предме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) висоту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ПРИГАД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7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419480" y="35712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ПРОЧИТАЙ ЛИСТ ДО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2876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рогий друже! Влітку я їздив до бабусі в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mage3"/>
          <p:cNvPicPr/>
          <p:nvPr/>
        </p:nvPicPr>
        <p:blipFill>
          <a:blip r:embed="rId1"/>
          <a:srcRect l="29885" t="38886" r="59040" b="18801"/>
          <a:stretch/>
        </p:blipFill>
        <p:spPr>
          <a:xfrm>
            <a:off x="6500880" y="928800"/>
            <a:ext cx="1224000" cy="8809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357120" y="192888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чатку їздив поїздом по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3100144"/>
          <p:cNvPicPr/>
          <p:nvPr/>
        </p:nvPicPr>
        <p:blipFill>
          <a:blip r:embed="rId2"/>
          <a:srcRect l="78086" t="69350" r="8762" b="8036"/>
          <a:stretch/>
        </p:blipFill>
        <p:spPr>
          <a:xfrm>
            <a:off x="4143240" y="1785960"/>
            <a:ext cx="1008360" cy="681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5429160" y="1928880"/>
            <a:ext cx="350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потім – автобусом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P3100144"/>
          <p:cNvPicPr/>
          <p:nvPr/>
        </p:nvPicPr>
        <p:blipFill>
          <a:blip r:embed="rId3"/>
          <a:srcRect l="52631" t="70985" r="35088" b="6435"/>
          <a:stretch/>
        </p:blipFill>
        <p:spPr>
          <a:xfrm>
            <a:off x="500040" y="2571840"/>
            <a:ext cx="1079640" cy="649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1714680" y="2714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абусине село дуже гарне. Там є багато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P3100144"/>
          <p:cNvPicPr/>
          <p:nvPr/>
        </p:nvPicPr>
        <p:blipFill>
          <a:blip r:embed="rId4"/>
          <a:srcRect l="26307" t="38730" r="60523" b="37095"/>
          <a:stretch/>
        </p:blipFill>
        <p:spPr>
          <a:xfrm>
            <a:off x="7929720" y="2500200"/>
            <a:ext cx="863280" cy="7192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0"/>
          <p:cNvSpPr/>
          <p:nvPr/>
        </p:nvSpPr>
        <p:spPr>
          <a:xfrm>
            <a:off x="432360" y="357192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Image3"/>
          <p:cNvPicPr/>
          <p:nvPr/>
        </p:nvPicPr>
        <p:blipFill>
          <a:blip r:embed="rId5"/>
          <a:srcRect l="29885" t="38886" r="59040" b="18801"/>
          <a:stretch/>
        </p:blipFill>
        <p:spPr>
          <a:xfrm>
            <a:off x="1571760" y="3429000"/>
            <a:ext cx="93816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2"/>
          <p:cNvSpPr/>
          <p:nvPr/>
        </p:nvSpPr>
        <p:spPr>
          <a:xfrm>
            <a:off x="2577960" y="357192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тікає             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P3100144"/>
          <p:cNvPicPr/>
          <p:nvPr/>
        </p:nvPicPr>
        <p:blipFill>
          <a:blip r:embed="rId6"/>
          <a:srcRect l="26307" t="72585" r="60523" b="4835"/>
          <a:stretch/>
        </p:blipFill>
        <p:spPr>
          <a:xfrm>
            <a:off x="3929040" y="3357720"/>
            <a:ext cx="865080" cy="6728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4"/>
          <p:cNvSpPr/>
          <p:nvPr/>
        </p:nvSpPr>
        <p:spPr>
          <a:xfrm>
            <a:off x="5214960" y="3571920"/>
            <a:ext cx="4214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м я ловив рибу, а на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3100144"/>
          <p:cNvPicPr/>
          <p:nvPr/>
        </p:nvPicPr>
        <p:blipFill>
          <a:blip r:embed="rId7"/>
          <a:srcRect l="27196" t="6435" r="61413" b="72585"/>
          <a:stretch/>
        </p:blipFill>
        <p:spPr>
          <a:xfrm>
            <a:off x="428760" y="4357800"/>
            <a:ext cx="100800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6"/>
          <p:cNvSpPr/>
          <p:nvPr/>
        </p:nvSpPr>
        <p:spPr>
          <a:xfrm>
            <a:off x="1571760" y="4572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ирав лікарські рослини. Часто ходив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P3100144"/>
          <p:cNvPicPr/>
          <p:nvPr/>
        </p:nvPicPr>
        <p:blipFill>
          <a:blip r:embed="rId8"/>
          <a:srcRect l="0" t="6435" r="85978" b="69350"/>
          <a:stretch/>
        </p:blipFill>
        <p:spPr>
          <a:xfrm>
            <a:off x="7643880" y="435780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8"/>
          <p:cNvSpPr/>
          <p:nvPr/>
        </p:nvSpPr>
        <p:spPr>
          <a:xfrm>
            <a:off x="428760" y="5500800"/>
            <a:ext cx="68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  ягоди і гриби. Я добре відпочив за лі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4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6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6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2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9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2:53:53Z</dcterms:created>
  <dc:creator>Пользователь</dc:creator>
  <dc:description/>
  <dc:language>en-US</dc:language>
  <cp:lastModifiedBy>user</cp:lastModifiedBy>
  <dcterms:modified xsi:type="dcterms:W3CDTF">2016-11-04T05:04:30Z</dcterms:modified>
  <cp:revision>51</cp:revision>
  <dc:subject/>
  <dc:title>ЯК ЗОБРАЖУЮТЬ ПОВЕРХНЮ ЗЕМЛІ НА ГЛОБУСІ Й КАРТІ</dc:title>
</cp:coreProperties>
</file>