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627-22E4-4F5B-BCEC-1FB4C418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2F8-642C-4561-89B1-9076AED4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AC5-88A7-4FB5-8752-D530375B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C6B-BAD0-4029-BC94-2E3795B2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8263E-A6D0-48D8-98BD-4B1BE524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BB1D6-08F8-4098-B7E4-AC63E6A3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FB8A2-2EA8-4C33-85F1-C6DA610C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4E417-D6A8-4D89-8612-BCB9297D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9D79C-9452-4E3A-AB74-A3726F99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71123-CB3F-4E5F-A8F0-151479FD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6CE22-E0F2-4BB7-A6D4-8F49A219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813-73F2-42A9-87D9-2DA29D18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17CEA-57A3-4C26-9A25-C9BE6998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2DB4C-0A11-49CB-A730-6CCD76B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6C7DD-6F2A-492D-AEFB-E5761C9C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46F95-F42B-4390-AE1B-B7EBC85D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B907D-DD6D-4D92-B5F3-97985C8B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3143E-6F12-4EBC-B5EF-BE835578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98D1F-A406-42DA-AE14-43EE66A4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842B0-FE91-4DFE-8C9D-6AA78D65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827C7-9C7A-4E67-BE15-DACD1D3A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0D129-9DE7-4924-B193-6CB00B4F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C11-6674-45B0-834D-5AFBDFC3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DBC6D-BE7D-4FFE-818D-2094A157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A030C-952A-4D0D-8A1D-396CF62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71415-C2E5-4303-B09D-2B7D405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B3CEF-FBE6-4EDB-8D7B-4A00816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982B4-A725-4BA0-B61F-52D18836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D9015-922C-42C9-AE12-3AFA0FD0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E067B-B2D7-41DE-BE0F-1514A1C7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58E9-0605-4EC0-915F-9AA6AC27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F10F-662C-499B-B1E1-C30B90B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8C70-F6FD-48B5-A5CD-28237F38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488-3A44-4598-81D5-A865D901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076B-87EE-435B-AFC8-A616BD93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0B347-5C59-4539-9064-E67E1023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5A8E-F6EC-458D-BAA0-DA60738C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9E665-D932-4D86-B4C0-C3E0F576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386C-9501-495D-AAAD-E1FC1A6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11C00-571D-49C0-9BFD-EDCDD6B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E1D7-9993-4CFE-A219-0E991BEF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8943-318D-4E70-8F06-FFA1F05C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F38A9-8AA1-4775-8CAA-57668A72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CCAE8-D08B-419B-84D2-24CE0891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F58-C634-4951-8590-4674B022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D4E0D-811C-421F-B23B-F7D57212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85CD-9E61-4541-AF09-8D636D87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1F1E5-2232-457B-828D-4A26631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1734-B29D-45C8-BE7E-23DB91B6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0D0C3-D955-4869-A8C7-91409C07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4D4C9-062D-45D2-8CA9-031289D3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7949C-F557-467C-923E-8035548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1D8B-2E3F-4AE2-80FB-4F3B7589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6FDB6-3D32-41F5-81C4-AD037B9E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21BE-74E2-4154-B302-620D7883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8A9-EE00-42CB-B43F-07F055BC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EE1EF-9A53-40DC-97A6-F5CEEA89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FF9-4641-4A03-BF06-182CD069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61E-B9D6-4ADE-A22C-0F552E6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9FC-F8FF-4783-A1C1-DF60E7DE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039A-43FE-424C-8ED8-A155C9D47C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BB16-F74E-4216-A2BE-7BCAF873D1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19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3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2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3805-B872-4D35-82E6-7E2CDF0ABF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38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flipH="1" flipV="1" rot="18391200">
              <a:off x="853416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E1AC-C6FD-4C2D-A25F-321B8ABB0C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37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E85B-55DD-4B4E-B97A-1058091A79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uk.wikipedia.org/wiki/&#1059;&#1082;&#1088;&#1072;&#1111;&#1085;&#1089;&#1100;&#1082;&#1110;_&#1050;&#1072;&#1088;&#1087;&#1072;&#1090;&#1080;" TargetMode="External"/><Relationship Id="rId3" Type="http://schemas.openxmlformats.org/officeDocument/2006/relationships/hyperlink" Target="http://uk.wikipedia.org/wiki/&#1059;&#1082;&#1088;&#1072;&#1111;&#1085;&#1089;&#1100;&#1082;&#1110;_&#1050;&#1072;&#1088;&#1087;&#1072;&#1090;&#1080;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&amp;Lcy;&amp;icy;&amp;pcy;&amp;ocy;&amp;vcy;&amp;acy; &amp;acy;&amp;lcy;&amp;iecy;&amp;yacy; &amp;vcy; &amp;Ucy;&amp;zhcy;&amp;gcy;&amp;ocy;&amp;rcy;&amp;ocy;&amp;dcy;&amp;iukcy;"/>
          <p:cNvPicPr/>
          <p:nvPr/>
        </p:nvPicPr>
        <p:blipFill>
          <a:blip r:embed="rId1"/>
          <a:stretch/>
        </p:blipFill>
        <p:spPr>
          <a:xfrm>
            <a:off x="6215040" y="2143080"/>
            <a:ext cx="2928960" cy="250020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17" descr="http://sichkarnya.org.ua/uploads/posts/2011-08/1312269784_7_chudes_zakarpattja.jpg"/>
          <p:cNvPicPr/>
          <p:nvPr/>
        </p:nvPicPr>
        <p:blipFill>
          <a:blip r:embed="rId2"/>
          <a:srcRect l="0" t="0" r="16669" b="34047"/>
          <a:stretch/>
        </p:blipFill>
        <p:spPr>
          <a:xfrm>
            <a:off x="1928880" y="1143000"/>
            <a:ext cx="5000400" cy="22147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5" descr="закарпаття-синевір1"/>
          <p:cNvPicPr/>
          <p:nvPr/>
        </p:nvPicPr>
        <p:blipFill>
          <a:blip r:embed="rId3"/>
          <a:stretch/>
        </p:blipFill>
        <p:spPr>
          <a:xfrm>
            <a:off x="6786720" y="214200"/>
            <a:ext cx="2100240" cy="142884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5" descr="ce-01"/>
          <p:cNvPicPr/>
          <p:nvPr/>
        </p:nvPicPr>
        <p:blipFill>
          <a:blip r:embed="rId4"/>
          <a:stretch/>
        </p:blipFill>
        <p:spPr>
          <a:xfrm>
            <a:off x="928800" y="2357280"/>
            <a:ext cx="1571400" cy="25005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4" descr="Dolyna_narcysiv"/>
          <p:cNvPicPr/>
          <p:nvPr/>
        </p:nvPicPr>
        <p:blipFill>
          <a:blip r:embed="rId5"/>
          <a:stretch/>
        </p:blipFill>
        <p:spPr>
          <a:xfrm>
            <a:off x="285840" y="285840"/>
            <a:ext cx="1785960" cy="171432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70c0"/>
                </a:solidFill>
                <a:latin typeface="Arial"/>
              </a:rPr>
              <a:t>УРОК-ПОДОРОЖ:</a:t>
            </a:r>
            <a:r>
              <a:rPr b="0" lang="uk-UA" sz="4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9" name="WordArt 4"/>
          <p:cNvSpPr txBox="1"/>
          <p:nvPr/>
        </p:nvSpPr>
        <p:spPr>
          <a:xfrm>
            <a:off x="2000160" y="1214280"/>
            <a:ext cx="542952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65f91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65f91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0" name="Picture 6" descr="http://uateka.com/uploads/photo/2011/07/21/de82caac2212e59194d96d2899b89c1f875b09d2.jpg"/>
          <p:cNvPicPr/>
          <p:nvPr/>
        </p:nvPicPr>
        <p:blipFill>
          <a:blip r:embed="rId6"/>
          <a:stretch/>
        </p:blipFill>
        <p:spPr>
          <a:xfrm>
            <a:off x="4071960" y="3286080"/>
            <a:ext cx="2143080" cy="3000600"/>
          </a:xfrm>
          <a:prstGeom prst="rect">
            <a:avLst/>
          </a:prstGeom>
          <a:ln w="0">
            <a:noFill/>
          </a:ln>
        </p:spPr>
      </p:pic>
      <p:sp>
        <p:nvSpPr>
          <p:cNvPr id="901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16" descr="http://karpatnews.in.ua/images/2011/11/P809120936930.jpg"/>
          <p:cNvPicPr/>
          <p:nvPr/>
        </p:nvPicPr>
        <p:blipFill>
          <a:blip r:embed="rId7"/>
          <a:stretch/>
        </p:blipFill>
        <p:spPr>
          <a:xfrm>
            <a:off x="1285920" y="428616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Прямоугольник 1"/>
          <p:cNvSpPr/>
          <p:nvPr/>
        </p:nvSpPr>
        <p:spPr>
          <a:xfrm>
            <a:off x="642960" y="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d22f3"/>
                </a:solidFill>
                <a:latin typeface="Arial"/>
              </a:rPr>
              <a:t>Долина нарцис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8" descr="250px-Shema_Valley_of_Narcissi"/>
          <p:cNvPicPr/>
          <p:nvPr/>
        </p:nvPicPr>
        <p:blipFill>
          <a:blip r:embed="rId1"/>
          <a:stretch/>
        </p:blipFill>
        <p:spPr>
          <a:xfrm>
            <a:off x="6093000" y="3071880"/>
            <a:ext cx="3051000" cy="3672000"/>
          </a:xfrm>
          <a:prstGeom prst="rect">
            <a:avLst/>
          </a:prstGeom>
          <a:ln w="0">
            <a:noFill/>
          </a:ln>
        </p:spPr>
      </p:pic>
      <p:sp>
        <p:nvSpPr>
          <p:cNvPr id="960" name="Прямоугольник 3"/>
          <p:cNvSpPr/>
          <p:nvPr/>
        </p:nvSpPr>
        <p:spPr>
          <a:xfrm>
            <a:off x="214200" y="642960"/>
            <a:ext cx="87156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нікальному біосферному заповіднику, розташованому в 4 км від закарпатського міста Хуст,в урочищі Кіреші ,тільки раз на рік, з середини і до кінця травня можна побачити унікальне явище природи – цвітіння Долини нарцис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 заповідника становить 257 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т ростуть понад 500 видів росл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 з яких занесені в Червону Книгу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 головною визначною пам’ятк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ідника є нарцисовіполя, загаль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 яких близько 170 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і рослини є лише на Балканах 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ьпах, але на висоті близько 2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0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Прямоугольник 1"/>
          <p:cNvSpPr/>
          <p:nvPr/>
        </p:nvSpPr>
        <p:spPr>
          <a:xfrm>
            <a:off x="0" y="142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Щоб потрапити в цей заповідник та послухати легенду про його утворення, слід виконати письмово таке завд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17"/>
          <p:cNvSpPr/>
          <p:nvPr/>
        </p:nvSpPr>
        <p:spPr>
          <a:xfrm>
            <a:off x="142920" y="10717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№</a:t>
            </a: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1   Виконати додавання, обираючи зручний порядок обчислень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Прямоугольник 33"/>
          <p:cNvSpPr/>
          <p:nvPr/>
        </p:nvSpPr>
        <p:spPr>
          <a:xfrm>
            <a:off x="357120" y="1500120"/>
            <a:ext cx="7429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а)  7,29 + (- 5,126) + (- 6,29) + 5,126;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б) -</a:t>
            </a:r>
            <a:r>
              <a:rPr b="0" lang="uk-UA" sz="1800" spc="-1" strike="noStrike">
                <a:solidFill>
                  <a:srgbClr val="0b0a25"/>
                </a:solidFill>
                <a:latin typeface="Arial"/>
                <a:ea typeface="Times New Roman"/>
              </a:rPr>
              <a:t>3     +9,84 + 1    +(-20,84) ;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  <a:ea typeface="Times New Roman"/>
              </a:rPr>
              <a:t>в) -       +        + (-        ) +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8"/>
          <p:cNvSpPr/>
          <p:nvPr/>
        </p:nvSpPr>
        <p:spPr>
          <a:xfrm>
            <a:off x="4467240" y="2923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Object 45"/>
              <p:cNvSpPr txBox="1"/>
              <p:nvPr/>
            </p:nvSpPr>
            <p:spPr>
              <a:xfrm>
                <a:off x="785880" y="2857680"/>
                <a:ext cx="44280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Object 44"/>
              <p:cNvSpPr txBox="1"/>
              <p:nvPr/>
            </p:nvSpPr>
            <p:spPr>
              <a:xfrm>
                <a:off x="1428840" y="2786040"/>
                <a:ext cx="357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Object 43"/>
              <p:cNvSpPr txBox="1"/>
              <p:nvPr/>
            </p:nvSpPr>
            <p:spPr>
              <a:xfrm>
                <a:off x="2286000" y="2857680"/>
                <a:ext cx="43344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Object 42"/>
              <p:cNvSpPr txBox="1"/>
              <p:nvPr/>
            </p:nvSpPr>
            <p:spPr>
              <a:xfrm>
                <a:off x="3000240" y="2857680"/>
                <a:ext cx="443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0" name="Rectangle 47"/>
          <p:cNvSpPr/>
          <p:nvPr/>
        </p:nvSpPr>
        <p:spPr>
          <a:xfrm>
            <a:off x="1800" y="4003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48"/>
          <p:cNvSpPr/>
          <p:nvPr/>
        </p:nvSpPr>
        <p:spPr>
          <a:xfrm>
            <a:off x="1440" y="8006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49"/>
          <p:cNvSpPr/>
          <p:nvPr/>
        </p:nvSpPr>
        <p:spPr>
          <a:xfrm>
            <a:off x="1800" y="1200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50"/>
          <p:cNvSpPr/>
          <p:nvPr/>
        </p:nvSpPr>
        <p:spPr>
          <a:xfrm>
            <a:off x="1440" y="16005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Object 52"/>
              <p:cNvSpPr txBox="1"/>
              <p:nvPr/>
            </p:nvSpPr>
            <p:spPr>
              <a:xfrm>
                <a:off x="857160" y="2000160"/>
                <a:ext cx="4287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Object 51"/>
              <p:cNvSpPr txBox="1"/>
              <p:nvPr/>
            </p:nvSpPr>
            <p:spPr>
              <a:xfrm>
                <a:off x="2143080" y="2000160"/>
                <a:ext cx="295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6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61"/>
          <p:cNvSpPr/>
          <p:nvPr/>
        </p:nvSpPr>
        <p:spPr>
          <a:xfrm>
            <a:off x="6480" y="88632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Прямоугольник 64"/>
          <p:cNvSpPr/>
          <p:nvPr/>
        </p:nvSpPr>
        <p:spPr>
          <a:xfrm>
            <a:off x="214200" y="3809880"/>
            <a:ext cx="57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  <a:ea typeface="Times New Roman"/>
              </a:rPr>
              <a:t>№</a:t>
            </a:r>
            <a:r>
              <a:rPr b="0" lang="uk-UA" sz="1800" spc="-1" strike="noStrike">
                <a:solidFill>
                  <a:srgbClr val="0b0a25"/>
                </a:solidFill>
                <a:latin typeface="Arial"/>
                <a:ea typeface="Times New Roman"/>
              </a:rPr>
              <a:t>2  Спростити вираз і знайти його значення:</a:t>
            </a:r>
            <a:r>
              <a:rPr b="0" lang="ru-RU" sz="1800" spc="-1" strike="noStrike">
                <a:solidFill>
                  <a:srgbClr val="0b0a2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65"/>
          <p:cNvSpPr/>
          <p:nvPr/>
        </p:nvSpPr>
        <p:spPr>
          <a:xfrm>
            <a:off x="285840" y="43578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7,44 + а + (- 3,5) + (- 5,44) + (- 12,5) + </a:t>
            </a:r>
            <a:r>
              <a:rPr b="0" lang="en-US" sz="1800" spc="-1" strike="noStrike">
                <a:solidFill>
                  <a:srgbClr val="0b0a25"/>
                </a:solidFill>
                <a:latin typeface="Arial"/>
              </a:rPr>
              <a:t>b</a:t>
            </a: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, якщо а = 9,6;  </a:t>
            </a:r>
            <a:r>
              <a:rPr b="0" lang="en-US" sz="1800" spc="-1" strike="noStrike">
                <a:solidFill>
                  <a:srgbClr val="0b0a25"/>
                </a:solidFill>
                <a:latin typeface="Arial"/>
              </a:rPr>
              <a:t>b</a:t>
            </a: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 = - 5,6;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7" descr="D33DD3A0-302F-4E28-9D80-D79B89AE8992_mw800_mh600_s"/>
          <p:cNvPicPr/>
          <p:nvPr/>
        </p:nvPicPr>
        <p:blipFill>
          <a:blip r:embed="rId1"/>
          <a:stretch/>
        </p:blipFill>
        <p:spPr>
          <a:xfrm>
            <a:off x="5786280" y="4357800"/>
            <a:ext cx="3168720" cy="22636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Dolyna_narcysiv"/>
          <p:cNvPicPr/>
          <p:nvPr/>
        </p:nvPicPr>
        <p:blipFill>
          <a:blip r:embed="rId2"/>
          <a:stretch/>
        </p:blipFill>
        <p:spPr>
          <a:xfrm>
            <a:off x="179280" y="333360"/>
            <a:ext cx="4248360" cy="318456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 txBox="1"/>
          <p:nvPr/>
        </p:nvSpPr>
        <p:spPr>
          <a:xfrm>
            <a:off x="213840" y="21420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ій з легенд про нарцис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вориться, що в стародавні часи в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стському замку жили князь, княгиня 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їхня красуня-донька Руся. У ден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ноліття Русі до замку потягнули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ататися знатні візитери з дорог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арунками. Серед них був бід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нчар Іванко. Він подарував Рус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звичайну вазу, на якій, як живий, цв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расний білий нарцис. Іванко та Ру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юбили один одного і стали потай зустрічатися в долині. Коли ж княз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відався про це, він розсердився, схопив вазу і жбурнув її з Княжої гори. Ва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билася і розсипалася дрібним дощ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анці зійшло сонце і всі побачили, що придол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крита біло-зеленим нарцисовим килимом.І до ць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я, кожну весну Долина нарцисів вкриваєть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леним килимом, на якому розсипані білі віноч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іжних квітів – не десятки і навіть не тисячі, а вел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зна кількість, яка не піддається рахунку.Таку крас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на побачити тільки тут, а аромат нарцисів, доповнює незабутнє видовищ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9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9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9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9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9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9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9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9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9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9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9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9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9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9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9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9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9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9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9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9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9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9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9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Скругленный прямоугольник 30"/>
          <p:cNvSpPr/>
          <p:nvPr/>
        </p:nvSpPr>
        <p:spPr>
          <a:xfrm>
            <a:off x="4071960" y="5429160"/>
            <a:ext cx="442908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94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Скругленный прямоугольник 29"/>
          <p:cNvSpPr/>
          <p:nvPr/>
        </p:nvSpPr>
        <p:spPr>
          <a:xfrm>
            <a:off x="3286080" y="4071960"/>
            <a:ext cx="4929120" cy="13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94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Скругленный прямоугольник 28"/>
          <p:cNvSpPr/>
          <p:nvPr/>
        </p:nvSpPr>
        <p:spPr>
          <a:xfrm>
            <a:off x="4071960" y="2643120"/>
            <a:ext cx="4714920" cy="135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94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Прямоугольник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d22f3"/>
                </a:solidFill>
                <a:latin typeface="Arial"/>
              </a:rPr>
              <a:t>Гора Говер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2"/>
          <p:cNvSpPr/>
          <p:nvPr/>
        </p:nvSpPr>
        <p:spPr>
          <a:xfrm>
            <a:off x="0" y="642960"/>
            <a:ext cx="900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вища вершина Українських Карпат, висота 2061 м.  Знаходиться у масиві Чорногора. Має конусоподібну форму. На схилах — форми плейстоценового зледеніння, каменепади. Вкрита альпійськими луками, чагарниками, подекуди — кам’яні осипища. Перебуває у межах охоронної зони Карпатського біосферного заповід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Прямоугольник 4"/>
          <p:cNvSpPr/>
          <p:nvPr/>
        </p:nvSpPr>
        <p:spPr>
          <a:xfrm>
            <a:off x="428760" y="200016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b0a25"/>
                </a:solidFill>
                <a:latin typeface="Arial"/>
              </a:rPr>
              <a:t>Щоб піднятися на вершину гори і дізнатися про його виникнення потрібно об</a:t>
            </a:r>
            <a:r>
              <a:rPr b="1" i="1" lang="en-US" sz="1800" spc="-1" strike="noStrike">
                <a:solidFill>
                  <a:srgbClr val="0b0a25"/>
                </a:solidFill>
                <a:latin typeface="Arial"/>
              </a:rPr>
              <a:t>’</a:t>
            </a:r>
            <a:r>
              <a:rPr b="1" i="1" lang="uk-UA" sz="1800" spc="-1" strike="noStrike">
                <a:solidFill>
                  <a:srgbClr val="0b0a25"/>
                </a:solidFill>
                <a:latin typeface="Arial"/>
              </a:rPr>
              <a:t>єднатися в групи і виконати такі 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4"/>
              <p:cNvSpPr txBox="1"/>
              <p:nvPr/>
            </p:nvSpPr>
            <p:spPr>
              <a:xfrm>
                <a:off x="6786720" y="3500280"/>
                <a:ext cx="366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3"/>
              <p:cNvSpPr txBox="1"/>
              <p:nvPr/>
            </p:nvSpPr>
            <p:spPr>
              <a:xfrm>
                <a:off x="7286760" y="3500280"/>
                <a:ext cx="2142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2" name="Rectangle 5"/>
          <p:cNvSpPr/>
          <p:nvPr/>
        </p:nvSpPr>
        <p:spPr>
          <a:xfrm>
            <a:off x="4143240" y="271908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Група     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1) Порівняти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Calibri"/>
                <a:ea typeface="Times New Roman"/>
              </a:rPr>
              <a:t>а)–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 167  і  45;                    б)  0  і   -7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в)  -  1,23  і  -  1,32;       г)      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507240" y="8575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0"/>
          <p:cNvSpPr/>
          <p:nvPr/>
        </p:nvSpPr>
        <p:spPr>
          <a:xfrm>
            <a:off x="3500280" y="407628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Груп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1) Порівняти чи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Calibri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b0a25"/>
                </a:solidFill>
                <a:latin typeface="Calibri"/>
                <a:ea typeface="Times New Roman"/>
              </a:rPr>
              <a:t>а)–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 2,53  і  </a:t>
            </a:r>
            <a:r>
              <a:rPr b="0" lang="uk-UA" sz="1800" spc="-1" strike="noStrike">
                <a:solidFill>
                  <a:srgbClr val="0b0a25"/>
                </a:solidFill>
                <a:latin typeface="Calibri"/>
                <a:ea typeface="Times New Roman"/>
              </a:rPr>
              <a:t>–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 2,35 ;                      б)  -65  і  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в)  128  і  - 26;                         г)       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507240" y="7909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7" name="Object 13"/>
              <p:cNvSpPr txBox="1"/>
              <p:nvPr/>
            </p:nvSpPr>
            <p:spPr>
              <a:xfrm>
                <a:off x="7000920" y="4929120"/>
                <a:ext cx="2858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9" name="Object 15"/>
              <p:cNvSpPr txBox="1"/>
              <p:nvPr/>
            </p:nvSpPr>
            <p:spPr>
              <a:xfrm>
                <a:off x="7572240" y="4929120"/>
                <a:ext cx="285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0" name="Rectangle 19"/>
          <p:cNvSpPr/>
          <p:nvPr/>
        </p:nvSpPr>
        <p:spPr>
          <a:xfrm>
            <a:off x="4143240" y="54334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Група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1) Порівняти чи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а) </a:t>
            </a:r>
            <a:r>
              <a:rPr b="0" lang="uk-UA" sz="1800" spc="-1" strike="noStrike">
                <a:solidFill>
                  <a:srgbClr val="0b0a25"/>
                </a:solidFill>
                <a:latin typeface="Calibri"/>
                <a:ea typeface="Times New Roman"/>
              </a:rPr>
              <a:t>–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 38  і  57;                     б)  0  і   -3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в)  -  5,21  і  -  5,12;            г)     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0"/>
          <p:cNvSpPr/>
          <p:nvPr/>
        </p:nvSpPr>
        <p:spPr>
          <a:xfrm>
            <a:off x="507240" y="7909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1"/>
          <p:cNvSpPr/>
          <p:nvPr/>
        </p:nvSpPr>
        <p:spPr>
          <a:xfrm>
            <a:off x="506520" y="12013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22"/>
              <p:cNvSpPr txBox="1"/>
              <p:nvPr/>
            </p:nvSpPr>
            <p:spPr>
              <a:xfrm>
                <a:off x="7143840" y="6215040"/>
                <a:ext cx="214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24"/>
              <p:cNvSpPr txBox="1"/>
              <p:nvPr/>
            </p:nvSpPr>
            <p:spPr>
              <a:xfrm>
                <a:off x="7500960" y="6286680"/>
                <a:ext cx="214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7" name="Picture 4" descr="&amp;Pcy;&amp;ocy;&amp;khcy;&amp;iukcy;&amp;dcy; &amp;ncy;&amp;acy; &amp;ncy;&amp;acy;&amp;jcy;&amp;vcy;&amp;icy;&amp;shchcy;&amp;ucy; &amp;tcy;&amp;ocy;&amp;chcy;&amp;kcy;&amp;ucy; &amp;Ucy;&amp;kcy;&amp;rcy;&amp;acy;&amp;yicy;&amp;ncy;&amp;icy; - &amp;gcy;&amp;ocy;&amp;rcy;&amp;ucy; &amp;Gcy;&amp;ocy;&amp;vcy;&amp;iecy;&amp;rcy;&amp;lcy;&amp;ucy;"/>
          <p:cNvPicPr/>
          <p:nvPr/>
        </p:nvPicPr>
        <p:blipFill>
          <a:blip r:embed="rId1"/>
          <a:stretch/>
        </p:blipFill>
        <p:spPr>
          <a:xfrm>
            <a:off x="0" y="2571840"/>
            <a:ext cx="3201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Прямоугольник 1"/>
          <p:cNvSpPr/>
          <p:nvPr/>
        </p:nvSpPr>
        <p:spPr>
          <a:xfrm>
            <a:off x="0" y="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екладі з угорської мови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оверл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ніжна гора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 це фактично правильно,тому що сніг на вершині тримається до серп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Прямоугольник 2"/>
          <p:cNvSpPr/>
          <p:nvPr/>
        </p:nvSpPr>
        <p:spPr>
          <a:xfrm>
            <a:off x="14292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роді про гору Говерла існує кіль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ен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6" descr="http://uateka.com/uploads/photo/2011/07/21/de82caac2212e59194d96d2899b89c1f875b09d2.jpg"/>
          <p:cNvPicPr/>
          <p:nvPr/>
        </p:nvPicPr>
        <p:blipFill>
          <a:blip r:embed="rId1"/>
          <a:stretch/>
        </p:blipFill>
        <p:spPr>
          <a:xfrm>
            <a:off x="142920" y="2500200"/>
            <a:ext cx="2928960" cy="30006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8" descr="http://i.io.ua/img_su/small/0011/16/00111674_n1.jpg"/>
          <p:cNvPicPr/>
          <p:nvPr/>
        </p:nvPicPr>
        <p:blipFill>
          <a:blip r:embed="rId2"/>
          <a:stretch/>
        </p:blipFill>
        <p:spPr>
          <a:xfrm>
            <a:off x="5429160" y="0"/>
            <a:ext cx="3500640" cy="2286000"/>
          </a:xfrm>
          <a:prstGeom prst="rect">
            <a:avLst/>
          </a:prstGeom>
          <a:ln w="0">
            <a:noFill/>
          </a:ln>
        </p:spPr>
      </p:pic>
      <p:sp>
        <p:nvSpPr>
          <p:cNvPr id="1012" name="Прямоугольник 8"/>
          <p:cNvSpPr/>
          <p:nvPr/>
        </p:nvSpPr>
        <p:spPr>
          <a:xfrm>
            <a:off x="214200" y="18572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охав хлопець Прут д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чину  Говерлу. Ця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 була щирою, радісною для обох. Але Говерла була Дочкою гірського царя і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огла, просто не мала права любити звичай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опця.Але любов не можна сховати від людських оч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ідався про це Цар. Заборонив Говерлі  виходити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ачення до Пруту. Але сила любові була вище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рони батька й Говерла тайкома втекла в гори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уту. Але довідався  про це Цар, розгнівався й схова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ерлу. Ранком прокинулися люди й побачили серед г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у  вершину, вкриту снігом, начебто білою шапко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 була Говерла, яку батько, завдяки чара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творив у гірську вершину. Довго шукав Пр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ерлу, зустрів у горах старого діда. Той сказав йому: "Якщо хочеш бачитися з Говерлою, то потрібно йти на схід на вершину гори й гірська вершина знову стане твоєю коханою". І пішов Прут. Продирався крізь хащу, мочив ноги в гірських потоках, але Прут не встиг зійти на вершину. Сів він під ялину й гірко заплакав. З цього місця, де він плакав, потекла вниз річка, що століттями обіймає гору. Гору назвали Говерла, а річку - Пр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3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3881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d0dff"/>
                </a:solidFill>
                <a:latin typeface="Arial"/>
              </a:rPr>
              <a:t>Центр Європ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428640" y="2071800"/>
            <a:ext cx="57150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ічний центр Європи знаходиться в Українських Карпатах на Рахівщині, поблизу села Ділового, на знак чого тут в 1887 році споруджено геодезичний знак Центр Європи Він є двометровим геодезичним знаком, який виготовлено з високоякісного бетону і має форму зрізаної чотиригранної піраміди. На прямокутному постаменті висічене наступне: "Постійне точне, вічне місце. Дуже точно, зі спеціальним апаратом, виготовленим в Австрії та Угорщині, зі шкалою меридіанів і паралелей, встановлений тут Центр Європи 188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5" name="Picture 4" descr="21512970"/>
          <p:cNvPicPr/>
          <p:nvPr/>
        </p:nvPicPr>
        <p:blipFill>
          <a:blip r:embed="rId2"/>
          <a:stretch/>
        </p:blipFill>
        <p:spPr>
          <a:xfrm>
            <a:off x="4716360" y="0"/>
            <a:ext cx="4011840" cy="19890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5" descr="ce-01"/>
          <p:cNvPicPr/>
          <p:nvPr/>
        </p:nvPicPr>
        <p:blipFill>
          <a:blip r:embed="rId3"/>
          <a:stretch/>
        </p:blipFill>
        <p:spPr>
          <a:xfrm>
            <a:off x="500040" y="1928880"/>
            <a:ext cx="2913120" cy="45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0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10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Прямоугольник 1"/>
          <p:cNvSpPr/>
          <p:nvPr/>
        </p:nvSpPr>
        <p:spPr>
          <a:xfrm>
            <a:off x="0" y="35712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b0a25"/>
                </a:solidFill>
                <a:latin typeface="Arial"/>
              </a:rPr>
              <a:t>Тут ми з вами трохи відпочинемо, зробимо перерву від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2560" y="1571760"/>
            <a:ext cx="47862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dfdef6"/>
                </a:solidFill>
                <a:latin typeface="Arial"/>
              </a:rPr>
              <a:t>Йшли ведмедики малі.</a:t>
            </a:r>
            <a:br>
              <a:rPr sz="2800"/>
            </a:br>
            <a:r>
              <a:rPr b="0" i="1" lang="uk-UA" sz="2800" spc="-1" strike="noStrike">
                <a:solidFill>
                  <a:srgbClr val="dfdef6"/>
                </a:solidFill>
                <a:latin typeface="Arial"/>
              </a:rPr>
              <a:t>нахилились до землі.</a:t>
            </a:r>
            <a:br>
              <a:rPr sz="2800"/>
            </a:br>
            <a:r>
              <a:rPr b="0" i="1" lang="uk-UA" sz="2800" spc="-1" strike="noStrike">
                <a:solidFill>
                  <a:srgbClr val="dfdef6"/>
                </a:solidFill>
                <a:latin typeface="Arial"/>
              </a:rPr>
              <a:t>Потім встали.руки в боки</a:t>
            </a:r>
            <a:br>
              <a:rPr sz="2800"/>
            </a:br>
            <a:r>
              <a:rPr b="0" i="1" lang="uk-UA" sz="2800" spc="-1" strike="noStrike">
                <a:solidFill>
                  <a:srgbClr val="dfdef6"/>
                </a:solidFill>
                <a:latin typeface="Arial"/>
              </a:rPr>
              <a:t>І зробили три підскоки.</a:t>
            </a:r>
            <a:br>
              <a:rPr sz="2800"/>
            </a:br>
            <a:r>
              <a:rPr b="0" i="1" lang="uk-UA" sz="2800" spc="-1" strike="noStrike">
                <a:solidFill>
                  <a:srgbClr val="dfdef6"/>
                </a:solidFill>
                <a:latin typeface="Arial"/>
              </a:rPr>
              <a:t>Потім розминули плечі – </a:t>
            </a:r>
            <a:br>
              <a:rPr sz="2800"/>
            </a:br>
            <a:r>
              <a:rPr b="0" i="1" lang="uk-UA" sz="2800" spc="-1" strike="noStrike">
                <a:solidFill>
                  <a:srgbClr val="dfdef6"/>
                </a:solidFill>
                <a:latin typeface="Arial"/>
              </a:rPr>
              <a:t>Рівні спинки у дітей.</a:t>
            </a:r>
            <a:br>
              <a:rPr sz="2800"/>
            </a:br>
            <a:r>
              <a:rPr b="0" i="1" lang="uk-UA" sz="2800" spc="-1" strike="noStrike">
                <a:solidFill>
                  <a:srgbClr val="dfdef6"/>
                </a:solidFill>
                <a:latin typeface="Arial"/>
              </a:rPr>
              <a:t>Руки вгору опустили</a:t>
            </a:r>
            <a:br>
              <a:rPr sz="2800"/>
            </a:br>
            <a:r>
              <a:rPr b="0" i="1" lang="uk-UA" sz="2800" spc="-1" strike="noStrike">
                <a:solidFill>
                  <a:srgbClr val="dfdef6"/>
                </a:solidFill>
                <a:latin typeface="Arial"/>
              </a:rPr>
              <a:t>І за парти дружно сіли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019" name="Picture 4" descr="http://t1.gstatic.com/images?q=tbn:ANd9GcRWoP1asWa3Iiq2eYq7Oa-D8mVWJ3Uu69F-GY8vHj9B5_MrslgedA"/>
          <p:cNvPicPr/>
          <p:nvPr/>
        </p:nvPicPr>
        <p:blipFill>
          <a:blip r:embed="rId1"/>
          <a:stretch/>
        </p:blipFill>
        <p:spPr>
          <a:xfrm>
            <a:off x="5072040" y="1785960"/>
            <a:ext cx="3929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4000320" y="3068280"/>
            <a:ext cx="5143320" cy="31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Прямоугольник 5"/>
          <p:cNvSpPr/>
          <p:nvPr/>
        </p:nvSpPr>
        <p:spPr>
          <a:xfrm>
            <a:off x="142920" y="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d22f3"/>
                </a:solidFill>
                <a:latin typeface="Arial"/>
              </a:rPr>
              <a:t>Соляні печери та озера Закарпа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Прямоугольник 6"/>
          <p:cNvSpPr/>
          <p:nvPr/>
        </p:nvSpPr>
        <p:spPr>
          <a:xfrm>
            <a:off x="357120" y="71424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і  унікальні дари природи знаходяться у Тячівському районі ,се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С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твине . Цьому селу на Закарпатті дістався багатий дарунок природи — соляні шахти. А над ними — соляні озера, що суперничають щодо своїх унікальних властивостей iз Мертвим море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Прямоугольник 7"/>
          <p:cNvSpPr/>
          <p:nvPr/>
        </p:nvSpPr>
        <p:spPr>
          <a:xfrm>
            <a:off x="285840" y="1928880"/>
            <a:ext cx="90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твинські солекопальні — єдині в Україні і СНД, у яких можливе лікування в підземних умовах, а також сполучення спелеотерапії і бальнеогрязелікування з використанням розсолу і бруду оз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11" descr="http://t3.gstatic.com/images?q=tbn:ANd9GcSjFzNurhxY6WPe0pMw6RqSNNaX4xl7Asx9Bx9FRCqOvucy-o6Q1w"/>
          <p:cNvPicPr/>
          <p:nvPr/>
        </p:nvPicPr>
        <p:blipFill>
          <a:blip r:embed="rId1"/>
          <a:stretch/>
        </p:blipFill>
        <p:spPr>
          <a:xfrm>
            <a:off x="857160" y="2857680"/>
            <a:ext cx="4857840" cy="37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Скругленный прямоугольник 8"/>
          <p:cNvGrpSpPr/>
          <p:nvPr/>
        </p:nvGrpSpPr>
        <p:grpSpPr>
          <a:xfrm>
            <a:off x="2511360" y="249120"/>
            <a:ext cx="6688080" cy="6323040"/>
            <a:chOff x="2511360" y="249120"/>
            <a:chExt cx="6688080" cy="6323040"/>
          </a:xfrm>
        </p:grpSpPr>
        <p:pic>
          <p:nvPicPr>
            <p:cNvPr id="1026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2511360" y="249120"/>
              <a:ext cx="6688080" cy="63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2874960" y="588960"/>
              <a:ext cx="5965920" cy="56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Прямоугольник 3"/>
          <p:cNvSpPr/>
          <p:nvPr/>
        </p:nvSpPr>
        <p:spPr>
          <a:xfrm>
            <a:off x="2071800" y="300024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6"/>
          <p:cNvSpPr/>
          <p:nvPr/>
        </p:nvSpPr>
        <p:spPr>
          <a:xfrm>
            <a:off x="0" y="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b0a25"/>
                </a:solidFill>
                <a:latin typeface="Arial"/>
                <a:ea typeface="Times New Roman"/>
              </a:rPr>
              <a:t>Щоб відвідати соляні печери та озера вам необхідно вислухати місцевого жи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7"/>
          <p:cNvSpPr/>
          <p:nvPr/>
        </p:nvSpPr>
        <p:spPr>
          <a:xfrm>
            <a:off x="2928960" y="357120"/>
            <a:ext cx="6072120" cy="70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Додавати і віднімати від</a:t>
            </a:r>
            <a:r>
              <a:rPr b="0" i="1" lang="en-US" sz="2800" spc="-1" strike="noStrike">
                <a:solidFill>
                  <a:srgbClr val="002060"/>
                </a:solidFill>
                <a:latin typeface="Monotype Corsiva"/>
              </a:rPr>
              <a:t>’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ємні числа навчилися давньокитайські вчені ще до нашої 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Індійські математики уявляли собі додатні числа як «прибуток», а від</a:t>
            </a:r>
            <a:r>
              <a:rPr b="0" i="1" lang="en-US" sz="2800" spc="-1" strike="noStrike">
                <a:solidFill>
                  <a:srgbClr val="002060"/>
                </a:solidFill>
                <a:latin typeface="Monotype Corsiva"/>
              </a:rPr>
              <a:t>’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ємні числа як «борг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2060"/>
                </a:solidFill>
                <a:latin typeface="Monotype Corsiva"/>
              </a:rPr>
              <a:t>Ось як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індійський математик Брахмагуппа (</a:t>
            </a:r>
            <a:r>
              <a:rPr b="0" i="1" lang="en-US" sz="2800" spc="-1" strike="noStrike">
                <a:solidFill>
                  <a:srgbClr val="002060"/>
                </a:solidFill>
                <a:latin typeface="Monotype Corsiva"/>
              </a:rPr>
              <a:t>VII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ст.) формулював правила додавання і відніма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«Сума двох боргів є бор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«Сума двох  прибутків є прибуток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«Сума прибутку і боргу дорівнює їх різниці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8" descr="http://t2.gstatic.com/images?q=tbn:ANd9GcT-FvRCXDuD4bAFlg3d4huKHZjX9r1Kq1EaQw6D5kcmgf7wATOSxw"/>
          <p:cNvPicPr/>
          <p:nvPr/>
        </p:nvPicPr>
        <p:blipFill>
          <a:blip r:embed="rId2"/>
          <a:srcRect l="18707" t="0" r="31971" b="0"/>
          <a:stretch/>
        </p:blipFill>
        <p:spPr>
          <a:xfrm>
            <a:off x="142920" y="1500120"/>
            <a:ext cx="2500200" cy="4643640"/>
          </a:xfrm>
          <a:prstGeom prst="rect">
            <a:avLst/>
          </a:prstGeom>
          <a:ln w="0">
            <a:noFill/>
          </a:ln>
        </p:spPr>
      </p:pic>
      <p:sp>
        <p:nvSpPr>
          <p:cNvPr id="1032" name="Выноска-облако 10"/>
          <p:cNvSpPr/>
          <p:nvPr/>
        </p:nvSpPr>
        <p:spPr>
          <a:xfrm>
            <a:off x="0" y="357120"/>
            <a:ext cx="3643200" cy="1143000"/>
          </a:xfrm>
          <a:prstGeom prst="cloudCallout">
            <a:avLst>
              <a:gd name="adj1" fmla="val 10310"/>
              <a:gd name="adj2" fmla="val 134300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b0a25"/>
                </a:solidFill>
                <a:latin typeface="Arial"/>
              </a:rPr>
              <a:t>Пам</a:t>
            </a:r>
            <a:r>
              <a:rPr b="1" lang="en-US" sz="1600" spc="-1" strike="noStrike">
                <a:solidFill>
                  <a:srgbClr val="0b0a25"/>
                </a:solidFill>
                <a:latin typeface="Arial"/>
              </a:rPr>
              <a:t>’</a:t>
            </a:r>
            <a:r>
              <a:rPr b="1" lang="uk-UA" sz="1600" spc="-1" strike="noStrike">
                <a:solidFill>
                  <a:srgbClr val="0b0a25"/>
                </a:solidFill>
                <a:latin typeface="Arial"/>
              </a:rPr>
              <a:t>ятаючи про ці правила, заповніть наступні таблиц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3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000"/>
                            </p:stCondLst>
                            <p:childTnLst>
                              <p:par>
                                <p:cTn id="8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"/>
          <p:cNvGraphicFramePr/>
          <p:nvPr/>
        </p:nvGraphicFramePr>
        <p:xfrm>
          <a:off x="214200" y="1214280"/>
          <a:ext cx="4071960" cy="428652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720"/>
                <a:gridCol w="1017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    </a:t>
                      </a:r>
                      <a:r>
                        <a:rPr b="1" lang="uk-UA" sz="18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бо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бо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- 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- 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-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- 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- 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-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4572000" y="1214280"/>
          <a:ext cx="4286160" cy="428652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1720"/>
                <a:gridCol w="1071360"/>
              </a:tblGrid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прибу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бо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+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+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+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- 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-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b0a25"/>
                          </a:solidFill>
                          <a:latin typeface="Arial"/>
                        </a:rPr>
                        <a:t>- 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b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035" name="Прямая соединительная линия 20"/>
          <p:cNvSpPr/>
          <p:nvPr/>
        </p:nvSpPr>
        <p:spPr>
          <a:xfrm>
            <a:off x="214200" y="1143000"/>
            <a:ext cx="1000080" cy="10717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Прямая соединительная линия 23"/>
          <p:cNvSpPr/>
          <p:nvPr/>
        </p:nvSpPr>
        <p:spPr>
          <a:xfrm>
            <a:off x="4572000" y="1214280"/>
            <a:ext cx="1000080" cy="10717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Прямоугольник 24"/>
          <p:cNvSpPr/>
          <p:nvPr/>
        </p:nvSpPr>
        <p:spPr>
          <a:xfrm>
            <a:off x="2733120" y="35712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b0a25"/>
                </a:solidFill>
                <a:latin typeface="Arial"/>
              </a:rPr>
              <a:t>Заповніть табли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8"/>
          <p:cNvSpPr/>
          <p:nvPr/>
        </p:nvSpPr>
        <p:spPr>
          <a:xfrm>
            <a:off x="2428920" y="25718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9"/>
          <p:cNvSpPr/>
          <p:nvPr/>
        </p:nvSpPr>
        <p:spPr>
          <a:xfrm>
            <a:off x="1357200" y="25718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10"/>
          <p:cNvSpPr/>
          <p:nvPr/>
        </p:nvSpPr>
        <p:spPr>
          <a:xfrm>
            <a:off x="3429000" y="25718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11"/>
          <p:cNvSpPr/>
          <p:nvPr/>
        </p:nvSpPr>
        <p:spPr>
          <a:xfrm>
            <a:off x="1285920" y="37861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12"/>
          <p:cNvSpPr/>
          <p:nvPr/>
        </p:nvSpPr>
        <p:spPr>
          <a:xfrm>
            <a:off x="1285920" y="47862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13"/>
          <p:cNvSpPr/>
          <p:nvPr/>
        </p:nvSpPr>
        <p:spPr>
          <a:xfrm>
            <a:off x="2286000" y="37861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16"/>
          <p:cNvSpPr/>
          <p:nvPr/>
        </p:nvSpPr>
        <p:spPr>
          <a:xfrm>
            <a:off x="2286000" y="47862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17"/>
          <p:cNvSpPr/>
          <p:nvPr/>
        </p:nvSpPr>
        <p:spPr>
          <a:xfrm>
            <a:off x="3286080" y="37861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18"/>
          <p:cNvSpPr/>
          <p:nvPr/>
        </p:nvSpPr>
        <p:spPr>
          <a:xfrm>
            <a:off x="3286080" y="47862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19"/>
          <p:cNvSpPr/>
          <p:nvPr/>
        </p:nvSpPr>
        <p:spPr>
          <a:xfrm>
            <a:off x="5715000" y="26431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21"/>
          <p:cNvSpPr/>
          <p:nvPr/>
        </p:nvSpPr>
        <p:spPr>
          <a:xfrm>
            <a:off x="5643720" y="364320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22"/>
          <p:cNvSpPr/>
          <p:nvPr/>
        </p:nvSpPr>
        <p:spPr>
          <a:xfrm>
            <a:off x="5643720" y="471492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25"/>
          <p:cNvSpPr/>
          <p:nvPr/>
        </p:nvSpPr>
        <p:spPr>
          <a:xfrm>
            <a:off x="6715080" y="26431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26"/>
          <p:cNvSpPr/>
          <p:nvPr/>
        </p:nvSpPr>
        <p:spPr>
          <a:xfrm>
            <a:off x="7786800" y="26431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27"/>
          <p:cNvSpPr/>
          <p:nvPr/>
        </p:nvSpPr>
        <p:spPr>
          <a:xfrm>
            <a:off x="6715080" y="364320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28"/>
          <p:cNvSpPr/>
          <p:nvPr/>
        </p:nvSpPr>
        <p:spPr>
          <a:xfrm>
            <a:off x="7786800" y="371484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29"/>
          <p:cNvSpPr/>
          <p:nvPr/>
        </p:nvSpPr>
        <p:spPr>
          <a:xfrm>
            <a:off x="6715080" y="471492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30"/>
          <p:cNvSpPr/>
          <p:nvPr/>
        </p:nvSpPr>
        <p:spPr>
          <a:xfrm>
            <a:off x="7786800" y="471492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77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2" dur="770" fill="hold"/>
                                        <p:tgtEl>
                                          <p:spTgt spid="10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6" dur="77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42960" y="285480"/>
            <a:ext cx="670248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00"/>
                </a:solidFill>
                <a:latin typeface="Arial"/>
              </a:rPr>
              <a:t>Мета:</a:t>
            </a:r>
            <a:endParaRPr b="0" lang="en-US" sz="4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250920" y="1125000"/>
            <a:ext cx="7386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досконалити вміння додавати, віднімати та порівнювати раціональні чи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вивати логічне мислення і обчислювальні навич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ти культуру математичних записів та м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увати позитивне ставлення до навчання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евненість у своїх сил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точнити і розширити уявлення про велич і красу рідного Закарпатт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ликати інтерес до історії рідного кр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Прямоугольник 1"/>
          <p:cNvSpPr/>
          <p:nvPr/>
        </p:nvSpPr>
        <p:spPr>
          <a:xfrm>
            <a:off x="214200" y="21420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b0a25"/>
                </a:solidFill>
                <a:latin typeface="Arial"/>
              </a:rPr>
              <a:t>Подорожуємо з вами далі і наступна наша зупинка – ц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b0a25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b0a25"/>
                </a:solidFill>
                <a:latin typeface="Arial"/>
              </a:rPr>
              <a:t>Щоб узнати яка, розшифруємо слов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0" y="1293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йти  значення вир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</a:t>
            </a:r>
            <a:r>
              <a:rPr b="0" lang="uk-UA" sz="2400" spc="-1" strike="noStrike">
                <a:solidFill>
                  <a:srgbClr val="0b0a25"/>
                </a:solidFill>
                <a:latin typeface="Arial"/>
                <a:ea typeface="Calibri"/>
              </a:rPr>
              <a:t>а)  | - 8 | + | - 9 |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0a25"/>
                </a:solidFill>
                <a:latin typeface="Arial"/>
                <a:ea typeface="Calibri"/>
              </a:rPr>
              <a:t>             </a:t>
            </a:r>
            <a:r>
              <a:rPr b="0" lang="uk-UA" sz="2400" spc="-1" strike="noStrike">
                <a:solidFill>
                  <a:srgbClr val="0b0a25"/>
                </a:solidFill>
                <a:latin typeface="Arial"/>
                <a:ea typeface="Calibri"/>
              </a:rPr>
              <a:t>б)  | - 6 | - | 0 |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0a25"/>
                </a:solidFill>
                <a:latin typeface="Arial"/>
                <a:ea typeface="Calibri"/>
              </a:rPr>
              <a:t>             </a:t>
            </a:r>
            <a:r>
              <a:rPr b="0" lang="uk-UA" sz="2400" spc="-1" strike="noStrike">
                <a:solidFill>
                  <a:srgbClr val="0b0a25"/>
                </a:solidFill>
                <a:latin typeface="Arial"/>
                <a:ea typeface="Calibri"/>
              </a:rPr>
              <a:t>в) | -1,2 | + | 1,6 |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"/>
          <p:cNvSpPr/>
          <p:nvPr/>
        </p:nvSpPr>
        <p:spPr>
          <a:xfrm>
            <a:off x="0" y="28587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</a:t>
            </a:r>
            <a:r>
              <a:rPr b="0" lang="uk-UA" sz="2400" spc="-1" strike="noStrike">
                <a:solidFill>
                  <a:srgbClr val="0b0a25"/>
                </a:solidFill>
                <a:latin typeface="Arial"/>
                <a:ea typeface="Calibri"/>
              </a:rPr>
              <a:t>г) | -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5"/>
          <p:cNvSpPr/>
          <p:nvPr/>
        </p:nvSpPr>
        <p:spPr>
          <a:xfrm>
            <a:off x="45720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7"/>
          <p:cNvSpPr/>
          <p:nvPr/>
        </p:nvSpPr>
        <p:spPr>
          <a:xfrm>
            <a:off x="4459320" y="748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Object 16"/>
              <p:cNvSpPr txBox="1"/>
              <p:nvPr/>
            </p:nvSpPr>
            <p:spPr>
              <a:xfrm>
                <a:off x="1785960" y="2786040"/>
                <a:ext cx="357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2" name="Rectangle 18"/>
          <p:cNvSpPr/>
          <p:nvPr/>
        </p:nvSpPr>
        <p:spPr>
          <a:xfrm>
            <a:off x="45720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рямоугольник 20"/>
          <p:cNvSpPr/>
          <p:nvPr/>
        </p:nvSpPr>
        <p:spPr>
          <a:xfrm>
            <a:off x="2073600" y="29289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Прямоугольник 21"/>
          <p:cNvSpPr/>
          <p:nvPr/>
        </p:nvSpPr>
        <p:spPr>
          <a:xfrm>
            <a:off x="2216880" y="2928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Прямоугольник 24"/>
          <p:cNvSpPr/>
          <p:nvPr/>
        </p:nvSpPr>
        <p:spPr>
          <a:xfrm>
            <a:off x="2787840" y="29289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Calibri"/>
              </a:rPr>
              <a:t> </a:t>
            </a:r>
            <a:r>
              <a:rPr b="0" lang="uk-UA" sz="1800" spc="-1" strike="noStrike">
                <a:solidFill>
                  <a:srgbClr val="0b0a25"/>
                </a:solidFill>
                <a:latin typeface="Times New Roman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Object 19"/>
              <p:cNvSpPr txBox="1"/>
              <p:nvPr/>
            </p:nvSpPr>
            <p:spPr>
              <a:xfrm>
                <a:off x="2571840" y="2786040"/>
                <a:ext cx="357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8" name="Rectangle 21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2"/>
          <p:cNvSpPr/>
          <p:nvPr/>
        </p:nvSpPr>
        <p:spPr>
          <a:xfrm>
            <a:off x="4080240" y="178704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0a25"/>
                </a:solidFill>
                <a:latin typeface="Arial"/>
                <a:ea typeface="Calibri"/>
              </a:rPr>
              <a:t>            </a:t>
            </a:r>
            <a:r>
              <a:rPr b="0" lang="uk-UA" sz="2400" spc="-1" strike="noStrike">
                <a:solidFill>
                  <a:srgbClr val="0b0a25"/>
                </a:solidFill>
                <a:latin typeface="Arial"/>
                <a:ea typeface="Calibri"/>
              </a:rPr>
              <a:t>е) ( | - 3,5 | + | - 6,5 | )  4,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оугольник 30"/>
          <p:cNvSpPr/>
          <p:nvPr/>
        </p:nvSpPr>
        <p:spPr>
          <a:xfrm>
            <a:off x="6431040" y="2357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оугольник 33"/>
          <p:cNvSpPr/>
          <p:nvPr/>
        </p:nvSpPr>
        <p:spPr>
          <a:xfrm>
            <a:off x="3143160" y="22860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0a25"/>
                </a:solidFill>
                <a:latin typeface="Arial"/>
              </a:rPr>
              <a:t>                      </a:t>
            </a:r>
            <a:r>
              <a:rPr b="0" lang="uk-UA" sz="2400" spc="-1" strike="noStrike">
                <a:solidFill>
                  <a:srgbClr val="0b0a25"/>
                </a:solidFill>
                <a:latin typeface="Arial"/>
              </a:rPr>
              <a:t>є) | - 2,3  |   | 3,1 - 8,1 |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рямоугольник 34"/>
          <p:cNvSpPr/>
          <p:nvPr/>
        </p:nvSpPr>
        <p:spPr>
          <a:xfrm>
            <a:off x="8074440" y="18572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</a:rPr>
              <a:t>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рямоугольник 38"/>
          <p:cNvSpPr/>
          <p:nvPr/>
        </p:nvSpPr>
        <p:spPr>
          <a:xfrm>
            <a:off x="2073960" y="2928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  <a:ea typeface="Calibri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рямоугольник 39"/>
          <p:cNvSpPr/>
          <p:nvPr/>
        </p:nvSpPr>
        <p:spPr>
          <a:xfrm>
            <a:off x="2788200" y="2928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  <a:ea typeface="Calibri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Прямоугольник 40"/>
          <p:cNvSpPr/>
          <p:nvPr/>
        </p:nvSpPr>
        <p:spPr>
          <a:xfrm>
            <a:off x="2359440" y="2928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b0a25"/>
                </a:solidFill>
                <a:latin typeface="Arial"/>
                <a:ea typeface="Calibri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642960" y="3929040"/>
          <a:ext cx="7929720" cy="2071800"/>
        </p:xfrm>
        <a:graphic>
          <a:graphicData uri="http://schemas.openxmlformats.org/drawingml/2006/table">
            <a:tbl>
              <a:tblPr/>
              <a:tblGrid>
                <a:gridCol w="1322280"/>
                <a:gridCol w="1320840"/>
                <a:gridCol w="1322280"/>
                <a:gridCol w="1320840"/>
                <a:gridCol w="1322640"/>
                <a:gridCol w="1320840"/>
              </a:tblGrid>
              <a:tr h="106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82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82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82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82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82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82dd"/>
                    </a:solidFill>
                  </a:tcPr>
                </a:tc>
              </a:tr>
              <a:tr h="100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400" spc="-1" strike="noStrike">
                          <a:solidFill>
                            <a:srgbClr val="000068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400" spc="-1" strike="noStrike">
                          <a:solidFill>
                            <a:srgbClr val="000068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400" spc="-1" strike="noStrike">
                          <a:solidFill>
                            <a:srgbClr val="000068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400" spc="-1" strike="noStrike">
                          <a:solidFill>
                            <a:srgbClr val="000068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400" spc="-1" strike="noStrike">
                          <a:solidFill>
                            <a:srgbClr val="000068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400" spc="-1" strike="noStrike">
                          <a:solidFill>
                            <a:srgbClr val="000068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10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10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&amp;Lcy;&amp;icy;&amp;pcy;&amp;ocy;&amp;vcy;&amp;acy; &amp;acy;&amp;lcy;&amp;iecy;&amp;yacy; &amp;vcy; &amp;Ucy;&amp;zhcy;&amp;gcy;&amp;ocy;&amp;rcy;&amp;ocy;&amp;dcy;&amp;iukcy;"/>
          <p:cNvPicPr/>
          <p:nvPr/>
        </p:nvPicPr>
        <p:blipFill>
          <a:blip r:embed="rId1"/>
          <a:stretch/>
        </p:blipFill>
        <p:spPr>
          <a:xfrm>
            <a:off x="0" y="714240"/>
            <a:ext cx="3357720" cy="25005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20" descr="http://t3.gstatic.com/images?q=tbn:ANd9GcStN20KqPZwPfD5rYp852Yxj40evZhSv__D_OLOupqh_28q-KDxrA"/>
          <p:cNvPicPr/>
          <p:nvPr/>
        </p:nvPicPr>
        <p:blipFill>
          <a:blip r:embed="rId2"/>
          <a:stretch/>
        </p:blipFill>
        <p:spPr>
          <a:xfrm>
            <a:off x="0" y="2786040"/>
            <a:ext cx="2357280" cy="2500200"/>
          </a:xfrm>
          <a:prstGeom prst="rect">
            <a:avLst/>
          </a:prstGeom>
          <a:ln w="0">
            <a:noFill/>
          </a:ln>
        </p:spPr>
      </p:pic>
      <p:sp>
        <p:nvSpPr>
          <p:cNvPr id="1079" name="Прямоугольник 1"/>
          <p:cNvSpPr/>
          <p:nvPr/>
        </p:nvSpPr>
        <p:spPr>
          <a:xfrm>
            <a:off x="142920" y="142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8"/>
                </a:solidFill>
                <a:latin typeface="Arial"/>
              </a:rPr>
              <a:t>Найдовша липова алея в Європ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Прямоугольник 3"/>
          <p:cNvSpPr/>
          <p:nvPr/>
        </p:nvSpPr>
        <p:spPr>
          <a:xfrm>
            <a:off x="4071960" y="714240"/>
            <a:ext cx="5214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більша в Європі липова алея, яка огортає  правобережжя міста Ужгород і тянеться вздовж на 2.2 км. Липова алея складається з різних сортів лип,тому майже ціле літо квітне вся набережна Незалежності. Ще її називають набережною кохання, адже, у весняно - літній та осінній період її полюбляють молоді люди для романтичних зутріче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ькі ботаніки, які прикрасили у 1928 році набережну Рошковича, а сьогодні Незалежнос-ті і не здогадувалися, що вона стане найдовшою липовою алеєю у Європі та третьої за довжиною в світі. Сьогодні її довжина сягає 2 км 200 метр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гідно переказів під однією з лип знаходиться гільза з посланням майбутнім поколінн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Picture 4" descr="http://photo.ukrinform.com/JPEG/thumbnail/2007/10/158939_200.jpg"/>
          <p:cNvPicPr/>
          <p:nvPr/>
        </p:nvPicPr>
        <p:blipFill>
          <a:blip r:embed="rId3"/>
          <a:stretch/>
        </p:blipFill>
        <p:spPr>
          <a:xfrm>
            <a:off x="1500120" y="4286160"/>
            <a:ext cx="2714760" cy="2571840"/>
          </a:xfrm>
          <a:prstGeom prst="rect">
            <a:avLst/>
          </a:prstGeom>
          <a:ln w="0">
            <a:noFill/>
          </a:ln>
        </p:spPr>
      </p:pic>
      <p:sp>
        <p:nvSpPr>
          <p:cNvPr id="108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24" descr="http://i1.poltava.pl.ua/news/40/3902/photo.jpg"/>
          <p:cNvPicPr/>
          <p:nvPr/>
        </p:nvPicPr>
        <p:blipFill>
          <a:blip r:embed="rId4"/>
          <a:stretch/>
        </p:blipFill>
        <p:spPr>
          <a:xfrm>
            <a:off x="6000840" y="5286240"/>
            <a:ext cx="31431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1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8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8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8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Прямоугольник 1"/>
          <p:cNvSpPr/>
          <p:nvPr/>
        </p:nvSpPr>
        <p:spPr>
          <a:xfrm>
            <a:off x="0" y="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68"/>
                </a:solidFill>
                <a:latin typeface="Arial"/>
              </a:rPr>
              <a:t>Мінеральна зона “Полян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оугольник 2"/>
          <p:cNvSpPr/>
          <p:nvPr/>
        </p:nvSpPr>
        <p:spPr>
          <a:xfrm>
            <a:off x="0" y="1963800"/>
            <a:ext cx="87868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b0a25"/>
                </a:solidFill>
                <a:latin typeface="Arial"/>
              </a:rPr>
              <a:t>На цій зупинці ми нап</a:t>
            </a:r>
            <a:r>
              <a:rPr b="1" i="1" lang="en-US" sz="1800" spc="-1" strike="noStrike">
                <a:solidFill>
                  <a:srgbClr val="0b0a25"/>
                </a:solidFill>
                <a:latin typeface="Arial"/>
              </a:rPr>
              <a:t>’</a:t>
            </a:r>
            <a:r>
              <a:rPr b="1" i="1" lang="uk-UA" sz="1800" spc="-1" strike="noStrike">
                <a:solidFill>
                  <a:srgbClr val="0b0a25"/>
                </a:solidFill>
                <a:latin typeface="Arial"/>
              </a:rPr>
              <a:t>ємося мінеральної води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b0a25"/>
                </a:solidFill>
                <a:latin typeface="Arial"/>
              </a:rPr>
              <a:t>Але спочатку виконаємо самостійну ро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b0a25"/>
                </a:solidFill>
                <a:latin typeface="Arial"/>
              </a:rPr>
              <a:t>Відповіді (для всіх варіантів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         </a:t>
            </a: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1.    </a:t>
            </a: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             </a:t>
            </a: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2.    </a:t>
            </a: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                   </a:t>
            </a: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3.   </a:t>
            </a: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                         </a:t>
            </a: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4.   </a:t>
            </a: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       </a:t>
            </a: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5.    </a:t>
            </a: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                  </a:t>
            </a:r>
            <a:r>
              <a:rPr b="1" i="1" lang="uk-UA" sz="4000" spc="-1" strike="noStrike">
                <a:solidFill>
                  <a:srgbClr val="0b0a25"/>
                </a:solidFill>
                <a:latin typeface="Arial"/>
              </a:rPr>
              <a:t>6.    </a:t>
            </a: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Прямоугольник 3"/>
          <p:cNvSpPr/>
          <p:nvPr/>
        </p:nvSpPr>
        <p:spPr>
          <a:xfrm>
            <a:off x="285840" y="64296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неральна зона «Поляна»  розташована у Свалявському районі, Закарпатської області.На базі джерела "Поляна Купіль" була створена у ХІХ ст. водолікарня з примітивним пансіонатом. Вода використовувалася для ванн і внутрішнього приймання при різних захворюваннях шлунково-кишкового тракту, печінки, нирок і кров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3100"/>
                            </p:stCondLst>
                            <p:childTnLst>
                              <p:par>
                                <p:cTn id="1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9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1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0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10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1000" fill="hold"/>
                                        <p:tgtEl>
                                          <p:spTgt spid="10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1000" fill="hold"/>
                                        <p:tgtEl>
                                          <p:spTgt spid="10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10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1000" fill="hold"/>
                                        <p:tgtEl>
                                          <p:spTgt spid="10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1000" fill="hold"/>
                                        <p:tgtEl>
                                          <p:spTgt spid="10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10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1000" fill="hold"/>
                                        <p:tgtEl>
                                          <p:spTgt spid="10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1000" fill="hold"/>
                                        <p:tgtEl>
                                          <p:spTgt spid="10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10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10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16" descr="http://karpatnews.in.ua/images/2011/11/P809120936930.jpg"/>
          <p:cNvPicPr/>
          <p:nvPr/>
        </p:nvPicPr>
        <p:blipFill>
          <a:blip r:embed="rId1"/>
          <a:stretch/>
        </p:blipFill>
        <p:spPr>
          <a:xfrm>
            <a:off x="714240" y="1928880"/>
            <a:ext cx="4357800" cy="3429000"/>
          </a:xfrm>
          <a:prstGeom prst="rect">
            <a:avLst/>
          </a:prstGeom>
          <a:ln w="0">
            <a:noFill/>
          </a:ln>
        </p:spPr>
      </p:pic>
      <p:sp>
        <p:nvSpPr>
          <p:cNvPr id="109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10" descr="&amp;Scy;&amp;acy;&amp;ncy;&amp;acy;&amp;tcy;&amp;ocy;&amp;rcy;&amp;iukcy;&amp;jcy; &amp;Scy;&amp;ocy;&amp;ncy;&amp;yacy;&amp;chcy;&amp;ncy;&amp;acy; &amp;Pcy;&amp;ocy;&amp;lcy;&amp;yacy;&amp;ncy;&amp;acy;"/>
          <p:cNvPicPr/>
          <p:nvPr/>
        </p:nvPicPr>
        <p:blipFill>
          <a:blip r:embed="rId2"/>
          <a:stretch/>
        </p:blipFill>
        <p:spPr>
          <a:xfrm>
            <a:off x="5572080" y="1714680"/>
            <a:ext cx="3148200" cy="3286080"/>
          </a:xfrm>
          <a:prstGeom prst="rect">
            <a:avLst/>
          </a:prstGeom>
          <a:ln w="0">
            <a:noFill/>
          </a:ln>
        </p:spPr>
      </p:pic>
      <p:sp>
        <p:nvSpPr>
          <p:cNvPr id="1100" name="Прямоугольник 6"/>
          <p:cNvSpPr/>
          <p:nvPr/>
        </p:nvSpPr>
        <p:spPr>
          <a:xfrm>
            <a:off x="285840" y="47484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Прямоугольник 7"/>
          <p:cNvSpPr/>
          <p:nvPr/>
        </p:nvSpPr>
        <p:spPr>
          <a:xfrm>
            <a:off x="21420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авлена своїми лікувальними властивостями Полянська квасна вода почала використовуватися не тільки для питного вживання, а й для ван, коли на базі джерела Полянської мінеральної води у 1868 році в с. Поляна у місцевості, оточеній прекрасними буковими лісами, на лівому березі р. М. Пиня чотирма підприємцями була заснована «Полянська купіль» з 40 помешканнями та 20 ванними кабі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12" descr="http://t3.gstatic.com/images?q=tbn:ANd9GcRu7Igb34fVyxWSLVbiJG3PLGFwVwfrKO-3eILB3COtSNBd-G4JQQ"/>
          <p:cNvPicPr/>
          <p:nvPr/>
        </p:nvPicPr>
        <p:blipFill>
          <a:blip r:embed="rId3"/>
          <a:stretch/>
        </p:blipFill>
        <p:spPr>
          <a:xfrm>
            <a:off x="4714920" y="4143240"/>
            <a:ext cx="2000160" cy="2714760"/>
          </a:xfrm>
          <a:prstGeom prst="rect">
            <a:avLst/>
          </a:prstGeom>
          <a:ln w="0">
            <a:noFill/>
          </a:ln>
        </p:spPr>
      </p:pic>
      <p:sp>
        <p:nvSpPr>
          <p:cNvPr id="1103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9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73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Прямоугольник 1"/>
          <p:cNvSpPr/>
          <p:nvPr/>
        </p:nvSpPr>
        <p:spPr>
          <a:xfrm>
            <a:off x="0" y="214200"/>
            <a:ext cx="91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68"/>
                </a:solidFill>
                <a:latin typeface="Arial"/>
              </a:rPr>
              <a:t>м.Виноград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1"/>
          <p:cNvSpPr/>
          <p:nvPr/>
        </p:nvSpPr>
        <p:spPr>
          <a:xfrm>
            <a:off x="0" y="1307880"/>
            <a:ext cx="8929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            </a:t>
            </a: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Домашнє завд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          </a:t>
            </a: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1.   № 1297,1298,повт.№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Скласти кросворд на використання понять 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                </a:t>
            </a: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На уроці ми досягли успіху завд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                  </a:t>
            </a:r>
            <a:r>
              <a:rPr b="1" i="1" lang="uk-UA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У    </a:t>
            </a: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–    увазі</a:t>
            </a:r>
            <a:br>
              <a:rPr sz="2400"/>
            </a:b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                       </a:t>
            </a:r>
            <a:r>
              <a:rPr b="1" i="1" lang="uk-UA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Р</a:t>
            </a: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      –  роботі</a:t>
            </a:r>
            <a:br>
              <a:rPr sz="2400"/>
            </a:b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                            </a:t>
            </a:r>
            <a:r>
              <a:rPr b="1" i="1" lang="uk-UA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О    </a:t>
            </a: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– організованій</a:t>
            </a:r>
            <a:br>
              <a:rPr sz="2400"/>
            </a:b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i="1" lang="uk-UA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К  </a:t>
            </a:r>
            <a:r>
              <a:rPr b="1" i="1" lang="uk-UA" sz="2400" spc="-1" strike="noStrike">
                <a:solidFill>
                  <a:srgbClr val="0b0a25"/>
                </a:solidFill>
                <a:latin typeface="Arial"/>
                <a:ea typeface="Times New Roman"/>
              </a:rPr>
              <a:t>– кмітл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3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3" dur="10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1"/>
          <p:cNvSpPr/>
          <p:nvPr/>
        </p:nvSpPr>
        <p:spPr>
          <a:xfrm>
            <a:off x="0" y="1029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Девіз уроку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Світ новий для себе відкрива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исне й прекрасне на уроці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єдна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14" descr="http://karpaty-tour.org.ua/fotogallery/albums/ararat/02%20Sxodjennja/NaArarat_1.JPG"/>
          <p:cNvPicPr/>
          <p:nvPr/>
        </p:nvPicPr>
        <p:blipFill>
          <a:blip r:embed="rId1"/>
          <a:stretch/>
        </p:blipFill>
        <p:spPr>
          <a:xfrm>
            <a:off x="142920" y="3171960"/>
            <a:ext cx="47149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1"/>
          <p:cNvSpPr/>
          <p:nvPr/>
        </p:nvSpPr>
        <p:spPr>
          <a:xfrm>
            <a:off x="285840" y="8722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азарі їх не купиш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зі не знайдеш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х не зважиш на терезах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ціни не підбереш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3"/>
          <p:cNvSpPr/>
          <p:nvPr/>
        </p:nvSpPr>
        <p:spPr>
          <a:xfrm>
            <a:off x="1143000" y="214200"/>
            <a:ext cx="72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eff15"/>
                </a:solidFill>
                <a:uFillTx/>
                <a:latin typeface="Arial"/>
              </a:rPr>
              <a:t>Варт</a:t>
            </a:r>
            <a:r>
              <a:rPr b="0" lang="uk-UA" sz="4400" spc="-1" strike="noStrike" u="sng">
                <a:solidFill>
                  <a:srgbClr val="eeff15"/>
                </a:solidFill>
                <a:uFillTx/>
                <a:latin typeface="Arial"/>
              </a:rPr>
              <a:t>і</a:t>
            </a:r>
            <a:r>
              <a:rPr b="0" lang="ru-RU" sz="4400" spc="-1" strike="noStrike" u="sng">
                <a:solidFill>
                  <a:srgbClr val="eeff15"/>
                </a:solidFill>
                <a:uFillTx/>
                <a:latin typeface="Arial"/>
              </a:rPr>
              <a:t>сть путів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4"/>
          <p:cNvSpPr/>
          <p:nvPr/>
        </p:nvSpPr>
        <p:spPr>
          <a:xfrm>
            <a:off x="2857680" y="507204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 Black"/>
              </a:rPr>
              <a:t>ЗН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Picture 4" descr="https://encrypted-tbn3.gstatic.com/images?q=tbn:ANd9GcS_eo9jjz5zapTOfdQJtSdrPVohtv0X_h0VqG5b9Ioy7mIaMOwg3Q"/>
          <p:cNvPicPr/>
          <p:nvPr/>
        </p:nvPicPr>
        <p:blipFill>
          <a:blip r:embed="rId1"/>
          <a:stretch/>
        </p:blipFill>
        <p:spPr>
          <a:xfrm>
            <a:off x="428760" y="4429080"/>
            <a:ext cx="37861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Прямоугольник 1"/>
          <p:cNvSpPr/>
          <p:nvPr/>
        </p:nvSpPr>
        <p:spPr>
          <a:xfrm>
            <a:off x="500040" y="285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Аукціон розпродажу путівок: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2"/>
          <p:cNvSpPr/>
          <p:nvPr/>
        </p:nvSpPr>
        <p:spPr>
          <a:xfrm>
            <a:off x="1214280" y="85716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d7d700"/>
                </a:solidFill>
                <a:latin typeface="Times New Roman"/>
                <a:ea typeface="Times New Roman"/>
              </a:rPr>
              <a:t>Перевірка домашнього завда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3"/>
          <p:cNvSpPr/>
          <p:nvPr/>
        </p:nvSpPr>
        <p:spPr>
          <a:xfrm>
            <a:off x="214200" y="185724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) 3,27 – 8,06 + ( - 2,73) – ( - 8,4) – 4,62 =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3,27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8,06 – 2,73 +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8,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4,62 =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 11,67 – 15,41 = - 3,7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) – 5,24 – 3,57 + (- 6,92) – 8,5 – (- 4,24) = -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5,2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3,57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6,9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8,5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+ 4,24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 - 24,23 + 4,24 = 19,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4"/>
          <p:cNvSpPr/>
          <p:nvPr/>
        </p:nvSpPr>
        <p:spPr>
          <a:xfrm>
            <a:off x="428760" y="3500280"/>
            <a:ext cx="82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│1 - │1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││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│1 - │1 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│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│1 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│ = 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│1 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= - 1 ,          або        1 -│1 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= 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= - 2,                               │1 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няння                                      1 –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є роз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ку                              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Прямоугольник 1"/>
          <p:cNvSpPr/>
          <p:nvPr/>
        </p:nvSpPr>
        <p:spPr>
          <a:xfrm>
            <a:off x="928800" y="285840"/>
            <a:ext cx="7358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"/>
          <p:cNvSpPr/>
          <p:nvPr/>
        </p:nvSpPr>
        <p:spPr>
          <a:xfrm>
            <a:off x="214200" y="1308600"/>
            <a:ext cx="871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 </a:t>
            </a:r>
            <a:r>
              <a:rPr b="1" i="1" lang="uk-UA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ірю </a:t>
            </a:r>
            <a:r>
              <a:rPr b="1" i="1" lang="uk-UA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–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е вірю</a:t>
            </a:r>
            <a:r>
              <a:rPr b="1" i="1" lang="uk-UA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рите ви, що число -9  натуральне число?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рите ви, що число - 9 менш нуля?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рите ви, що сума протилежних чисел дорівнює ну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рите ви, що число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 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іональ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рите ви, що модуль числа  5 дорівнює  -5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рите ви, що сума від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мних чисел завжди від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м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3"/>
          <p:cNvSpPr/>
          <p:nvPr/>
        </p:nvSpPr>
        <p:spPr>
          <a:xfrm>
            <a:off x="2143080" y="1429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 </a:t>
            </a:r>
            <a:r>
              <a:rPr b="1" i="1" lang="uk-UA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«Ч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знаєш ти?</a:t>
            </a:r>
            <a:r>
              <a:rPr b="1" i="1" lang="uk-UA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6" descr="images"/>
          <p:cNvPicPr/>
          <p:nvPr/>
        </p:nvPicPr>
        <p:blipFill>
          <a:blip r:embed="rId1"/>
          <a:stretch/>
        </p:blipFill>
        <p:spPr>
          <a:xfrm>
            <a:off x="5429160" y="642960"/>
            <a:ext cx="3500640" cy="2214720"/>
          </a:xfrm>
          <a:prstGeom prst="rect">
            <a:avLst/>
          </a:prstGeom>
          <a:ln w="0">
            <a:noFill/>
          </a:ln>
        </p:spPr>
      </p:pic>
      <p:sp>
        <p:nvSpPr>
          <p:cNvPr id="923" name="Прямоугольник 2"/>
          <p:cNvSpPr/>
          <p:nvPr/>
        </p:nvSpPr>
        <p:spPr>
          <a:xfrm>
            <a:off x="714240" y="0"/>
            <a:ext cx="785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d22f3"/>
                </a:solidFill>
                <a:latin typeface="Arial"/>
              </a:rPr>
              <a:t>Синевирське озе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4"/>
          <p:cNvSpPr/>
          <p:nvPr/>
        </p:nvSpPr>
        <p:spPr>
          <a:xfrm>
            <a:off x="4000680" y="328608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євиди відзначаються надзвичайною мальовничістю й величністю. Стрімкі схили, вкриті стрункими ялинами, вік яких становить 140—160 років, спадають прямо до водної поверхні. Посередині озера розмістився, немов зіниця блакитного ока, невеликий острівець площею всього кілька метрів. Звідси і народна назва озера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ське О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оугольник 5"/>
          <p:cNvSpPr/>
          <p:nvPr/>
        </p:nvSpPr>
        <p:spPr>
          <a:xfrm>
            <a:off x="0" y="61272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fde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Синеви́р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 (інші назви — </a:t>
            </a: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Синєви́р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Морське Око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) — найбільше озеро 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Українсь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 Карпат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. Розташоване в Міжгірському райо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Закарпатської області, в гірському маси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Внутрішні Ґорґани. Входить до скла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Національного природного парку «Синеви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5" descr="закарпаття-синевір1"/>
          <p:cNvPicPr/>
          <p:nvPr/>
        </p:nvPicPr>
        <p:blipFill>
          <a:blip r:embed="rId4"/>
          <a:stretch/>
        </p:blipFill>
        <p:spPr>
          <a:xfrm>
            <a:off x="285840" y="3214800"/>
            <a:ext cx="36716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0" y="213840"/>
            <a:ext cx="69292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айбільш високогірне озеро Закарпаття оповите легенд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8" name="Picture 4" descr="sinevir6"/>
          <p:cNvPicPr/>
          <p:nvPr/>
        </p:nvPicPr>
        <p:blipFill>
          <a:blip r:embed="rId1"/>
          <a:stretch/>
        </p:blipFill>
        <p:spPr>
          <a:xfrm>
            <a:off x="5616720" y="3000240"/>
            <a:ext cx="3527280" cy="2516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7" descr="17897024"/>
          <p:cNvPicPr/>
          <p:nvPr/>
        </p:nvPicPr>
        <p:blipFill>
          <a:blip r:embed="rId2"/>
          <a:stretch/>
        </p:blipFill>
        <p:spPr>
          <a:xfrm>
            <a:off x="324000" y="47242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9" descr="http://upload.wikimedia.org/wikipedia/commons/thumb/a/a8/Vir_and_Sin%27.jpg/80px-Vir_and_Sin%27.jpg"/>
          <p:cNvPicPr/>
          <p:nvPr/>
        </p:nvPicPr>
        <p:blipFill>
          <a:blip r:embed="rId3"/>
          <a:stretch/>
        </p:blipFill>
        <p:spPr>
          <a:xfrm>
            <a:off x="7000920" y="214200"/>
            <a:ext cx="1762200" cy="2428920"/>
          </a:xfrm>
          <a:prstGeom prst="rect">
            <a:avLst/>
          </a:prstGeom>
          <a:ln w="0">
            <a:noFill/>
          </a:ln>
        </p:spPr>
      </p:pic>
      <p:sp>
        <p:nvSpPr>
          <p:cNvPr id="931" name="Прямоугольник 14"/>
          <p:cNvSpPr/>
          <p:nvPr/>
        </p:nvSpPr>
        <p:spPr>
          <a:xfrm>
            <a:off x="142920" y="1143000"/>
            <a:ext cx="871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еро Синевир має свою історію, тісно обплетену леген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 переказами, звичайно ж, пов’язаними з нещасливим кох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ям. Так, місцеві жителі розповідають, що колись неподалі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 граф, який мав красуню-доньку Синь. Донька, гуляю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ицями графського маєтку, зустріла пастуха Вира з сусі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ього села. Вони покохали одне одного, почали потай зустрічатися. Але від людей нічого не сховаєш, і незабаром гра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ізнався про стосунки своєї доньки та прос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туха. Звичайно, він не зрадів тому, бо, як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ен заможний чоловік, для своєї доньки баж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нця відповідного рівня, а тому наказа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гам вбити  Вира. Вірні слуги підстерег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туха і скинули його з високих скель. Си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 все дізнавш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го плакала на т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сці – із її сліз і виник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еро, яке люди на честь закоханих назвали Синевир.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туха Вира, за наказом графа було вбито кам'яно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илою за його простацьке походж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Скругленный прямоугольник 20"/>
          <p:cNvSpPr/>
          <p:nvPr/>
        </p:nvSpPr>
        <p:spPr>
          <a:xfrm>
            <a:off x="1143000" y="121428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+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"/>
          <p:cNvSpPr/>
          <p:nvPr/>
        </p:nvSpPr>
        <p:spPr>
          <a:xfrm>
            <a:off x="714240" y="78624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дактична гра </a:t>
            </a:r>
            <a:r>
              <a:rPr b="1" i="1" lang="uk-UA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чний телефон</a:t>
            </a:r>
            <a:r>
              <a:rPr b="1" i="1" lang="uk-UA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r>
              <a:rPr b="1" i="1" lang="uk-U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3"/>
          <p:cNvSpPr/>
          <p:nvPr/>
        </p:nvSpPr>
        <p:spPr>
          <a:xfrm>
            <a:off x="357120" y="216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b0a25"/>
                </a:solidFill>
                <a:latin typeface="Times New Roman"/>
                <a:ea typeface="Times New Roman"/>
              </a:rPr>
              <a:t>Треба повідомити батькам, що ми доїхали і в нас все добре, і  тому повідомимо їм по математичному телеф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Скругленный прямоугольник 21"/>
          <p:cNvSpPr/>
          <p:nvPr/>
        </p:nvSpPr>
        <p:spPr>
          <a:xfrm>
            <a:off x="2786040" y="271476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+(-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Скругленный прямоугольник 22"/>
          <p:cNvSpPr/>
          <p:nvPr/>
        </p:nvSpPr>
        <p:spPr>
          <a:xfrm>
            <a:off x="142920" y="271476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Скругленный прямоугольник 23"/>
          <p:cNvSpPr/>
          <p:nvPr/>
        </p:nvSpPr>
        <p:spPr>
          <a:xfrm>
            <a:off x="1143000" y="378612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Скругленный прямоугольник 24"/>
          <p:cNvSpPr/>
          <p:nvPr/>
        </p:nvSpPr>
        <p:spPr>
          <a:xfrm>
            <a:off x="3000240" y="5143680"/>
            <a:ext cx="1500480" cy="64260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∙</a:t>
            </a: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Скругленный прямоугольник 25"/>
          <p:cNvSpPr/>
          <p:nvPr/>
        </p:nvSpPr>
        <p:spPr>
          <a:xfrm>
            <a:off x="214200" y="5214960"/>
            <a:ext cx="150048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+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0" name="Прямая со стрелкой 27"/>
          <p:cNvCxnSpPr>
            <a:stCxn id="932" idx="2"/>
            <a:endCxn id="936" idx="0"/>
          </p:cNvCxnSpPr>
          <p:nvPr/>
        </p:nvCxnSpPr>
        <p:spPr>
          <a:xfrm flipH="1">
            <a:off x="891720" y="1857240"/>
            <a:ext cx="1000800" cy="85824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cxnSp>
        <p:nvCxnSpPr>
          <p:cNvPr id="941" name="Прямая со стрелкой 28"/>
          <p:cNvCxnSpPr>
            <a:stCxn id="935" idx="2"/>
            <a:endCxn id="937" idx="3"/>
          </p:cNvCxnSpPr>
          <p:nvPr/>
        </p:nvCxnSpPr>
        <p:spPr>
          <a:xfrm flipH="1">
            <a:off x="2642760" y="3357360"/>
            <a:ext cx="892800" cy="75132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cxnSp>
        <p:nvCxnSpPr>
          <p:cNvPr id="942" name="Прямая со стрелкой 32"/>
          <p:cNvCxnSpPr>
            <a:stCxn id="937" idx="2"/>
            <a:endCxn id="939" idx="0"/>
          </p:cNvCxnSpPr>
          <p:nvPr/>
        </p:nvCxnSpPr>
        <p:spPr>
          <a:xfrm flipH="1">
            <a:off x="963000" y="4428720"/>
            <a:ext cx="929160" cy="78660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cxnSp>
        <p:nvCxnSpPr>
          <p:cNvPr id="943" name="Прямая со стрелкой 33"/>
          <p:cNvCxnSpPr>
            <a:stCxn id="936" idx="3"/>
            <a:endCxn id="935" idx="1"/>
          </p:cNvCxnSpPr>
          <p:nvPr/>
        </p:nvCxnSpPr>
        <p:spPr>
          <a:xfrm>
            <a:off x="1642680" y="3034800"/>
            <a:ext cx="1143720" cy="252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cxnSp>
        <p:nvCxnSpPr>
          <p:cNvPr id="944" name="Прямая со стрелкой 39"/>
          <p:cNvCxnSpPr>
            <a:stCxn id="939" idx="3"/>
            <a:endCxn id="938" idx="1"/>
          </p:cNvCxnSpPr>
          <p:nvPr/>
        </p:nvCxnSpPr>
        <p:spPr>
          <a:xfrm flipV="1">
            <a:off x="1714320" y="5465520"/>
            <a:ext cx="1286280" cy="7200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sp>
        <p:nvSpPr>
          <p:cNvPr id="945" name="Скругленный прямоугольник 52"/>
          <p:cNvSpPr/>
          <p:nvPr/>
        </p:nvSpPr>
        <p:spPr>
          <a:xfrm>
            <a:off x="7215120" y="5143680"/>
            <a:ext cx="1500120" cy="64260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-(-1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Скругленный прямоугольник 53"/>
          <p:cNvSpPr/>
          <p:nvPr/>
        </p:nvSpPr>
        <p:spPr>
          <a:xfrm>
            <a:off x="4929120" y="428616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Скругленный прямоугольник 54"/>
          <p:cNvSpPr/>
          <p:nvPr/>
        </p:nvSpPr>
        <p:spPr>
          <a:xfrm>
            <a:off x="4857840" y="242892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+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Скругленный прямоугольник 55"/>
          <p:cNvSpPr/>
          <p:nvPr/>
        </p:nvSpPr>
        <p:spPr>
          <a:xfrm>
            <a:off x="6929280" y="3357720"/>
            <a:ext cx="150048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+(-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Скругленный прямоугольник 56"/>
          <p:cNvSpPr/>
          <p:nvPr/>
        </p:nvSpPr>
        <p:spPr>
          <a:xfrm>
            <a:off x="6572160" y="13572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-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Скругленный прямоугольник 57"/>
          <p:cNvSpPr/>
          <p:nvPr/>
        </p:nvSpPr>
        <p:spPr>
          <a:xfrm>
            <a:off x="5286240" y="6215040"/>
            <a:ext cx="1500480" cy="642960"/>
          </a:xfrm>
          <a:prstGeom prst="roundRect">
            <a:avLst>
              <a:gd name="adj" fmla="val 16667"/>
            </a:avLst>
          </a:prstGeom>
          <a:solidFill>
            <a:srgbClr val="d4d4d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∙ </a:t>
            </a: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1" name="Прямая со стрелкой 58"/>
          <p:cNvCxnSpPr>
            <a:stCxn id="948" idx="1"/>
            <a:endCxn id="946" idx="0"/>
          </p:cNvCxnSpPr>
          <p:nvPr/>
        </p:nvCxnSpPr>
        <p:spPr>
          <a:xfrm flipH="1">
            <a:off x="5679720" y="3679920"/>
            <a:ext cx="1249920" cy="60696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cxnSp>
        <p:nvCxnSpPr>
          <p:cNvPr id="952" name="Прямая со стрелкой 60"/>
          <p:cNvCxnSpPr>
            <a:stCxn id="945" idx="2"/>
            <a:endCxn id="950" idx="3"/>
          </p:cNvCxnSpPr>
          <p:nvPr/>
        </p:nvCxnSpPr>
        <p:spPr>
          <a:xfrm flipH="1">
            <a:off x="6786360" y="5786280"/>
            <a:ext cx="1180080" cy="75024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cxnSp>
        <p:nvCxnSpPr>
          <p:cNvPr id="953" name="Прямая со стрелкой 61"/>
          <p:cNvCxnSpPr>
            <a:stCxn id="947" idx="3"/>
            <a:endCxn id="948" idx="0"/>
          </p:cNvCxnSpPr>
          <p:nvPr/>
        </p:nvCxnSpPr>
        <p:spPr>
          <a:xfrm>
            <a:off x="6357600" y="2749320"/>
            <a:ext cx="1323000" cy="60876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cxnSp>
        <p:nvCxnSpPr>
          <p:cNvPr id="954" name="Прямая со стрелкой 62"/>
          <p:cNvCxnSpPr>
            <a:stCxn id="946" idx="2"/>
            <a:endCxn id="945" idx="1"/>
          </p:cNvCxnSpPr>
          <p:nvPr/>
        </p:nvCxnSpPr>
        <p:spPr>
          <a:xfrm>
            <a:off x="5680080" y="4928760"/>
            <a:ext cx="1535760" cy="53748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cxnSp>
        <p:nvCxnSpPr>
          <p:cNvPr id="955" name="Прямая со стрелкой 63"/>
          <p:cNvCxnSpPr>
            <a:stCxn id="949" idx="2"/>
            <a:endCxn id="947" idx="0"/>
          </p:cNvCxnSpPr>
          <p:nvPr/>
        </p:nvCxnSpPr>
        <p:spPr>
          <a:xfrm flipH="1">
            <a:off x="5608440" y="1999800"/>
            <a:ext cx="1715040" cy="429480"/>
          </a:xfrm>
          <a:prstGeom prst="straightConnector1">
            <a:avLst/>
          </a:prstGeom>
          <a:ln w="9360">
            <a:solidFill>
              <a:srgbClr val="00002a"/>
            </a:solidFill>
            <a:miter/>
            <a:tailEnd len="med" type="arrow" w="med"/>
          </a:ln>
        </p:spPr>
      </p:cxnSp>
      <p:sp>
        <p:nvSpPr>
          <p:cNvPr id="956" name="TextBox 26"/>
          <p:cNvSpPr/>
          <p:nvPr/>
        </p:nvSpPr>
        <p:spPr>
          <a:xfrm>
            <a:off x="428760" y="6072120"/>
            <a:ext cx="25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29"/>
          <p:cNvSpPr/>
          <p:nvPr/>
        </p:nvSpPr>
        <p:spPr>
          <a:xfrm>
            <a:off x="7286760" y="6286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05:48Z</dcterms:created>
  <dc:creator>Admin</dc:creator>
  <dc:description/>
  <dc:language>en-US</dc:language>
  <cp:lastModifiedBy>UserXP</cp:lastModifiedBy>
  <dcterms:modified xsi:type="dcterms:W3CDTF">2013-02-26T18:39:25Z</dcterms:modified>
  <cp:revision>136</cp:revision>
  <dc:subject/>
  <dc:title>Курсовий проект</dc:title>
</cp:coreProperties>
</file>