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5615-1D02-48BB-A359-BF38F90F8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2CB2-BBAD-4416-AC7A-A7AC87F05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27C3-CA1E-4988-825D-BA277AD2F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6ABF-979D-4CE7-B3CC-F4FDC1236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0728-44C3-4228-8850-E7EA2E9C7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AC6F-4867-4DC1-91F8-A19488221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47BF-2DA3-4B90-B004-967B19A08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980E-7AD0-4DB4-A9BC-A22BF1483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AD7F-FED6-45C1-B710-F7BB92F32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B5C2-80F6-477C-9D3E-82B9AA87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3C08-9DA3-49C1-B6BE-6F5BAE86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17B8-251A-4911-9438-87139328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1CAFC-6F1B-4F02-A09D-97802C4C41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uk.wikipedia.org/wiki/&#1040;&#1088;&#1084;&#1110;&#1081;&#1089;&#1100;&#1082;&#1072;_&#1072;&#1074;&#1110;&#1072;&#1094;&#1110;&#1103;" TargetMode="External"/><Relationship Id="rId2" Type="http://schemas.openxmlformats.org/officeDocument/2006/relationships/hyperlink" Target="https://uk.wikipedia.org/wiki/&#1042;&#1086;&#1108;&#1085;&#1085;&#1072;_&#1088;&#1086;&#1079;&#1074;&#1110;&#1076;&#1082;&#1072;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uk.wikipedia.org/wiki/&#1052;&#1086;&#1088;&#1089;&#1100;&#1082;&#1072;_&#1072;&#1074;&#1110;&#1072;&#1094;&#1110;&#1103;" TargetMode="External"/><Relationship Id="rId2" Type="http://schemas.openxmlformats.org/officeDocument/2006/relationships/hyperlink" Target="https://uk.wikipedia.org/wiki/&#1055;&#1088;&#1086;&#1090;&#1080;&#1095;&#1086;&#1074;&#1085;&#1086;&#1074;&#1072;_&#1072;&#1074;&#1110;&#1072;&#1094;&#1110;&#1103;" TargetMode="External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uk.wikipedia.org/wiki/2013" TargetMode="External"/><Relationship Id="rId2" Type="http://schemas.openxmlformats.org/officeDocument/2006/relationships/hyperlink" Target="https://uk.wikipedia.org/wiki/&#1052;&#1077;&#1093;&#1072;&#1085;&#1110;&#1079;&#1086;&#1074;&#1072;&#1085;&#1072;_&#1073;&#1088;&#1080;&#1075;&#1072;&#1076;&#1072;" TargetMode="External"/><Relationship Id="rId3" Type="http://schemas.openxmlformats.org/officeDocument/2006/relationships/hyperlink" Target="https://uk.wikipedia.org/wiki/&#1058;&#1072;&#1085;&#1082;&#1086;&#1074;&#1072;_&#1073;&#1088;&#1080;&#1075;&#1072;&#1076;&#1072;" TargetMode="External"/><Relationship Id="rId4" Type="http://schemas.openxmlformats.org/officeDocument/2006/relationships/hyperlink" Target="https://uk.wikipedia.org/wiki/&#1040;&#1088;&#1090;&#1080;&#1083;&#1077;&#1088;&#1110;&#1081;&#1089;&#1100;&#1082;&#1072;_&#1073;&#1088;&#1080;&#1075;&#1072;&#1076;&#1072;" TargetMode="External"/><Relationship Id="rId5" Type="http://schemas.openxmlformats.org/officeDocument/2006/relationships/hyperlink" Target="https://uk.wikipedia.org/w/index.php?title=&#1056;&#1072;&#1082;&#1077;&#1090;&#1085;&#1072;_&#1073;&#1088;&#1080;&#1075;&#1072;&#1076;&#1072;&amp;action=edit&amp;redlink=1" TargetMode="External"/><Relationship Id="rId6" Type="http://schemas.openxmlformats.org/officeDocument/2006/relationships/hyperlink" Target="https://uk.wikipedia.org/wiki/&#1047;&#1073;&#1088;&#1086;&#1081;&#1085;&#1110;_&#1089;&#1080;&#1083;&#1080;_&#1059;&#1082;&#1088;&#1072;&#1111;&#1085;&#1080;#cite_note-WB2013-27" TargetMode="External"/><Relationship Id="rId7" Type="http://schemas.openxmlformats.org/officeDocument/2006/relationships/hyperlink" Target="https://uk.wikipedia.org/wiki/&#1052;&#1080;&#1088;&#1085;&#1080;&#1081;_&#1095;&#1072;&#1089;" TargetMode="External"/><Relationship Id="rId8" Type="http://schemas.openxmlformats.org/officeDocument/2006/relationships/hyperlink" Target="https://uk.wikipedia.org/wiki/&#1042;&#1086;&#1108;&#1085;&#1085;&#1080;&#1081;_&#1095;&#1072;&#1089;" TargetMode="External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uk.wikipedia.org/wiki/&#1052;&#1077;&#1093;&#1072;&#1085;&#1110;&#1079;&#1086;&#1074;&#1072;&#1085;&#1110;_&#1074;&#1110;&#1081;&#1089;&#1100;&#1082;&#1072;" TargetMode="External"/><Relationship Id="rId2" Type="http://schemas.openxmlformats.org/officeDocument/2006/relationships/hyperlink" Target="https://uk.wikipedia.org/wiki/&#1058;&#1072;&#1085;&#1082;&#1086;&#1074;&#1110;_&#1074;&#1110;&#1081;&#1089;&#1100;&#1082;&#1072;" TargetMode="External"/><Relationship Id="rId3" Type="http://schemas.openxmlformats.org/officeDocument/2006/relationships/hyperlink" Target="https://uk.wikipedia.org/wiki/&#1052;&#1086;&#1088;&#1089;&#1100;&#1082;&#1080;&#1081;_&#1076;&#1077;&#1089;&#1072;&#1085;&#1090;" TargetMode="External"/><Relationship Id="rId4" Type="http://schemas.openxmlformats.org/officeDocument/2006/relationships/hyperlink" Target="https://uk.wikipedia.org/wiki/&#1055;&#1086;&#1074;&#1110;&#1090;&#1088;&#1103;&#1085;&#1080;&#1081;_&#1076;&#1077;&#1089;&#1072;&#1085;&#1090;" TargetMode="External"/><Relationship Id="rId5" Type="http://schemas.openxmlformats.org/officeDocument/2006/relationships/hyperlink" Target="https://uk.wikipedia.org/wiki/&#1041;&#1088;&#1086;&#1085;&#1077;&#1090;&#1077;&#1093;&#1085;&#1110;&#1082;&#1072;" TargetMode="External"/><Relationship Id="rId6" Type="http://schemas.openxmlformats.org/officeDocument/2006/relationships/hyperlink" Target="https://uk.wikipedia.org/wiki/&#1061;&#1050;&#1041;&#1052;" TargetMode="External"/><Relationship Id="rId7" Type="http://schemas.openxmlformats.org/officeDocument/2006/relationships/hyperlink" Target="https://uk.wikipedia.org/wiki/&#1058;-64" TargetMode="External"/><Relationship Id="rId8" Type="http://schemas.openxmlformats.org/officeDocument/2006/relationships/hyperlink" Target="https://uk.wikipedia.org/wiki/&#1058;-64&#1041;&#1052;_&#171;&#1041;&#1091;&#1083;&#1072;&#1090;&#187;" TargetMode="External"/><Relationship Id="rId9" Type="http://schemas.openxmlformats.org/officeDocument/2006/relationships/hyperlink" Target="https://uk.wikipedia.org/wiki/&#1058;-80" TargetMode="External"/><Relationship Id="rId10" Type="http://schemas.openxmlformats.org/officeDocument/2006/relationships/hyperlink" Target="https://uk.wikipedia.org/wiki/&#1058;-84&#1059;_&#171;&#1054;&#1087;&#1083;&#1086;&#1090;&#187;" TargetMode="External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uk.wikipedia.org/wiki/&#1056;&#1072;&#1082;&#1077;&#1090;&#1085;&#1110;_&#1074;&#1110;&#1081;&#1089;&#1100;&#1082;&#1072;_&#1090;&#1072;_&#1072;&#1088;&#1090;&#1080;&#1083;&#1077;&#1088;&#1110;&#1103;" TargetMode="External"/><Relationship Id="rId2" Type="http://schemas.openxmlformats.org/officeDocument/2006/relationships/hyperlink" Target="https://uk.wikipedia.org/wiki/&#1043;&#1072;&#1091;&#1073;&#1080;&#1094;&#1103;" TargetMode="External"/><Relationship Id="rId3" Type="http://schemas.openxmlformats.org/officeDocument/2006/relationships/hyperlink" Target="https://uk.wikipedia.org/wiki/&#1043;&#1072;&#1088;&#1084;&#1072;&#1090;&#1072;" TargetMode="External"/><Relationship Id="rId4" Type="http://schemas.openxmlformats.org/officeDocument/2006/relationships/hyperlink" Target="https://uk.wikipedia.org/wiki/&#1056;&#1077;&#1072;&#1082;&#1090;&#1080;&#1074;&#1085;&#1072;_&#1072;&#1088;&#1090;&#1080;&#1083;&#1077;&#1088;&#1110;&#1103;" TargetMode="External"/><Relationship Id="rId5" Type="http://schemas.openxmlformats.org/officeDocument/2006/relationships/hyperlink" Target="https://uk.wikipedia.org/wiki/&#1055;&#1088;&#1086;&#1090;&#1080;&#1090;&#1072;&#1085;&#1082;&#1086;&#1074;&#1072;_&#1072;&#1088;&#1090;&#1080;&#1083;&#1077;&#1088;&#1110;&#1103;" TargetMode="External"/><Relationship Id="rId6" Type="http://schemas.openxmlformats.org/officeDocument/2006/relationships/hyperlink" Target="https://uk.wikipedia.org/wiki/&#1040;&#1088;&#1090;&#1080;&#1083;&#1077;&#1088;&#1110;&#1081;&#1089;&#1100;&#1082;&#1072;_&#1088;&#1086;&#1079;&#1074;&#1110;&#1076;&#1082;&#1072;" TargetMode="External"/><Relationship Id="rId7" Type="http://schemas.openxmlformats.org/officeDocument/2006/relationships/hyperlink" Target="https://uk.wikipedia.org/wiki/&#1052;&#1110;&#1085;&#1086;&#1084;&#1077;&#1090;" TargetMode="External"/><Relationship Id="rId8" Type="http://schemas.openxmlformats.org/officeDocument/2006/relationships/hyperlink" Target="https://uk.wikipedia.org/wiki/&#1055;&#1058;&#1050;&#1056;" TargetMode="External"/><Relationship Id="rId9" Type="http://schemas.openxmlformats.org/officeDocument/2006/relationships/hyperlink" Target="https://uk.wikipedia.org/wiki/&#1071;&#1076;&#1077;&#1088;&#1085;&#1072;_&#1079;&#1073;&#1088;&#1086;&#1103;" TargetMode="External"/><Relationship Id="rId10" Type="http://schemas.openxmlformats.org/officeDocument/2006/relationships/image" Target="../media/image18.jpeg"/><Relationship Id="rId11" Type="http://schemas.openxmlformats.org/officeDocument/2006/relationships/image" Target="../media/image19.jpe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24360" y="5229000"/>
            <a:ext cx="27338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ах С.О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ЗО НВК №59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.Дніпр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76092"/>
                </a:solidFill>
                <a:latin typeface="Calibri"/>
              </a:rPr>
              <a:t>Захист Вітчизни – обов'язок кожного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Привітання до дня збройних сил України"/>
          <p:cNvPicPr/>
          <p:nvPr/>
        </p:nvPicPr>
        <p:blipFill>
          <a:blip r:embed="rId1"/>
          <a:stretch/>
        </p:blipFill>
        <p:spPr>
          <a:xfrm>
            <a:off x="324000" y="189000"/>
            <a:ext cx="5281560" cy="3456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ttp://www.mil.gov.ua/assets/images/resources/11548/18564d038fe6be7e96c88b18277759761162cb6f.jpg"/>
          <p:cNvPicPr/>
          <p:nvPr/>
        </p:nvPicPr>
        <p:blipFill>
          <a:blip r:embed="rId2"/>
          <a:stretch/>
        </p:blipFill>
        <p:spPr>
          <a:xfrm>
            <a:off x="5148360" y="476280"/>
            <a:ext cx="3579840" cy="2349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http://www.funlib.ru/cimg/2014/101621/1020385"/>
          <p:cNvPicPr/>
          <p:nvPr/>
        </p:nvPicPr>
        <p:blipFill>
          <a:blip r:embed="rId3"/>
          <a:stretch/>
        </p:blipFill>
        <p:spPr>
          <a:xfrm>
            <a:off x="755640" y="4581360"/>
            <a:ext cx="244332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Армійська авіаці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48320" y="1052280"/>
            <a:ext cx="40384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Армійська авіаці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є найбільш маневровим родом Сухопутних військ, призначеним для виконання завдань у різноманітних умовах загальновійськового бою. Частини і підрозділи армійської авіації ведуть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розвідку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знищують бойову техніку та живу силу противника, здійснюють вогневу підтримку під час наступу чи контратаки, висаджують тактичні десанти, доставляють у вказані райони бойову техніку та особовий склад, виконують інші важливі завданн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https://upload.wikimedia.org/wikipedia/commons/thumb/8/8d/Mil_Mi-24P%2C_Ukraine_-_Army_AN1387321.jpg/230px-Mil_Mi-24P%2C_Ukraine_-_Army_AN1387321.jpg"/>
          <p:cNvPicPr/>
          <p:nvPr/>
        </p:nvPicPr>
        <p:blipFill>
          <a:blip r:embed="rId3"/>
          <a:stretch/>
        </p:blipFill>
        <p:spPr>
          <a:xfrm>
            <a:off x="324000" y="1125360"/>
            <a:ext cx="411300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Морська авіаці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Морська авіація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 є тактичним з'єднанням, організаційно зведеним у морську авіаційну групу, що має на озброєнні літаки та вертольоти наземного і корабельного базування і включає: </a:t>
            </a:r>
            <a:r>
              <a:rPr b="0" lang="ru-RU" sz="2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протичовнову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 транспортну та пошуково-рятувальну авіацію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https://upload.wikimedia.org/wikipedia/commons/thumb/1/12/Yuri_Olefirenko_%28U401%29.jpg/230px-Yuri_Olefirenko_%28U401%29.jpg"/>
          <p:cNvPicPr/>
          <p:nvPr/>
        </p:nvPicPr>
        <p:blipFill>
          <a:blip r:embed="rId3"/>
          <a:stretch/>
        </p:blipFill>
        <p:spPr>
          <a:xfrm>
            <a:off x="4716360" y="1341360"/>
            <a:ext cx="3656160" cy="244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https://upload.wikimedia.org/wikipedia/commons/thumb/2/2a/Ukrainian_BTR-80_in_Tendra%2C_2010.jpg/230px-Ukrainian_BTR-80_in_Tendra%2C_2010.jpg"/>
          <p:cNvPicPr/>
          <p:nvPr/>
        </p:nvPicPr>
        <p:blipFill>
          <a:blip r:embed="rId4"/>
          <a:stretch/>
        </p:blipFill>
        <p:spPr>
          <a:xfrm>
            <a:off x="4716360" y="4005360"/>
            <a:ext cx="374328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исокомобільні десантні військ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исокомобільні десантні війська (до липня 2012 року — аеромобільні) — це окремий рід військ, який призначений для вертикального охоплення противника та дій в його тилу, до складу якого входять повітряно-десантні та аеромобільні частини 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бройних сил Україн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https://upload.wikimedia.org/wikipedia/commons/thumb/a/aa/Ukrainian_Ground_Forces_paratroopers_assigned_to_the_95th_Separate_Airborne_Brigade_move_off_a_drop_zone_in_Yavoriv%2C_Ukraine%2C_July_9%2C_2013%2C_after_conducting_an_airborne_operation_as_part_of_Rapid_Trident_2013_130709-O-ZZ999-007-UA.jpg/220px-thumbnail.jpg"/>
          <p:cNvPicPr/>
          <p:nvPr/>
        </p:nvPicPr>
        <p:blipFill>
          <a:blip r:embed="rId1"/>
          <a:stretch/>
        </p:blipFill>
        <p:spPr>
          <a:xfrm>
            <a:off x="5003640" y="1197000"/>
            <a:ext cx="36640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6 груд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країна, проголосивши 24 серпня 1991 року свою незалежність, прагне жити в мирі та дружбі з усіма державами світу. Однак, нині не виключена можливість виникнення воєнних конфліктів, тому 6 грудня 1991 р. верховна Рада прийняла постанову про створення Збройних Си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01school.ucoz.ru/y2YFuVweKJQ.jpg"/>
          <p:cNvPicPr/>
          <p:nvPr/>
        </p:nvPicPr>
        <p:blipFill>
          <a:blip r:embed="rId1"/>
          <a:stretch/>
        </p:blipFill>
        <p:spPr>
          <a:xfrm>
            <a:off x="4500720" y="1341360"/>
            <a:ext cx="4262400" cy="2664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http://thekievtimes.ua/wp-content/uploads/2013/06/171.jpg"/>
          <p:cNvPicPr/>
          <p:nvPr/>
        </p:nvPicPr>
        <p:blipFill>
          <a:blip r:embed="rId2"/>
          <a:stretch/>
        </p:blipFill>
        <p:spPr>
          <a:xfrm>
            <a:off x="5003640" y="4076640"/>
            <a:ext cx="32893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333360"/>
            <a:ext cx="40384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жна держава має своє військо. У кожного з них є свої символи, які віддзеркалені у присязі. У воїнів Збройних сил України теж є святі слова, які глибоко переконливо визначають роль і призначення національного війська – служити українському народові. У відповідальний час народ завжди з особливою увагою дивиться на своїх захисників. Діти народу, українські воїни, разом з Україною витупають надійним гарантом суверенітету і цілісності держави. Для них служіння народу – найвища честь, покликання, обов’язо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вято Збройних сил України – це данина пам’яті тисячам воїнів, які загинули в битвах за свободу, волю та незалежність Україн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onmckim.com.ua/_nw/5/24312107.jpg"/>
          <p:cNvPicPr/>
          <p:nvPr/>
        </p:nvPicPr>
        <p:blipFill>
          <a:blip r:embed="rId1"/>
          <a:stretch/>
        </p:blipFill>
        <p:spPr>
          <a:xfrm>
            <a:off x="5148360" y="476280"/>
            <a:ext cx="34700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лдат,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фіцерів і генералів, д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сіх, хт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лужить у Збр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йних Силах Україн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іта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єм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з Днем Збр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йних Сил усіх, хт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зі збр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єю в руках ст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їть на ст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жі України. Ви стали спадк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ємцями вис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ї слави українськ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зацтва, гер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їв визв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льних змагань і перем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жців фашизму. Мужність і пр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фесі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лізм, виявлені українськими с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лдатами у х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і мир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тв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чих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ерацій, вже зд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ули м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у українськ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у війську п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агу і вдячність у світі. Вірю, щ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Збр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йні Сили України і надалі з честю вик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уватимуть свій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’яз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 перед Вітчизн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ю, надійн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захищатимуть мир і сп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ій українськ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р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и перек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ені, щ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будь-якій ситуації Збр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йні Сили України надійн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захистять терит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іальну цілісність України, не д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устять п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яви ін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земних військ на нашій землі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ажаєм всім с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лдатам,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фіцерам і генералам мужн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ті, сил і зд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’я, д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ра у р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инах. Бажаю всім нам миру і сп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ю на всій українській землі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лава вам і слава Україні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http://1.bp.blogspot.com/-9jYF9aPdDlk/VILdQfEAgJI/AAAAAAAAFJg/1cN8U-jXr0E/s1600/%D0%94%D0%B5%D0%BD%D1%8C%2B%D0%97%D0%B1%D1%80%D0%BE%D0%B9%D0%BD%D0%B8%D1%85%2B%D0%A1%D0%B8%D0%BB%2B%D0%A3%D0%BA%D1%80%D0%B0%D1%97%D0%BD%D0%B8.jpg"/>
          <p:cNvPicPr/>
          <p:nvPr/>
        </p:nvPicPr>
        <p:blipFill>
          <a:blip r:embed="rId1"/>
          <a:stretch/>
        </p:blipFill>
        <p:spPr>
          <a:xfrm>
            <a:off x="395280" y="189000"/>
            <a:ext cx="844884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57200" y="333000"/>
            <a:ext cx="40384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родна мудрість стверджує, що земля може нагодувати людину своїм хлібом, напоїти водою зі своїх джерел, але захистити себе не може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Тому це святий обов'язок тих, хто живе, хто користується всіма її благами і дарами. Виконуючи цей почесний обов'язок, ідуть  юнаки служити в армію, щоб берегти мир і спокій своєї Батьківщини, стояти на сторожі її інтересі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елегка військова служба. Це ранні підйоми, багатокілометрові пробіжки і армійська дисциплін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http://pmg.ua/uploads/2015-01/28/5555a85c199be_thumb_686*454.jpg"/>
          <p:cNvPicPr/>
          <p:nvPr/>
        </p:nvPicPr>
        <p:blipFill>
          <a:blip r:embed="rId1"/>
          <a:stretch/>
        </p:blipFill>
        <p:spPr>
          <a:xfrm>
            <a:off x="4844880" y="404640"/>
            <a:ext cx="3965760" cy="2737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http://ua.golos.ua/images/articles/main/2016-07/f_9277275611468062325.jpg"/>
          <p:cNvPicPr/>
          <p:nvPr/>
        </p:nvPicPr>
        <p:blipFill>
          <a:blip r:embed="rId2"/>
          <a:stretch/>
        </p:blipFill>
        <p:spPr>
          <a:xfrm>
            <a:off x="4932360" y="3357720"/>
            <a:ext cx="384480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країна сьогодні - незалежна держава. Українські Збройні Сили покликані охороняти незалежність рідної землі. І служать наші хлопці сьогодні на Батьківщині. Ми любимо свою армію. Служити в ній - справа честі та обов'язку…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http://images.unian.net/photos/2015_08/1440398799-7315.jpg"/>
          <p:cNvPicPr/>
          <p:nvPr/>
        </p:nvPicPr>
        <p:blipFill>
          <a:blip r:embed="rId1"/>
          <a:stretch/>
        </p:blipFill>
        <p:spPr>
          <a:xfrm>
            <a:off x="4643280" y="692280"/>
            <a:ext cx="3765600" cy="2278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http://dev.moigorod.od.ua/newsimages/bg_261558.jpg"/>
          <p:cNvPicPr/>
          <p:nvPr/>
        </p:nvPicPr>
        <p:blipFill>
          <a:blip r:embed="rId2"/>
          <a:stretch/>
        </p:blipFill>
        <p:spPr>
          <a:xfrm>
            <a:off x="4211640" y="3213000"/>
            <a:ext cx="46195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333000"/>
            <a:ext cx="40384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ьогодні ми розкажемо вам про традиції святкування дня армії. Традиція вшановувати захисників Батьківщини зародилася ще у ХХ ст. В цей час особливо вшановували і вітали людей в пагонах, бійців діючих армій : офіцерів та солдат. Згодом стали вітати і мужчин, які відслужили у армії, пізніше жінки та дівчата стали вітати всіх хлопців та мужчин. Ця традиція, що в різних куточках України має деякі свої етнічні особливості, живе до сьогоднішнього дня. Ну а ми, вітаючи наших хлопців, хочемо, щоб ви разом з нами поринули в армійське життя. Армія – це особливе і дивовижне життя, яке має свої правил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Привітання до дня збройних сил"/>
          <p:cNvPicPr/>
          <p:nvPr/>
        </p:nvPicPr>
        <p:blipFill>
          <a:blip r:embed="rId1"/>
          <a:stretch/>
        </p:blipFill>
        <p:spPr>
          <a:xfrm>
            <a:off x="4716360" y="549360"/>
            <a:ext cx="4049640" cy="2592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http://tulchin-rda.gov.ua/upload/image_for_news/big-07d89cd1a325.jpg"/>
          <p:cNvPicPr/>
          <p:nvPr/>
        </p:nvPicPr>
        <p:blipFill>
          <a:blip r:embed="rId2"/>
          <a:stretch/>
        </p:blipFill>
        <p:spPr>
          <a:xfrm>
            <a:off x="4643280" y="3284640"/>
            <a:ext cx="42134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476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ьогодні строкова військова служба відповідно до Конституції та Закону України “Про загальний військовий обов’язок” є почесним обов’язком кожного громадянина (чоловічої статі). Хоча, потрібно зауважити, що багато службових посад в армії займають жінки і їх кількість з кожним роком зростає. Тому це свято стосується всіх, це свято України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ua.golos.ua:8081/images/articles/main/2015-01/f_7991503551421152190.jpg"/>
          <p:cNvPicPr/>
          <p:nvPr/>
        </p:nvPicPr>
        <p:blipFill>
          <a:blip r:embed="rId1"/>
          <a:stretch/>
        </p:blipFill>
        <p:spPr>
          <a:xfrm>
            <a:off x="4500720" y="260280"/>
            <a:ext cx="4228920" cy="2376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nahnews.org/wp-content/uploads/2016/06/05279.jpg"/>
          <p:cNvPicPr/>
          <p:nvPr/>
        </p:nvPicPr>
        <p:blipFill>
          <a:blip r:embed="rId2"/>
          <a:stretch/>
        </p:blipFill>
        <p:spPr>
          <a:xfrm>
            <a:off x="4643280" y="2852640"/>
            <a:ext cx="410544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и в армію пішов служит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Щоб Україну захистит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рмія – не просто служб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рмія – не тільки дружб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и там далеко мене згадай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вою любов не забува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https://ar.volyn.ua/wp-content/uploads/2015/10/p_24813_1_gallerybig.jpg"/>
          <p:cNvPicPr/>
          <p:nvPr/>
        </p:nvPicPr>
        <p:blipFill>
          <a:blip r:embed="rId1"/>
          <a:stretch/>
        </p:blipFill>
        <p:spPr>
          <a:xfrm>
            <a:off x="757080" y="404640"/>
            <a:ext cx="3622680" cy="2880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http://smila-news.at.ua/_pu/9/64371347.jpg"/>
          <p:cNvPicPr/>
          <p:nvPr/>
        </p:nvPicPr>
        <p:blipFill>
          <a:blip r:embed="rId2"/>
          <a:stretch/>
        </p:blipFill>
        <p:spPr>
          <a:xfrm>
            <a:off x="684360" y="3429000"/>
            <a:ext cx="37321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476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ьогодні строкова військова служба відповідно до Конституції та Закону України “Про загальний військовий обов’язок” є почесним обов’язком кожного громадянина (чоловічої статі). Хоча, потрібно зауважити, що багато службових посад в армії займають жінки і їх кількість з кожним роком зростає. Тому це свято стосується всіх, це свято України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http://zkrzntu.org.ua/images/stories/news/2012/23-fevralya.jpg"/>
          <p:cNvPicPr/>
          <p:nvPr/>
        </p:nvPicPr>
        <p:blipFill>
          <a:blip r:embed="rId1"/>
          <a:stretch/>
        </p:blipFill>
        <p:spPr>
          <a:xfrm>
            <a:off x="4500720" y="404640"/>
            <a:ext cx="4059000" cy="2953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http://static.gazeta.ua/img/cache/gallery/640/640833_1_w_1000.jpg"/>
          <p:cNvPicPr/>
          <p:nvPr/>
        </p:nvPicPr>
        <p:blipFill>
          <a:blip r:embed="rId2"/>
          <a:stretch/>
        </p:blipFill>
        <p:spPr>
          <a:xfrm>
            <a:off x="4572000" y="3573360"/>
            <a:ext cx="378000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ухопутні військ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836280"/>
            <a:ext cx="40384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ухопутні війська Збройних сил України є головним носієм бойової могутності Збройних сил незалежної України. Станом на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2013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рік, наземні війська налічували 49 100 особового складу, 683 танки, 1965 бойових броньованих машин, 72 бойові вертольоти та 379 артилерійських систем калібром більше 100 міліметрів (8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механізованих бригад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2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танкові бригад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3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артилерійські бригад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1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ракетна бригад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а також інші частини забезпечення та підтримки)</a:t>
            </a:r>
            <a:r>
              <a:rPr b="0" lang="ru-RU" sz="1800" spc="-1" strike="noStrike" u="sng" baseline="30000">
                <a:solidFill>
                  <a:srgbClr val="0000ff"/>
                </a:solidFill>
                <a:uFillTx/>
                <a:latin typeface="Calibri"/>
                <a:hlinkClick r:id="rId6"/>
              </a:rPr>
              <a:t>[27]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За своїм призначенням та обсягом покладених на них завдань, вони відіграють вирішальну роль у виконанні Збройними силами України своїх функцій як у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мирни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так і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воєнний час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Содержимое 4" descr="f8aa943aa939be621687c0026ea6191f.jpg"/>
          <p:cNvPicPr/>
          <p:nvPr/>
        </p:nvPicPr>
        <p:blipFill>
          <a:blip r:embed="rId9"/>
          <a:stretch/>
        </p:blipFill>
        <p:spPr>
          <a:xfrm>
            <a:off x="4643280" y="1125360"/>
            <a:ext cx="4038840" cy="2638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http://armyman.info/uploads/posts/2013-10/1380600351_s06.jpeg"/>
          <p:cNvPicPr/>
          <p:nvPr/>
        </p:nvPicPr>
        <p:blipFill>
          <a:blip r:embed="rId10"/>
          <a:stretch/>
        </p:blipFill>
        <p:spPr>
          <a:xfrm>
            <a:off x="4716360" y="3860640"/>
            <a:ext cx="4035600" cy="26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Механізовані та танкові військ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https://upload.wikimedia.org/wikipedia/commons/thumb/e/e8/%D0%A2-64%D0%91%D0%92_1.jpg/230px-%D0%A2-64%D0%91%D0%92_1.jpg"/>
          <p:cNvPicPr/>
          <p:nvPr/>
        </p:nvPicPr>
        <p:blipFill>
          <a:blip r:embed="rId1"/>
          <a:stretch/>
        </p:blipFill>
        <p:spPr>
          <a:xfrm>
            <a:off x="250920" y="1052640"/>
            <a:ext cx="4410000" cy="2952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https://upload.wikimedia.org/wikipedia/uk/thumb/d/db/%D0%A2-64%D0%91%D0%9C.jpg/230px-%D0%A2-64%D0%91%D0%9C.jpg"/>
          <p:cNvPicPr/>
          <p:nvPr/>
        </p:nvPicPr>
        <p:blipFill>
          <a:blip r:embed="rId2"/>
          <a:stretch/>
        </p:blipFill>
        <p:spPr>
          <a:xfrm>
            <a:off x="4211640" y="3357720"/>
            <a:ext cx="4546440" cy="3024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https://upload.wikimedia.org/wikipedia/commons/thumb/f/fc/Ukrainian_BTR-80.jpg/230px-Ukrainian_BTR-80.jpg"/>
          <p:cNvPicPr/>
          <p:nvPr/>
        </p:nvPicPr>
        <p:blipFill>
          <a:blip r:embed="rId3"/>
          <a:stretch/>
        </p:blipFill>
        <p:spPr>
          <a:xfrm>
            <a:off x="5219640" y="907920"/>
            <a:ext cx="3463920" cy="2305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https://upload.wikimedia.org/wikipedia/commons/thumb/2/21/Ukrainian_BMP-2_IFVs_during_the_Independence_Day_parade_in_Kiev.JPG/230px-Ukrainian_BMP-2_IFVs_during_the_Independence_Day_parade_in_Kiev.JPG"/>
          <p:cNvPicPr/>
          <p:nvPr/>
        </p:nvPicPr>
        <p:blipFill>
          <a:blip r:embed="rId4"/>
          <a:stretch/>
        </p:blipFill>
        <p:spPr>
          <a:xfrm>
            <a:off x="611280" y="4221000"/>
            <a:ext cx="3130560" cy="22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Механізовані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 і </a:t>
            </a:r>
            <a:r>
              <a:rPr b="0" lang="ru-RU" sz="27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танкові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 війська, що складають основу Сухопутних військ, виконують завдання щодо утримання зайнятих районів, рубежів і позицій, відбиття ударів противника, прориву оборони противника, розгрому його військ, захоплення важливих районів, рубежів і об'єктів, діють у складі </a:t>
            </a:r>
            <a:r>
              <a:rPr b="0" lang="ru-RU" sz="27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морських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 та </a:t>
            </a:r>
            <a:r>
              <a:rPr b="0" lang="ru-RU" sz="27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повітряних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 десантів. У спадок від СРСР українські Сухопутні війська отримали потужний арсенал, що включав у себе сучасні зразки </a:t>
            </a:r>
            <a:r>
              <a:rPr b="0" lang="ru-RU" sz="27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бронетанкової техніки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. Після проголошення незалежності, на вітчизняному підприємстві </a:t>
            </a:r>
            <a:r>
              <a:rPr b="0" lang="ru-RU" sz="27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ХКБМ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 танки </a:t>
            </a:r>
            <a:r>
              <a:rPr b="0" lang="ru-RU" sz="27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Т-64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 було модернізовано до рівня </a:t>
            </a:r>
            <a:r>
              <a:rPr b="0" lang="ru-RU" sz="27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Т-64БМ «Булат»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, а на базі </a:t>
            </a:r>
            <a:r>
              <a:rPr b="0" lang="ru-RU" sz="27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Т-80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 було створено новий український танк </a:t>
            </a:r>
            <a:r>
              <a:rPr b="0" lang="ru-RU" sz="27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Т-84 «Оплот»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Ракетні війська та артилері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48320" y="836280"/>
            <a:ext cx="4038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Ракетні війська та артилерія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Сухопутних військ складаються із з'єднань оперативно-тактичних і тактичних ракет, з'єднань і частин 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гаубичної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 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гарматної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 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реактивної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та 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протитанкової артилерії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 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артилерійської розвідк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 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мінометних підрозділів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та підрозділів 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протитанкових керованих ракет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Вони призначені для ураження живої сили, танків, артилерії, протитанкових засобів противника, авіації, об'єктів ППО та інших важливих об'єктів при веденні загальновійськової операції (бою). За умови відсутності в України 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ядерної зброї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ракетні війська та артилерія є найпотужнішою ударною силою в складі Збройних сил. Сучасні артилерійські з'єднання, що перебувають у складі української армії, здатні швидко передислоковуватися та наносити удари по супротивнику за будь-яких погодних умов та в будь-який час доб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https://upload.wikimedia.org/wikipedia/commons/thumb/a/a2/BM-30_Smerch_of_the_Ukrainian_Army.jpg/230px-BM-30_Smerch_of_the_Ukrainian_Army.jpg"/>
          <p:cNvPicPr/>
          <p:nvPr/>
        </p:nvPicPr>
        <p:blipFill>
          <a:blip r:embed="rId10"/>
          <a:stretch/>
        </p:blipFill>
        <p:spPr>
          <a:xfrm>
            <a:off x="250920" y="981000"/>
            <a:ext cx="4005000" cy="2664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https://upload.wikimedia.org/wikipedia/commons/thumb/d/d6/BM-27_Uragan_of_the_Ukrainian_Army.jpg/230px-BM-27_Uragan_of_the_Ukrainian_Army.jpg"/>
          <p:cNvPicPr/>
          <p:nvPr/>
        </p:nvPicPr>
        <p:blipFill>
          <a:blip r:embed="rId11"/>
          <a:stretch/>
        </p:blipFill>
        <p:spPr>
          <a:xfrm>
            <a:off x="324000" y="3741840"/>
            <a:ext cx="403200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1T16:00:20Z</dcterms:created>
  <dc:creator>Lenovo</dc:creator>
  <dc:description/>
  <dc:language>en-US</dc:language>
  <cp:lastModifiedBy>Lenovo</cp:lastModifiedBy>
  <dcterms:modified xsi:type="dcterms:W3CDTF">2016-12-01T17:21:26Z</dcterms:modified>
  <cp:revision>11</cp:revision>
  <dc:subject/>
  <dc:title>Слайд 1</dc:title>
</cp:coreProperties>
</file>