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3F5-86D4-4B5B-8366-1D6BED05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BEE-61F3-4954-B6CA-0B634E5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079-BF3A-48B6-BC54-DE3DFEA2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1FF-9A55-40B3-953C-8CE962A9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283F-2F6D-4ABC-BF37-A3F00583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A8BC-B2A5-4AD9-BE92-32EAEDA7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84B4-56AC-4197-84C7-F9A7BBF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8C1C-9E88-44A4-BC4D-290D7E1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D5FE-3DE5-4503-B5A3-759A1A65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F77-DDC2-4BA6-B7FD-CA216202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BAAC-AF16-4C97-A8E5-FC26228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43F-E7A5-4381-A281-A2422493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92B8-8A8D-48A4-A18F-951EE2C7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F5DA-4B0D-48A9-9F10-F21F5BD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226-3DB0-40CD-9091-9B8626B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0B7-5668-413D-ACAE-5FA51024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D647-CCC2-4BD4-9786-634FE353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92A6-5C6A-4E5D-B705-8D5001E0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9B28-CCE5-4879-BA2C-A395C03B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E9E8-D9F8-49F3-BDB9-ADD6295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93A8-9AF3-41F5-8085-18E19AA6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D898-63ED-4C4D-A509-79CFE35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A23-1AA7-40E5-B2CE-4DB14F7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DD3F-CA98-4137-92F0-73E586CC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D740-FC1D-4748-BD94-FAE77736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A57F-B551-4191-9C64-5F781A12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05F3-7A77-4C12-B340-BDED4166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3733-F3AA-4F6A-97D3-73E45F59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762F-662F-4F7F-996E-FB96D355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EC9B-C24A-460F-BB42-D48818F1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B55C-9055-4375-9436-753CC7B7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8B306-DEA8-4741-AA73-479A918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450E-A144-4C40-BB16-E0CDC9D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715-B786-4718-BF3F-56FD499C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B91A-67A5-4433-B7F2-B5EB938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2108-215F-42A7-9D15-A5BDAC14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E203-8BC7-41FA-9DD9-AB14886F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7FA35-CCEE-4551-B75C-E9D206B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91C7-ED97-40A8-9EB5-D594E446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0ED1-0675-4326-B8C3-432D186B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F1DE0-A535-4E49-A3E0-2798020D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AFBD-D0CE-43E0-8DCB-5FD1AEC3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E083-B1BC-4F29-9DF0-3E208D8C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129E3-D5AE-41AA-860D-93861DD1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EA2-519B-4493-8A63-1B8FC35D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5C7F-2252-43EB-8BA5-4F6701C2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FCE7-D4A7-428A-9E5E-790E5B2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E722F-A7C3-415D-BE31-0ECF78A0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CE89-E0AA-4B87-A1EF-726AD9A9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7F1F-2DCD-4196-B6AF-084B5EBC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8F4A-164F-4CE3-8D91-928FFBC0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6D04-1504-41A0-9EBB-6D95467A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1A43-B4E6-4823-99A8-2830FB71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9857-348A-4EBB-B66B-4D7758C0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296C-99FE-4E99-9155-A5BBBCDB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B6D-F073-4173-8E73-8FA14853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2839-6F16-4EB7-B07A-AF6DA97C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CA9BD-FDA4-485B-AB6D-7F55F4D5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0EE65-CCCB-4C7A-A506-9E252C8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4E67-BDCF-49D1-955C-6F89D2B7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61DB-A2AF-4D2D-A7ED-4AD521E6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F9539-84E9-4723-8E9A-26661702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521C-9FDF-4E9F-8AC9-ED5BC604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27B7-FC3E-4F9F-B5A2-AF38BFF1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EB3C2-2BEA-4379-97C1-5C05BE1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B1600-8ECC-4B27-B804-D7E15608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D1E-BA6D-4670-9E62-8B7871B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AA3D-4EA1-4896-9EC9-694D2A51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3719-B1C1-47BE-A48C-C16C6022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DAEC-BAF4-470C-9130-18FE4B71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4614-CE5A-489F-9E20-5345578D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2384C-49DE-4427-BE11-2A0750AC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990C-27D0-4223-8C17-63C268CE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A6FF9-9910-47FD-A5BD-A4E68E5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9C57E-D6AD-471C-AF10-049D52D3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A7A2-403E-4498-AECA-2944FC44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6DD28-CD9F-4C18-923B-40C442B0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1FF-0D9D-4C98-8FC7-69C88BDA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D828D-7331-4C53-9470-56D87EE3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30D54-6D2E-4D33-9FDB-1A5E4AB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F480-0EF1-48C1-AC02-B63EFD1E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98EBC-6FB0-4149-9DF0-1939328D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BE4B-E379-43C2-9BDC-7CEB14E7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97F-FD4F-455F-AAB5-D8C6AD8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EECD-1D06-4370-8071-34BAAA9EB3F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1C70-783C-4D9D-AEAD-E8738B7E30E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2379-115C-4004-97E8-828AC1CDB97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400E-8EF0-49D3-AB4E-744DF7AA3EE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EEA0-2675-49CF-BFE1-4A3223085F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E94A-DCD5-4810-A015-4CD06350380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EACE-DD01-40C7-8618-3B0FC042762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5084640"/>
            <a:ext cx="4210200" cy="13687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rbel"/>
              </a:rPr>
              <a:t>Природознавство 5 кла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orbel"/>
              </a:rPr>
              <a:t>Урок №2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4" name="Picture 1" descr="C:\Users\Алла\Downloads\педрада\orion-eridanus-monoceros-lepus-canismajor.jpg"/>
          <p:cNvPicPr/>
          <p:nvPr/>
        </p:nvPicPr>
        <p:blipFill>
          <a:blip r:embed="rId2"/>
          <a:stretch/>
        </p:blipFill>
        <p:spPr>
          <a:xfrm>
            <a:off x="4284720" y="2924280"/>
            <a:ext cx="4638600" cy="3247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68360" y="333360"/>
            <a:ext cx="65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0ad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0ad00"/>
                </a:solidFill>
                <a:latin typeface="Arial"/>
              </a:rPr>
              <a:t>Поняття сузір’я. Значення зоряного неба в історії людства Міфи та легенди про</a:t>
            </a:r>
            <a:r>
              <a:rPr b="1" lang="uk-UA" sz="4000" spc="-1" strike="noStrike">
                <a:solidFill>
                  <a:srgbClr val="f0ad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0ad00"/>
                </a:solidFill>
                <a:latin typeface="Arial"/>
              </a:rPr>
              <a:t>сузір’я </a:t>
            </a:r>
            <a:r>
              <a:rPr b="1" lang="uk-UA" sz="4000" spc="-1" strike="noStrike">
                <a:solidFill>
                  <a:srgbClr val="f0ad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35640" y="1557360"/>
            <a:ext cx="37083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8bba"/>
                </a:solidFill>
                <a:latin typeface="Arial"/>
              </a:rPr>
              <a:t>Сузір'ям називається ділянка небесної сфери, межі якої визначено спеціальним рішенням Міжнародного астрономічного союзу (МАС). Всього на небесній сфері - 88 сузір'ї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Содержимое 5" descr="psy.gif"/>
          <p:cNvPicPr/>
          <p:nvPr/>
        </p:nvPicPr>
        <p:blipFill>
          <a:blip r:embed="rId1"/>
          <a:stretch/>
        </p:blipFill>
        <p:spPr>
          <a:xfrm>
            <a:off x="0" y="0"/>
            <a:ext cx="536256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724360" y="549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СУЗІР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800"/>
                </a:solidFill>
                <a:latin typeface="Corbel"/>
              </a:rPr>
              <a:t>Найвідоміші з них — Велика та Мала Ведмедиця (Малий Віз), Кассіопея, Оріон. </a:t>
            </a:r>
            <a:br>
              <a:rPr sz="3200"/>
            </a:br>
            <a:endParaRPr b="1" lang="en-US" sz="32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44" name="Picture 2" descr="C:\Users\Алла\Downloads\педрада\suzirya-2.jpg"/>
          <p:cNvPicPr/>
          <p:nvPr/>
        </p:nvPicPr>
        <p:blipFill>
          <a:blip r:embed="rId1"/>
          <a:srcRect l="6756" t="4063" r="0" b="8812"/>
          <a:stretch/>
        </p:blipFill>
        <p:spPr>
          <a:xfrm>
            <a:off x="0" y="3762360"/>
            <a:ext cx="4968720" cy="3095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Users\Алла\Downloads\педрада\Canes Venatici.JPG"/>
          <p:cNvPicPr/>
          <p:nvPr/>
        </p:nvPicPr>
        <p:blipFill>
          <a:blip r:embed="rId2"/>
          <a:stretch/>
        </p:blipFill>
        <p:spPr>
          <a:xfrm>
            <a:off x="4859280" y="1541520"/>
            <a:ext cx="4284720" cy="343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C:\Users\Алла\Downloads\педрада\Canes Venatici.JPG"/>
          <p:cNvPicPr/>
          <p:nvPr/>
        </p:nvPicPr>
        <p:blipFill>
          <a:blip r:embed="rId2"/>
          <a:stretch/>
        </p:blipFill>
        <p:spPr>
          <a:xfrm>
            <a:off x="3564000" y="5295960"/>
            <a:ext cx="1946160" cy="1562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203640" y="1484280"/>
            <a:ext cx="2735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8bba"/>
                </a:solidFill>
                <a:latin typeface="Arial"/>
              </a:rPr>
              <a:t>Астрономи вдавнину розділили зоряне небо на сузір'я. Велика частина сузір'їв, названих за часів Гіппарха і Птолемея, має назви тварин або героїв міф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1193_0"/>
          <p:cNvPicPr/>
          <p:nvPr/>
        </p:nvPicPr>
        <p:blipFill>
          <a:blip r:embed="rId3"/>
          <a:stretch/>
        </p:blipFill>
        <p:spPr>
          <a:xfrm>
            <a:off x="179280" y="1773360"/>
            <a:ext cx="2764080" cy="3359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1223_0"/>
          <p:cNvPicPr/>
          <p:nvPr/>
        </p:nvPicPr>
        <p:blipFill>
          <a:blip r:embed="rId4"/>
          <a:stretch/>
        </p:blipFill>
        <p:spPr>
          <a:xfrm>
            <a:off x="6227640" y="1844640"/>
            <a:ext cx="2540160" cy="3384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1280" y="566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5734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іппа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c800"/>
                </a:solidFill>
                <a:latin typeface="Arial"/>
              </a:rPr>
              <a:t>Міф та Легенда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Міф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це вигадана розповідь, яка передає первісні уявлення наших пращурів про всесвіт, про явища природ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Легенд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-  усне народне оповідання про чудесну подію, що сприймається як достовірн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C:\Users\Алла\Downloads\педрада\images (1).jpg"/>
          <p:cNvPicPr/>
          <p:nvPr/>
        </p:nvPicPr>
        <p:blipFill>
          <a:blip r:embed="rId1"/>
          <a:stretch/>
        </p:blipFill>
        <p:spPr>
          <a:xfrm>
            <a:off x="3132000" y="4508640"/>
            <a:ext cx="3888000" cy="217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7" name="Объект 3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527720" cy="30243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"/>
          <p:cNvPicPr/>
          <p:nvPr/>
        </p:nvPicPr>
        <p:blipFill>
          <a:blip r:embed="rId3"/>
          <a:stretch/>
        </p:blipFill>
        <p:spPr>
          <a:xfrm>
            <a:off x="3635280" y="2824200"/>
            <a:ext cx="5337360" cy="381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826920" y="476280"/>
            <a:ext cx="60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C:\Users\Алла\Downloads\педрада\450px-Priroda5_17_1.jp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547640" y="260280"/>
            <a:ext cx="59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Зодіакальні сузір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00"/>
                </a:solidFill>
                <a:latin typeface="Arial"/>
              </a:rPr>
              <a:t>Вправа для очей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63" name="Текст 2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856720" cy="5003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44360" y="0"/>
            <a:ext cx="8999640" cy="1496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7416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Скупчення, до якого належить наша планета, називається Чумацьким Шлях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30240" y="2997360"/>
            <a:ext cx="9113760" cy="3465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285840" y="-92160"/>
            <a:ext cx="8407440" cy="1616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Алла\Downloads\педрада\galaxies.jpg"/>
          <p:cNvPicPr/>
          <p:nvPr/>
        </p:nvPicPr>
        <p:blipFill>
          <a:blip r:embed="rId2"/>
          <a:stretch/>
        </p:blipFill>
        <p:spPr>
          <a:xfrm>
            <a:off x="755640" y="1628640"/>
            <a:ext cx="77025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9640" y="1844640"/>
            <a:ext cx="84250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68bba"/>
                </a:solidFill>
                <a:latin typeface="Arial"/>
              </a:rPr>
              <a:t>сформувати  загальне уявлення про зорі, сузір'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8bba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68bba"/>
                </a:solidFill>
                <a:latin typeface="Arial"/>
              </a:rPr>
              <a:t>продовжити знайомство з міфами та легендами про сузір’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68bba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168bba"/>
                </a:solidFill>
                <a:latin typeface="Arial"/>
              </a:rPr>
              <a:t>розвивати уміння порівнювати, аналізувати;</a:t>
            </a:r>
            <a:r>
              <a:rPr b="0" lang="ru-RU" sz="2800" spc="-1" strike="noStrike">
                <a:solidFill>
                  <a:srgbClr val="168bb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68bba"/>
                </a:solidFill>
                <a:latin typeface="Arial"/>
              </a:rPr>
              <a:t>формувати уміння логічно мислити та застосовувати знання, отримані раніш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168b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68bba"/>
                </a:solidFill>
                <a:latin typeface="Arial"/>
              </a:rPr>
              <a:t>будемо виховувати в собі комунікабель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-360" y="1774800"/>
            <a:ext cx="29163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68bba"/>
                </a:solidFill>
                <a:latin typeface="Corbel"/>
              </a:rPr>
              <a:t>Світло від неї доходить до нас за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68bba"/>
                </a:solidFill>
                <a:latin typeface="Corbel"/>
              </a:rPr>
              <a:t>3 млн. років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C:\Users\Алла\Downloads\педрада\3732e85ccc_157296.jpg"/>
          <p:cNvPicPr/>
          <p:nvPr/>
        </p:nvPicPr>
        <p:blipFill>
          <a:blip r:embed="rId2"/>
          <a:stretch/>
        </p:blipFill>
        <p:spPr>
          <a:xfrm>
            <a:off x="2916360" y="1628640"/>
            <a:ext cx="601812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роводити спостереження за зорями. Знайти на небі Велику Ведмедицю й Полярну Зірку. За Полярною Зіркою визначити сторони горизонту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Опрацювати відповідн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&amp;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18</a:t>
            </a: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 у підручнику і підготувати відповіді на запитанн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Знайти у літературі відомості про походження назви вашого знака зодіаку та про його характерні риси. Написати, які риси відрізняють вас від людей іншого зодіакального знак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Що таке сузір'я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Що називають галактикою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Чому Сонце називають зорею, а не планетою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Яке значення Сонця для життя на Землі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Яка різниця між міфами та легендами.</a:t>
            </a: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c800"/>
                </a:solidFill>
                <a:latin typeface="Corbel"/>
              </a:rPr>
              <a:t>План уроку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42560" y="1699920"/>
            <a:ext cx="7643880" cy="405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9000"/>
          </a:bodyPr>
          <a:p>
            <a:pPr marL="345960" indent="-25164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orbel"/>
              </a:rPr>
              <a:t>Зорі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45960" indent="-25164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іжзоряни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45960" indent="-251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простір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45960" indent="-25164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orbel"/>
              </a:rPr>
              <a:t>Сузір'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45960" indent="-25164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orbel"/>
              </a:rPr>
              <a:t>Міфи та легенди про сузір</a:t>
            </a: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1" lang="uk-UA" sz="5400" spc="-1" strike="noStrike">
                <a:solidFill>
                  <a:srgbClr val="000000"/>
                </a:solidFill>
                <a:latin typeface="Corbe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45960" indent="-251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45960" indent="-2516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3" name="Объект 3" descr=""/>
          <p:cNvPicPr/>
          <p:nvPr/>
        </p:nvPicPr>
        <p:blipFill>
          <a:blip r:embed="rId2"/>
          <a:stretch/>
        </p:blipFill>
        <p:spPr>
          <a:xfrm>
            <a:off x="34920" y="3716280"/>
            <a:ext cx="2374920" cy="277344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4" descr=""/>
          <p:cNvPicPr/>
          <p:nvPr/>
        </p:nvPicPr>
        <p:blipFill>
          <a:blip r:embed="rId3"/>
          <a:stretch/>
        </p:blipFill>
        <p:spPr>
          <a:xfrm>
            <a:off x="5748480" y="1768320"/>
            <a:ext cx="2938320" cy="5067360"/>
          </a:xfrm>
          <a:prstGeom prst="rect">
            <a:avLst/>
          </a:prstGeom>
          <a:ln w="0">
            <a:noFill/>
          </a:ln>
        </p:spPr>
      </p:pic>
      <p:cxnSp>
        <p:nvCxnSpPr>
          <p:cNvPr id="315" name="Прямая со стрелкой 6"/>
          <p:cNvCxnSpPr/>
          <p:nvPr/>
        </p:nvCxnSpPr>
        <p:spPr>
          <a:xfrm flipH="1">
            <a:off x="1115640" y="1628280"/>
            <a:ext cx="2952000" cy="180108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cxnSp>
        <p:nvCxnSpPr>
          <p:cNvPr id="316" name="Прямая со стрелкой 8"/>
          <p:cNvCxnSpPr/>
          <p:nvPr/>
        </p:nvCxnSpPr>
        <p:spPr>
          <a:xfrm>
            <a:off x="4067280" y="1662120"/>
            <a:ext cx="1513440" cy="205488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triangle" w="med"/>
          </a:ln>
        </p:spPr>
      </p:cxnSp>
      <p:sp>
        <p:nvSpPr>
          <p:cNvPr id="317" name="4-конечная звезда 9"/>
          <p:cNvSpPr/>
          <p:nvPr/>
        </p:nvSpPr>
        <p:spPr>
          <a:xfrm>
            <a:off x="201600" y="17683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4-конечная звезда 10"/>
          <p:cNvSpPr/>
          <p:nvPr/>
        </p:nvSpPr>
        <p:spPr>
          <a:xfrm>
            <a:off x="4643280" y="6237360"/>
            <a:ext cx="433440" cy="431640"/>
          </a:xfrm>
          <a:custGeom>
            <a:avLst/>
            <a:gdLst>
              <a:gd name="textAreaLeft" fmla="*/ 178560 w 433440"/>
              <a:gd name="textAreaRight" fmla="*/ 254880 w 4334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4-конечная звезда 11"/>
          <p:cNvSpPr/>
          <p:nvPr/>
        </p:nvSpPr>
        <p:spPr>
          <a:xfrm>
            <a:off x="2781360" y="5084640"/>
            <a:ext cx="638280" cy="554040"/>
          </a:xfrm>
          <a:custGeom>
            <a:avLst/>
            <a:gdLst>
              <a:gd name="textAreaLeft" fmla="*/ 262800 w 638280"/>
              <a:gd name="textAreaRight" fmla="*/ 375480 w 638280"/>
              <a:gd name="textAreaTop" fmla="*/ 228240 h 554040"/>
              <a:gd name="textAreaBottom" fmla="*/ 32580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4-конечная звезда 12"/>
          <p:cNvSpPr/>
          <p:nvPr/>
        </p:nvSpPr>
        <p:spPr>
          <a:xfrm>
            <a:off x="3562200" y="3141720"/>
            <a:ext cx="793800" cy="744480"/>
          </a:xfrm>
          <a:custGeom>
            <a:avLst/>
            <a:gdLst>
              <a:gd name="textAreaLeft" fmla="*/ 326880 w 793800"/>
              <a:gd name="textAreaRight" fmla="*/ 466920 w 793800"/>
              <a:gd name="textAreaTop" fmla="*/ 306720 h 744480"/>
              <a:gd name="textAreaBottom" fmla="*/ 437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201600" y="-55440"/>
            <a:ext cx="8686800" cy="150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Від інших небесних тіл вона відрізняється тим, що сама випромінює світло, має велику температуру поверхні. Зірки відрізняються між собою за кольором, температурою, розмірами, відстанню від Землі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3529080" cy="4967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 algn="ctr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Як і всі зірки, Сонце — велетенська палаюча куля, що складається з розжарених газів. Температура на його поверхні близько 6000 °С, а всередині вона сягає 15 млн. градусі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"/>
          <p:cNvSpPr/>
          <p:nvPr/>
        </p:nvSpPr>
        <p:spPr>
          <a:xfrm>
            <a:off x="2627280" y="112536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Users\Алла\Downloads\педрада\solnce-.jpg"/>
          <p:cNvPicPr/>
          <p:nvPr/>
        </p:nvPicPr>
        <p:blipFill>
          <a:blip r:embed="rId1"/>
          <a:stretch/>
        </p:blipFill>
        <p:spPr>
          <a:xfrm>
            <a:off x="3708360" y="1628640"/>
            <a:ext cx="5299200" cy="4753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404640"/>
            <a:ext cx="878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0ad00"/>
                </a:solidFill>
                <a:latin typeface="Arial"/>
              </a:rPr>
              <a:t>Сонце — це найближча до Землі зірка, що знаходиться в центр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800"/>
                </a:solidFill>
                <a:latin typeface="Corbel"/>
              </a:rPr>
              <a:t>Найхолоднішими вважають червоні зірки, найгарячішими — білі та голубі.</a:t>
            </a:r>
            <a:r>
              <a:rPr b="1" lang="ru-RU" sz="4100" spc="-1" strike="noStrike">
                <a:solidFill>
                  <a:srgbClr val="ffc800"/>
                </a:solidFill>
                <a:latin typeface="Corbel"/>
              </a:rPr>
              <a:t> 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17733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" descr="3109898_33_Krasn_gigant (478x298, 106Kb)"/>
          <p:cNvPicPr/>
          <p:nvPr/>
        </p:nvPicPr>
        <p:blipFill>
          <a:blip r:embed="rId1"/>
          <a:srcRect l="7828" t="0" r="8263" b="6138"/>
          <a:stretch/>
        </p:blipFill>
        <p:spPr>
          <a:xfrm>
            <a:off x="250920" y="1557360"/>
            <a:ext cx="3095640" cy="2158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3109898_Zvezda_Sverhnovaya (310x310, 21Kb)"/>
          <p:cNvPicPr/>
          <p:nvPr/>
        </p:nvPicPr>
        <p:blipFill>
          <a:blip r:embed="rId2"/>
          <a:stretch/>
        </p:blipFill>
        <p:spPr>
          <a:xfrm>
            <a:off x="5940360" y="1628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3109898_Belii_karlik (398x407, 15Kb)"/>
          <p:cNvPicPr/>
          <p:nvPr/>
        </p:nvPicPr>
        <p:blipFill>
          <a:blip r:embed="rId3"/>
          <a:stretch/>
        </p:blipFill>
        <p:spPr>
          <a:xfrm>
            <a:off x="2916360" y="3716280"/>
            <a:ext cx="2805120" cy="28688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11600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3640" y="5157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500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ffc800"/>
                </a:solidFill>
                <a:latin typeface="Corbel"/>
              </a:rPr>
              <a:t>Робота з підручником (</a:t>
            </a:r>
            <a:r>
              <a:rPr b="1" lang="uk-UA" sz="4200" spc="-1" strike="noStrike">
                <a:solidFill>
                  <a:srgbClr val="ffc800"/>
                </a:solidFill>
                <a:latin typeface="Corbel"/>
              </a:rPr>
              <a:t> 2.) Ст. 79.</a:t>
            </a:r>
            <a:r>
              <a:rPr b="1" lang="uk-UA" sz="4100" spc="-1" strike="noStrike">
                <a:solidFill>
                  <a:srgbClr val="ffc800"/>
                </a:solidFill>
                <a:latin typeface="Corbel"/>
              </a:rPr>
              <a:t> 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І.в – Що таке туманність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rbel"/>
              </a:rPr>
              <a:t>ІІ.в - -  Яких видів буває туманність?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" descr="3109898_Tymannost_Oriona (290x357, 23Kb)"/>
          <p:cNvPicPr/>
          <p:nvPr/>
        </p:nvPicPr>
        <p:blipFill>
          <a:blip r:embed="rId1"/>
          <a:stretch/>
        </p:blipFill>
        <p:spPr>
          <a:xfrm>
            <a:off x="826920" y="3141720"/>
            <a:ext cx="2762280" cy="3400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туманність котяче око"/>
          <p:cNvPicPr/>
          <p:nvPr/>
        </p:nvPicPr>
        <p:blipFill>
          <a:blip r:embed="rId2"/>
          <a:stretch/>
        </p:blipFill>
        <p:spPr>
          <a:xfrm>
            <a:off x="4572000" y="314172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3280" y="6491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і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645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на, газ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7:41:44Z</dcterms:created>
  <dc:creator>Алла</dc:creator>
  <dc:description/>
  <dc:language>en-US</dc:language>
  <cp:lastModifiedBy>DNA7 X86</cp:lastModifiedBy>
  <dcterms:modified xsi:type="dcterms:W3CDTF">2016-11-20T12:39:22Z</dcterms:modified>
  <cp:revision>38</cp:revision>
  <dc:subject/>
  <dc:title>«Поняття сузір’я. Значення зоряного неба в історії людства».</dc:title>
</cp:coreProperties>
</file>