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1D0-4F81-4622-8D21-DB5C23D0AF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B720-3BB4-4CF9-A763-FB27E9CA0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ED7-CD68-418D-91FF-BB009C9D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14E-9E0C-4B8A-B457-D0BFEF53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465-B9DA-4D2A-A96D-F79EC589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89F-CFB5-44B5-8865-DAE300FA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8B0B-5653-45DB-A7E4-EC5009EE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B90-7DC6-403A-94FE-792C84A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1BF3-4F9D-4DD9-BDF4-692A1D9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6089-1512-4C5E-99F5-165704E7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B60-F9A6-4924-B669-AC5E4D7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93D1-6266-465A-AF72-CCA0272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7EB-BE70-4D3B-A8AF-C763D6F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356-FF85-42D1-B725-832E95CA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AD51-7B43-401A-B760-0EC6C8CD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0425-49E0-4F98-A582-3929834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C0C-CB2B-40CA-8091-92DCFC4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CCCD-8C49-4958-99DF-9321BED0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4525-7ED6-4795-8FA5-C0C2188A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1815-24D4-4C54-81E2-591E5BE3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3185-D0CA-4A2D-89A1-6B31CE6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7229-E54B-4494-BF09-6E47D080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4EE5-6EE6-4902-B2E3-A218B647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7053-0509-4075-8C33-BD139E0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14F-CF25-4944-9755-17B25390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544B-8D75-44F4-91B4-187A177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B58E-A3A8-4896-A11D-D21A74C3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00DE-344B-4F84-A911-96874B6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25BB-6CFD-4565-9ADB-FF3643A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D26D-D546-4EA5-945E-DD637F2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D249-FCBC-4F29-83AA-7746B2F5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1CB4-F790-4E3E-A980-BFEE4F5A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9086-5622-4AA3-BFC3-47EE52B5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8EB2-44CD-4B36-A9CC-7948DEA1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5E89-40CE-4599-BB45-FF0C576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566-32DB-436C-A4F2-EC574CC2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DB70-D4D5-490A-9EA9-6B2A137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6DBE-336A-408D-BB01-8A80917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0882-722D-4AE4-A423-4650869D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D7EB-0445-4653-871C-4873D3E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D2BE-712F-4F4A-ACF7-C78469F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CFBF-892C-48C7-9AFF-E0BAEC9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22CB-5059-4715-861F-834FC90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5003-A2ED-4071-A604-941EAB27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6EC0-B8C1-4230-8FA6-CCE26041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9395-60C5-429E-BC28-91F12791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E32-96EC-47BD-9D70-27E54A56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A7D5C-BEC5-4490-A1E6-72E9233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D394-1D5A-4EA3-9875-C0F5A27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A54A6-8974-4DD3-81F4-079FAD7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F171-51C0-41D2-8688-A9ACF4E8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7FF3-412F-47CE-B1AC-D5BE1971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AA15-E9AC-4899-AD74-E8FACB7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8472-9D92-496A-9E2B-19281F5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FA41-AABE-41EC-BFDC-5986EFD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F1CF-C43B-4316-ABB2-3D38C464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E87F-A86E-438F-82F0-8FE1D8C9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A58-C2BC-4674-BDF4-C3A89717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28036-885F-42B8-903D-03A0AA68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754B-4AE5-447E-9689-FAC7C4BE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BD08-D1E3-42D0-8FB6-7586CF19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10B11-A791-49BF-B4CC-EDE9C6E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6A712-E37F-4C62-B0A6-1AAE6B0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0D68-5E2F-40AF-9775-B2BA1C3E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2029-2E0A-456C-8594-B4BBC98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24F0F-967A-40A3-B667-6932D67F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9294-9F50-4C79-BABD-E60731A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D500-094C-4E33-B43D-0A569BE2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21E-78E5-44DA-93D6-8C9C2C9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BD732-9253-4DA2-AC63-5F6B212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A7BC-5A22-4410-A7CF-8128ACAF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9C422-234E-40A7-BD48-694EA64C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F4C5-218C-4165-A0AC-0010924E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15A6-92E7-4DF7-A5C8-E67D64D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C7E5-CF29-404F-B9F9-563701F0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7421-DA7F-486C-82FC-2D2BAC2E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0E7A-5052-40BC-A889-F56F823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D9B7-8661-4FE4-BE22-C440AF6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8588-6CC1-4BC7-A7B6-AC71A5F7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1FD-25DA-4796-A0C0-0AE886E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1CC0-5EA0-4D13-AA7C-A758258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D1612-D70E-4381-995B-C2C4481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1C0B-D913-4A17-B88A-A37B80EB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0A50B-5BCC-41CA-A820-CA888EAC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6C2D7-A040-4392-B508-481A4661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9C36-6056-4CCD-9D9A-32F15481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4E86-2EDC-4A78-BF08-984ED789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5B56-8384-47E0-8C2D-A28DF8D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9B5D-79CE-4C87-9791-6664ADD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F079E-2549-4EC4-A71E-447CA08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45B-79AC-4A74-A343-181BCFDB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201F-09A0-4699-84A3-8C3E4BBA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9DCC-E7CF-4A05-A553-651AEC2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E514-4635-4063-8E06-3EB768C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FFBB-85B4-4DC1-B28F-61748756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31B8-C66F-4B45-85C3-AC02D65D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BA274-8398-4489-9644-7F59C45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8F5C1-E7BF-418D-92CD-5D34CC22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935-7479-45F7-B57E-A5D3256833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F429-437C-49F0-A450-C0867F4E4D6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9580-6D9F-4CFC-86AB-E6B6613AAE6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C387-D770-44BB-B4F6-C487B878897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3B8-9537-475C-8084-1FB60859D15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FED-6F2F-4193-AB50-46F07221E6D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7779-2627-4DB2-9AFD-C990A609BB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11F-88D9-4BC0-9BA7-B900069BB39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Текст 29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олнце 6"/>
          <p:cNvSpPr/>
          <p:nvPr/>
        </p:nvSpPr>
        <p:spPr>
          <a:xfrm>
            <a:off x="3714840" y="2786040"/>
            <a:ext cx="5429160" cy="36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Lucida Sans Unicode"/>
              </a:rPr>
              <a:t>ДЕМОНСТРУВАННЯ ЧОГОСЬ  - ЦЕ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357200" y="1071720"/>
          <a:ext cx="6858000" cy="728640"/>
        </p:xfrm>
        <a:graphic>
          <a:graphicData uri="http://schemas.openxmlformats.org/drawingml/2006/table">
            <a:tbl>
              <a:tblPr/>
              <a:tblGrid>
                <a:gridCol w="623880"/>
                <a:gridCol w="622440"/>
                <a:gridCol w="623880"/>
                <a:gridCol w="623880"/>
                <a:gridCol w="623880"/>
                <a:gridCol w="622440"/>
                <a:gridCol w="623880"/>
                <a:gridCol w="623880"/>
                <a:gridCol w="623880"/>
                <a:gridCol w="622080"/>
                <a:gridCol w="623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pic>
        <p:nvPicPr>
          <p:cNvPr id="380" name="Picture 32" descr=""/>
          <p:cNvPicPr/>
          <p:nvPr/>
        </p:nvPicPr>
        <p:blipFill>
          <a:blip r:embed="rId1"/>
          <a:stretch/>
        </p:blipFill>
        <p:spPr>
          <a:xfrm>
            <a:off x="0" y="3000240"/>
            <a:ext cx="3500280" cy="365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rcRect l="21094" t="5889" r="66605" b="5889"/>
          <a:stretch/>
        </p:blipFill>
        <p:spPr>
          <a:xfrm>
            <a:off x="428760" y="3643200"/>
            <a:ext cx="1571400" cy="1000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382" name=""/>
          <p:cNvGraphicFramePr/>
          <p:nvPr/>
        </p:nvGraphicFramePr>
        <p:xfrm>
          <a:off x="1357200" y="1071720"/>
          <a:ext cx="6858000" cy="728640"/>
        </p:xfrm>
        <a:graphic>
          <a:graphicData uri="http://schemas.openxmlformats.org/drawingml/2006/table">
            <a:tbl>
              <a:tblPr/>
              <a:tblGrid>
                <a:gridCol w="623880"/>
                <a:gridCol w="622440"/>
                <a:gridCol w="623880"/>
                <a:gridCol w="623880"/>
                <a:gridCol w="623880"/>
                <a:gridCol w="622440"/>
                <a:gridCol w="623880"/>
                <a:gridCol w="623880"/>
                <a:gridCol w="623880"/>
                <a:gridCol w="622080"/>
                <a:gridCol w="623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Солнце 6"/>
          <p:cNvSpPr/>
          <p:nvPr/>
        </p:nvSpPr>
        <p:spPr>
          <a:xfrm>
            <a:off x="4572000" y="2714760"/>
            <a:ext cx="4143240" cy="2143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Lucida Sans Unicode"/>
              </a:rPr>
              <a:t>ЗРАЗОК ДЛЯ СТВОРЕННЯ ПРЕЗЕНТАЦ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523880" y="1071720"/>
          <a:ext cx="6096240" cy="696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sp>
        <p:nvSpPr>
          <p:cNvPr id="385" name="Прямоугольник 9"/>
          <p:cNvSpPr/>
          <p:nvPr/>
        </p:nvSpPr>
        <p:spPr>
          <a:xfrm>
            <a:off x="1571760" y="1071720"/>
            <a:ext cx="6072120" cy="69984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2" descr=""/>
          <p:cNvPicPr/>
          <p:nvPr/>
        </p:nvPicPr>
        <p:blipFill>
          <a:blip r:embed="rId1"/>
          <a:stretch/>
        </p:blipFill>
        <p:spPr>
          <a:xfrm>
            <a:off x="0" y="3198960"/>
            <a:ext cx="3500280" cy="365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3" descr=""/>
          <p:cNvPicPr/>
          <p:nvPr/>
        </p:nvPicPr>
        <p:blipFill>
          <a:blip r:embed="rId2"/>
          <a:srcRect l="19233" t="10000" r="56795" b="83555"/>
          <a:stretch/>
        </p:blipFill>
        <p:spPr>
          <a:xfrm>
            <a:off x="357120" y="3857760"/>
            <a:ext cx="1643040" cy="85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Содержимое 3" descr=""/>
          <p:cNvPicPr/>
          <p:nvPr/>
        </p:nvPicPr>
        <p:blipFill>
          <a:blip r:embed="rId1"/>
          <a:stretch/>
        </p:blipFill>
        <p:spPr>
          <a:xfrm>
            <a:off x="1579680" y="109440"/>
            <a:ext cx="5979960" cy="120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http://school.xvatit.com/images/4/41/2.21.12.12.jpg"/>
          <p:cNvPicPr/>
          <p:nvPr/>
        </p:nvPicPr>
        <p:blipFill>
          <a:blip r:embed="rId3"/>
          <a:stretch/>
        </p:blipFill>
        <p:spPr>
          <a:xfrm>
            <a:off x="231840" y="1189080"/>
            <a:ext cx="1457280" cy="226044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4" descr=""/>
          <p:cNvPicPr/>
          <p:nvPr/>
        </p:nvPicPr>
        <p:blipFill>
          <a:blip r:embed="rId4"/>
          <a:stretch/>
        </p:blipFill>
        <p:spPr>
          <a:xfrm>
            <a:off x="1914480" y="4181400"/>
            <a:ext cx="7058160" cy="1712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5"/>
          <a:srcRect l="50133" t="0" r="0" b="0"/>
          <a:stretch/>
        </p:blipFill>
        <p:spPr>
          <a:xfrm>
            <a:off x="5724360" y="1454040"/>
            <a:ext cx="2951280" cy="26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3" name="Picture 2" descr="https://encrypted-tbn0.gstatic.com/images?q=tbn:ANd9GcRgnoY6-qXJgG2M8O-Io5rj0ujmVao_gqjKNCpWyVO64s7P3Mub"/>
          <p:cNvPicPr/>
          <p:nvPr/>
        </p:nvPicPr>
        <p:blipFill>
          <a:blip r:embed="rId6"/>
          <a:stretch/>
        </p:blipFill>
        <p:spPr>
          <a:xfrm>
            <a:off x="3114720" y="1484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7"/>
          <a:srcRect l="0" t="0" r="90257" b="0"/>
          <a:stretch/>
        </p:blipFill>
        <p:spPr>
          <a:xfrm>
            <a:off x="2556000" y="1484280"/>
            <a:ext cx="576000" cy="26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5" name="Picture 2" descr=""/>
          <p:cNvPicPr/>
          <p:nvPr/>
        </p:nvPicPr>
        <p:blipFill>
          <a:blip r:embed="rId8"/>
          <a:srcRect l="0" t="0" r="90257" b="0"/>
          <a:stretch/>
        </p:blipFill>
        <p:spPr>
          <a:xfrm>
            <a:off x="1979640" y="1341360"/>
            <a:ext cx="57636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Солнце 6"/>
          <p:cNvSpPr/>
          <p:nvPr/>
        </p:nvSpPr>
        <p:spPr>
          <a:xfrm>
            <a:off x="5000760" y="2714760"/>
            <a:ext cx="3714480" cy="2143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Lucida Sans Unicode"/>
              </a:rPr>
              <a:t>КОМАНДА  ДЛЯ ВИЛУЧЕННЯ СЛАЙ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523880" y="1071720"/>
          <a:ext cx="6096240" cy="696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sp>
        <p:nvSpPr>
          <p:cNvPr id="398" name="Прямоугольник 9"/>
          <p:cNvSpPr/>
          <p:nvPr/>
        </p:nvSpPr>
        <p:spPr>
          <a:xfrm>
            <a:off x="1571760" y="1071720"/>
            <a:ext cx="6072120" cy="69984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6" descr=""/>
          <p:cNvPicPr/>
          <p:nvPr/>
        </p:nvPicPr>
        <p:blipFill>
          <a:blip r:embed="rId1"/>
          <a:stretch/>
        </p:blipFill>
        <p:spPr>
          <a:xfrm>
            <a:off x="7858080" y="0"/>
            <a:ext cx="1071720" cy="1177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2" descr=""/>
          <p:cNvPicPr/>
          <p:nvPr/>
        </p:nvPicPr>
        <p:blipFill>
          <a:blip r:embed="rId2"/>
          <a:stretch/>
        </p:blipFill>
        <p:spPr>
          <a:xfrm>
            <a:off x="0" y="3198960"/>
            <a:ext cx="3500280" cy="3659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1128600" y="3929040"/>
            <a:ext cx="862200" cy="1000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олнце 6"/>
          <p:cNvSpPr/>
          <p:nvPr/>
        </p:nvSpPr>
        <p:spPr>
          <a:xfrm>
            <a:off x="4357800" y="1928880"/>
            <a:ext cx="4000320" cy="2357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Lucida Sans Unicode"/>
              </a:rPr>
              <a:t>ПРОЦЕС ЗМІНИ ВЛАСТИВОСТЕЙ ТЕК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285920" y="1071720"/>
          <a:ext cx="7000920" cy="571320"/>
        </p:xfrm>
        <a:graphic>
          <a:graphicData uri="http://schemas.openxmlformats.org/drawingml/2006/table">
            <a:tbl>
              <a:tblPr/>
              <a:tblGrid>
                <a:gridCol w="582480"/>
                <a:gridCol w="584280"/>
                <a:gridCol w="582480"/>
                <a:gridCol w="551160"/>
                <a:gridCol w="615960"/>
                <a:gridCol w="583920"/>
                <a:gridCol w="584280"/>
                <a:gridCol w="582480"/>
                <a:gridCol w="584280"/>
                <a:gridCol w="582840"/>
                <a:gridCol w="583920"/>
                <a:gridCol w="5828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sp>
        <p:nvSpPr>
          <p:cNvPr id="404" name="Прямоугольник 10"/>
          <p:cNvSpPr/>
          <p:nvPr/>
        </p:nvSpPr>
        <p:spPr>
          <a:xfrm>
            <a:off x="1285920" y="928800"/>
            <a:ext cx="7000920" cy="69984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4" descr=""/>
          <p:cNvPicPr/>
          <p:nvPr/>
        </p:nvPicPr>
        <p:blipFill>
          <a:blip r:embed="rId1"/>
          <a:stretch/>
        </p:blipFill>
        <p:spPr>
          <a:xfrm>
            <a:off x="6786720" y="4500720"/>
            <a:ext cx="2162160" cy="2171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2" descr=""/>
          <p:cNvPicPr/>
          <p:nvPr/>
        </p:nvPicPr>
        <p:blipFill>
          <a:blip r:embed="rId2"/>
          <a:stretch/>
        </p:blipFill>
        <p:spPr>
          <a:xfrm>
            <a:off x="0" y="3198960"/>
            <a:ext cx="35002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30T13:10:01Z</dcterms:modified>
  <cp:revision>24</cp:revision>
  <dc:subject/>
  <dc:title>Слайд 1</dc:title>
</cp:coreProperties>
</file>