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2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5FF-50BA-4293-85F7-9F0FF615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067-D324-485E-8EE4-1699FC44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437-E4B8-4139-B96C-A089E0DE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24D-1BA2-4019-945A-EBD96E79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3D3B-5E09-4C6A-8782-4652470F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9D55-C9D3-47C2-8C9A-8BFBC6F1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20C3-FC69-4086-9132-DA89C06F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F6CE-1CD9-4562-B082-978744D9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3FAE-654B-44F7-9A70-87A460A5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485A-448D-457D-8C58-859292D2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D6B5-5135-4628-9E47-756D5CB9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201-85FD-42F3-8990-9A2A0810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39A6-62EF-49C1-8CAC-403A486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537D-94D9-4847-AD3D-935FFC6E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FC93-0500-4C42-BD4B-0F1B3F4E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4BB4-8E7B-44F9-BB25-817CED87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5759-4F59-435B-95EB-E60FBDF2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18F-D374-4F00-8450-6FFE9D08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9B4-5157-43C3-A135-600E9233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070-B603-4106-9FB1-B994499E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D94-73B7-4163-BF13-96C9907E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2A1-DAD5-4AC6-83A1-65448D43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70B-B4C0-486D-A991-9BC1DBB8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A92-C866-45A5-BDE9-2616B5E6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B5B-157E-4586-8812-9811622142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E918-73E3-484F-9CDA-7594B7E09BAD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140000" y="5013000"/>
            <a:ext cx="46069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Генеральний директор Півкру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26920" y="26028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Фірма «Кулястий світ»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97" name="Picture 5" descr="1312218783_234821424_4----"/>
          <p:cNvPicPr/>
          <p:nvPr/>
        </p:nvPicPr>
        <p:blipFill>
          <a:blip r:embed="rId1"/>
          <a:stretch/>
        </p:blipFill>
        <p:spPr>
          <a:xfrm>
            <a:off x="179280" y="2441520"/>
            <a:ext cx="37800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916280"/>
            <a:ext cx="4103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жного дня виникає потреба у речах у формі кулі чи сфери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 де їх можна придбати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вичайно, в нашій добре відомій фірмі “Кулястий світ”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41306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Асортименти наших товарів!!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14880" y="1714320"/>
            <a:ext cx="447192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вари для спорт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Picture 4" descr="C:\Users\Алинка\Desktop\кулястий світ\1329012.jpeg"/>
          <p:cNvPicPr/>
          <p:nvPr/>
        </p:nvPicPr>
        <p:blipFill>
          <a:blip r:embed="rId1"/>
          <a:stretch/>
        </p:blipFill>
        <p:spPr>
          <a:xfrm>
            <a:off x="5072040" y="3786120"/>
            <a:ext cx="3786120" cy="280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Users\Алинка\Desktop\кулястий світ\оррьмию.jpeg"/>
          <p:cNvPicPr/>
          <p:nvPr/>
        </p:nvPicPr>
        <p:blipFill>
          <a:blip r:embed="rId2"/>
          <a:stretch/>
        </p:blipFill>
        <p:spPr>
          <a:xfrm>
            <a:off x="1357200" y="3071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Алинка\Desktop\кулястий світ\=лоюлордг.jpeg"/>
          <p:cNvPicPr/>
          <p:nvPr/>
        </p:nvPicPr>
        <p:blipFill>
          <a:blip r:embed="rId3"/>
          <a:stretch/>
        </p:blipFill>
        <p:spPr>
          <a:xfrm>
            <a:off x="3071880" y="4786200"/>
            <a:ext cx="1643040" cy="159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Алинка\Desktop\кулястий світ\рьмопао.jpeg"/>
          <p:cNvPicPr/>
          <p:nvPr/>
        </p:nvPicPr>
        <p:blipFill>
          <a:blip r:embed="rId4"/>
          <a:stretch/>
        </p:blipFill>
        <p:spPr>
          <a:xfrm>
            <a:off x="0" y="1285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Асортименти наших товарів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7440" y="1643040"/>
            <a:ext cx="4586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мети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бут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Picture 2" descr="C:\Users\Алинка\Desktop\кулястий світ\бьипборп.jpeg"/>
          <p:cNvPicPr/>
          <p:nvPr/>
        </p:nvPicPr>
        <p:blipFill>
          <a:blip r:embed="rId1"/>
          <a:stretch/>
        </p:blipFill>
        <p:spPr>
          <a:xfrm>
            <a:off x="0" y="135720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Алинка\Desktop\кулястий світ\лопора.jpeg"/>
          <p:cNvPicPr/>
          <p:nvPr/>
        </p:nvPicPr>
        <p:blipFill>
          <a:blip r:embed="rId2"/>
          <a:stretch/>
        </p:blipFill>
        <p:spPr>
          <a:xfrm>
            <a:off x="2643120" y="25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Алинка\Desktop\кулястий світ\оьроплг.jpeg"/>
          <p:cNvPicPr/>
          <p:nvPr/>
        </p:nvPicPr>
        <p:blipFill>
          <a:blip r:embed="rId3"/>
          <a:stretch/>
        </p:blipFill>
        <p:spPr>
          <a:xfrm>
            <a:off x="357120" y="457200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Алинка\Desktop\кулястий світ\лдробнпд.jpeg"/>
          <p:cNvPicPr/>
          <p:nvPr/>
        </p:nvPicPr>
        <p:blipFill>
          <a:blip r:embed="rId4"/>
          <a:stretch/>
        </p:blipFill>
        <p:spPr>
          <a:xfrm>
            <a:off x="5572080" y="2643120"/>
            <a:ext cx="322416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Алинка\Desktop\кулястий світ\орлпдр.jpeg"/>
          <p:cNvPicPr/>
          <p:nvPr/>
        </p:nvPicPr>
        <p:blipFill>
          <a:blip r:embed="rId5"/>
          <a:stretch/>
        </p:blipFill>
        <p:spPr>
          <a:xfrm>
            <a:off x="4357800" y="4786200"/>
            <a:ext cx="3786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Асортименти наших товарів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920" y="1285560"/>
            <a:ext cx="55720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хніка та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шинобудуванн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2" descr="C:\Users\Алинка\Desktop\кулястий світ\885296f854_109658.jpg"/>
          <p:cNvPicPr/>
          <p:nvPr/>
        </p:nvPicPr>
        <p:blipFill>
          <a:blip r:embed="rId1"/>
          <a:stretch/>
        </p:blipFill>
        <p:spPr>
          <a:xfrm>
            <a:off x="5429160" y="3214800"/>
            <a:ext cx="3497400" cy="240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Алинка\Desktop\кулястий світ\699_resolution_320x480_699_balony_b1.jpg"/>
          <p:cNvPicPr/>
          <p:nvPr/>
        </p:nvPicPr>
        <p:blipFill>
          <a:blip r:embed="rId2"/>
          <a:stretch/>
        </p:blipFill>
        <p:spPr>
          <a:xfrm>
            <a:off x="0" y="2998800"/>
            <a:ext cx="3119400" cy="385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Алинка\Desktop\кулястий світ\tech2.jpg"/>
          <p:cNvPicPr/>
          <p:nvPr/>
        </p:nvPicPr>
        <p:blipFill>
          <a:blip r:embed="rId3"/>
          <a:stretch/>
        </p:blipFill>
        <p:spPr>
          <a:xfrm>
            <a:off x="3286080" y="2714760"/>
            <a:ext cx="2046240" cy="1857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Алинка\Desktop\кулястий світ\img_1247744894.gif"/>
          <p:cNvPicPr/>
          <p:nvPr/>
        </p:nvPicPr>
        <p:blipFill>
          <a:blip r:embed="rId4"/>
          <a:stretch/>
        </p:blipFill>
        <p:spPr>
          <a:xfrm>
            <a:off x="785880" y="1285920"/>
            <a:ext cx="2214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Асортименти наших товарів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57840" y="1599840"/>
            <a:ext cx="3828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крас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2" descr="C:\Users\Алинка\Desktop\кулястий світ\prikrasi-vd-little-miss-mommy-1.jpg"/>
          <p:cNvPicPr/>
          <p:nvPr/>
        </p:nvPicPr>
        <p:blipFill>
          <a:blip r:embed="rId1"/>
          <a:stretch/>
        </p:blipFill>
        <p:spPr>
          <a:xfrm>
            <a:off x="428760" y="1428840"/>
            <a:ext cx="3333600" cy="200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Алинка\Desktop\кулястий світ\nvjhgf.jpeg"/>
          <p:cNvPicPr/>
          <p:nvPr/>
        </p:nvPicPr>
        <p:blipFill>
          <a:blip r:embed="rId2"/>
          <a:stretch/>
        </p:blipFill>
        <p:spPr>
          <a:xfrm>
            <a:off x="2214720" y="4857840"/>
            <a:ext cx="3429000" cy="1762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Алинка\Desktop\кулястий світ\imagesgfdhjgklj.jpeg"/>
          <p:cNvPicPr/>
          <p:nvPr/>
        </p:nvPicPr>
        <p:blipFill>
          <a:blip r:embed="rId3"/>
          <a:stretch/>
        </p:blipFill>
        <p:spPr>
          <a:xfrm>
            <a:off x="5643720" y="2571840"/>
            <a:ext cx="3338280" cy="234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Алинка\Desktop\кулястий світ\images.jpeg"/>
          <p:cNvPicPr/>
          <p:nvPr/>
        </p:nvPicPr>
        <p:blipFill>
          <a:blip r:embed="rId4"/>
          <a:stretch/>
        </p:blipFill>
        <p:spPr>
          <a:xfrm>
            <a:off x="357120" y="3786120"/>
            <a:ext cx="240660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Асортименти наших товарів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0" y="15998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Їстівні товар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2" descr="C:\Users\Алинка\Desktop\кулястий світ\imagescvbfxgn.jpeg"/>
          <p:cNvPicPr/>
          <p:nvPr/>
        </p:nvPicPr>
        <p:blipFill>
          <a:blip r:embed="rId1"/>
          <a:stretch/>
        </p:blipFill>
        <p:spPr>
          <a:xfrm>
            <a:off x="214200" y="1285920"/>
            <a:ext cx="2428920" cy="207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Алинка\Desktop\кулястий світ\f64.jpg"/>
          <p:cNvPicPr/>
          <p:nvPr/>
        </p:nvPicPr>
        <p:blipFill>
          <a:blip r:embed="rId2"/>
          <a:stretch/>
        </p:blipFill>
        <p:spPr>
          <a:xfrm>
            <a:off x="2500200" y="2857680"/>
            <a:ext cx="2616480" cy="1734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Алинка\Desktop\кулястий світ\вспров.jpeg"/>
          <p:cNvPicPr/>
          <p:nvPr/>
        </p:nvPicPr>
        <p:blipFill>
          <a:blip r:embed="rId3"/>
          <a:stretch/>
        </p:blipFill>
        <p:spPr>
          <a:xfrm>
            <a:off x="5643720" y="2500200"/>
            <a:ext cx="28954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Алинка\Desktop\кулястий світ\бь.jpeg"/>
          <p:cNvPicPr/>
          <p:nvPr/>
        </p:nvPicPr>
        <p:blipFill>
          <a:blip r:embed="rId4"/>
          <a:stretch/>
        </p:blipFill>
        <p:spPr>
          <a:xfrm>
            <a:off x="4714920" y="4429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Алинка\Desktop\кулястий світ\тд.jpeg"/>
          <p:cNvPicPr/>
          <p:nvPr/>
        </p:nvPicPr>
        <p:blipFill>
          <a:blip r:embed="rId5"/>
          <a:stretch/>
        </p:blipFill>
        <p:spPr>
          <a:xfrm>
            <a:off x="357120" y="4643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71424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Запам‘ятайте!!!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наших товарів якість і фірма незмінні: з якого боку на кулю не дивись, вона залишається кулею!!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ші товари можна замовити за адресою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ірма “ Кулястий світ”, с. Сегментівка, вул. Числа    , буд. 3,14, другий поверх, радіус наліво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: 00-00-00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юємо цілодобово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3" name="Object 2"/>
          <p:cNvGraphicFramePr/>
          <p:nvPr/>
        </p:nvGraphicFramePr>
        <p:xfrm>
          <a:off x="3071880" y="4000680"/>
          <a:ext cx="500040" cy="31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4000680"/>
                    <a:ext cx="50004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6:32:41Z</dcterms:created>
  <dc:creator>Алинка</dc:creator>
  <dc:description/>
  <dc:language>en-US</dc:language>
  <cp:lastModifiedBy>Алинка</cp:lastModifiedBy>
  <dcterms:modified xsi:type="dcterms:W3CDTF">2012-10-29T20:02:06Z</dcterms:modified>
  <cp:revision>9</cp:revision>
  <dc:subject/>
  <dc:title>Слайд 1</dc:title>
</cp:coreProperties>
</file>