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94E-4FC8-43D3-AB9E-056F5688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AB3-755D-46F3-8AC1-68AF6E07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7C5-3A76-4A9A-B2AB-2926BC0F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F9A-4778-423A-95AC-A1C0728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4D8-1261-4842-878D-DA173BA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0DC-A7BD-4186-801A-4AC0E73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3A1-9F94-47CC-8F13-40DCA92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F41-0B0D-4113-BF8F-955413AE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683-3229-46B1-BF29-A8FBB413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1EE-F14D-41C5-8F3E-85BFD8BE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C4B-935B-47DD-9593-0F85177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FF7-FB19-4F5B-9CF1-1F6F195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8DC4-F44B-4099-8604-6210FE34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Arial"/>
              </a:rPr>
              <a:t>ПЕРЕВІР  СЕБ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ідповідь невірна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819520"/>
            <a:ext cx="2895480" cy="289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3526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3526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4648320"/>
            <a:ext cx="1219320" cy="6858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8487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2133720"/>
            <a:ext cx="4800600" cy="4267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457200"/>
            <a:ext cx="4457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ЕЦ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81080" y="1752480"/>
            <a:ext cx="5238720" cy="262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із  завданням  впорав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ими величинами характеризується будь-яке електричне коло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1 б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А) нап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Б) сила стр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) опі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Г) всі відповіді правиль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ластивість провідника обмежувати силу струму в електричному колі характеризується: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1 б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А) силою стр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Б) напруг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) опо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Г) роб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 одиницю вимірювання опору провідника взято: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1 б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А) Амп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Б) Воль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В) 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Г) Джо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Чим зумовлений опір металів?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1 б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А) ударами </a:t>
            </a: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йонів</a:t>
            </a:r>
            <a:r>
              <a:rPr b="0" lang="uk-UA" sz="32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 об ді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ударами електронів об дір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ударами дірок об й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ударами електронів об й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з графіків залежності сили струму від напруги для двох провідників відповідає провіднику з меншим опором?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2 б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) визначити не мо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    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В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029200" y="19047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791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029200" y="2361960"/>
            <a:ext cx="1905120" cy="3429000"/>
          </a:xfrm>
          <a:prstGeom prst="line">
            <a:avLst/>
          </a:prstGeom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029200" y="3352680"/>
            <a:ext cx="2971800" cy="2438640"/>
          </a:xfrm>
          <a:prstGeom prst="line">
            <a:avLst/>
          </a:prstGeom>
          <a:ln w="57240">
            <a:solidFill>
              <a:srgbClr val="00a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 якою формулою можна обчислити опір провідника?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1 б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ℓ /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 / ℓ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ℓ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а мотки мідного дроту однакового перерізу мають довжини відповідно 50 м та 150 м. У якого з цих мотків менший опір і у скільки разів?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2 б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4582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) опір мотка завдовжки 150 м менший у 3ра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) опір мотка завдовжки 50 м менший у 3 раз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) опори мідних мотків однаков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) не можна дати чіткої відпові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те, з якого матеріалу виготовлено провідник завдовжки 50 м і площею поперечного перерізу 0,25 м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якщо його електричний опір дорівнює 220 Ом?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(3 б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алюмін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вольфр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мі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інша відпові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3T17:29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