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02D-8415-4FA7-AEB1-94E6C944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A80-22D7-44FD-80C9-BF9DED64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8A5-9D8F-482B-82B2-F04AEDBC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F8F-4D30-41E0-8364-5BCFE01C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33A-AF2D-43E1-A17A-BD444915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690-85A0-4126-9448-481F52C9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1ED-01B9-41E4-AE97-B77B8530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822-E380-4281-83BD-528E06A6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89B-D1E5-427A-BBB1-6A173914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546-D046-45DE-A87E-A9F3CB03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282-EE18-4269-8ED1-4ED06CC3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F27-199C-45A6-AA25-26886943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F1F2-5E95-4610-A37B-3C1A7CFA8C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 Light"/>
              </a:rPr>
              <a:t>Урок літературного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Calibri Light"/>
              </a:rPr>
              <a:t>читання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Calibri Light"/>
              </a:rPr>
              <a:t>в 2 класі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46440" y="3602160"/>
            <a:ext cx="309564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ідготув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читель початкових клас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тогній Світлана Миколаї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201600"/>
            <a:ext cx="8796600" cy="13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E:\мама\bbk_dm-100.jpg"/>
          <p:cNvPicPr/>
          <p:nvPr/>
        </p:nvPicPr>
        <p:blipFill>
          <a:blip r:embed="rId2"/>
          <a:stretch/>
        </p:blipFill>
        <p:spPr>
          <a:xfrm>
            <a:off x="1994040" y="1352520"/>
            <a:ext cx="53085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Музыка Р Паульса   Зимняя сказка!.mp4" descr=""/>
          <p:cNvPicPr/>
          <p:nvPr/>
        </p:nvPicPr>
        <p:blipFill>
          <a:blip r:embed="rId1"/>
          <a:stretch/>
        </p:blipFill>
        <p:spPr>
          <a:xfrm>
            <a:off x="28440" y="299880"/>
            <a:ext cx="903456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-262080" y="1000080"/>
            <a:ext cx="98269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110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</a:t>
            </a: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Calibri"/>
              </a:rPr>
              <a:t>Воїн                  здалек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Calibri"/>
              </a:rPr>
              <a:t>гілля               схилиться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дзвенить      затанцювал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497400" y="3016080"/>
            <a:ext cx="196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из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3286800" y="3675240"/>
            <a:ext cx="29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Calibri"/>
              </a:rPr>
              <a:t>вбрання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3455640" y="4387680"/>
            <a:ext cx="226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Calibri"/>
              </a:rPr>
              <a:t>бронз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1085760" y="781200"/>
            <a:ext cx="68947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628560" y="317520"/>
            <a:ext cx="80946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Box 1" descr=""/>
          <p:cNvPicPr/>
          <p:nvPr/>
        </p:nvPicPr>
        <p:blipFill>
          <a:blip r:embed="rId1"/>
          <a:stretch/>
        </p:blipFill>
        <p:spPr>
          <a:xfrm>
            <a:off x="2719440" y="396720"/>
            <a:ext cx="4387680" cy="518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"/>
          <p:cNvPicPr/>
          <p:nvPr/>
        </p:nvPicPr>
        <p:blipFill>
          <a:blip r:embed="rId2"/>
          <a:stretch/>
        </p:blipFill>
        <p:spPr>
          <a:xfrm>
            <a:off x="279360" y="158760"/>
            <a:ext cx="2657520" cy="2090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:\33.gif"/>
          <p:cNvPicPr/>
          <p:nvPr/>
        </p:nvPicPr>
        <p:blipFill>
          <a:blip r:embed="rId3"/>
          <a:stretch/>
        </p:blipFill>
        <p:spPr>
          <a:xfrm>
            <a:off x="6561000" y="2836800"/>
            <a:ext cx="25830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549360" y="-324000"/>
            <a:ext cx="8521560" cy="4919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utoShape 3" descr=""/>
          <p:cNvPicPr/>
          <p:nvPr/>
        </p:nvPicPr>
        <p:blipFill>
          <a:blip r:embed="rId1"/>
          <a:stretch/>
        </p:blipFill>
        <p:spPr>
          <a:xfrm>
            <a:off x="365040" y="639720"/>
            <a:ext cx="2927520" cy="1433520"/>
          </a:xfrm>
          <a:prstGeom prst="rect">
            <a:avLst/>
          </a:prstGeom>
          <a:ln w="0">
            <a:noFill/>
          </a:ln>
        </p:spPr>
      </p:pic>
      <p:pic>
        <p:nvPicPr>
          <p:cNvPr id="45" name="AutoShape 4" descr=""/>
          <p:cNvPicPr/>
          <p:nvPr/>
        </p:nvPicPr>
        <p:blipFill>
          <a:blip r:embed="rId2"/>
          <a:stretch/>
        </p:blipFill>
        <p:spPr>
          <a:xfrm>
            <a:off x="2803680" y="2914560"/>
            <a:ext cx="6114960" cy="268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4427640" y="189000"/>
            <a:ext cx="36716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3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817640" y="302400"/>
            <a:ext cx="598176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Артикуляційна розминка: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джілка</a:t>
            </a:r>
            <a:r>
              <a:rPr b="0" lang="uk-UA" sz="5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бка</a:t>
            </a:r>
            <a:r>
              <a:rPr b="0" lang="uk-UA" sz="5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ики</a:t>
            </a: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».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89244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               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ЗИ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     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КРИ           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ЗЕМ                        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КРА                                    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НІ                                          Ж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182520" y="671400"/>
            <a:ext cx="8961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                                                        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НІ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   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НІ         Ж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НІГО                   ВІ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НІГО                                В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НІЖ                                       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13600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Ок-ок-ок </a:t>
            </a:r>
            <a:r>
              <a:rPr b="1" lang="uk-UA" sz="4800" spc="-1" strike="noStrike">
                <a:solidFill>
                  <a:srgbClr val="002060"/>
                </a:solidFill>
                <a:latin typeface="Calibri"/>
                <a:ea typeface="Calibri"/>
              </a:rPr>
              <a:t>–</a:t>
            </a: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 білий падає сніжо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Ки-ки-ки </a:t>
            </a:r>
            <a:r>
              <a:rPr b="1" lang="uk-UA" sz="4800" spc="-1" strike="noStrike">
                <a:solidFill>
                  <a:srgbClr val="002060"/>
                </a:solidFill>
                <a:latin typeface="Calibri"/>
                <a:ea typeface="Calibri"/>
              </a:rPr>
              <a:t>–</a:t>
            </a: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 замітає всі стежки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Ать-ать-ать </a:t>
            </a:r>
            <a:r>
              <a:rPr b="1" lang="uk-UA" sz="4800" spc="-1" strike="noStrike">
                <a:solidFill>
                  <a:srgbClr val="002060"/>
                </a:solidFill>
                <a:latin typeface="Calibri"/>
                <a:ea typeface="Calibri"/>
              </a:rPr>
              <a:t>–</a:t>
            </a: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 вибіг зайчик погулять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74600" y="272520"/>
            <a:ext cx="8674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Ма-ма-ма – вже прийшла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                                  </a:t>
            </a: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има</a:t>
            </a:r>
            <a:r>
              <a:rPr b="1" lang="uk-UA" sz="4800" spc="-1" strike="noStrike">
                <a:solidFill>
                  <a:srgbClr val="002060"/>
                </a:solidFill>
                <a:latin typeface="Calibri"/>
                <a:ea typeface="Calibri"/>
              </a:rPr>
              <a:t>.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  <a:ea typeface="Calibri"/>
              </a:rPr>
              <a:t>       </a:t>
            </a: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Оз-оз-оз – на дворі мороз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  <a:ea typeface="Calibri"/>
              </a:rPr>
              <a:t>        </a:t>
            </a: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Ло-ло-ло – снігу намело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</a:t>
            </a: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Гу-гу-гу </a:t>
            </a:r>
            <a:r>
              <a:rPr b="1" lang="uk-UA" sz="4800" spc="-1" strike="noStrike">
                <a:solidFill>
                  <a:srgbClr val="002060"/>
                </a:solidFill>
                <a:latin typeface="Calibri"/>
                <a:ea typeface="Calibri"/>
              </a:rPr>
              <a:t>–</a:t>
            </a: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 ялинка в снігу.</a:t>
            </a: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11998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Calibri"/>
              </a:rPr>
              <a:t>У малої Сані перекинулися сани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Calibri"/>
              </a:rPr>
              <a:t>Тепер  у  Сані   нові  сан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08:39:11Z</dcterms:created>
  <dc:creator>Инна</dc:creator>
  <dc:description/>
  <dc:language>en-US</dc:language>
  <cp:lastModifiedBy>СВЕТА</cp:lastModifiedBy>
  <dcterms:modified xsi:type="dcterms:W3CDTF">2016-12-13T12:21:47Z</dcterms:modified>
  <cp:revision>10</cp:revision>
  <dc:subject/>
  <dc:title>Название презентации</dc:title>
</cp:coreProperties>
</file>