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C652-42D4-46A9-A045-91722559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BC7C-F131-40B7-ACD3-F3947A0F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8672-C0DB-4491-B604-80E43243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36AD-9167-48AA-BD82-61175E79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4B90-8964-47D8-A71B-FDF583BA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4930-FD1E-42B2-87B8-F3F59DC4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6B4E-EFD4-423A-A52E-B858706A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8C80-4512-4F8F-8C5C-87C813E3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CE28-6501-49E3-BF7E-8E7DC0E1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1ACE-2382-4155-8B31-4E21054B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1E27-0207-4BD0-B41B-391C3E4C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B293-8ACC-4957-A78F-A7253623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1353-87A4-4A87-919D-3BA60D8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06F7-88C9-4DE2-B3C9-C09E0A9C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E27D-08E8-4B75-A168-3717DCD2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8C20-76B7-431E-AD5C-D68718FE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404B-580F-4A56-B12F-F5CB54F4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513C-4C36-41B5-8447-12AD516F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036B-4330-4DF9-8936-6B94F3EF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B0D1-2B92-436D-B256-6B91054C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C672-8FFA-4838-A1BB-E1C08281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0758-D39C-4F83-B36B-8D539CD3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D771-053A-4976-9C25-6726C556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D464-B95C-4F8B-8E4E-CF00EAE1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3E77-6772-44F5-80D3-537A2A1058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B80B-33AA-4671-A104-920BBD2544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рас Григорович Шевчен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ема «Гамалі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ідготув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читель української мови та літерату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ВК “Гімназія  із ЗШ І ступеня” Костянтинівської міської ради Задорожня Людмила Олександрі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31128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шим бастіоном, який приймав на себе найміцніші удари хижих орд, була Запорізька Сі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05816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ідважні козаки-запорожці мужньо захищали рідний край, відганяли орду на південь, а то й не раз на своїх невеликих човнах сміливо нирушали до ворога «в гості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843280" y="2133720"/>
            <a:ext cx="348624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ни перепливали Чорне море і, тяжко заплативши ворогові за наругу над трудовим людом, визволяли побратимів з невол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76908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Історія України знає немало таких відчайдушних морських походів козаків у Ізмаїл, Кілію, Каффу, Константинопол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8720" cy="5157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107640" y="115920"/>
            <a:ext cx="878508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ин з таких походів і зобраз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. Г. Шевченко в поемі «Гамалі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71500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66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6.2.Історія написання пое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ема написана в кінці 1842 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24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листі до вчителя гімназії в Харко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і А. Корольова від 18.11.1842 р. Шевченко писав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завчора вернувся в Петербург. Мене носив проклятущий пароход у Шведчину й Датчину. Пливши в Стокгольм, я скомпонував «Гамалія», невеличку поему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ливо, бурхливі хвилі суворої Балтики, створи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л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його уяві картини Чорноморського походу козак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9036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6.3. Робота з текстом твор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а) виразне читання уривк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б) словникова робо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Байдак – запорізький чове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Сердега – бідолаш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Таляр, дукат – грошові одиниці того час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Яничари – гвардія турецького султа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Баша або паша – турецький воєначальни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Бусурман –людина не християнського віросповід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Курінь – житло запорізької сотн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6.4. Робота в груп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 груп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характеризуйте образ головного героя твору. Які вчинки Гамалії свідчать про патріотизм, відданість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закам-побратима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Мета: </a:t>
            </a: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систематизувати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знання про основні факти з життя Тараса Шевченка;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вивчити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зміст ліро-епічної поеми „Гамалія” (у скороченому варіанті)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розвивати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творчу, комунікативну, полікультурну, соціальну компетентності учні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Arial"/>
              </a:rPr>
              <a:t>виховувати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почуття патріотизму, взаємодопомоги, товариськост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4. Образ отамана Гамалі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амалія - узагальнений образ козацького ватажка. В історії відомо кілька діячів із цим прізвищем, хоча походів до Туреччини ніхто із них не очолюва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2" descr="C:\Users\Kirill\Desktop\Гамалія\загружено (1).jpg"/>
          <p:cNvPicPr/>
          <p:nvPr/>
        </p:nvPicPr>
        <p:blipFill>
          <a:blip r:embed="rId1"/>
          <a:stretch/>
        </p:blipFill>
        <p:spPr>
          <a:xfrm>
            <a:off x="5580000" y="2060640"/>
            <a:ext cx="3456000" cy="47973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3529080" cy="439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атажок змальований таким, якими були справжні козаки: хоробрий, сміливий, завзятий, кмітлив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62472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ін завжди там, де потребують його допомоги, своїми діями Гамалія здобуває славу “на весь світ великий, на всю Україну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78544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2 гру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Які риси характеру козаків розкриваються в неволі? Відповідь обґрунтуйте цитатами з текс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3 гру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Укажіть лексичні (епітети, порівняння) та стилістичні</a:t>
            </a:r>
            <a:br>
              <a:rPr sz="3600"/>
            </a:b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(риторичні запитання, повтори) засоби художньої виразності у творі. Яка їхня рол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4 гру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діть, що «Гамалія» — ліро-епічна поема. Визначте епічне та ліричне в ні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5 гру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а роль пісень у змісті поеми? Зіставте роль пісень у «Гамалії» Т. Шевченка та в «Наталці Полтавці»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І. Котляревськ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6 гру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йдіть та виразно прочитайте картини природ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творі. Як допомагають картини морської стихії передати напруженість сюжет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6.5. Обговорення результатів роботи в груп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6.6 . Мікроф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? Під час роботи в групах ви прослухали два варіанти пісні «Наш отаман Гамалія». Який вам більше сподобався? Чо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? Які уривки з поеми вам сподобались? Зачитай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? Чому поема Т.Шевченка актуальна в наші дні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7. Рефлексі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енка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Що? Хто? - іменник)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Яка? Яке? Який?.. – прикметник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Що робить? - дієслово)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Речення з 4 слі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Іменник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8. Домашнє завданн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) Підготуйте виразне читання напам'ять уривка із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еми Т. Шевч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) Підготуйте усну доповідь, використавш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нн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имані на уроках історії та української літератур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тему: «Доля українського козацтв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4. Актуалізація опорних зна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Перегляд навчального фільму «Обличч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Arial"/>
              </a:rPr>
              <a:t>української історії. Тарас Шевченк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5. Перевірка домашнього завдан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5.1.Виконання тестових завда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. У  дитинстві  в  Тараса  виявились  здібності  д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) віршування;  б)  малярства;  в) стельмахуван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2. Шевченка  викупили  з  кріпац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) 10 березня  1840  року;  б) 25  червня  1837  року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)  22  квітня  1838  ро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3.  Чому  після  викупу  з  кріпацтва  Шевченко  не  міг  відчувати  себе  повністю  щасливим?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4.  «Живописна  Україна»  -  ц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) назва  збірки  поезій  Шевч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б) серія  картин,  на  яких  відображено  історичні  місця  України,  її  побут  і  природ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) серія  картин  Шевченка,  видана  як  дипломна  робота  до  випуску  з  Академії  мистец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5.  «Кобзар»  був  надрукований  уперш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) у  1843  р.,  б) у  1845  р.,  в)  у  1840 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6. Які  поеми  написав  Шевченко  в  1845  році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) «Катерина»,  «Наймичка»,  «Гайдамак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б)  «Сон»( «У  всякого  своя  доля»);  « Єретик»;  «Кавказ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)  «Неофіти»,  «Юродивий»,  «Кавказ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7. Після  закінчення  слідства  Шевченка  відправили  в  окремий  Оренбурзький  корпус  із  забороно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) читати  й  писати;  б)  малювати  й  чита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)  писати  й  малюва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8. Утретє  Шевченко  приїхав  в  Україн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)  1857  р.,  б)  1859  р.,  в)  1860  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9.  У  Києві  на труну  Шевченка  поклали ………………  вінок,  символ………………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. Перепоховання  Шевченка  здійсне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)  у  червні  1862  року,  б)  у травні  1861  рок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) у  травні  1863  ро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1. Де  знаходиться  могила  Шевче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)  у  Києві;  б)  у  Черкасах;  в)  у  Канев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2. Кому  адресоване  послання   «І  мертвим,  і  живим, ….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) товаришам;  б)  землякам;  в) селян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78544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5.2. Самопереві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. б)  маляр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. в)  22  квітня  1838  ро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3. У неволі залишались його родич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4. б) серія  картин,  на  яких  відображено  історичні  місця  України,  її  побут  і  прир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5.  в)  у  1840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6.  б)  «Сон»( «У  всякого  своя  доля»);  « Єретик»;  «Кавказ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7.  в)  писати  й  малюв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8. б)  1859 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9. терновий вінок, символ стражда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0. б)  у травні  1861  ро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1. в)  у  Канев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2. б)  земля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6. Вивчення нового матеріа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6.1. Історична основа тво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иваблювала Т. Шевченка  тема боротьби українського народу проти турецько-татарських загарбників. Уперше вона була порушена  в поемі «Іван Підкова». Своєрідним продовженням цього твору є поема «Гамалі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Зажурилась Україна, бо нічим прожи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Гей, витоптала орда кіньми маленькії ді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Ой, маленьких витоптала, великих забрал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Назад руки постягала, під хана погн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співається у давній українській пісні про велике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лихолітт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роду, про криваві й спустошливі напади татарів і турків на Україну в XVI с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00:54:47Z</dcterms:created>
  <dc:creator>1</dc:creator>
  <dc:description/>
  <dc:language>en-US</dc:language>
  <cp:lastModifiedBy>1</cp:lastModifiedBy>
  <dcterms:modified xsi:type="dcterms:W3CDTF">2017-01-15T09:57:33Z</dcterms:modified>
  <cp:revision>32</cp:revision>
  <dc:subject/>
  <dc:title>Слайд 1</dc:title>
</cp:coreProperties>
</file>