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gif" ContentType="image/gif"/>
  <Override PartName="/ppt/media/image6.png" ContentType="image/png"/>
  <Override PartName="/ppt/media/image19.jpeg" ContentType="image/jpeg"/>
  <Override PartName="/ppt/media/image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3E86-400A-46C8-8D82-75C1FAA826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E033-8D03-4122-B52E-E70DE89F9D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EEAA12F3-292D-42EB-8D74-C1D5CCD992C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CC6B-3133-4644-8FE6-C288B1F4E2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297FB11C-19EE-4AB4-A467-DF02798E3FF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C8D5-3491-4A6E-8686-79CFDA04A9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72926B17-6E3A-4D76-A1BD-DBB61F34CC4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BD6B-C07E-4B14-80CA-B522B29DA4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900103F8-D9DB-4305-BF55-B83A8534F03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C061-665D-43AD-8D89-74DCB62EC0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3881520" y="8686800"/>
            <a:ext cx="2975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B63AB621-CC78-40EB-A307-D8FBE00BD2D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1A1F-8F39-429D-B5C9-4C7D8F7D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3B8F-990A-48FB-88A4-25291A4B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9E91-97BC-4232-8034-4FA27785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D9DC-93D5-4D5D-889F-F9D5E015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EF3C-F631-48F9-9CCC-56F9631A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8E8F-5097-4CDE-85A9-72F2BE2C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1814-415B-4B5E-8F76-6E2BA1D0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AAB7-99CE-4389-ABEF-92923E65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072F-D623-494B-8A83-0D95A7D1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DCB4-03A7-4661-8BA4-A4128A73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099E-1F56-40E9-BA29-AD4A35CF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0978-DDCC-4960-BB15-D3AEDDBE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61D1-2D97-4544-82CA-5D282066E90F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3132720" y="2057400"/>
            <a:ext cx="3629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66"/>
                </a:solidFill>
                <a:latin typeface="Bookman Old Style"/>
              </a:rPr>
              <a:t>КРИТЕРІЇ 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66"/>
                </a:solidFill>
                <a:latin typeface="Bookman Old Style"/>
              </a:rPr>
              <a:t>ПОКАЗН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66"/>
                </a:solidFill>
                <a:latin typeface="Bookman Old Style"/>
              </a:rPr>
              <a:t>БАГАТОГРАН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66"/>
                </a:solidFill>
                <a:latin typeface="Bookman Old Style"/>
              </a:rPr>
              <a:t>ПРОЯВІ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66"/>
                </a:solidFill>
                <a:latin typeface="Bookman Old Style"/>
              </a:rPr>
              <a:t>ОБДАРОВАНОСТ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66"/>
                </a:solidFill>
                <a:latin typeface="Bookman Old Style"/>
              </a:rPr>
              <a:t>ОСОБИСТО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5"/>
          <p:cNvSpPr/>
          <p:nvPr/>
        </p:nvSpPr>
        <p:spPr>
          <a:xfrm>
            <a:off x="1143000" y="228600"/>
            <a:ext cx="7848720" cy="6019920"/>
          </a:xfrm>
          <a:prstGeom prst="cloudCallout">
            <a:avLst>
              <a:gd name="adj1" fmla="val -34569"/>
              <a:gd name="adj2" fmla="val 31171"/>
            </a:avLst>
          </a:prstGeom>
          <a:noFill/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regart_120"/>
          <p:cNvPicPr/>
          <p:nvPr/>
        </p:nvPicPr>
        <p:blipFill>
          <a:blip r:embed="rId2"/>
          <a:stretch/>
        </p:blipFill>
        <p:spPr>
          <a:xfrm>
            <a:off x="304920" y="1828800"/>
            <a:ext cx="2438280" cy="48006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1371600" y="685800"/>
            <a:ext cx="19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738360" y="855720"/>
            <a:ext cx="8405640" cy="48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Вони вміють критич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розглядати дійсність і прагну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роникнути  в  суть  рече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і  явищ.  Вони  н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задовольняються поверхневими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оясненнями,  навіть  якщ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ті  й  здаються достатні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їхнім ровесникам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5"/>
          <p:cNvSpPr/>
          <p:nvPr/>
        </p:nvSpPr>
        <p:spPr>
          <a:xfrm>
            <a:off x="1143000" y="228600"/>
            <a:ext cx="7848720" cy="6019920"/>
          </a:xfrm>
          <a:prstGeom prst="cloudCallout">
            <a:avLst>
              <a:gd name="adj1" fmla="val -34569"/>
              <a:gd name="adj2" fmla="val 31171"/>
            </a:avLst>
          </a:prstGeom>
          <a:noFill/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regart_120"/>
          <p:cNvPicPr/>
          <p:nvPr/>
        </p:nvPicPr>
        <p:blipFill>
          <a:blip r:embed="rId2"/>
          <a:stretch/>
        </p:blipFill>
        <p:spPr>
          <a:xfrm>
            <a:off x="304920" y="1828800"/>
            <a:ext cx="2438280" cy="48006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1371600" y="685800"/>
            <a:ext cx="19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738360" y="990720"/>
            <a:ext cx="8405640" cy="46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Вони  хочуть  учити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і  досягати  успіху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Навчання приноси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їм  задоволення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і  вони  здобувають  знання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не сприймаючи занятт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як насилля над собою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5"/>
          <p:cNvSpPr/>
          <p:nvPr/>
        </p:nvSpPr>
        <p:spPr>
          <a:xfrm>
            <a:off x="1143000" y="228600"/>
            <a:ext cx="7848720" cy="6019920"/>
          </a:xfrm>
          <a:prstGeom prst="cloudCallout">
            <a:avLst>
              <a:gd name="adj1" fmla="val -34569"/>
              <a:gd name="adj2" fmla="val 31171"/>
            </a:avLst>
          </a:prstGeom>
          <a:noFill/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regart_120"/>
          <p:cNvPicPr/>
          <p:nvPr/>
        </p:nvPicPr>
        <p:blipFill>
          <a:blip r:embed="rId2"/>
          <a:stretch/>
        </p:blipFill>
        <p:spPr>
          <a:xfrm>
            <a:off x="304920" y="1828800"/>
            <a:ext cx="2438280" cy="48006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1371600" y="685800"/>
            <a:ext cx="19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738360" y="855720"/>
            <a:ext cx="840564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Вони ставля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багато запитан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і зацікавлені у вичерпні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відповіді на них</a:t>
            </a: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5"/>
          <p:cNvSpPr/>
          <p:nvPr/>
        </p:nvSpPr>
        <p:spPr>
          <a:xfrm>
            <a:off x="1143000" y="228600"/>
            <a:ext cx="7848720" cy="6019920"/>
          </a:xfrm>
          <a:prstGeom prst="cloudCallout">
            <a:avLst>
              <a:gd name="adj1" fmla="val -34569"/>
              <a:gd name="adj2" fmla="val 31171"/>
            </a:avLst>
          </a:prstGeom>
          <a:noFill/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regart_120"/>
          <p:cNvPicPr/>
          <p:nvPr/>
        </p:nvPicPr>
        <p:blipFill>
          <a:blip r:embed="rId2"/>
          <a:stretch/>
        </p:blipFill>
        <p:spPr>
          <a:xfrm>
            <a:off x="304920" y="1828800"/>
            <a:ext cx="2438280" cy="4800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1371600" y="685800"/>
            <a:ext cx="19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38360" y="855720"/>
            <a:ext cx="840564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Урок  особливо  цікави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тоді,  коли  використовується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дослідницький  метод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Інші  учні  вважають  за  краще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вивчати добре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сформульований навчаль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матеріал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5"/>
          <p:cNvSpPr/>
          <p:nvPr/>
        </p:nvSpPr>
        <p:spPr>
          <a:xfrm>
            <a:off x="1143000" y="228600"/>
            <a:ext cx="7848720" cy="6019920"/>
          </a:xfrm>
          <a:prstGeom prst="cloudCallout">
            <a:avLst>
              <a:gd name="adj1" fmla="val -34569"/>
              <a:gd name="adj2" fmla="val 31171"/>
            </a:avLst>
          </a:prstGeom>
          <a:noFill/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regart_120"/>
          <p:cNvPicPr/>
          <p:nvPr/>
        </p:nvPicPr>
        <p:blipFill>
          <a:blip r:embed="rId2"/>
          <a:stretch/>
        </p:blipFill>
        <p:spPr>
          <a:xfrm>
            <a:off x="304920" y="1828800"/>
            <a:ext cx="2438280" cy="48006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1371600" y="685800"/>
            <a:ext cx="19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738360" y="1219320"/>
            <a:ext cx="840564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Завдяки  роботі  із  засобами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масової  інформації  вони вміють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швидко вирізнити найголовніш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інформацію, самостійно знайт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важливі  джерела  інформації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Більш,  ніж  інші,  во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зацікавлені в самостійн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          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здобутті знань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5"/>
          <p:cNvSpPr/>
          <p:nvPr/>
        </p:nvSpPr>
        <p:spPr>
          <a:xfrm>
            <a:off x="1143000" y="228600"/>
            <a:ext cx="7848720" cy="6019920"/>
          </a:xfrm>
          <a:prstGeom prst="cloudCallout">
            <a:avLst>
              <a:gd name="adj1" fmla="val -34569"/>
              <a:gd name="adj2" fmla="val 31171"/>
            </a:avLst>
          </a:prstGeom>
          <a:noFill/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regart_120"/>
          <p:cNvPicPr/>
          <p:nvPr/>
        </p:nvPicPr>
        <p:blipFill>
          <a:blip r:embed="rId2"/>
          <a:stretch/>
        </p:blipFill>
        <p:spPr>
          <a:xfrm>
            <a:off x="304920" y="1828800"/>
            <a:ext cx="2438280" cy="48006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1371600" y="685800"/>
            <a:ext cx="19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066680" y="838080"/>
            <a:ext cx="840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i="1" lang="ru-RU" sz="3400" spc="-1" strike="noStrike">
                <a:solidFill>
                  <a:srgbClr val="333399"/>
                </a:solidFill>
                <a:latin typeface="Arial"/>
              </a:rPr>
              <a:t>Порівняно  із  своїми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i="1" lang="ru-RU" sz="3400" spc="-1" strike="noStrike">
                <a:solidFill>
                  <a:srgbClr val="333399"/>
                </a:solidFill>
                <a:latin typeface="Arial"/>
              </a:rPr>
              <a:t>ровесниками   вони  краще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1" i="1" lang="ru-RU" sz="3400" spc="-1" strike="noStrike">
                <a:solidFill>
                  <a:srgbClr val="333399"/>
                </a:solidFill>
                <a:latin typeface="Arial"/>
              </a:rPr>
              <a:t>вміють розкривати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i="1" lang="ru-RU" sz="3400" spc="-1" strike="noStrike">
                <a:solidFill>
                  <a:srgbClr val="333399"/>
                </a:solidFill>
                <a:latin typeface="Arial"/>
              </a:rPr>
              <a:t>відношення  між  явищем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i="1" lang="ru-RU" sz="3400" spc="-1" strike="noStrike">
                <a:solidFill>
                  <a:srgbClr val="333399"/>
                </a:solidFill>
                <a:latin typeface="Arial"/>
              </a:rPr>
              <a:t>і  змістом,  індуктивно  і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i="1" lang="ru-RU" sz="3400" spc="-1" strike="noStrike">
                <a:solidFill>
                  <a:srgbClr val="333399"/>
                </a:solidFill>
                <a:latin typeface="Arial"/>
              </a:rPr>
              <a:t>дедуктивно  мислити,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i="1" lang="ru-RU" sz="3400" spc="-1" strike="noStrike">
                <a:solidFill>
                  <a:srgbClr val="333399"/>
                </a:solidFill>
                <a:latin typeface="Arial"/>
              </a:rPr>
              <a:t>маніпулювати  логічними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1" i="1" lang="ru-RU" sz="3400" spc="-1" strike="noStrike">
                <a:solidFill>
                  <a:srgbClr val="333399"/>
                </a:solidFill>
                <a:latin typeface="Arial"/>
              </a:rPr>
              <a:t>операціями,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i="1" lang="ru-RU" sz="3400" spc="-1" strike="noStrike">
                <a:solidFill>
                  <a:srgbClr val="333399"/>
                </a:solidFill>
                <a:latin typeface="Arial"/>
              </a:rPr>
              <a:t>узагальнювати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5"/>
          <p:cNvSpPr/>
          <p:nvPr/>
        </p:nvSpPr>
        <p:spPr>
          <a:xfrm>
            <a:off x="1143000" y="228600"/>
            <a:ext cx="7848720" cy="6019920"/>
          </a:xfrm>
          <a:prstGeom prst="cloudCallout">
            <a:avLst>
              <a:gd name="adj1" fmla="val -34569"/>
              <a:gd name="adj2" fmla="val 31171"/>
            </a:avLst>
          </a:prstGeom>
          <a:noFill/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regart_120"/>
          <p:cNvPicPr/>
          <p:nvPr/>
        </p:nvPicPr>
        <p:blipFill>
          <a:blip r:embed="rId2"/>
          <a:stretch/>
        </p:blipFill>
        <p:spPr>
          <a:xfrm>
            <a:off x="304920" y="1828800"/>
            <a:ext cx="2438280" cy="48006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1371600" y="685800"/>
            <a:ext cx="19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066680" y="838080"/>
            <a:ext cx="840600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Багато з них ставля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еред собою завданн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виконання яких  потребує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багато  часу.  Такі  завдання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прямовані  на застосуванн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здібностей  цих  дітей  у  ї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рофесійній  діяльності,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досягнення  високих  результатів,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творчу  реалізацію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їхніх здібностей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538920" y="228600"/>
            <a:ext cx="806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Соціально-психологічн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портрет обдарованої дити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115599989_47__"/>
          <p:cNvPicPr/>
          <p:nvPr/>
        </p:nvPicPr>
        <p:blipFill>
          <a:blip r:embed="rId2"/>
          <a:stretch/>
        </p:blipFill>
        <p:spPr>
          <a:xfrm>
            <a:off x="0" y="1905120"/>
            <a:ext cx="3276720" cy="46288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8"/>
          <p:cNvSpPr/>
          <p:nvPr/>
        </p:nvSpPr>
        <p:spPr>
          <a:xfrm>
            <a:off x="914400" y="1447920"/>
            <a:ext cx="8229600" cy="78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-Часто ''перескакують'' через послідовні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                                    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етапи свого розви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           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Допитливість. Такі діти прагну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                               </a:t>
            </a: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до  пізнання, дослідже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           </a:t>
            </a: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навколишнього світу і не терпля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              </a:t>
            </a: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жодних обмежень своїх досліджень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          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- Самостійна дослідницька практ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             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дитини. Це забезпечує можливі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                               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вивчати невідоме рані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                                           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- Логічне мисл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                                               </a:t>
            </a: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- Добра пам’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380880" y="152280"/>
            <a:ext cx="8458200" cy="10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Зацікавленість складними задачами, які не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мають певного алгоритму розв’язу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Оригінальне мислення, здатність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висувати несподівані ідеї, які відрізняют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                  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від банальних та широко відом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Здатність до аналізу. Діти мають гнуч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мислення, вміння асоціювати, знаход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аналогії, зв’язки між поняттями і процес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Концентрована увага, вміння утримува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                    </a:t>
            </a: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увагу при наявності перешкод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сприйняття інформації, вони буквально ''занурюються''  у своє заняття, якщо во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</a:t>
            </a: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їм ціка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Здатність до оцінки, рефлексив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         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ставлення до себе, впевненість в соб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228600" y="-280440"/>
            <a:ext cx="8610480" cy="70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Схильність до лідерства. Такі діти часто стають керівниками та організаторами в групових іграх 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     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інших справ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Самостійність, сміливість брати на себе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відповідаль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Адекватна конкурентність, яка стимулює інтере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                                       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до змагання з такими ж ді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Захоплення колекціонуванням, при цьому їхня мета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          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не приведення колекції в ідеальний порядок, а ї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663300"/>
                </a:solidFill>
                <a:latin typeface="Arial"/>
              </a:rPr>
              <a:t>реорганізація, систематизація на нових підставах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Великий словниковий запас, із задоволення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читають словники чи енциклопедії, придумую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</a:t>
            </a:r>
            <a:r>
              <a:rPr b="1" i="1" lang="ru-RU" sz="2400" spc="-1" strike="noStrike">
                <a:solidFill>
                  <a:srgbClr val="660066"/>
                </a:solidFill>
                <a:latin typeface="Arial"/>
              </a:rPr>
              <a:t>нові слова і поняття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Розвинене почуття гумо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Різноманітністю інтересів, що породжу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схильність починати кілька справ одночас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8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304920" y="5638680"/>
            <a:ext cx="8839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cc0066"/>
                </a:solidFill>
                <a:latin typeface="Monotype Corsiva"/>
              </a:rPr>
              <a:t>Обдарованість – </a:t>
            </a:r>
            <a:r>
              <a:rPr b="1" i="1" lang="uk-UA" sz="4000" spc="-1" strike="noStrike">
                <a:solidFill>
                  <a:srgbClr val="990033"/>
                </a:solidFill>
                <a:latin typeface="Arial"/>
              </a:rPr>
              <a:t>це сукупність здібностей, внутрішніх задатків і</a:t>
            </a:r>
            <a:br>
              <a:rPr sz="4000"/>
            </a:br>
            <a:r>
              <a:rPr b="1" i="1" lang="ru-RU" sz="40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i="1" lang="uk-UA" sz="4000" spc="-1" strike="noStrike">
                <a:solidFill>
                  <a:srgbClr val="990033"/>
                </a:solidFill>
                <a:latin typeface="Arial"/>
              </a:rPr>
              <a:t>передумов, тобто як дар або як явище, що розвивається   </a:t>
            </a:r>
            <a:br>
              <a:rPr sz="4000"/>
            </a:br>
            <a:r>
              <a:rPr b="1" i="1" lang="ru-RU" sz="40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i="1" lang="uk-UA" sz="4000" spc="-1" strike="noStrike">
                <a:solidFill>
                  <a:srgbClr val="990033"/>
                </a:solidFill>
                <a:latin typeface="Arial"/>
              </a:rPr>
              <a:t>упродовж життя, завдяки      </a:t>
            </a:r>
            <a:br>
              <a:rPr sz="4000"/>
            </a:br>
            <a:r>
              <a:rPr b="1" i="1" lang="ru-RU" sz="4000" spc="-1" strike="noStrike">
                <a:solidFill>
                  <a:srgbClr val="990033"/>
                </a:solidFill>
                <a:latin typeface="Arial"/>
              </a:rPr>
              <a:t>                 </a:t>
            </a:r>
            <a:r>
              <a:rPr b="1" i="1" lang="uk-UA" sz="4000" spc="-1" strike="noStrike">
                <a:solidFill>
                  <a:srgbClr val="990033"/>
                </a:solidFill>
                <a:latin typeface="Arial"/>
              </a:rPr>
              <a:t>зовнішнім факторам –      </a:t>
            </a:r>
            <a:br>
              <a:rPr sz="4000"/>
            </a:br>
            <a:r>
              <a:rPr b="1" i="1" lang="ru-RU" sz="4000" spc="-1" strike="noStrike">
                <a:solidFill>
                  <a:srgbClr val="990033"/>
                </a:solidFill>
                <a:latin typeface="Arial"/>
              </a:rPr>
              <a:t>             </a:t>
            </a:r>
            <a:r>
              <a:rPr b="1" i="1" lang="uk-UA" sz="4000" spc="-1" strike="noStrike">
                <a:solidFill>
                  <a:srgbClr val="990033"/>
                </a:solidFill>
                <a:latin typeface="Arial"/>
              </a:rPr>
              <a:t>навчанню, вихованню та </a:t>
            </a:r>
            <a:br>
              <a:rPr sz="4000"/>
            </a:br>
            <a:r>
              <a:rPr b="1" i="1" lang="ru-RU" sz="4000" spc="-1" strike="noStrike">
                <a:solidFill>
                  <a:srgbClr val="990033"/>
                </a:solidFill>
                <a:latin typeface="Arial"/>
              </a:rPr>
              <a:t>        </a:t>
            </a:r>
            <a:r>
              <a:rPr b="1" i="1" lang="uk-UA" sz="4000" spc="-1" strike="noStrike">
                <a:solidFill>
                  <a:srgbClr val="990033"/>
                </a:solidFill>
                <a:latin typeface="Arial"/>
              </a:rPr>
              <a:t>навколишньому середовищу</a:t>
            </a:r>
            <a:r>
              <a:rPr b="0" lang="uk-UA" sz="4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4543972"/>
          <p:cNvPicPr/>
          <p:nvPr/>
        </p:nvPicPr>
        <p:blipFill>
          <a:blip r:embed="rId2"/>
          <a:stretch/>
        </p:blipFill>
        <p:spPr>
          <a:xfrm>
            <a:off x="228600" y="3657600"/>
            <a:ext cx="266688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396360" y="2263320"/>
            <a:ext cx="30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 rot="20153400">
            <a:off x="7561440" y="831600"/>
            <a:ext cx="649080" cy="2592360"/>
          </a:xfrm>
          <a:custGeom>
            <a:avLst/>
            <a:gdLst>
              <a:gd name="textAreaLeft" fmla="*/ 86760 w 649080"/>
              <a:gd name="textAreaRight" fmla="*/ 562320 w 649080"/>
              <a:gd name="textAreaTop" fmla="*/ 473760 h 2592360"/>
              <a:gd name="textAreaBottom" fmla="*/ 177876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96" stAng="-5400000" swAng="5400000"/>
                <a:lnTo>
                  <a:pt x="21600" y="10874"/>
                </a:lnTo>
                <a:arcTo wR="21600" hR="7896" stAng="0" swAng="2124988"/>
                <a:lnTo>
                  <a:pt x="9875" y="20727"/>
                </a:lnTo>
                <a:lnTo>
                  <a:pt x="0" y="17280"/>
                </a:lnTo>
                <a:lnTo>
                  <a:pt x="9875" y="12087"/>
                </a:lnTo>
                <a:lnTo>
                  <a:pt x="9875" y="14918"/>
                </a:lnTo>
                <a:arcTo wR="21600" hR="7896" stAng="2124988" swAng="-1884072"/>
                <a:lnTo>
                  <a:pt x="21212" y="9385"/>
                </a:lnTo>
                <a:arcTo wR="21600" hR="7896" stAng="-240917" swAng="-5159083"/>
                <a:close/>
              </a:path>
              <a:path fill="darkenLess" w="21600" h="21600">
                <a:moveTo>
                  <a:pt x="0" y="0"/>
                </a:moveTo>
                <a:arcTo wR="21600" hR="7896" stAng="-5400000" swAng="5400000"/>
                <a:lnTo>
                  <a:pt x="21600" y="10874"/>
                </a:lnTo>
                <a:arcTo wR="21600" hR="7896" stAng="0" swAng="-240917"/>
                <a:lnTo>
                  <a:pt x="21212" y="9385"/>
                </a:lnTo>
                <a:arcTo wR="21600" hR="7896" stAng="-240917" swAng="-5159083"/>
                <a:close/>
              </a:path>
            </a:pathLst>
          </a:cu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6846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0"/>
          <p:cNvSpPr/>
          <p:nvPr/>
        </p:nvSpPr>
        <p:spPr>
          <a:xfrm rot="1984800">
            <a:off x="900000" y="836280"/>
            <a:ext cx="927360" cy="2631960"/>
          </a:xfrm>
          <a:custGeom>
            <a:avLst/>
            <a:gdLst>
              <a:gd name="textAreaLeft" fmla="*/ 124200 w 927360"/>
              <a:gd name="textAreaRight" fmla="*/ 803160 w 927360"/>
              <a:gd name="textAreaTop" fmla="*/ 475200 h 2631960"/>
              <a:gd name="textAreaBottom" fmla="*/ 1834200 h 263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4" stAng="-5400000" swAng="-5400000"/>
                <a:lnTo>
                  <a:pt x="0" y="11150"/>
                </a:lnTo>
                <a:arcTo wR="21600" hR="7804" stAng="10800000" swAng="-2295171"/>
                <a:lnTo>
                  <a:pt x="12602" y="20891"/>
                </a:lnTo>
                <a:lnTo>
                  <a:pt x="21600" y="17280"/>
                </a:lnTo>
                <a:lnTo>
                  <a:pt x="12602" y="12251"/>
                </a:lnTo>
                <a:lnTo>
                  <a:pt x="12602" y="14898"/>
                </a:lnTo>
                <a:arcTo wR="21600" hR="7804" stAng="8504829" swAng="2023135"/>
                <a:lnTo>
                  <a:pt x="502" y="9477"/>
                </a:lnTo>
                <a:arcTo wR="21600" hR="7804" stAng="-10527964" swAng="5127964"/>
                <a:close/>
              </a:path>
              <a:path fill="darkenLess" w="21600" h="21600">
                <a:moveTo>
                  <a:pt x="21600" y="0"/>
                </a:moveTo>
                <a:arcTo wR="21600" hR="7804" stAng="-5400000" swAng="-5400000"/>
                <a:lnTo>
                  <a:pt x="0" y="7804"/>
                </a:lnTo>
                <a:arcTo wR="21600" hR="7804" stAng="10800000" swAng="-272036"/>
                <a:lnTo>
                  <a:pt x="502" y="9477"/>
                </a:lnTo>
                <a:arcTo wR="21600" hR="7804" stAng="-10527964" swAng="5127964"/>
                <a:close/>
              </a:path>
            </a:pathLst>
          </a:cu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3414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1"/>
          <p:cNvSpPr/>
          <p:nvPr/>
        </p:nvSpPr>
        <p:spPr>
          <a:xfrm>
            <a:off x="533520" y="2819520"/>
            <a:ext cx="3047760" cy="2609640"/>
          </a:xfrm>
          <a:prstGeom prst="parallelogram">
            <a:avLst>
              <a:gd name="adj" fmla="val 36091"/>
            </a:avLst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2700000"/>
          </a:gra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2"/>
          <p:cNvSpPr/>
          <p:nvPr/>
        </p:nvSpPr>
        <p:spPr>
          <a:xfrm rot="10800000">
            <a:off x="2771280" y="3573000"/>
            <a:ext cx="3505320" cy="2900520"/>
          </a:xfrm>
          <a:prstGeom prst="pie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3"/>
          <p:cNvSpPr/>
          <p:nvPr/>
        </p:nvSpPr>
        <p:spPr>
          <a:xfrm flipH="1" rot="21000">
            <a:off x="5579640" y="2852640"/>
            <a:ext cx="3278160" cy="2710080"/>
          </a:xfrm>
          <a:prstGeom prst="parallelogram">
            <a:avLst>
              <a:gd name="adj" fmla="val 36804"/>
            </a:avLst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2724000"/>
          </a:gra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4"/>
          <p:cNvSpPr/>
          <p:nvPr/>
        </p:nvSpPr>
        <p:spPr>
          <a:xfrm>
            <a:off x="1523880" y="189000"/>
            <a:ext cx="6096240" cy="2082600"/>
          </a:xfrm>
          <a:prstGeom prst="flowChartProcess">
            <a:avLst/>
          </a:prstGeom>
          <a:gradFill rotWithShape="0">
            <a:gsLst>
              <a:gs pos="0">
                <a:srgbClr val="fbeac7"/>
              </a:gs>
              <a:gs pos="100000">
                <a:srgbClr val="fbeac7"/>
              </a:gs>
            </a:gsLst>
            <a:lin ang="5400000"/>
          </a:gra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5"/>
          <p:cNvSpPr/>
          <p:nvPr/>
        </p:nvSpPr>
        <p:spPr>
          <a:xfrm>
            <a:off x="4248000" y="2276640"/>
            <a:ext cx="495360" cy="1296720"/>
          </a:xfrm>
          <a:prstGeom prst="downArrow">
            <a:avLst>
              <a:gd name="adj1" fmla="val 50000"/>
              <a:gd name="adj2" fmla="val 106345"/>
            </a:avLst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54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6" descr="27306582_9581886_5197735_3296393_1723968[1]"/>
          <p:cNvPicPr/>
          <p:nvPr/>
        </p:nvPicPr>
        <p:blipFill>
          <a:blip r:embed="rId1"/>
          <a:stretch/>
        </p:blipFill>
        <p:spPr>
          <a:xfrm rot="16200000">
            <a:off x="-3360600" y="3044520"/>
            <a:ext cx="7174080" cy="452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7" descr="27306582_9581886_5197735_3296393_1723968[1]"/>
          <p:cNvPicPr/>
          <p:nvPr/>
        </p:nvPicPr>
        <p:blipFill>
          <a:blip r:embed="rId2"/>
          <a:stretch/>
        </p:blipFill>
        <p:spPr>
          <a:xfrm rot="5400000">
            <a:off x="5330160" y="3044520"/>
            <a:ext cx="7174080" cy="452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8" descr="27306582_9581886_5197735_3296393_1723968[1]"/>
          <p:cNvPicPr/>
          <p:nvPr/>
        </p:nvPicPr>
        <p:blipFill>
          <a:blip r:embed="rId3"/>
          <a:stretch/>
        </p:blipFill>
        <p:spPr>
          <a:xfrm>
            <a:off x="0" y="0"/>
            <a:ext cx="9144000" cy="441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9" descr="27306582_9581886_5197735_3296393_1723968[1]"/>
          <p:cNvPicPr/>
          <p:nvPr/>
        </p:nvPicPr>
        <p:blipFill>
          <a:blip r:embed="rId4"/>
          <a:stretch/>
        </p:blipFill>
        <p:spPr>
          <a:xfrm rot="10800000">
            <a:off x="0" y="6416640"/>
            <a:ext cx="9144000" cy="441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0"/>
          <p:cNvSpPr/>
          <p:nvPr/>
        </p:nvSpPr>
        <p:spPr>
          <a:xfrm>
            <a:off x="1042920" y="37162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00cc"/>
                </a:solidFill>
                <a:latin typeface="Arial"/>
              </a:rPr>
              <a:t>Природничі теоре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2"/>
          <p:cNvSpPr/>
          <p:nvPr/>
        </p:nvSpPr>
        <p:spPr>
          <a:xfrm>
            <a:off x="1676520" y="260280"/>
            <a:ext cx="586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Bookman Old Style"/>
              </a:rPr>
              <a:t>Типи обдарованос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Monotype Corsiva"/>
              </a:rPr>
              <a:t>(на основі аналі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Monotype Corsiva"/>
              </a:rPr>
              <a:t>пізнавальних особливостей дитини, за Ю. Гільбух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5"/>
          <p:cNvSpPr/>
          <p:nvPr/>
        </p:nvSpPr>
        <p:spPr>
          <a:xfrm>
            <a:off x="3419640" y="465300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00cc"/>
                </a:solidFill>
                <a:latin typeface="Arial"/>
              </a:rPr>
              <a:t>Природничі прикла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6"/>
          <p:cNvSpPr/>
          <p:nvPr/>
        </p:nvSpPr>
        <p:spPr>
          <a:xfrm>
            <a:off x="6084720" y="3789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00cc"/>
                </a:solidFill>
                <a:latin typeface="Arial"/>
              </a:rPr>
              <a:t>Гуманітар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7" descr="27306582_9581886_5197735_3296393_1723968[1]"/>
          <p:cNvPicPr/>
          <p:nvPr/>
        </p:nvPicPr>
        <p:blipFill>
          <a:blip r:embed="rId5"/>
          <a:stretch/>
        </p:blipFill>
        <p:spPr>
          <a:xfrm rot="16200000">
            <a:off x="-3360600" y="3044520"/>
            <a:ext cx="7174080" cy="452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8" descr="27306582_9581886_5197735_3296393_1723968[1]"/>
          <p:cNvPicPr/>
          <p:nvPr/>
        </p:nvPicPr>
        <p:blipFill>
          <a:blip r:embed="rId6"/>
          <a:stretch/>
        </p:blipFill>
        <p:spPr>
          <a:xfrm rot="16200000">
            <a:off x="-3360600" y="3044520"/>
            <a:ext cx="717408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Oval 18"/>
          <p:cNvSpPr/>
          <p:nvPr/>
        </p:nvSpPr>
        <p:spPr>
          <a:xfrm>
            <a:off x="1219320" y="609480"/>
            <a:ext cx="676908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333399"/>
                </a:solidFill>
                <a:latin typeface="Monotype Corsiva"/>
              </a:rPr>
              <a:t>Типи обдарованост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 flipH="1">
            <a:off x="1523520" y="1557360"/>
            <a:ext cx="887400" cy="95724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 flipH="1">
            <a:off x="1904760" y="1700280"/>
            <a:ext cx="1514520" cy="226224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"/>
          <p:cNvSpPr/>
          <p:nvPr/>
        </p:nvSpPr>
        <p:spPr>
          <a:xfrm flipH="1">
            <a:off x="3505320" y="1700280"/>
            <a:ext cx="635040" cy="188100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4859280" y="1700280"/>
            <a:ext cx="169920" cy="287172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5435640" y="1700280"/>
            <a:ext cx="888840" cy="180504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8"/>
          <p:cNvSpPr/>
          <p:nvPr/>
        </p:nvSpPr>
        <p:spPr>
          <a:xfrm>
            <a:off x="6324480" y="1600200"/>
            <a:ext cx="990720" cy="99072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152280" y="251460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Comic Sans MS"/>
              </a:rPr>
              <a:t>Інтелектуальна обдаровані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380880" y="403848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Comic Sans MS"/>
              </a:rPr>
              <a:t>Творча обдарованість (креатив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2514600" y="373392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Comic Sans MS"/>
              </a:rPr>
              <a:t>Художня обдаровані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3886200" y="464832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Comic Sans MS"/>
              </a:rPr>
              <a:t>Лідерська або соціальна обдаровані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5867280" y="3581280"/>
            <a:ext cx="21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Comic Sans MS"/>
              </a:rPr>
              <a:t>Психомоторна (спортивна) обдаровані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6553080" y="259092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Comic Sans MS"/>
              </a:rPr>
              <a:t>Академічна обдаровані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11"/>
          <p:cNvSpPr/>
          <p:nvPr/>
        </p:nvSpPr>
        <p:spPr>
          <a:xfrm>
            <a:off x="457200" y="3048120"/>
            <a:ext cx="3048120" cy="1295280"/>
          </a:xfrm>
          <a:prstGeom prst="parallelogram">
            <a:avLst>
              <a:gd name="adj" fmla="val 36094"/>
            </a:avLst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2700000"/>
          </a:gra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3"/>
          <p:cNvSpPr/>
          <p:nvPr/>
        </p:nvSpPr>
        <p:spPr>
          <a:xfrm flipH="1" rot="21000">
            <a:off x="5637960" y="3048120"/>
            <a:ext cx="3278160" cy="1338120"/>
          </a:xfrm>
          <a:prstGeom prst="parallelogram">
            <a:avLst>
              <a:gd name="adj" fmla="val 36815"/>
            </a:avLst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2724000"/>
          </a:gra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2"/>
          <p:cNvSpPr/>
          <p:nvPr/>
        </p:nvSpPr>
        <p:spPr>
          <a:xfrm rot="10800000">
            <a:off x="2971440" y="5105520"/>
            <a:ext cx="3505320" cy="1226880"/>
          </a:xfrm>
          <a:prstGeom prst="pie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1"/>
          <p:cNvSpPr/>
          <p:nvPr/>
        </p:nvSpPr>
        <p:spPr>
          <a:xfrm>
            <a:off x="0" y="4952880"/>
            <a:ext cx="3048120" cy="1295640"/>
          </a:xfrm>
          <a:prstGeom prst="parallelogram">
            <a:avLst>
              <a:gd name="adj" fmla="val 36084"/>
            </a:avLst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2700000"/>
          </a:gra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3"/>
          <p:cNvSpPr/>
          <p:nvPr/>
        </p:nvSpPr>
        <p:spPr>
          <a:xfrm flipH="1" rot="21000">
            <a:off x="6095160" y="4876920"/>
            <a:ext cx="3278160" cy="1338120"/>
          </a:xfrm>
          <a:prstGeom prst="parallelogram">
            <a:avLst>
              <a:gd name="adj" fmla="val 36815"/>
            </a:avLst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2724000"/>
          </a:gra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"/>
          <p:cNvSpPr/>
          <p:nvPr/>
        </p:nvSpPr>
        <p:spPr>
          <a:xfrm rot="1356600">
            <a:off x="236520" y="1944720"/>
            <a:ext cx="844560" cy="3952800"/>
          </a:xfrm>
          <a:custGeom>
            <a:avLst/>
            <a:gdLst>
              <a:gd name="textAreaLeft" fmla="*/ 113040 w 844560"/>
              <a:gd name="textAreaRight" fmla="*/ 731520 w 844560"/>
              <a:gd name="textAreaTop" fmla="*/ 749880 h 3952800"/>
              <a:gd name="textAreaBottom" fmla="*/ 2574000 h 395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98" stAng="-5400000" swAng="-5400000"/>
                <a:lnTo>
                  <a:pt x="0" y="9966"/>
                </a:lnTo>
                <a:arcTo wR="21600" hR="8198" stAng="10800000" swAng="-2378046"/>
                <a:lnTo>
                  <a:pt x="12602" y="20855"/>
                </a:lnTo>
                <a:lnTo>
                  <a:pt x="21600" y="17280"/>
                </a:lnTo>
                <a:lnTo>
                  <a:pt x="12602" y="12215"/>
                </a:lnTo>
                <a:lnTo>
                  <a:pt x="12602" y="15651"/>
                </a:lnTo>
                <a:arcTo wR="21600" hR="8198" stAng="8421954" swAng="2236607"/>
                <a:lnTo>
                  <a:pt x="126" y="9082"/>
                </a:lnTo>
                <a:arcTo wR="21600" hR="8198" stAng="-10658562" swAng="5258562"/>
                <a:close/>
              </a:path>
              <a:path fill="darkenLess" w="21600" h="21600">
                <a:moveTo>
                  <a:pt x="21600" y="0"/>
                </a:moveTo>
                <a:arcTo wR="21600" hR="8198" stAng="-5400000" swAng="-5400000"/>
                <a:lnTo>
                  <a:pt x="0" y="8198"/>
                </a:lnTo>
                <a:arcTo wR="21600" hR="8198" stAng="10800000" swAng="-141438"/>
                <a:lnTo>
                  <a:pt x="126" y="9082"/>
                </a:lnTo>
                <a:arcTo wR="21600" hR="8198" stAng="-10658562" swAng="5258562"/>
                <a:close/>
              </a:path>
            </a:pathLst>
          </a:cu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4044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0"/>
          <p:cNvSpPr/>
          <p:nvPr/>
        </p:nvSpPr>
        <p:spPr>
          <a:xfrm rot="2448000">
            <a:off x="802800" y="771120"/>
            <a:ext cx="849600" cy="3667320"/>
          </a:xfrm>
          <a:custGeom>
            <a:avLst/>
            <a:gdLst>
              <a:gd name="textAreaLeft" fmla="*/ 113760 w 849600"/>
              <a:gd name="textAreaRight" fmla="*/ 735840 w 849600"/>
              <a:gd name="textAreaTop" fmla="*/ 732240 h 3667320"/>
              <a:gd name="textAreaBottom" fmla="*/ 2485440 h 3667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28" stAng="-5400000" swAng="-5400000"/>
                <a:lnTo>
                  <a:pt x="0" y="10325"/>
                </a:lnTo>
                <a:arcTo wR="21600" hR="8628" stAng="10800000" swAng="-2464757"/>
                <a:lnTo>
                  <a:pt x="12602" y="20816"/>
                </a:lnTo>
                <a:lnTo>
                  <a:pt x="21600" y="18105"/>
                </a:lnTo>
                <a:lnTo>
                  <a:pt x="12602" y="13825"/>
                </a:lnTo>
                <a:lnTo>
                  <a:pt x="12602" y="16472"/>
                </a:lnTo>
                <a:arcTo wR="21600" hR="8628" stAng="8335243" swAng="2329127"/>
                <a:lnTo>
                  <a:pt x="105" y="9476"/>
                </a:lnTo>
                <a:arcTo wR="21600" hR="8628" stAng="-10664370" swAng="5264370"/>
                <a:close/>
              </a:path>
              <a:path fill="darkenLess" w="21600" h="21600">
                <a:moveTo>
                  <a:pt x="21600" y="0"/>
                </a:moveTo>
                <a:arcTo wR="21600" hR="8628" stAng="-5400000" swAng="-5400000"/>
                <a:lnTo>
                  <a:pt x="0" y="8628"/>
                </a:lnTo>
                <a:arcTo wR="21600" hR="8628" stAng="10800000" swAng="-135630"/>
                <a:lnTo>
                  <a:pt x="105" y="9476"/>
                </a:lnTo>
                <a:arcTo wR="21600" hR="8628" stAng="-10664370" swAng="5264370"/>
                <a:close/>
              </a:path>
            </a:pathLst>
          </a:cu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2952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4495680" y="2133720"/>
            <a:ext cx="228600" cy="1296720"/>
          </a:xfrm>
          <a:prstGeom prst="downArrow">
            <a:avLst>
              <a:gd name="adj1" fmla="val 50000"/>
              <a:gd name="adj2" fmla="val 230443"/>
            </a:avLst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54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4495680" y="3962520"/>
            <a:ext cx="228600" cy="1296720"/>
          </a:xfrm>
          <a:prstGeom prst="downArrow">
            <a:avLst>
              <a:gd name="adj1" fmla="val 50000"/>
              <a:gd name="adj2" fmla="val 230443"/>
            </a:avLst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5400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2"/>
          <p:cNvSpPr/>
          <p:nvPr/>
        </p:nvSpPr>
        <p:spPr>
          <a:xfrm rot="10800000">
            <a:off x="2895120" y="3352320"/>
            <a:ext cx="3505320" cy="1227240"/>
          </a:xfrm>
          <a:prstGeom prst="pie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9"/>
          <p:cNvSpPr/>
          <p:nvPr/>
        </p:nvSpPr>
        <p:spPr>
          <a:xfrm rot="20153400">
            <a:off x="7956720" y="1017720"/>
            <a:ext cx="761760" cy="4957560"/>
          </a:xfrm>
          <a:custGeom>
            <a:avLst/>
            <a:gdLst>
              <a:gd name="textAreaLeft" fmla="*/ 101880 w 761760"/>
              <a:gd name="textAreaRight" fmla="*/ 659880 w 761760"/>
              <a:gd name="textAreaTop" fmla="*/ 941400 h 4957560"/>
              <a:gd name="textAreaBottom" fmla="*/ 3366360 h 495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205" stAng="-5400000" swAng="5400000"/>
                <a:lnTo>
                  <a:pt x="21600" y="10565"/>
                </a:lnTo>
                <a:arcTo wR="21600" hR="8205" stAng="0" swAng="2187698"/>
                <a:lnTo>
                  <a:pt x="9875" y="20692"/>
                </a:lnTo>
                <a:lnTo>
                  <a:pt x="0" y="17589"/>
                </a:lnTo>
                <a:lnTo>
                  <a:pt x="9875" y="12670"/>
                </a:lnTo>
                <a:lnTo>
                  <a:pt x="9875" y="15501"/>
                </a:lnTo>
                <a:arcTo wR="21600" hR="8205" stAng="2187698" swAng="-1998115"/>
                <a:lnTo>
                  <a:pt x="21375" y="9385"/>
                </a:lnTo>
                <a:arcTo wR="21600" hR="8205" stAng="-189583" swAng="-5210417"/>
                <a:close/>
              </a:path>
              <a:path fill="darkenLess" w="21600" h="21600">
                <a:moveTo>
                  <a:pt x="0" y="0"/>
                </a:moveTo>
                <a:arcTo wR="21600" hR="8205" stAng="-5400000" swAng="5400000"/>
                <a:lnTo>
                  <a:pt x="21600" y="10565"/>
                </a:lnTo>
                <a:arcTo wR="21600" hR="8205" stAng="0" swAng="-189583"/>
                <a:lnTo>
                  <a:pt x="21375" y="9385"/>
                </a:lnTo>
                <a:arcTo wR="21600" hR="8205" stAng="-189583" swAng="-5210417"/>
                <a:close/>
              </a:path>
            </a:pathLst>
          </a:cu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6846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 rot="20153400">
            <a:off x="7783560" y="713880"/>
            <a:ext cx="649080" cy="3278160"/>
          </a:xfrm>
          <a:custGeom>
            <a:avLst/>
            <a:gdLst>
              <a:gd name="textAreaLeft" fmla="*/ 86760 w 649080"/>
              <a:gd name="textAreaRight" fmla="*/ 562320 w 649080"/>
              <a:gd name="textAreaTop" fmla="*/ 599040 h 3278160"/>
              <a:gd name="textAreaBottom" fmla="*/ 2249280 h 327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96" stAng="-5400000" swAng="5400000"/>
                <a:lnTo>
                  <a:pt x="21600" y="10874"/>
                </a:lnTo>
                <a:arcTo wR="21600" hR="7896" stAng="0" swAng="2124988"/>
                <a:lnTo>
                  <a:pt x="9875" y="20727"/>
                </a:lnTo>
                <a:lnTo>
                  <a:pt x="0" y="17280"/>
                </a:lnTo>
                <a:lnTo>
                  <a:pt x="9875" y="12087"/>
                </a:lnTo>
                <a:lnTo>
                  <a:pt x="9875" y="14918"/>
                </a:lnTo>
                <a:arcTo wR="21600" hR="7896" stAng="2124988" swAng="-1884072"/>
                <a:lnTo>
                  <a:pt x="21212" y="9385"/>
                </a:lnTo>
                <a:arcTo wR="21600" hR="7896" stAng="-240917" swAng="-5159083"/>
                <a:close/>
              </a:path>
              <a:path fill="darkenLess" w="21600" h="21600">
                <a:moveTo>
                  <a:pt x="0" y="0"/>
                </a:moveTo>
                <a:arcTo wR="21600" hR="7896" stAng="-5400000" swAng="5400000"/>
                <a:lnTo>
                  <a:pt x="21600" y="10874"/>
                </a:lnTo>
                <a:arcTo wR="21600" hR="7896" stAng="0" swAng="-240917"/>
                <a:lnTo>
                  <a:pt x="21212" y="9385"/>
                </a:lnTo>
                <a:arcTo wR="21600" hR="7896" stAng="-240917" swAng="-5159083"/>
                <a:close/>
              </a:path>
            </a:pathLst>
          </a:cu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6846000"/>
          </a:gra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4"/>
          <p:cNvSpPr/>
          <p:nvPr/>
        </p:nvSpPr>
        <p:spPr>
          <a:xfrm>
            <a:off x="1066680" y="152280"/>
            <a:ext cx="7010640" cy="2590920"/>
          </a:xfrm>
          <a:prstGeom prst="flowChartProcess">
            <a:avLst/>
          </a:prstGeom>
          <a:gradFill rotWithShape="0">
            <a:gsLst>
              <a:gs pos="0">
                <a:srgbClr val="fbeac7"/>
              </a:gs>
              <a:gs pos="100000">
                <a:srgbClr val="fbeac7"/>
              </a:gs>
            </a:gsLst>
            <a:lin ang="5400000"/>
          </a:gra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Сфер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обдарованост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діт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1070280" y="3429000"/>
            <a:ext cx="198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інтелектуальна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1"/>
          <p:cNvSpPr/>
          <p:nvPr/>
        </p:nvSpPr>
        <p:spPr>
          <a:xfrm>
            <a:off x="3762000" y="3429000"/>
            <a:ext cx="165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ф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кадеміч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осягнень</a:t>
            </a: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2"/>
          <p:cNvSpPr/>
          <p:nvPr/>
        </p:nvSpPr>
        <p:spPr>
          <a:xfrm>
            <a:off x="686520" y="525780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ф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пілкування</a:t>
            </a: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3"/>
          <p:cNvSpPr/>
          <p:nvPr/>
        </p:nvSpPr>
        <p:spPr>
          <a:xfrm>
            <a:off x="6338160" y="3276720"/>
            <a:ext cx="194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ворчі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(креативність)</a:t>
            </a: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4"/>
          <p:cNvSpPr/>
          <p:nvPr/>
        </p:nvSpPr>
        <p:spPr>
          <a:xfrm>
            <a:off x="3977280" y="5257800"/>
            <a:ext cx="151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ф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художньо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іяльності</a:t>
            </a: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5"/>
          <p:cNvSpPr/>
          <p:nvPr/>
        </p:nvSpPr>
        <p:spPr>
          <a:xfrm>
            <a:off x="7138080" y="51814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ух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фера</a:t>
            </a:r>
            <a:r>
              <a:rPr b="1" lang="uk-UA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http://img4.cliparto.com/pic/xl/231470/4691594-teacher-at-blackboar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6"/>
          <p:cNvSpPr/>
          <p:nvPr/>
        </p:nvSpPr>
        <p:spPr>
          <a:xfrm>
            <a:off x="4624200" y="1303200"/>
            <a:ext cx="4208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ffff"/>
                </a:solidFill>
                <a:latin typeface="Arial"/>
              </a:rPr>
              <a:t>Талан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ffff"/>
                </a:solidFill>
                <a:latin typeface="Arial"/>
              </a:rPr>
              <a:t>може бут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uk-UA" sz="5400" spc="-1" strike="noStrike">
                <a:solidFill>
                  <a:srgbClr val="ffffff"/>
                </a:solidFill>
                <a:latin typeface="Arial"/>
              </a:rPr>
              <a:t>зарити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ffff"/>
                </a:solidFill>
                <a:latin typeface="Arial"/>
              </a:rPr>
              <a:t>у землю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http://img4.cliparto.com/pic/xl/231470/4691594-teacher-at-blackboar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4507560" y="1425600"/>
            <a:ext cx="444960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Розвиваєть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невротич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бажанн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завжд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бути першим</a:t>
            </a:r>
            <a:r>
              <a:rPr b="1" i="1" lang="uk-UA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http://img4.cliparto.com/pic/xl/231470/4691594-teacher-at-blackboar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6"/>
          <p:cNvSpPr/>
          <p:nvPr/>
        </p:nvSpPr>
        <p:spPr>
          <a:xfrm>
            <a:off x="4351680" y="1573200"/>
            <a:ext cx="4761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Непомірні батьківськ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амбіції мож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викликати висо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рівень агресивност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"/>
              </a:rPr>
              <a:t>та ворожості ді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2286000" y="25588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6"/>
          <p:cNvSpPr/>
          <p:nvPr/>
        </p:nvSpPr>
        <p:spPr>
          <a:xfrm>
            <a:off x="-228600" y="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3399"/>
                </a:solidFill>
                <a:latin typeface="Arial"/>
              </a:rPr>
              <a:t>Система пошуку обдарованих ді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609480" y="144792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Сфера пошу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4952880" y="1371600"/>
            <a:ext cx="3456000" cy="7509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Calibri"/>
              </a:rPr>
              <a:t>Критерії, за якими здійснюється пош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685800" y="2286000"/>
            <a:ext cx="16574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2844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haroni"/>
              </a:rPr>
              <a:t>У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685800" y="2971800"/>
            <a:ext cx="16765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2844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haroni"/>
              </a:rPr>
              <a:t>Результати письмових робі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685800" y="3886200"/>
            <a:ext cx="17208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2844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haroni"/>
              </a:rPr>
              <a:t>Учнівські конкур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685800" y="4572000"/>
            <a:ext cx="17287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2844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haroni"/>
              </a:rPr>
              <a:t>Анкетування, тесту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4"/>
          <p:cNvSpPr/>
          <p:nvPr/>
        </p:nvSpPr>
        <p:spPr>
          <a:xfrm>
            <a:off x="685800" y="5257800"/>
            <a:ext cx="16556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2844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haroni"/>
              </a:rPr>
              <a:t>Виховна роб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9"/>
          <p:cNvSpPr/>
          <p:nvPr/>
        </p:nvSpPr>
        <p:spPr>
          <a:xfrm>
            <a:off x="685800" y="5943600"/>
            <a:ext cx="17208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2844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Бібліот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3048120" y="2209680"/>
            <a:ext cx="4032000" cy="662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908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haroni"/>
              </a:rPr>
              <a:t>Рівень творчості, пізнавального інтересу, нестандартності мисле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1"/>
          <p:cNvSpPr/>
          <p:nvPr/>
        </p:nvSpPr>
        <p:spPr>
          <a:xfrm>
            <a:off x="4788000" y="2997360"/>
            <a:ext cx="4032000" cy="59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908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haroni"/>
              </a:rPr>
              <a:t>Інтелект , ерудиція, лексика, природні задат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0"/>
          <p:cNvSpPr/>
          <p:nvPr/>
        </p:nvSpPr>
        <p:spPr>
          <a:xfrm>
            <a:off x="3048120" y="3733920"/>
            <a:ext cx="4105080" cy="62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908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haroni"/>
              </a:rPr>
              <a:t>Інтелектуальні здібності,</a:t>
            </a: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1400" spc="-1" strike="noStrike">
                <a:solidFill>
                  <a:srgbClr val="000000"/>
                </a:solidFill>
                <a:latin typeface="Aharoni"/>
              </a:rPr>
              <a:t>нестандарт</a:t>
            </a: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haroni"/>
              </a:rPr>
              <a:t>ність мислення, неординарність підход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3"/>
          <p:cNvSpPr/>
          <p:nvPr/>
        </p:nvSpPr>
        <p:spPr>
          <a:xfrm>
            <a:off x="4800600" y="4495680"/>
            <a:ext cx="4105440" cy="590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908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haroni"/>
              </a:rPr>
              <a:t>Лідерські риси, оригінальність, ерудиція, об</a:t>
            </a:r>
            <a:r>
              <a:rPr b="1" i="1" lang="uk-UA" sz="1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1" i="1" lang="uk-UA" sz="1400" spc="-1" strike="noStrike">
                <a:solidFill>
                  <a:srgbClr val="000000"/>
                </a:solidFill>
                <a:latin typeface="Aharoni"/>
              </a:rPr>
              <a:t>єктивність самоаналіз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5"/>
          <p:cNvSpPr/>
          <p:nvPr/>
        </p:nvSpPr>
        <p:spPr>
          <a:xfrm>
            <a:off x="3048120" y="5181480"/>
            <a:ext cx="4051080" cy="590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908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Рівень активності, ініціативності, відповідальності, організова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1"/>
          <p:cNvSpPr/>
          <p:nvPr/>
        </p:nvSpPr>
        <p:spPr>
          <a:xfrm>
            <a:off x="4800600" y="5943600"/>
            <a:ext cx="4032360" cy="590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908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</a:rPr>
              <a:t>Вивчення запитів,’ інтересів, допитлив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21"/>
          <p:cNvSpPr/>
          <p:nvPr/>
        </p:nvSpPr>
        <p:spPr>
          <a:xfrm>
            <a:off x="2438280" y="2514600"/>
            <a:ext cx="538200" cy="96840"/>
          </a:xfrm>
          <a:prstGeom prst="rightArrow">
            <a:avLst>
              <a:gd name="adj1" fmla="val 50000"/>
              <a:gd name="adj2" fmla="val 138941"/>
            </a:avLst>
          </a:prstGeom>
          <a:solidFill>
            <a:srgbClr val="7171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21"/>
          <p:cNvSpPr/>
          <p:nvPr/>
        </p:nvSpPr>
        <p:spPr>
          <a:xfrm>
            <a:off x="2514600" y="3274920"/>
            <a:ext cx="2057400" cy="74880"/>
          </a:xfrm>
          <a:prstGeom prst="rightArrow">
            <a:avLst>
              <a:gd name="adj1" fmla="val 50000"/>
              <a:gd name="adj2" fmla="val 686899"/>
            </a:avLst>
          </a:prstGeom>
          <a:solidFill>
            <a:srgbClr val="7171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21"/>
          <p:cNvSpPr/>
          <p:nvPr/>
        </p:nvSpPr>
        <p:spPr>
          <a:xfrm>
            <a:off x="2590920" y="4800600"/>
            <a:ext cx="2057400" cy="74520"/>
          </a:xfrm>
          <a:prstGeom prst="rightArrow">
            <a:avLst>
              <a:gd name="adj1" fmla="val 50000"/>
              <a:gd name="adj2" fmla="val 690217"/>
            </a:avLst>
          </a:prstGeom>
          <a:solidFill>
            <a:srgbClr val="7171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21"/>
          <p:cNvSpPr/>
          <p:nvPr/>
        </p:nvSpPr>
        <p:spPr>
          <a:xfrm>
            <a:off x="2590920" y="6248520"/>
            <a:ext cx="2057400" cy="74520"/>
          </a:xfrm>
          <a:prstGeom prst="rightArrow">
            <a:avLst>
              <a:gd name="adj1" fmla="val 50000"/>
              <a:gd name="adj2" fmla="val 690217"/>
            </a:avLst>
          </a:prstGeom>
          <a:solidFill>
            <a:srgbClr val="7171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1"/>
          <p:cNvSpPr/>
          <p:nvPr/>
        </p:nvSpPr>
        <p:spPr>
          <a:xfrm>
            <a:off x="2438280" y="4114800"/>
            <a:ext cx="538200" cy="96840"/>
          </a:xfrm>
          <a:prstGeom prst="rightArrow">
            <a:avLst>
              <a:gd name="adj1" fmla="val 50000"/>
              <a:gd name="adj2" fmla="val 138941"/>
            </a:avLst>
          </a:prstGeom>
          <a:solidFill>
            <a:srgbClr val="7171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21"/>
          <p:cNvSpPr/>
          <p:nvPr/>
        </p:nvSpPr>
        <p:spPr>
          <a:xfrm>
            <a:off x="2438280" y="5486400"/>
            <a:ext cx="538200" cy="96840"/>
          </a:xfrm>
          <a:prstGeom prst="rightArrow">
            <a:avLst>
              <a:gd name="adj1" fmla="val 50000"/>
              <a:gd name="adj2" fmla="val 138941"/>
            </a:avLst>
          </a:prstGeom>
          <a:solidFill>
            <a:srgbClr val="7171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21"/>
          <p:cNvSpPr/>
          <p:nvPr/>
        </p:nvSpPr>
        <p:spPr>
          <a:xfrm>
            <a:off x="2666880" y="1752480"/>
            <a:ext cx="2057400" cy="74880"/>
          </a:xfrm>
          <a:prstGeom prst="rightArrow">
            <a:avLst>
              <a:gd name="adj1" fmla="val 50000"/>
              <a:gd name="adj2" fmla="val 686899"/>
            </a:avLst>
          </a:prstGeom>
          <a:solidFill>
            <a:srgbClr val="7171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2"/>
          <p:cNvSpPr/>
          <p:nvPr/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8000"/>
                </a:solidFill>
                <a:latin typeface="Times New Roman"/>
              </a:rPr>
              <a:t>Більше третини дітей, що були відраховані як невстигаючі, це – обдаровані ді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762120" y="1676520"/>
            <a:ext cx="7696080" cy="80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99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a50021"/>
                </a:solidFill>
                <a:latin typeface="Arial"/>
              </a:rPr>
              <a:t>Чому це відбуває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250920" y="2997360"/>
            <a:ext cx="8435880" cy="3098520"/>
          </a:xfrm>
          <a:prstGeom prst="rect">
            <a:avLst/>
          </a:prstGeom>
          <a:gradFill rotWithShape="0">
            <a:gsLst>
              <a:gs pos="0">
                <a:srgbClr val="e2f9fe"/>
              </a:gs>
              <a:gs pos="50000">
                <a:srgbClr val="bbfdbd"/>
              </a:gs>
              <a:gs pos="100000">
                <a:srgbClr val="e2f9fe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uk-UA" sz="2200" spc="-1" strike="noStrike">
                <a:solidFill>
                  <a:srgbClr val="9900cc"/>
                </a:solidFill>
                <a:latin typeface="Times New Roman"/>
              </a:rPr>
              <a:t>Якщо потяг до творчості не отримує реальної під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9900cc"/>
                </a:solidFill>
                <a:latin typeface="Times New Roman"/>
              </a:rPr>
              <a:t>тримки, виникає потяг до руйнування. Психологічн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9900cc"/>
                </a:solidFill>
                <a:latin typeface="Times New Roman"/>
              </a:rPr>
              <a:t>напруження таке сильне, що якщо людина не мож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9900cc"/>
                </a:solidFill>
                <a:latin typeface="Times New Roman"/>
              </a:rPr>
              <a:t>поєднати себе зі світом в акті творчості, т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9900cc"/>
                </a:solidFill>
                <a:latin typeface="Times New Roman"/>
              </a:rPr>
              <a:t>зароджується спонукання до усунення т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9900cc"/>
                </a:solidFill>
                <a:latin typeface="Times New Roman"/>
              </a:rPr>
              <a:t>руйнування світу… Альтернатива явна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9900cc"/>
                </a:solidFill>
                <a:latin typeface="Times New Roman"/>
              </a:rPr>
              <a:t>творити або руйнува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i="1" lang="uk-UA" sz="2000" spc="-1" strike="noStrike">
                <a:solidFill>
                  <a:srgbClr val="000000"/>
                </a:solidFill>
                <a:latin typeface="Aharoni"/>
              </a:rPr>
              <a:t>Е. Фро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Рисунок 4" descr="32362029.jpg"/>
          <p:cNvPicPr/>
          <p:nvPr/>
        </p:nvPicPr>
        <p:blipFill>
          <a:blip r:embed="rId3"/>
          <a:stretch/>
        </p:blipFill>
        <p:spPr>
          <a:xfrm>
            <a:off x="6516720" y="3770280"/>
            <a:ext cx="2627280" cy="3087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4"/>
          <p:cNvSpPr/>
          <p:nvPr/>
        </p:nvSpPr>
        <p:spPr>
          <a:xfrm>
            <a:off x="398520" y="685800"/>
            <a:ext cx="8516880" cy="541008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0099"/>
                </a:solidFill>
                <a:latin typeface="Arial"/>
              </a:rPr>
              <a:t>“</a:t>
            </a:r>
            <a:r>
              <a:rPr b="1" i="1" lang="uk-UA" sz="4400" spc="-1" strike="noStrike">
                <a:solidFill>
                  <a:srgbClr val="cc0099"/>
                </a:solidFill>
                <a:latin typeface="Arial"/>
              </a:rPr>
              <a:t>Ти можеш!”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-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Bookman Old Style"/>
              </a:rPr>
              <a:t>повинен нагадувати вчитель учн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0099"/>
                </a:solidFill>
                <a:latin typeface="Arial"/>
              </a:rPr>
              <a:t>“</a:t>
            </a:r>
            <a:r>
              <a:rPr b="1" i="1" lang="uk-UA" sz="4400" spc="-1" strike="noStrike">
                <a:solidFill>
                  <a:srgbClr val="cc0099"/>
                </a:solidFill>
                <a:latin typeface="Arial"/>
              </a:rPr>
              <a:t>Він може”,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Bookman Old Style"/>
              </a:rPr>
              <a:t>повинен розуміти колектив дітей</a:t>
            </a:r>
            <a:br>
              <a:rPr sz="3600"/>
            </a:br>
            <a:r>
              <a:rPr b="1" i="1" lang="uk-UA" sz="4400" spc="-1" strike="noStrike">
                <a:solidFill>
                  <a:srgbClr val="cc0099"/>
                </a:solidFill>
                <a:latin typeface="Arial"/>
              </a:rPr>
              <a:t>“Я можу”,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-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Bookman Old Style"/>
              </a:rPr>
              <a:t>повинен повірити в себ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                        </a:t>
            </a:r>
            <a:r>
              <a:rPr b="1" i="1" lang="uk-UA" sz="3600" spc="-1" strike="noStrike">
                <a:solidFill>
                  <a:srgbClr val="000000"/>
                </a:solidFill>
                <a:latin typeface="Bookman Old Style"/>
              </a:rPr>
              <a:t>уч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r>
              <a:rPr b="1" i="1" lang="uk-UA" sz="3200" spc="-1" strike="noStrike">
                <a:solidFill>
                  <a:srgbClr val="333399"/>
                </a:solidFill>
                <a:latin typeface="Arial"/>
              </a:rPr>
              <a:t>В. Ф. Шат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cc00"/>
                </a:solidFill>
                <a:latin typeface="Bookman Old Style"/>
              </a:rPr>
              <a:t>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Рисунок 4" descr="32362029.jpg"/>
          <p:cNvPicPr/>
          <p:nvPr/>
        </p:nvPicPr>
        <p:blipFill>
          <a:blip r:embed="rId3"/>
          <a:stretch/>
        </p:blipFill>
        <p:spPr>
          <a:xfrm>
            <a:off x="6172200" y="3124080"/>
            <a:ext cx="2971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1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1" descr="D:\мои документы\семінари\ММ керівника ШПНМК\2011 2012\обдарована дитина 27 10 2011\принципи роботи з обд детьми в родині.jpg"/>
          <p:cNvPicPr/>
          <p:nvPr/>
        </p:nvPicPr>
        <p:blipFill>
          <a:blip r:embed="rId1"/>
          <a:stretch/>
        </p:blipFill>
        <p:spPr>
          <a:xfrm>
            <a:off x="533520" y="1700280"/>
            <a:ext cx="8305560" cy="48528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02560" cy="1332000"/>
          </a:xfrm>
          <a:prstGeom prst="rect">
            <a:avLst/>
          </a:prstGeom>
          <a:solidFill>
            <a:srgbClr val="000080">
              <a:alpha val="9000"/>
            </a:srgbClr>
          </a:solidFill>
          <a:ln w="88920">
            <a:solidFill>
              <a:srgbClr val="00cc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990033"/>
                </a:solidFill>
                <a:latin typeface="Times New Roman"/>
              </a:rPr>
              <a:t>Принципи роботи з обдарованими діть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8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304920" y="6622920"/>
            <a:ext cx="861048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cc0066"/>
                </a:solidFill>
                <a:latin typeface="Monotype Corsiva"/>
              </a:rPr>
              <a:t> </a:t>
            </a:r>
            <a:br>
              <a:rPr sz="24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i="1" lang="ru-RU" sz="6000" spc="-1" strike="noStrike">
                <a:solidFill>
                  <a:srgbClr val="cc0066"/>
                </a:solidFill>
                <a:latin typeface="Monotype Corsiva"/>
              </a:rPr>
              <a:t>    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cc0066"/>
                </a:solidFill>
                <a:latin typeface="Monotype Corsiva"/>
              </a:rPr>
              <a:t>Обдарованість </a:t>
            </a:r>
            <a:r>
              <a:rPr b="1" i="1" lang="uk-UA" sz="3600" spc="-1" strike="noStrike">
                <a:solidFill>
                  <a:srgbClr val="cc0066"/>
                </a:solidFill>
                <a:latin typeface="Monotype Corsiva"/>
              </a:rPr>
              <a:t>– </a:t>
            </a:r>
            <a:r>
              <a:rPr b="1" i="1" lang="uk-UA" sz="3600" spc="-1" strike="noStrike">
                <a:solidFill>
                  <a:srgbClr val="990033"/>
                </a:solidFill>
                <a:latin typeface="Arial"/>
              </a:rPr>
              <a:t>це комплексна якість, що включає: </a:t>
            </a:r>
            <a:br>
              <a:rPr sz="3600"/>
            </a:br>
            <a:r>
              <a:rPr b="1" i="1" lang="uk-UA" sz="3600" spc="-1" strike="noStrike">
                <a:solidFill>
                  <a:srgbClr val="990033"/>
                </a:solidFill>
                <a:latin typeface="Arial"/>
              </a:rPr>
              <a:t>елементи спадковості; сукупність задатків; різні види здібностей; </a:t>
            </a:r>
            <a:br>
              <a:rPr sz="3600"/>
            </a:br>
            <a:r>
              <a:rPr b="1" i="1" lang="uk-UA" sz="3600" spc="-1" strike="noStrike">
                <a:solidFill>
                  <a:srgbClr val="990033"/>
                </a:solidFill>
                <a:latin typeface="Arial"/>
              </a:rPr>
              <a:t>           властивості темпераменту; </a:t>
            </a:r>
            <a:br>
              <a:rPr sz="3600"/>
            </a:br>
            <a:r>
              <a:rPr b="1" i="1" lang="uk-UA" sz="3600" spc="-1" strike="noStrike">
                <a:solidFill>
                  <a:srgbClr val="990033"/>
                </a:solidFill>
                <a:latin typeface="Arial"/>
              </a:rPr>
              <a:t>             вплив зовнішніх факторів </a:t>
            </a:r>
            <a:br>
              <a:rPr sz="3600"/>
            </a:br>
            <a:r>
              <a:rPr b="1" i="1" lang="uk-UA" sz="3600" spc="-1" strike="noStrike">
                <a:solidFill>
                  <a:srgbClr val="990033"/>
                </a:solidFill>
                <a:latin typeface="Arial"/>
              </a:rPr>
              <a:t>                   (виховання, навчання); </a:t>
            </a:r>
            <a:br>
              <a:rPr sz="3600"/>
            </a:br>
            <a:r>
              <a:rPr b="1" i="1" lang="uk-UA" sz="3600" spc="-1" strike="noStrike">
                <a:solidFill>
                  <a:srgbClr val="990033"/>
                </a:solidFill>
                <a:latin typeface="Arial"/>
              </a:rPr>
              <a:t>              творчий підхід; включення </a:t>
            </a:r>
            <a:br>
              <a:rPr sz="3600"/>
            </a:br>
            <a:r>
              <a:rPr b="1" i="1" lang="uk-UA" sz="3600" spc="-1" strike="noStrike">
                <a:solidFill>
                  <a:srgbClr val="990033"/>
                </a:solidFill>
                <a:latin typeface="Arial"/>
              </a:rPr>
              <a:t>                змотивованості; активна життєва позиція; наполегливість</a:t>
            </a:r>
            <a:r>
              <a:rPr b="1" i="1" lang="uk-UA" sz="4400" spc="-1" strike="noStrike">
                <a:solidFill>
                  <a:srgbClr val="990033"/>
                </a:solidFill>
                <a:latin typeface="Arial"/>
              </a:rPr>
              <a:t>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4543972"/>
          <p:cNvPicPr/>
          <p:nvPr/>
        </p:nvPicPr>
        <p:blipFill>
          <a:blip r:embed="rId2"/>
          <a:stretch/>
        </p:blipFill>
        <p:spPr>
          <a:xfrm>
            <a:off x="304920" y="2819520"/>
            <a:ext cx="281916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Line 6"/>
          <p:cNvSpPr/>
          <p:nvPr/>
        </p:nvSpPr>
        <p:spPr>
          <a:xfrm flipH="1">
            <a:off x="3047760" y="2666880"/>
            <a:ext cx="990360" cy="202428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 flipH="1">
            <a:off x="2057040" y="2362320"/>
            <a:ext cx="1219320" cy="137160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0"/>
          <p:cNvSpPr/>
          <p:nvPr/>
        </p:nvSpPr>
        <p:spPr>
          <a:xfrm>
            <a:off x="6248520" y="2895480"/>
            <a:ext cx="1066680" cy="249084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6"/>
          <p:cNvSpPr/>
          <p:nvPr/>
        </p:nvSpPr>
        <p:spPr>
          <a:xfrm flipH="1">
            <a:off x="3962520" y="3048120"/>
            <a:ext cx="304560" cy="236196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2"/>
          <p:cNvSpPr/>
          <p:nvPr/>
        </p:nvSpPr>
        <p:spPr>
          <a:xfrm>
            <a:off x="5334120" y="2971800"/>
            <a:ext cx="533160" cy="167652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7162920" y="2895480"/>
            <a:ext cx="990360" cy="99072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0" y="2971800"/>
            <a:ext cx="2362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Мотивація (пізнавальна активність, спрямована на осмислення житт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380880" y="51814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Здатність правильно формувати пробл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1905120" y="47242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Оптимі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2666880" y="541008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Образність мисл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4648320" y="4724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Гнучкість мисл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6934320" y="609480"/>
            <a:ext cx="2209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Високі естетичні, морально-етичні, загальнолюдські цін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4267080" y="6172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Толерант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4"/>
          <p:cNvSpPr/>
          <p:nvPr/>
        </p:nvSpPr>
        <p:spPr>
          <a:xfrm flipH="1">
            <a:off x="1904760" y="2971800"/>
            <a:ext cx="1514520" cy="226224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4724280" y="3200400"/>
            <a:ext cx="228600" cy="297180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152280" y="8380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Самооцінка (залежить від глибини пізнанн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2057400" y="304920"/>
            <a:ext cx="2160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Дисципліна (необхідність спрямовувати свої зусилля в потрібне русл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4267080" y="380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Цілеспрямова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3"/>
          <p:cNvSpPr/>
          <p:nvPr/>
        </p:nvSpPr>
        <p:spPr>
          <a:xfrm>
            <a:off x="6983280" y="411480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Концентрація ув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6248520" y="54100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Впевнені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у соб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2"/>
          <p:cNvSpPr/>
          <p:nvPr/>
        </p:nvSpPr>
        <p:spPr>
          <a:xfrm>
            <a:off x="4420440" y="1066680"/>
            <a:ext cx="249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Здатність д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33399"/>
                </a:solidFill>
                <a:latin typeface="Arial"/>
              </a:rPr>
              <a:t>критичного аналі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 flipV="1">
            <a:off x="6400800" y="1523520"/>
            <a:ext cx="838080" cy="68580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4"/>
          <p:cNvSpPr/>
          <p:nvPr/>
        </p:nvSpPr>
        <p:spPr>
          <a:xfrm flipH="1" flipV="1">
            <a:off x="3047760" y="1752480"/>
            <a:ext cx="75960" cy="45720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4"/>
          <p:cNvSpPr/>
          <p:nvPr/>
        </p:nvSpPr>
        <p:spPr>
          <a:xfrm flipV="1">
            <a:off x="4191120" y="762120"/>
            <a:ext cx="457200" cy="137160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4"/>
          <p:cNvSpPr/>
          <p:nvPr/>
        </p:nvSpPr>
        <p:spPr>
          <a:xfrm flipV="1">
            <a:off x="5334120" y="1676520"/>
            <a:ext cx="228600" cy="45720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4"/>
          <p:cNvSpPr/>
          <p:nvPr/>
        </p:nvSpPr>
        <p:spPr>
          <a:xfrm flipH="1" flipV="1">
            <a:off x="1828800" y="1676160"/>
            <a:ext cx="457200" cy="609480"/>
          </a:xfrm>
          <a:prstGeom prst="line">
            <a:avLst/>
          </a:prstGeom>
          <a:ln w="414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8"/>
          <p:cNvSpPr/>
          <p:nvPr/>
        </p:nvSpPr>
        <p:spPr>
          <a:xfrm>
            <a:off x="1295280" y="2057400"/>
            <a:ext cx="6769080" cy="1155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Творча</a:t>
            </a:r>
            <a:r>
              <a:rPr b="1" i="1" lang="uk-UA" sz="40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i="1" lang="uk-UA" sz="4000" spc="-1" strike="noStrike">
                <a:solidFill>
                  <a:srgbClr val="333399"/>
                </a:solidFill>
                <a:latin typeface="Arial"/>
              </a:rPr>
              <a:t>особисті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AutoShape 11"/>
          <p:cNvSpPr/>
          <p:nvPr/>
        </p:nvSpPr>
        <p:spPr>
          <a:xfrm>
            <a:off x="3429000" y="304920"/>
            <a:ext cx="4800600" cy="1752480"/>
          </a:xfrm>
          <a:prstGeom prst="parallelogram">
            <a:avLst>
              <a:gd name="adj" fmla="val 36093"/>
            </a:avLst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2700000"/>
          </a:gra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Ланцюж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методів плека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обдаровано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дит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2362320" y="2286000"/>
            <a:ext cx="4800600" cy="1752480"/>
          </a:xfrm>
          <a:prstGeom prst="parallelogram">
            <a:avLst>
              <a:gd name="adj" fmla="val 36093"/>
            </a:avLst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2700000"/>
          </a:gra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свобо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вибо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1"/>
          <p:cNvSpPr/>
          <p:nvPr/>
        </p:nvSpPr>
        <p:spPr>
          <a:xfrm>
            <a:off x="1447920" y="2666880"/>
            <a:ext cx="4800600" cy="1752840"/>
          </a:xfrm>
          <a:prstGeom prst="parallelogram">
            <a:avLst>
              <a:gd name="adj" fmla="val 36086"/>
            </a:avLst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2700000"/>
          </a:gra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допомога 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ідтрим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1"/>
          <p:cNvSpPr/>
          <p:nvPr/>
        </p:nvSpPr>
        <p:spPr>
          <a:xfrm>
            <a:off x="457200" y="1828800"/>
            <a:ext cx="4800600" cy="1752480"/>
          </a:xfrm>
          <a:prstGeom prst="parallelogram">
            <a:avLst>
              <a:gd name="adj" fmla="val 36093"/>
            </a:avLst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2700000"/>
          </a:gra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творе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итуації успіх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1"/>
          <p:cNvSpPr/>
          <p:nvPr/>
        </p:nvSpPr>
        <p:spPr>
          <a:xfrm>
            <a:off x="2133720" y="3352680"/>
            <a:ext cx="4800600" cy="1752840"/>
          </a:xfrm>
          <a:prstGeom prst="parallelogram">
            <a:avLst>
              <a:gd name="adj" fmla="val 36086"/>
            </a:avLst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2700000"/>
          </a:gra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заохоче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до самостійно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діяль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"/>
          <p:cNvSpPr/>
          <p:nvPr/>
        </p:nvSpPr>
        <p:spPr>
          <a:xfrm>
            <a:off x="0" y="3276720"/>
            <a:ext cx="4800600" cy="1752480"/>
          </a:xfrm>
          <a:prstGeom prst="parallelogram">
            <a:avLst>
              <a:gd name="adj" fmla="val 36093"/>
            </a:avLst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2700000"/>
          </a:gra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заохоче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до спільно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діяль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1981080" y="4114800"/>
            <a:ext cx="4800600" cy="1752480"/>
          </a:xfrm>
          <a:prstGeom prst="parallelogram">
            <a:avLst>
              <a:gd name="adj" fmla="val 36093"/>
            </a:avLst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2700000"/>
          </a:gra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ова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до самосві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1"/>
          <p:cNvSpPr/>
          <p:nvPr/>
        </p:nvSpPr>
        <p:spPr>
          <a:xfrm>
            <a:off x="380880" y="4572000"/>
            <a:ext cx="4800600" cy="1752480"/>
          </a:xfrm>
          <a:prstGeom prst="parallelogram">
            <a:avLst>
              <a:gd name="adj" fmla="val 36093"/>
            </a:avLst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2700000"/>
          </a:gradFill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півпрац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з вихованц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4" descr="4543991"/>
          <p:cNvPicPr/>
          <p:nvPr/>
        </p:nvPicPr>
        <p:blipFill>
          <a:blip r:embed="rId2"/>
          <a:stretch/>
        </p:blipFill>
        <p:spPr>
          <a:xfrm>
            <a:off x="7010280" y="1447920"/>
            <a:ext cx="236232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1925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9" dur="1925" fill="hold"/>
                                        <p:tgtEl>
                                          <p:spTgt spid="2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1" dur="1925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3" dur="1925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1925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0" dur="1925" fill="hold"/>
                                        <p:tgtEl>
                                          <p:spTgt spid="2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2" dur="1925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4" dur="1925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925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1925" fill="hold"/>
                                        <p:tgtEl>
                                          <p:spTgt spid="2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1925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1925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1925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2" dur="1925" fill="hold"/>
                                        <p:tgtEl>
                                          <p:spTgt spid="2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4" dur="1925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6" dur="1925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1925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3" dur="1925" fill="hold"/>
                                        <p:tgtEl>
                                          <p:spTgt spid="2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5" dur="1925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7" dur="1925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925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4" dur="1925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6" dur="1925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8" dur="1925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925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5" dur="1925" fill="hold"/>
                                        <p:tgtEl>
                                          <p:spTgt spid="2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7" dur="1925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9" dur="1925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925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6" dur="1925" fill="hold"/>
                                        <p:tgtEl>
                                          <p:spTgt spid="2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8" dur="1925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0" dur="1925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1925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7" dur="1925" fill="hold"/>
                                        <p:tgtEl>
                                          <p:spTgt spid="2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9" dur="1925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1" dur="1925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5"/>
          <p:cNvSpPr/>
          <p:nvPr/>
        </p:nvSpPr>
        <p:spPr>
          <a:xfrm>
            <a:off x="228600" y="-5972760"/>
            <a:ext cx="8915400" cy="127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i="1" lang="ru-RU" sz="7200" spc="-1" strike="noStrike">
                <a:solidFill>
                  <a:srgbClr val="333399"/>
                </a:solidFill>
                <a:latin typeface="Arial"/>
              </a:rPr>
              <a:t>Як же      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i="1" lang="ru-RU" sz="7200" spc="-1" strike="noStrike">
                <a:solidFill>
                  <a:srgbClr val="333399"/>
                </a:solidFill>
                <a:latin typeface="Arial"/>
              </a:rPr>
              <a:t>розвивати                        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i="1" lang="ru-RU" sz="7200" spc="-1" strike="noStrike">
                <a:solidFill>
                  <a:srgbClr val="333399"/>
                </a:solidFill>
                <a:latin typeface="Arial"/>
              </a:rPr>
              <a:t>творчі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i="1" lang="ru-RU" sz="7200" spc="-1" strike="noStrike">
                <a:solidFill>
                  <a:srgbClr val="333399"/>
                </a:solidFill>
                <a:latin typeface="Arial"/>
              </a:rPr>
              <a:t>здібності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i="1" lang="ru-RU" sz="7200" spc="-1" strike="noStrike">
                <a:solidFill>
                  <a:srgbClr val="333399"/>
                </a:solidFill>
                <a:latin typeface="Arial"/>
              </a:rPr>
              <a:t>школярів</a:t>
            </a:r>
            <a:r>
              <a:rPr b="1" lang="uk-UA" sz="7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72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i="1" lang="uk-UA" sz="6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7" descr="4543987"/>
          <p:cNvPicPr/>
          <p:nvPr/>
        </p:nvPicPr>
        <p:blipFill>
          <a:blip r:embed="rId2"/>
          <a:stretch/>
        </p:blipFill>
        <p:spPr>
          <a:xfrm>
            <a:off x="304920" y="762120"/>
            <a:ext cx="41907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5"/>
          <p:cNvSpPr/>
          <p:nvPr/>
        </p:nvSpPr>
        <p:spPr>
          <a:xfrm>
            <a:off x="1143000" y="228600"/>
            <a:ext cx="7848720" cy="6324480"/>
          </a:xfrm>
          <a:prstGeom prst="cloudCallout">
            <a:avLst>
              <a:gd name="adj1" fmla="val -34569"/>
              <a:gd name="adj2" fmla="val 27259"/>
            </a:avLst>
          </a:prstGeom>
          <a:noFill/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371600" y="685800"/>
            <a:ext cx="19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219320" y="609480"/>
            <a:ext cx="84056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Підхоплюва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думки учнів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оцінюю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їх одразу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підкреслюючи їх оригінальніс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важливіс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інтерес д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нового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9" descr="4543987"/>
          <p:cNvPicPr/>
          <p:nvPr/>
        </p:nvPicPr>
        <p:blipFill>
          <a:blip r:embed="rId2"/>
          <a:stretch/>
        </p:blipFill>
        <p:spPr>
          <a:xfrm>
            <a:off x="304920" y="762120"/>
            <a:ext cx="41907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AutoShape 5"/>
          <p:cNvSpPr/>
          <p:nvPr/>
        </p:nvSpPr>
        <p:spPr>
          <a:xfrm>
            <a:off x="1143000" y="228600"/>
            <a:ext cx="7848720" cy="6019920"/>
          </a:xfrm>
          <a:prstGeom prst="cloudCallout">
            <a:avLst>
              <a:gd name="adj1" fmla="val -34569"/>
              <a:gd name="adj2" fmla="val 31171"/>
            </a:avLst>
          </a:prstGeom>
          <a:noFill/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371600" y="685800"/>
            <a:ext cx="19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1219320" y="762120"/>
            <a:ext cx="8405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Стимулюват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і підтримуват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ініціатив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учнів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самостійність</a:t>
            </a:r>
            <a:r>
              <a:rPr b="0" lang="uk-UA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9" descr="4543987"/>
          <p:cNvPicPr/>
          <p:nvPr/>
        </p:nvPicPr>
        <p:blipFill>
          <a:blip r:embed="rId2"/>
          <a:stretch/>
        </p:blipFill>
        <p:spPr>
          <a:xfrm>
            <a:off x="304920" y="990720"/>
            <a:ext cx="41907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5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6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7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5"/>
          <p:cNvSpPr/>
          <p:nvPr/>
        </p:nvSpPr>
        <p:spPr>
          <a:xfrm>
            <a:off x="1143000" y="228600"/>
            <a:ext cx="7848720" cy="6019920"/>
          </a:xfrm>
          <a:prstGeom prst="cloudCallout">
            <a:avLst>
              <a:gd name="adj1" fmla="val -34569"/>
              <a:gd name="adj2" fmla="val 31171"/>
            </a:avLst>
          </a:prstGeom>
          <a:noFill/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1371600" y="685800"/>
            <a:ext cx="19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1066680" y="838080"/>
            <a:ext cx="840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Створюват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проблемні ситуації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що вимагають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альтернативи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прогнозування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уяви</a:t>
            </a:r>
            <a:r>
              <a:rPr b="0" lang="uk-UA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4543987"/>
          <p:cNvPicPr/>
          <p:nvPr/>
        </p:nvPicPr>
        <p:blipFill>
          <a:blip r:embed="rId2"/>
          <a:stretch/>
        </p:blipFill>
        <p:spPr>
          <a:xfrm>
            <a:off x="304920" y="762120"/>
            <a:ext cx="41907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4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5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AutoShape 5"/>
          <p:cNvSpPr/>
          <p:nvPr/>
        </p:nvSpPr>
        <p:spPr>
          <a:xfrm>
            <a:off x="1143000" y="228600"/>
            <a:ext cx="7848720" cy="6019920"/>
          </a:xfrm>
          <a:prstGeom prst="cloudCallout">
            <a:avLst>
              <a:gd name="adj1" fmla="val -34569"/>
              <a:gd name="adj2" fmla="val 31171"/>
            </a:avLst>
          </a:prstGeom>
          <a:noFill/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1371600" y="685800"/>
            <a:ext cx="19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752480" y="1143000"/>
            <a:ext cx="840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Розвиват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критичн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сприйнятт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дійсності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9" descr="4543987"/>
          <p:cNvPicPr/>
          <p:nvPr/>
        </p:nvPicPr>
        <p:blipFill>
          <a:blip r:embed="rId2"/>
          <a:stretch/>
        </p:blipFill>
        <p:spPr>
          <a:xfrm>
            <a:off x="304920" y="762120"/>
            <a:ext cx="41907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3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4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5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5"/>
          <p:cNvSpPr/>
          <p:nvPr/>
        </p:nvSpPr>
        <p:spPr>
          <a:xfrm>
            <a:off x="1143000" y="228600"/>
            <a:ext cx="7848720" cy="6019920"/>
          </a:xfrm>
          <a:prstGeom prst="cloudCallout">
            <a:avLst>
              <a:gd name="adj1" fmla="val -34569"/>
              <a:gd name="adj2" fmla="val 31171"/>
            </a:avLst>
          </a:prstGeom>
          <a:noFill/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1371600" y="685800"/>
            <a:ext cx="19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1295280" y="762120"/>
            <a:ext cx="840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Вчит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доводит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розпочат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до логічног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завершення</a:t>
            </a:r>
            <a:r>
              <a:rPr b="0" lang="uk-UA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9" descr="4543987"/>
          <p:cNvPicPr/>
          <p:nvPr/>
        </p:nvPicPr>
        <p:blipFill>
          <a:blip r:embed="rId2"/>
          <a:stretch/>
        </p:blipFill>
        <p:spPr>
          <a:xfrm>
            <a:off x="304920" y="762120"/>
            <a:ext cx="41907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AutoShape 5"/>
          <p:cNvSpPr/>
          <p:nvPr/>
        </p:nvSpPr>
        <p:spPr>
          <a:xfrm>
            <a:off x="1143000" y="228600"/>
            <a:ext cx="7848720" cy="6248520"/>
          </a:xfrm>
          <a:prstGeom prst="cloudCallout">
            <a:avLst>
              <a:gd name="adj1" fmla="val -34569"/>
              <a:gd name="adj2" fmla="val 28199"/>
            </a:avLst>
          </a:prstGeom>
          <a:noFill/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685800"/>
            <a:ext cx="19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1295280" y="685800"/>
            <a:ext cx="8406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Надавати можлив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виконувати більше навчальн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завдань з обов'язков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               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підвищенн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                   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їх складност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(при цьому має бути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витриманий оптимальний обсяг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додаткової робот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щоб уникну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перевантаження)</a:t>
            </a:r>
            <a:r>
              <a:rPr b="1" lang="uk-UA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9" descr="4543987"/>
          <p:cNvPicPr/>
          <p:nvPr/>
        </p:nvPicPr>
        <p:blipFill>
          <a:blip r:embed="rId2"/>
          <a:stretch/>
        </p:blipFill>
        <p:spPr>
          <a:xfrm>
            <a:off x="304920" y="762120"/>
            <a:ext cx="41907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1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2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3" dur="8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5"/>
          <p:cNvSpPr/>
          <p:nvPr/>
        </p:nvSpPr>
        <p:spPr>
          <a:xfrm>
            <a:off x="1143000" y="228600"/>
            <a:ext cx="7848720" cy="6019920"/>
          </a:xfrm>
          <a:prstGeom prst="cloudCallout">
            <a:avLst>
              <a:gd name="adj1" fmla="val -34569"/>
              <a:gd name="adj2" fmla="val 31171"/>
            </a:avLst>
          </a:prstGeom>
          <a:noFill/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71600" y="685800"/>
            <a:ext cx="19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1143000" y="914400"/>
            <a:ext cx="840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Використовува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творчу діяльні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вихованці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при проведенні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різних виді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масових заходів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відкритих занят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свят</a:t>
            </a:r>
            <a:r>
              <a:rPr b="0" lang="uk-UA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0" descr="4543987"/>
          <p:cNvPicPr/>
          <p:nvPr/>
        </p:nvPicPr>
        <p:blipFill>
          <a:blip r:embed="rId2"/>
          <a:stretch/>
        </p:blipFill>
        <p:spPr>
          <a:xfrm>
            <a:off x="304920" y="762120"/>
            <a:ext cx="41907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0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2" dur="8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4543972"/>
          <p:cNvPicPr/>
          <p:nvPr/>
        </p:nvPicPr>
        <p:blipFill>
          <a:blip r:embed="rId2"/>
          <a:stretch/>
        </p:blipFill>
        <p:spPr>
          <a:xfrm>
            <a:off x="228600" y="3352680"/>
            <a:ext cx="3886200" cy="3248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533520" y="609480"/>
            <a:ext cx="815328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i="1" lang="uk-UA" sz="6000" spc="-1" strike="noStrike">
                <a:solidFill>
                  <a:srgbClr val="cc0066"/>
                </a:solidFill>
                <a:latin typeface="Monotype Corsiva"/>
              </a:rPr>
              <a:t>Обдарованість – </a:t>
            </a:r>
            <a:r>
              <a:rPr b="1" i="1" lang="ru-RU" sz="4000" spc="-1" strike="noStrike">
                <a:solidFill>
                  <a:srgbClr val="990033"/>
                </a:solidFill>
                <a:latin typeface="Arial"/>
              </a:rPr>
              <a:t>це с</a:t>
            </a:r>
            <a:r>
              <a:rPr b="1" i="1" lang="uk-UA" sz="4000" spc="-1" strike="noStrike">
                <a:solidFill>
                  <a:srgbClr val="990033"/>
                </a:solidFill>
                <a:latin typeface="Arial"/>
              </a:rPr>
              <a:t>воєрідне поєднання здібностей високого рівня</a:t>
            </a:r>
            <a:r>
              <a:rPr b="1" i="1" lang="ru-RU" sz="4000" spc="-1" strike="noStrike">
                <a:solidFill>
                  <a:srgbClr val="990033"/>
                </a:solidFill>
                <a:latin typeface="Arial"/>
              </a:rPr>
              <a:t>,</a:t>
            </a:r>
            <a:br>
              <a:rPr sz="4000"/>
            </a:br>
            <a:r>
              <a:rPr b="1" i="1" lang="uk-UA" sz="4000" spc="-1" strike="noStrike">
                <a:solidFill>
                  <a:srgbClr val="990033"/>
                </a:solidFill>
                <a:latin typeface="Arial"/>
              </a:rPr>
              <a:t>А також інтерес</a:t>
            </a:r>
            <a:r>
              <a:rPr b="1" i="1" lang="ru-RU" sz="4000" spc="-1" strike="noStrike">
                <a:solidFill>
                  <a:srgbClr val="990033"/>
                </a:solidFill>
                <a:latin typeface="Arial"/>
              </a:rPr>
              <a:t>ів, потреб,</a:t>
            </a:r>
            <a:br>
              <a:rPr sz="4000"/>
            </a:br>
            <a:r>
              <a:rPr b="1" i="1" lang="ru-RU" sz="4000" spc="-1" strike="noStrike">
                <a:solidFill>
                  <a:srgbClr val="990033"/>
                </a:solidFill>
                <a:latin typeface="Arial"/>
              </a:rPr>
              <a:t>я</a:t>
            </a:r>
            <a:r>
              <a:rPr b="1" i="1" lang="uk-UA" sz="4000" spc="-1" strike="noStrike">
                <a:solidFill>
                  <a:srgbClr val="990033"/>
                </a:solidFill>
                <a:latin typeface="Arial"/>
              </a:rPr>
              <a:t>ке дозволяє  виконувати     </a:t>
            </a:r>
            <a:br>
              <a:rPr sz="4000"/>
            </a:br>
            <a:r>
              <a:rPr b="1" i="1" lang="ru-RU" sz="4000" spc="-1" strike="noStrike">
                <a:solidFill>
                  <a:srgbClr val="990033"/>
                </a:solidFill>
                <a:latin typeface="Arial"/>
              </a:rPr>
              <a:t>     </a:t>
            </a:r>
            <a:r>
              <a:rPr b="1" i="1" lang="uk-UA" sz="4000" spc="-1" strike="noStrike">
                <a:solidFill>
                  <a:srgbClr val="990033"/>
                </a:solidFill>
                <a:latin typeface="Arial"/>
              </a:rPr>
              <a:t>певну р</a:t>
            </a:r>
            <a:r>
              <a:rPr b="1" i="1" lang="ru-RU" sz="4000" spc="-1" strike="noStrike">
                <a:solidFill>
                  <a:srgbClr val="990033"/>
                </a:solidFill>
                <a:latin typeface="Arial"/>
              </a:rPr>
              <a:t>оботу на якісно     </a:t>
            </a:r>
            <a:br>
              <a:rPr sz="4000"/>
            </a:br>
            <a:r>
              <a:rPr b="1" i="1" lang="ru-RU" sz="4000" spc="-1" strike="noStrike">
                <a:solidFill>
                  <a:srgbClr val="990033"/>
                </a:solidFill>
                <a:latin typeface="Arial"/>
              </a:rPr>
              <a:t>                    високому рівні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AutoShape 5"/>
          <p:cNvSpPr/>
          <p:nvPr/>
        </p:nvSpPr>
        <p:spPr>
          <a:xfrm>
            <a:off x="1143000" y="228600"/>
            <a:ext cx="7848720" cy="6019920"/>
          </a:xfrm>
          <a:prstGeom prst="cloudCallout">
            <a:avLst>
              <a:gd name="adj1" fmla="val -34569"/>
              <a:gd name="adj2" fmla="val 31171"/>
            </a:avLst>
          </a:prstGeom>
          <a:noFill/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1371600" y="685800"/>
            <a:ext cx="19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914400" y="914400"/>
            <a:ext cx="8405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Під час опрацюванн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програмового матеріал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залуч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до творчої пошукової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роботи з використання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випереджувальни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завдань, створюва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розвиваючі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ситуації</a:t>
            </a:r>
            <a:r>
              <a:rPr b="0" lang="uk-UA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9" descr="4543987"/>
          <p:cNvPicPr/>
          <p:nvPr/>
        </p:nvPicPr>
        <p:blipFill>
          <a:blip r:embed="rId2"/>
          <a:stretch/>
        </p:blipFill>
        <p:spPr>
          <a:xfrm>
            <a:off x="304920" y="762120"/>
            <a:ext cx="41907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9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0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1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AutoShape 5"/>
          <p:cNvSpPr/>
          <p:nvPr/>
        </p:nvSpPr>
        <p:spPr>
          <a:xfrm>
            <a:off x="1143000" y="228600"/>
            <a:ext cx="7848720" cy="6019920"/>
          </a:xfrm>
          <a:prstGeom prst="cloudCallout">
            <a:avLst>
              <a:gd name="adj1" fmla="val -34569"/>
              <a:gd name="adj2" fmla="val 31171"/>
            </a:avLst>
          </a:prstGeom>
          <a:noFill/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1371600" y="685800"/>
            <a:ext cx="19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1295280" y="838080"/>
            <a:ext cx="8406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Активно залуча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до участі в районних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обласних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Всеукраїнськ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конкурсах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змаганнях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виставках</a:t>
            </a: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9" descr="4543987"/>
          <p:cNvPicPr/>
          <p:nvPr/>
        </p:nvPicPr>
        <p:blipFill>
          <a:blip r:embed="rId2"/>
          <a:stretch/>
        </p:blipFill>
        <p:spPr>
          <a:xfrm>
            <a:off x="304920" y="762120"/>
            <a:ext cx="41907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8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9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0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5"/>
          <p:cNvSpPr/>
          <p:nvPr/>
        </p:nvSpPr>
        <p:spPr>
          <a:xfrm>
            <a:off x="1143000" y="228600"/>
            <a:ext cx="7848720" cy="6019920"/>
          </a:xfrm>
          <a:prstGeom prst="cloudCallout">
            <a:avLst>
              <a:gd name="adj1" fmla="val -34569"/>
              <a:gd name="adj2" fmla="val 31171"/>
            </a:avLst>
          </a:prstGeom>
          <a:noFill/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1371600" y="685800"/>
            <a:ext cx="19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1981080" y="1295280"/>
            <a:ext cx="840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Впливат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особистим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прикладом</a:t>
            </a:r>
            <a:r>
              <a:rPr b="0" lang="uk-UA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9" descr="4543987"/>
          <p:cNvPicPr/>
          <p:nvPr/>
        </p:nvPicPr>
        <p:blipFill>
          <a:blip r:embed="rId2"/>
          <a:stretch/>
        </p:blipFill>
        <p:spPr>
          <a:xfrm>
            <a:off x="304920" y="762120"/>
            <a:ext cx="41907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7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8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9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5" name="AutoShape 5"/>
          <p:cNvSpPr/>
          <p:nvPr/>
        </p:nvSpPr>
        <p:spPr>
          <a:xfrm>
            <a:off x="1143000" y="228600"/>
            <a:ext cx="7848720" cy="6019920"/>
          </a:xfrm>
          <a:prstGeom prst="cloudCallout">
            <a:avLst>
              <a:gd name="adj1" fmla="val -34569"/>
              <a:gd name="adj2" fmla="val 31171"/>
            </a:avLst>
          </a:prstGeom>
          <a:noFill/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1371600" y="685800"/>
            <a:ext cx="19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8"/>
          <p:cNvSpPr/>
          <p:nvPr/>
        </p:nvSpPr>
        <p:spPr>
          <a:xfrm>
            <a:off x="1066680" y="838080"/>
            <a:ext cx="840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ам'ятати, що ''своєчас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знайти, виховати й розвину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задатки і здібност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у своїх вихованці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      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воєчасно розпізна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в кожному його покликанн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це завда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тає тепер найголовніш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у системі навчальн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виховного процесу'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                  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(В.О. Сухомлинський)</a:t>
            </a: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9" descr="4543987"/>
          <p:cNvPicPr/>
          <p:nvPr/>
        </p:nvPicPr>
        <p:blipFill>
          <a:blip r:embed="rId2"/>
          <a:stretch/>
        </p:blipFill>
        <p:spPr>
          <a:xfrm>
            <a:off x="304920" y="762120"/>
            <a:ext cx="41907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6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7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8" dur="8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8" descr="podarki-uchitely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9"/>
          <p:cNvSpPr/>
          <p:nvPr/>
        </p:nvSpPr>
        <p:spPr>
          <a:xfrm>
            <a:off x="4267080" y="679320"/>
            <a:ext cx="472464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ОВІДІ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АГОГ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77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6" dur="770" fill="hold"/>
                                        <p:tgtEl>
                                          <p:spTgt spid="3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8" dur="77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0" dur="77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4" descr="podarki-uchitelyam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5"/>
          <p:cNvSpPr/>
          <p:nvPr/>
        </p:nvSpPr>
        <p:spPr>
          <a:xfrm>
            <a:off x="4039560" y="685800"/>
            <a:ext cx="4887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ffff"/>
                </a:solidFill>
                <a:latin typeface="Arial"/>
              </a:rPr>
              <a:t>Поважа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ffff"/>
                </a:solidFill>
                <a:latin typeface="Arial"/>
              </a:rPr>
              <a:t>у дитині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ffff"/>
                </a:solidFill>
                <a:latin typeface="Arial"/>
              </a:rPr>
              <a:t>особистість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8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0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podarki-uchitely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5"/>
          <p:cNvSpPr/>
          <p:nvPr/>
        </p:nvSpPr>
        <p:spPr>
          <a:xfrm>
            <a:off x="4268520" y="228600"/>
            <a:ext cx="4545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ffff"/>
                </a:solidFill>
                <a:latin typeface="Arial"/>
              </a:rPr>
              <a:t>Відчуй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ffff"/>
                </a:solidFill>
                <a:latin typeface="Arial"/>
              </a:rPr>
              <a:t>радіс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ffff"/>
                </a:solidFill>
                <a:latin typeface="Arial"/>
              </a:rPr>
              <a:t>від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ffff"/>
                </a:solidFill>
                <a:latin typeface="Arial"/>
              </a:rPr>
              <a:t>спілкуванн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ffff"/>
                </a:solidFill>
                <a:latin typeface="Arial"/>
              </a:rPr>
              <a:t>з нею</a:t>
            </a: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7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8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9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" descr="podarki-uchitely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5"/>
          <p:cNvSpPr/>
          <p:nvPr/>
        </p:nvSpPr>
        <p:spPr>
          <a:xfrm>
            <a:off x="4709520" y="1041480"/>
            <a:ext cx="383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ffff"/>
                </a:solidFill>
                <a:latin typeface="Arial"/>
              </a:rPr>
              <a:t>Не образ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ffff"/>
                </a:solidFill>
                <a:latin typeface="Arial"/>
              </a:rPr>
              <a:t>дитину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6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7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8" dur="8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3" descr="podarki-uchitely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4"/>
          <p:cNvSpPr/>
          <p:nvPr/>
        </p:nvSpPr>
        <p:spPr>
          <a:xfrm>
            <a:off x="5165640" y="722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3461760" y="304920"/>
            <a:ext cx="5820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Ідучи поруч з учне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дозволь йом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досліджуват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винаходит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створюва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5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6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7" dur="8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4" descr="podarki-uchitely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5"/>
          <p:cNvSpPr/>
          <p:nvPr/>
        </p:nvSpPr>
        <p:spPr>
          <a:xfrm>
            <a:off x="4143240" y="457200"/>
            <a:ext cx="470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ffff"/>
                </a:solidFill>
                <a:latin typeface="Arial"/>
              </a:rPr>
              <a:t>Повір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ffff"/>
                </a:solidFill>
                <a:latin typeface="Arial"/>
              </a:rPr>
              <a:t>кожн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ffff"/>
                </a:solidFill>
                <a:latin typeface="Arial"/>
              </a:rPr>
              <a:t>дитин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ffff"/>
                </a:solidFill>
                <a:latin typeface="Arial"/>
              </a:rPr>
              <a:t>талановита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5" dur="8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6" dur="8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2286000" y="25588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04920" y="144792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33"/>
                </a:solidFill>
                <a:latin typeface="Arial"/>
              </a:rPr>
              <a:t>ЦЕ ТАКА ДИТИНА, ЯКА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i="1" lang="uk-UA" sz="3200" spc="-1" strike="noStrike">
                <a:solidFill>
                  <a:srgbClr val="990033"/>
                </a:solidFill>
                <a:latin typeface="Arial"/>
              </a:rPr>
              <a:t>ВИДІЛЯЄ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i="1" lang="uk-UA" sz="3200" spc="-1" strike="noStrike">
                <a:solidFill>
                  <a:srgbClr val="990033"/>
                </a:solidFill>
                <a:latin typeface="Arial"/>
              </a:rPr>
              <a:t>ЯСКРАВИМИ ОЧЕВИДНИ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33"/>
                </a:solidFill>
                <a:latin typeface="Arial"/>
              </a:rPr>
              <a:t>         </a:t>
            </a:r>
            <a:r>
              <a:rPr b="1" i="1" lang="uk-UA" sz="3200" spc="-1" strike="noStrike">
                <a:solidFill>
                  <a:srgbClr val="990033"/>
                </a:solidFill>
                <a:latin typeface="Arial"/>
              </a:rPr>
              <a:t>ІНОДІ ВИДАТНИМИ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33"/>
                </a:solidFill>
                <a:latin typeface="Arial"/>
              </a:rPr>
              <a:t>         </a:t>
            </a:r>
            <a:r>
              <a:rPr b="1" i="1" lang="uk-UA" sz="3200" spc="-1" strike="noStrike">
                <a:solidFill>
                  <a:srgbClr val="990033"/>
                </a:solidFill>
                <a:latin typeface="Arial"/>
              </a:rPr>
              <a:t>ДОСЯГНЕНН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1" i="1" lang="uk-UA" sz="3200" spc="-1" strike="noStrike">
                <a:solidFill>
                  <a:srgbClr val="990033"/>
                </a:solidFill>
                <a:latin typeface="Arial"/>
              </a:rPr>
              <a:t>(АБО МАЄ ВНУТРІШН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33"/>
                </a:solidFill>
                <a:latin typeface="Arial"/>
              </a:rPr>
              <a:t>             </a:t>
            </a:r>
            <a:r>
              <a:rPr b="1" i="1" lang="uk-UA" sz="3200" spc="-1" strike="noStrike">
                <a:solidFill>
                  <a:srgbClr val="990033"/>
                </a:solidFill>
                <a:latin typeface="Arial"/>
              </a:rPr>
              <a:t>ПЕРЕДУМ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i="1" lang="uk-UA" sz="3200" spc="-1" strike="noStrike">
                <a:solidFill>
                  <a:srgbClr val="990033"/>
                </a:solidFill>
                <a:latin typeface="Arial"/>
              </a:rPr>
              <a:t>ДЛЯ ТАКИХ ДОСЯГНЕН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33"/>
                </a:solidFill>
                <a:latin typeface="Arial"/>
              </a:rPr>
              <a:t>      </a:t>
            </a:r>
            <a:r>
              <a:rPr b="1" i="1" lang="uk-UA" sz="3200" spc="-1" strike="noStrike">
                <a:solidFill>
                  <a:srgbClr val="990033"/>
                </a:solidFill>
                <a:latin typeface="Arial"/>
              </a:rPr>
              <a:t>У ТОМУ ЧИ ІНШОМУ ВИД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33"/>
                </a:solidFill>
                <a:latin typeface="Arial"/>
              </a:rPr>
              <a:t>              </a:t>
            </a:r>
            <a:r>
              <a:rPr b="1" i="1" lang="uk-UA" sz="3200" spc="-1" strike="noStrike">
                <a:solidFill>
                  <a:srgbClr val="990033"/>
                </a:solidFill>
                <a:latin typeface="Arial"/>
              </a:rPr>
              <a:t>ДІЯЛЬНО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7928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cc0099"/>
                </a:solidFill>
                <a:latin typeface="Arial"/>
              </a:rPr>
              <a:t>ОБДАРОВАНА ДИТ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4543991"/>
          <p:cNvPicPr/>
          <p:nvPr/>
        </p:nvPicPr>
        <p:blipFill>
          <a:blip r:embed="rId2"/>
          <a:stretch/>
        </p:blipFill>
        <p:spPr>
          <a:xfrm>
            <a:off x="6643800" y="1905120"/>
            <a:ext cx="25002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Image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7"/>
          <p:cNvSpPr/>
          <p:nvPr/>
        </p:nvSpPr>
        <p:spPr>
          <a:xfrm rot="20974200">
            <a:off x="1067040" y="1905120"/>
            <a:ext cx="489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100" spc="-1" strike="noStrike">
                <a:solidFill>
                  <a:srgbClr val="660066"/>
                </a:solidFill>
                <a:latin typeface="Arial"/>
              </a:rPr>
              <a:t>ПРИТЧА</a:t>
            </a:r>
            <a:r>
              <a:rPr b="1" i="1" lang="ru-RU" sz="5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"/>
          <p:cNvSpPr/>
          <p:nvPr/>
        </p:nvSpPr>
        <p:spPr>
          <a:xfrm rot="20653200">
            <a:off x="3124080" y="2666520"/>
            <a:ext cx="489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660066"/>
                </a:solidFill>
                <a:latin typeface="Arial"/>
              </a:rPr>
              <a:t>ПР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Arial"/>
              </a:rPr>
              <a:t>КОРЯГУ</a:t>
            </a:r>
            <a:r>
              <a:rPr b="1" lang="uk-UA" sz="54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9" descr="0_c0048_96e9bbf1_S"/>
          <p:cNvPicPr/>
          <p:nvPr/>
        </p:nvPicPr>
        <p:blipFill>
          <a:blip r:embed="rId3"/>
          <a:stretch/>
        </p:blipFill>
        <p:spPr>
          <a:xfrm rot="513600">
            <a:off x="1752480" y="2352600"/>
            <a:ext cx="2132280" cy="30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3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5" dur="8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0" dur="8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1" dur="8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2" dur="8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5" dur="8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6" dur="8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7" dur="8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AutoShape 5"/>
          <p:cNvSpPr/>
          <p:nvPr/>
        </p:nvSpPr>
        <p:spPr>
          <a:xfrm>
            <a:off x="228600" y="0"/>
            <a:ext cx="6781680" cy="6477120"/>
          </a:xfrm>
          <a:prstGeom prst="cloudCallout">
            <a:avLst>
              <a:gd name="adj1" fmla="val 43259"/>
              <a:gd name="adj2" fmla="val 51078"/>
            </a:avLst>
          </a:prstGeom>
          <a:noFill/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6" descr="5671dfba48bb0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8"/>
          <p:cNvSpPr/>
          <p:nvPr/>
        </p:nvSpPr>
        <p:spPr>
          <a:xfrm>
            <a:off x="457200" y="762120"/>
            <a:ext cx="6219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На одному дров’ян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складі лежали товсті і тонкі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короткі і довгі колод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Всі вони давно познайомили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одна з одною, багато ч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переговорили і тепер тільки чекали вирішення своєї майбутньої дол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Одні з них повинні були відправити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на меблеву фабрику, щоб з н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виготовили гарні стільці; 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нші – розміститися впродов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доріг телеграфними стовб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а третіх м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продати на др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4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5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6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AutoShape 9"/>
          <p:cNvSpPr/>
          <p:nvPr/>
        </p:nvSpPr>
        <p:spPr>
          <a:xfrm>
            <a:off x="228600" y="0"/>
            <a:ext cx="6781680" cy="6477120"/>
          </a:xfrm>
          <a:prstGeom prst="cloudCallout">
            <a:avLst>
              <a:gd name="adj1" fmla="val 43259"/>
              <a:gd name="adj2" fmla="val 51078"/>
            </a:avLst>
          </a:prstGeom>
          <a:noFill/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0" descr="5671dfba48bb0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11"/>
          <p:cNvSpPr/>
          <p:nvPr/>
        </p:nvSpPr>
        <p:spPr>
          <a:xfrm>
            <a:off x="2879640" y="239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2"/>
          <p:cNvSpPr/>
          <p:nvPr/>
        </p:nvSpPr>
        <p:spPr>
          <a:xfrm>
            <a:off x="0" y="914400"/>
            <a:ext cx="7502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Всі колоди трох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хвилювали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Звісно, серед них були й такі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що напевне знали, ким стану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Наприклад, міцні довгі колод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були впевнені, що будуть тіль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телеграфними стовп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Але інші й не здогадували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про свою подальшу до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3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4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5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AutoShape 5"/>
          <p:cNvSpPr/>
          <p:nvPr/>
        </p:nvSpPr>
        <p:spPr>
          <a:xfrm>
            <a:off x="228600" y="0"/>
            <a:ext cx="6781680" cy="6477120"/>
          </a:xfrm>
          <a:prstGeom prst="cloudCallout">
            <a:avLst>
              <a:gd name="adj1" fmla="val 43259"/>
              <a:gd name="adj2" fmla="val 51078"/>
            </a:avLst>
          </a:prstGeom>
          <a:noFill/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6" descr="5671dfba48bb0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685800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7"/>
          <p:cNvSpPr/>
          <p:nvPr/>
        </p:nvSpPr>
        <p:spPr>
          <a:xfrm>
            <a:off x="760320" y="914400"/>
            <a:ext cx="5926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Серед них була одна Коря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Ще тільки потрапивши на склад, в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поміти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що дуже відрізняється від інших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рівних і гладеньких колод. Коряга бу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з вигин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дірочками і сучками. І коли її сусід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говорили, які хороші столи, стільці і шаф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із них будуть, Коряга мовча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порівнюючи себе з ни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Але інколи вона забувала про т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де знаходиться, починала мрія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і уявляти себе прекрасн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витвором мистец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2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3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4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AutoShape 5"/>
          <p:cNvSpPr/>
          <p:nvPr/>
        </p:nvSpPr>
        <p:spPr>
          <a:xfrm>
            <a:off x="228600" y="0"/>
            <a:ext cx="6781680" cy="6477120"/>
          </a:xfrm>
          <a:prstGeom prst="cloudCallout">
            <a:avLst>
              <a:gd name="adj1" fmla="val 43259"/>
              <a:gd name="adj2" fmla="val 51078"/>
            </a:avLst>
          </a:prstGeom>
          <a:noFill/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6" descr="5671dfba48bb0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7"/>
          <p:cNvSpPr/>
          <p:nvPr/>
        </p:nvSpPr>
        <p:spPr>
          <a:xfrm>
            <a:off x="664920" y="685800"/>
            <a:ext cx="6073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Якось коряга розпові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про свою мрію сусіднім колод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і почула у відповід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Ти живеш у світі фантазі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подруго, будь простішо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Подивись на себ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ну який ти витвір мистецтв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Добре, якщо із тебе зробл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хоч який-небудь стілець чи ослінчи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І запам’ятай: наша справа бу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меблями, якщо вже 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вдалося ста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телеграфн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стовп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1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2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3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5"/>
          <p:cNvSpPr/>
          <p:nvPr/>
        </p:nvSpPr>
        <p:spPr>
          <a:xfrm>
            <a:off x="228600" y="0"/>
            <a:ext cx="6781680" cy="6477120"/>
          </a:xfrm>
          <a:prstGeom prst="cloudCallout">
            <a:avLst>
              <a:gd name="adj1" fmla="val 43259"/>
              <a:gd name="adj2" fmla="val 51078"/>
            </a:avLst>
          </a:prstGeom>
          <a:noFill/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6" descr="5671dfba48bb0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685800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7"/>
          <p:cNvSpPr/>
          <p:nvPr/>
        </p:nvSpPr>
        <p:spPr>
          <a:xfrm>
            <a:off x="383760" y="1066680"/>
            <a:ext cx="6706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333399"/>
                </a:solidFill>
                <a:latin typeface="Arial"/>
              </a:rPr>
              <a:t>Після таких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333399"/>
                </a:solidFill>
                <a:latin typeface="Arial"/>
              </a:rPr>
              <a:t>слів Коряг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333399"/>
                </a:solidFill>
                <a:latin typeface="Arial"/>
              </a:rPr>
              <a:t>замкнулася в собі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333399"/>
                </a:solidFill>
                <a:latin typeface="Arial"/>
              </a:rPr>
              <a:t>В довгому чеканні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333399"/>
                </a:solidFill>
                <a:latin typeface="Arial"/>
              </a:rPr>
              <a:t>минали дні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0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1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2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AutoShape 5"/>
          <p:cNvSpPr/>
          <p:nvPr/>
        </p:nvSpPr>
        <p:spPr>
          <a:xfrm>
            <a:off x="228600" y="0"/>
            <a:ext cx="6781680" cy="6477120"/>
          </a:xfrm>
          <a:prstGeom prst="cloudCallout">
            <a:avLst>
              <a:gd name="adj1" fmla="val 43259"/>
              <a:gd name="adj2" fmla="val 51078"/>
            </a:avLst>
          </a:prstGeom>
          <a:noFill/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6" descr="5671dfba48bb0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685800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7"/>
          <p:cNvSpPr/>
          <p:nvPr/>
        </p:nvSpPr>
        <p:spPr>
          <a:xfrm>
            <a:off x="0" y="609480"/>
            <a:ext cx="71042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i="1" lang="uk-UA" sz="2200" spc="-1" strike="noStrike">
                <a:solidFill>
                  <a:srgbClr val="333399"/>
                </a:solidFill>
                <a:latin typeface="Arial"/>
              </a:rPr>
              <a:t>Аж ось на склад приїха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i="1" lang="uk-UA" sz="2200" spc="-1" strike="noStrike">
                <a:solidFill>
                  <a:srgbClr val="333399"/>
                </a:solidFill>
                <a:latin typeface="Arial"/>
              </a:rPr>
              <a:t>велика вантажівк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333399"/>
                </a:solidFill>
                <a:latin typeface="Arial"/>
              </a:rPr>
              <a:t>Робочі повантажил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i="1" lang="uk-UA" sz="2200" spc="-1" strike="noStrike">
                <a:solidFill>
                  <a:srgbClr val="333399"/>
                </a:solidFill>
                <a:latin typeface="Arial"/>
              </a:rPr>
              <a:t>колоди і повезли їх на меблеву фабри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333399"/>
                </a:solidFill>
                <a:latin typeface="Arial"/>
              </a:rPr>
              <a:t>Коряга опинилася зверху штабел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333399"/>
                </a:solidFill>
                <a:latin typeface="Arial"/>
              </a:rPr>
              <a:t>Вона з цікавістю дивилася в різні бок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333399"/>
                </a:solidFill>
                <a:latin typeface="Arial"/>
              </a:rPr>
              <a:t>милувалася білими хмарами і сонечком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333399"/>
                </a:solidFill>
                <a:latin typeface="Arial"/>
              </a:rPr>
              <a:t>ніжними квітами і могутніми дерева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333399"/>
                </a:solidFill>
                <a:latin typeface="Arial"/>
              </a:rPr>
              <a:t>Коли машина проїжджала через ліс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333399"/>
                </a:solidFill>
                <a:latin typeface="Arial"/>
              </a:rPr>
              <a:t>Коряга раптом зрозуміла, що не хоч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333399"/>
                </a:solidFill>
                <a:latin typeface="Arial"/>
              </a:rPr>
              <a:t>бути меблями. Вона не хоч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333399"/>
                </a:solidFill>
                <a:latin typeface="Arial"/>
              </a:rPr>
              <a:t>щоб її розпилювали, стукал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333399"/>
                </a:solidFill>
                <a:latin typeface="Arial"/>
              </a:rPr>
              <a:t>і забивали в неї цвях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9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0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1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AutoShape 5"/>
          <p:cNvSpPr/>
          <p:nvPr/>
        </p:nvSpPr>
        <p:spPr>
          <a:xfrm>
            <a:off x="228600" y="0"/>
            <a:ext cx="6781680" cy="6477120"/>
          </a:xfrm>
          <a:prstGeom prst="cloudCallout">
            <a:avLst>
              <a:gd name="adj1" fmla="val 43259"/>
              <a:gd name="adj2" fmla="val 51078"/>
            </a:avLst>
          </a:prstGeom>
          <a:noFill/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6" descr="5671dfba48bb0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7"/>
          <p:cNvSpPr/>
          <p:nvPr/>
        </p:nvSpPr>
        <p:spPr>
          <a:xfrm>
            <a:off x="851760" y="914400"/>
            <a:ext cx="5845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Я не хочу бути меблями,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сказала Коряга своїм сусід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– </a:t>
            </a: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Прощавай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Вона вистрибнула з кузова маши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і опинилася на невеликій галявин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Наподив, втікачка побач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там кількох схожих на себе коря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Звісно, інших розмірів і фор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але вони теж були корягам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Вона з радістю познайомила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з ними, а незаба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і потоваришув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8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9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0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AutoShape 5"/>
          <p:cNvSpPr/>
          <p:nvPr/>
        </p:nvSpPr>
        <p:spPr>
          <a:xfrm>
            <a:off x="228600" y="0"/>
            <a:ext cx="6781680" cy="6477120"/>
          </a:xfrm>
          <a:prstGeom prst="cloudCallout">
            <a:avLst>
              <a:gd name="adj1" fmla="val 43259"/>
              <a:gd name="adj2" fmla="val 51078"/>
            </a:avLst>
          </a:prstGeom>
          <a:noFill/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6" descr="5671dfba48bb0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7"/>
          <p:cNvSpPr/>
          <p:nvPr/>
        </p:nvSpPr>
        <p:spPr>
          <a:xfrm>
            <a:off x="657360" y="1219320"/>
            <a:ext cx="6035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Непомітно минуло лі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настала осі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У ліс стали приходити грибн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Один з них зайшов на галяви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і побачив Коря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Яка красуня! – скрикнув ві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Справжнє див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Я візьму її з собою в майстерн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почищу, покрию лаком, і вона пока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всю свою кра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7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8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9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AutoShape 5"/>
          <p:cNvSpPr/>
          <p:nvPr/>
        </p:nvSpPr>
        <p:spPr>
          <a:xfrm>
            <a:off x="228600" y="0"/>
            <a:ext cx="6781680" cy="6477120"/>
          </a:xfrm>
          <a:prstGeom prst="cloudCallout">
            <a:avLst>
              <a:gd name="adj1" fmla="val 43259"/>
              <a:gd name="adj2" fmla="val 51078"/>
            </a:avLst>
          </a:prstGeom>
          <a:noFill/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6" descr="5671dfba48bb0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685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7"/>
          <p:cNvSpPr/>
          <p:nvPr/>
        </p:nvSpPr>
        <p:spPr>
          <a:xfrm>
            <a:off x="615960" y="990720"/>
            <a:ext cx="608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У майстерні грибни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який, як з’ясувало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був художник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довго і терпляче, намагаючи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не зашкодити природній формі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надавав Корязі нової фор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Коли робота була закінче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майстер приніс свій витві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на вистав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6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7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8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228600" y="-5102640"/>
            <a:ext cx="8915400" cy="116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Говорячи  про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обдаровану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дитину, яку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саме дитину ми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маємо на увазі?</a:t>
            </a:r>
            <a:r>
              <a:rPr b="1" i="1" lang="uk-UA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regart_120"/>
          <p:cNvPicPr/>
          <p:nvPr/>
        </p:nvPicPr>
        <p:blipFill>
          <a:blip r:embed="rId2"/>
          <a:stretch/>
        </p:blipFill>
        <p:spPr>
          <a:xfrm>
            <a:off x="304920" y="380880"/>
            <a:ext cx="35049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5"/>
          <p:cNvSpPr/>
          <p:nvPr/>
        </p:nvSpPr>
        <p:spPr>
          <a:xfrm>
            <a:off x="228600" y="0"/>
            <a:ext cx="6781680" cy="6477120"/>
          </a:xfrm>
          <a:prstGeom prst="cloudCallout">
            <a:avLst>
              <a:gd name="adj1" fmla="val 43259"/>
              <a:gd name="adj2" fmla="val 51078"/>
            </a:avLst>
          </a:prstGeom>
          <a:noFill/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6" descr="5671dfba48bb0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685800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7"/>
          <p:cNvSpPr/>
          <p:nvPr/>
        </p:nvSpPr>
        <p:spPr>
          <a:xfrm>
            <a:off x="257508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8"/>
          <p:cNvSpPr/>
          <p:nvPr/>
        </p:nvSpPr>
        <p:spPr>
          <a:xfrm>
            <a:off x="3260880" y="2703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2270160" y="2550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614880" y="914400"/>
            <a:ext cx="6442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Вони говор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про красу і легкість її форм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Чим довше дивилися на фігур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тим більше відчували світл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що йшло від не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Це чудо! – говорили поціновувач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мистецтва і радісні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одухотворені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сповнені високих прагн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Arial"/>
              </a:rPr>
              <a:t>ішли дод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5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6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7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AutoShape 5"/>
          <p:cNvSpPr/>
          <p:nvPr/>
        </p:nvSpPr>
        <p:spPr>
          <a:xfrm>
            <a:off x="228600" y="0"/>
            <a:ext cx="6781680" cy="6477120"/>
          </a:xfrm>
          <a:prstGeom prst="cloudCallout">
            <a:avLst>
              <a:gd name="adj1" fmla="val 43259"/>
              <a:gd name="adj2" fmla="val 51078"/>
            </a:avLst>
          </a:prstGeom>
          <a:noFill/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6" descr="5671dfba48bb0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7"/>
          <p:cNvSpPr/>
          <p:nvPr/>
        </p:nvSpPr>
        <p:spPr>
          <a:xfrm>
            <a:off x="456840" y="838080"/>
            <a:ext cx="6755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Arial"/>
              </a:rPr>
              <a:t>А Коряг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Arial"/>
              </a:rPr>
              <a:t>яку тепер назива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Arial"/>
              </a:rPr>
              <a:t>Прекрасною незнайомко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Arial"/>
              </a:rPr>
              <a:t>щасливо посміхала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Arial"/>
              </a:rPr>
              <a:t>Здійснилася її заповітна мрі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Arial"/>
              </a:rPr>
              <a:t>вона ст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Arial"/>
              </a:rPr>
              <a:t>витвором мистец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Arial"/>
              </a:rPr>
              <a:t>і дарувала люд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Arial"/>
              </a:rPr>
              <a:t>радість і кра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4" dur="8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5" dur="8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6" dur="8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7"/>
          <p:cNvSpPr/>
          <p:nvPr/>
        </p:nvSpPr>
        <p:spPr>
          <a:xfrm>
            <a:off x="2422440" y="1712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8" descr="140525154345"/>
          <p:cNvPicPr/>
          <p:nvPr/>
        </p:nvPicPr>
        <p:blipFill>
          <a:blip r:embed="rId2"/>
          <a:stretch/>
        </p:blipFill>
        <p:spPr>
          <a:xfrm>
            <a:off x="3962520" y="990720"/>
            <a:ext cx="4267080" cy="38862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115599989_47__"/>
          <p:cNvPicPr/>
          <p:nvPr/>
        </p:nvPicPr>
        <p:blipFill>
          <a:blip r:embed="rId3"/>
          <a:stretch/>
        </p:blipFill>
        <p:spPr>
          <a:xfrm>
            <a:off x="457200" y="685800"/>
            <a:ext cx="396252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7"/>
          <p:cNvSpPr/>
          <p:nvPr/>
        </p:nvSpPr>
        <p:spPr>
          <a:xfrm>
            <a:off x="2422440" y="1712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8"/>
          <p:cNvSpPr/>
          <p:nvPr/>
        </p:nvSpPr>
        <p:spPr>
          <a:xfrm>
            <a:off x="2822400" y="535680"/>
            <a:ext cx="6644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uk-UA" sz="3600" spc="-1" strike="noStrike">
                <a:solidFill>
                  <a:srgbClr val="cc0000"/>
                </a:solidFill>
                <a:latin typeface="Arial"/>
              </a:rPr>
              <a:t>Кожен вчите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cc0000"/>
                </a:solidFill>
                <a:latin typeface="Arial"/>
              </a:rPr>
              <a:t>має бути тим чарівником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cc0000"/>
                </a:solidFill>
                <a:latin typeface="Arial"/>
              </a:rPr>
              <a:t>який  перетворює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cc0000"/>
                </a:solidFill>
                <a:latin typeface="Arial"/>
              </a:rPr>
              <a:t>природний дар дитини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cc0000"/>
                </a:solidFill>
                <a:latin typeface="Arial"/>
              </a:rPr>
              <a:t>на талант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cc0000"/>
                </a:solidFill>
                <a:latin typeface="Arial"/>
              </a:rPr>
              <a:t>так само як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cc0000"/>
                </a:solidFill>
                <a:latin typeface="Arial"/>
              </a:rPr>
              <a:t>кваліфікований ювелі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cc0000"/>
                </a:solidFill>
                <a:latin typeface="Arial"/>
              </a:rPr>
              <a:t>перетворює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cc0000"/>
                </a:solidFill>
                <a:latin typeface="Arial"/>
              </a:rPr>
              <a:t>природний алма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cc0000"/>
                </a:solidFill>
                <a:latin typeface="Arial"/>
              </a:rPr>
              <a:t>на розкішний діамант</a:t>
            </a:r>
            <a:r>
              <a:rPr b="1" i="1" lang="uk-UA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9" descr="115599989_47__"/>
          <p:cNvPicPr/>
          <p:nvPr/>
        </p:nvPicPr>
        <p:blipFill>
          <a:blip r:embed="rId2"/>
          <a:stretch/>
        </p:blipFill>
        <p:spPr>
          <a:xfrm>
            <a:off x="457200" y="685800"/>
            <a:ext cx="396252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3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4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5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7"/>
          <p:cNvSpPr/>
          <p:nvPr/>
        </p:nvSpPr>
        <p:spPr>
          <a:xfrm>
            <a:off x="1143000" y="228600"/>
            <a:ext cx="7848720" cy="6019920"/>
          </a:xfrm>
          <a:prstGeom prst="cloudCallout">
            <a:avLst>
              <a:gd name="adj1" fmla="val -34569"/>
              <a:gd name="adj2" fmla="val 31171"/>
            </a:avLst>
          </a:prstGeom>
          <a:noFill/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regart_120"/>
          <p:cNvPicPr/>
          <p:nvPr/>
        </p:nvPicPr>
        <p:blipFill>
          <a:blip r:embed="rId2"/>
          <a:stretch/>
        </p:blipFill>
        <p:spPr>
          <a:xfrm>
            <a:off x="304920" y="1828800"/>
            <a:ext cx="2438280" cy="4800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0"/>
          <p:cNvSpPr/>
          <p:nvPr/>
        </p:nvSpPr>
        <p:spPr>
          <a:xfrm>
            <a:off x="1371600" y="685800"/>
            <a:ext cx="19799280" cy="55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Обдаровані  діти,  як  правило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                      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дуже  активні  й  завжди чимось зайнят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Вони прагнуть працювати більше за інших або займаю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ебе самі, причому часто справами, які не стосую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безпосередньо  уроку,  частково  це  стосується  і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редмету,  до якого у них є здібності. Іноді здає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що активності цих дітей не вистачає на вс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редмети. Їм необхідна особлива  увага, щоб розвиват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хист  у  заданому  напрямку,  не  примушуючи  ї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еренапружуватись  і  не  дозволяючи  почуттю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незадоволеності перешкодити їх прагненн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                    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займатися тим, до ч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вони схильні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5"/>
          <p:cNvSpPr/>
          <p:nvPr/>
        </p:nvSpPr>
        <p:spPr>
          <a:xfrm>
            <a:off x="1143000" y="228600"/>
            <a:ext cx="7848720" cy="6019920"/>
          </a:xfrm>
          <a:prstGeom prst="cloudCallout">
            <a:avLst>
              <a:gd name="adj1" fmla="val -34569"/>
              <a:gd name="adj2" fmla="val 31171"/>
            </a:avLst>
          </a:prstGeom>
          <a:noFill/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regart_120"/>
          <p:cNvPicPr/>
          <p:nvPr/>
        </p:nvPicPr>
        <p:blipFill>
          <a:blip r:embed="rId2"/>
          <a:stretch/>
        </p:blipFill>
        <p:spPr>
          <a:xfrm>
            <a:off x="304920" y="1828800"/>
            <a:ext cx="2438280" cy="48006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7"/>
          <p:cNvSpPr/>
          <p:nvPr/>
        </p:nvSpPr>
        <p:spPr>
          <a:xfrm>
            <a:off x="1371600" y="685800"/>
            <a:ext cx="19799280" cy="43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ни  наполегливо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гнуть  розв'язуват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ставлені  перед ними завдан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им вони можуть дратува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чителя, тому що  хочуть  знат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ільш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итині  необхідно  надат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даткову літерату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1143000" y="228600"/>
            <a:ext cx="7848720" cy="6019920"/>
          </a:xfrm>
          <a:prstGeom prst="cloudCallout">
            <a:avLst>
              <a:gd name="adj1" fmla="val -34569"/>
              <a:gd name="adj2" fmla="val 31171"/>
            </a:avLst>
          </a:prstGeom>
          <a:noFill/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regart_120"/>
          <p:cNvPicPr/>
          <p:nvPr/>
        </p:nvPicPr>
        <p:blipFill>
          <a:blip r:embed="rId2"/>
          <a:stretch/>
        </p:blipFill>
        <p:spPr>
          <a:xfrm>
            <a:off x="304920" y="1828800"/>
            <a:ext cx="2438280" cy="4800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1371600" y="685800"/>
            <a:ext cx="19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738360" y="855720"/>
            <a:ext cx="8405640" cy="62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Завдяки численним умінн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вони здатні краще за ін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займатися  самостійною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діяльністю.  Особливо  часто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це виражається  в  самостійній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роботі  з  літературою,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проведенні експеримент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з фізики, хімі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2T06:24:48Z</dcterms:created>
  <dc:creator>User</dc:creator>
  <dc:description/>
  <dc:language>en-US</dc:language>
  <cp:lastModifiedBy>User</cp:lastModifiedBy>
  <dcterms:modified xsi:type="dcterms:W3CDTF">2017-01-21T13:56:36Z</dcterms:modified>
  <cp:revision>1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