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DE94-F891-4A54-8CA2-2B427DBAF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276C-A6E2-4CFF-9FB5-33AC731F9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C9D-6F2D-457B-8B34-508D5773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422-359A-4988-AE8A-3284F963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3D5-5DC2-444F-A610-15A687F0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559-8641-453F-B1A2-65147E30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471-037E-41B4-A979-5283305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7F6-FE7A-420F-94E3-AEC8F3C5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AA6-E57D-4F54-9E55-2028BEBB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62E-8217-4A17-A350-154B8045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FD9-DA97-44D6-A772-C3BAEEC1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C20-0611-4592-A9E7-4F408E9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2D2-7653-4F6B-BFDF-B8F5C335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438-6F1C-40D8-B119-BAEBC84B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88C2-5485-4920-B49A-8A9F9B944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6880" y="4365720"/>
            <a:ext cx="896436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«Теорія без практики мертва і безплідна, практика без теорії неможлива 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johnlarsenpodcast.com/wp-content/uploads/2015/07/Episode-12.png"/>
          <p:cNvPicPr/>
          <p:nvPr/>
        </p:nvPicPr>
        <p:blipFill>
          <a:blip r:embed="rId1"/>
          <a:stretch/>
        </p:blipFill>
        <p:spPr>
          <a:xfrm>
            <a:off x="3206880" y="262080"/>
            <a:ext cx="28764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чну поверхню конуса, як і бічну поверх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иліндра, можна розгорнути на площ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різавши її по твірн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озгорткою бічної поверх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онуса є круговий сектор,радіус я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рівнює твірній конуса, а довжина д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сектора – довжині кола основи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лощею бічної поверхні конуса буде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вважати площу її розгор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115092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&amp;kcy;&amp;ocy;&amp;ncy;&amp;ucy;&amp;scy; - &amp;rcy;&amp;acy;&amp;zcy;&amp;vcy;&amp;iecy;&amp;rcy;&amp;tcy;&amp;kcy;&amp;acy;"/>
          <p:cNvPicPr/>
          <p:nvPr/>
        </p:nvPicPr>
        <p:blipFill>
          <a:blip r:embed="rId1"/>
          <a:srcRect l="10236" t="0" r="40520" b="30443"/>
          <a:stretch/>
        </p:blipFill>
        <p:spPr>
          <a:xfrm>
            <a:off x="3780000" y="3429000"/>
            <a:ext cx="5214600" cy="334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images.myshared.ru/53661/slide_19.jpg"/>
          <p:cNvPicPr/>
          <p:nvPr/>
        </p:nvPicPr>
        <p:blipFill>
          <a:blip r:embed="rId2"/>
          <a:srcRect l="0" t="11901" r="38966" b="1583"/>
          <a:stretch/>
        </p:blipFill>
        <p:spPr>
          <a:xfrm>
            <a:off x="179280" y="115920"/>
            <a:ext cx="43768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>
            <a:off x="339840" y="1700280"/>
            <a:ext cx="1079280" cy="108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разимо площу бічної поверхні конус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Arial"/>
              </a:rPr>
              <a:t>бі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ерез його твірн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і радіус основ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лоща бічної поверхні конус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дорівню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обутку половини довжини кола основи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твірну: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Arial"/>
              </a:rPr>
              <a:t>біч.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лоща основи конус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дорівню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Arial"/>
              </a:rPr>
              <a:t>осн.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i="1" lang="uk-UA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лощею повної поверхні кон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ивається сума площ бічної поверхні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и. Для обчислення площі пов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ерхні кону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uk-UA" sz="32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ержуємо форму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uk-UA" sz="3600" spc="-1" strike="noStrike" baseline="-25000">
                <a:solidFill>
                  <a:srgbClr val="000000"/>
                </a:solidFill>
                <a:latin typeface="Arial"/>
              </a:rPr>
              <a:t>к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uk-UA" sz="3600" spc="-1" strike="noStrike" baseline="-25000">
                <a:solidFill>
                  <a:srgbClr val="000000"/>
                </a:solidFill>
                <a:latin typeface="Arial"/>
              </a:rPr>
              <a:t>біч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uk-UA" sz="3600" spc="-1" strike="noStrike" baseline="-25000">
                <a:solidFill>
                  <a:srgbClr val="000000"/>
                </a:solidFill>
                <a:latin typeface="Arial"/>
              </a:rPr>
              <a:t>ос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uk-UA" sz="3600" spc="-1" strike="noStrike" baseline="-25000">
                <a:solidFill>
                  <a:srgbClr val="000000"/>
                </a:solidFill>
                <a:latin typeface="Arial"/>
              </a:rPr>
              <a:t>к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i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1" i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 π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i="1" lang="uk-UA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 №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3849840"/>
          <a:ext cx="8229600" cy="25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5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2"/>
          <p:cNvSpPr/>
          <p:nvPr/>
        </p:nvSpPr>
        <p:spPr>
          <a:xfrm>
            <a:off x="4938840" y="3528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http://ustk-pb.ru/images/05-shiti/03-poj-inventar/Vedro.jpg"/>
          <p:cNvPicPr/>
          <p:nvPr/>
        </p:nvPicPr>
        <p:blipFill>
          <a:blip r:embed="rId1"/>
          <a:srcRect l="12927" t="9269" r="13401" b="8459"/>
          <a:stretch/>
        </p:blipFill>
        <p:spPr>
          <a:xfrm>
            <a:off x="5219640" y="166536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C:\Users\Q8\AppData\Local\Temp\FineReader12.00\media\image10.jpeg"/>
          <p:cNvPicPr/>
          <p:nvPr/>
        </p:nvPicPr>
        <p:blipFill>
          <a:blip r:embed="rId2">
            <a:grayscl/>
          </a:blip>
          <a:srcRect l="15906" t="0" r="0" b="11525"/>
          <a:stretch/>
        </p:blipFill>
        <p:spPr>
          <a:xfrm>
            <a:off x="1187280" y="1521000"/>
            <a:ext cx="2953080" cy="424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2484360" y="10652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 №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80000" y="1844280"/>
            <a:ext cx="49068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та морозива рі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рівнює 12 см, раді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и – 3 см. Знайді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чну поверхню па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роз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s://img2.zakaz.ua/upload.version_1.0.96559ec1cddc38e62923cdd95705a418.1350x1350.jpeg"/>
          <p:cNvPicPr/>
          <p:nvPr/>
        </p:nvPicPr>
        <p:blipFill>
          <a:blip r:embed="rId1"/>
          <a:srcRect l="17232" t="3105" r="8119" b="6459"/>
          <a:stretch/>
        </p:blipFill>
        <p:spPr>
          <a:xfrm>
            <a:off x="324000" y="1989000"/>
            <a:ext cx="30304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219640" y="1819440"/>
                <a:ext cx="3282840" cy="20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і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AutoShape 6"/>
          <p:cNvSpPr/>
          <p:nvPr/>
        </p:nvSpPr>
        <p:spPr>
          <a:xfrm>
            <a:off x="611280" y="620640"/>
            <a:ext cx="4240080" cy="50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8"/>
          <p:cNvSpPr/>
          <p:nvPr/>
        </p:nvSpPr>
        <p:spPr>
          <a:xfrm>
            <a:off x="1154160" y="3984480"/>
            <a:ext cx="3155760" cy="2181240"/>
          </a:xfrm>
          <a:custGeom>
            <a:avLst/>
            <a:gdLst/>
            <a:ahLst/>
            <a:rect l="l" t="t" r="r" b="b"/>
            <a:pathLst>
              <a:path fill="none" w="31196" h="21600">
                <a:moveTo>
                  <a:pt x="0" y="6662"/>
                </a:moveTo>
                <a:cubicBezTo>
                  <a:pt x="4074" y="2406"/>
                  <a:pt x="9710" y="-1"/>
                  <a:pt x="15602" y="0"/>
                </a:cubicBezTo>
                <a:cubicBezTo>
                  <a:pt x="21489" y="0"/>
                  <a:pt x="27122" y="2403"/>
                  <a:pt x="31196" y="6653"/>
                </a:cubicBezTo>
              </a:path>
              <a:path stroke="0" w="31196" h="21600">
                <a:moveTo>
                  <a:pt x="0" y="6662"/>
                </a:moveTo>
                <a:cubicBezTo>
                  <a:pt x="4074" y="2406"/>
                  <a:pt x="9710" y="-1"/>
                  <a:pt x="15602" y="0"/>
                </a:cubicBezTo>
                <a:cubicBezTo>
                  <a:pt x="21489" y="0"/>
                  <a:pt x="27122" y="2403"/>
                  <a:pt x="31196" y="6653"/>
                </a:cubicBezTo>
                <a:lnTo>
                  <a:pt x="15602" y="21600"/>
                </a:lnTo>
                <a:lnTo>
                  <a:pt x="0" y="6662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9"/>
          <p:cNvSpPr/>
          <p:nvPr/>
        </p:nvSpPr>
        <p:spPr>
          <a:xfrm>
            <a:off x="1155600" y="3409920"/>
            <a:ext cx="3152880" cy="2008080"/>
          </a:xfrm>
          <a:custGeom>
            <a:avLst/>
            <a:gdLst/>
            <a:ahLst/>
            <a:rect l="l" t="t" r="r" b="b"/>
            <a:pathLst>
              <a:path fill="none" w="33849" h="21600">
                <a:moveTo>
                  <a:pt x="-31687" y="13425"/>
                </a:moveTo>
                <a:cubicBezTo>
                  <a:pt x="29751" y="18589"/>
                  <a:pt x="23520" y="21599"/>
                  <a:pt x="16928" y="21600"/>
                </a:cubicBezTo>
                <a:cubicBezTo>
                  <a:pt x="10331" y="21600"/>
                  <a:pt x="4097" y="18586"/>
                  <a:pt x="0" y="13416"/>
                </a:cubicBezTo>
              </a:path>
              <a:path stroke="0" w="33849" h="21600">
                <a:moveTo>
                  <a:pt x="-31687" y="13425"/>
                </a:moveTo>
                <a:cubicBezTo>
                  <a:pt x="29751" y="18589"/>
                  <a:pt x="23520" y="21599"/>
                  <a:pt x="16928" y="21600"/>
                </a:cubicBezTo>
                <a:cubicBezTo>
                  <a:pt x="10331" y="21600"/>
                  <a:pt x="4097" y="18586"/>
                  <a:pt x="0" y="13416"/>
                </a:cubicBezTo>
                <a:lnTo>
                  <a:pt x="16928" y="0"/>
                </a:lnTo>
                <a:lnTo>
                  <a:pt x="-31687" y="13425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2741760" y="1228680"/>
            <a:ext cx="144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1164960" y="1238400"/>
            <a:ext cx="1587240" cy="342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2741760" y="1228680"/>
            <a:ext cx="1566720" cy="3429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329280" y="47228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807640" y="27907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2698920" y="4613400"/>
            <a:ext cx="1076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2464560" y="47005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869400" y="452772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4253040" y="4581360"/>
            <a:ext cx="109440" cy="109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494600" y="45277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2698920" y="1184400"/>
            <a:ext cx="107640" cy="109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2620440" y="8380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2"/>
          <p:cNvSpPr/>
          <p:nvPr/>
        </p:nvSpPr>
        <p:spPr>
          <a:xfrm flipV="1">
            <a:off x="2709720" y="4657320"/>
            <a:ext cx="1598760" cy="42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3176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3645000"/>
            <a:ext cx="885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оковитискач має конічну форму. У скільки  разів збільшиться площа його бічної поверхні, якщо радіус його основи збільшити у 4 рази, а твірну у 2 раз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http://umnyashka.com.ua/images/1308858375_kak-vybrat-sokovyzhimalku-1.jpg"/>
          <p:cNvPicPr/>
          <p:nvPr/>
        </p:nvPicPr>
        <p:blipFill>
          <a:blip r:embed="rId1"/>
          <a:stretch/>
        </p:blipFill>
        <p:spPr>
          <a:xfrm>
            <a:off x="2487600" y="1054080"/>
            <a:ext cx="391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вятковий торт має форму конуса. Площа його основи дорівнює 36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м</a:t>
            </a:r>
            <a:r>
              <a:rPr b="0" lang="uk-U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а твірна 10 дм. Чому дорівнює його бічна поверхня. Чи вміститься він на підносі діаметром 1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Объект 5" descr="http://fb.ru/misc/i/gallery/20328/1151905.jpg"/>
          <p:cNvPicPr/>
          <p:nvPr/>
        </p:nvPicPr>
        <p:blipFill>
          <a:blip r:embed="rId1"/>
          <a:stretch/>
        </p:blipFill>
        <p:spPr>
          <a:xfrm>
            <a:off x="324000" y="1987560"/>
            <a:ext cx="4181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дача №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вірна конуса дорівнює 5см, висота – 4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айдіть площу його повної поверх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http://i-kulinar.com/wp-content/uploads/2013/02/strawberry_wine_jelly.jpg"/>
          <p:cNvPicPr/>
          <p:nvPr/>
        </p:nvPicPr>
        <p:blipFill>
          <a:blip r:embed="rId1"/>
          <a:stretch/>
        </p:blipFill>
        <p:spPr>
          <a:xfrm>
            <a:off x="2556000" y="3213000"/>
            <a:ext cx="34192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-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Упізнай кон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3849840"/>
          <a:ext cx="8229600" cy="25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5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4" descr="C:\Users\Q8\AppData\Local\Temp\FineReader12.00\media\image1.jpeg"/>
          <p:cNvPicPr/>
          <p:nvPr/>
        </p:nvPicPr>
        <p:blipFill>
          <a:blip r:embed="rId1"/>
          <a:stretch/>
        </p:blipFill>
        <p:spPr>
          <a:xfrm>
            <a:off x="1116000" y="1197000"/>
            <a:ext cx="674856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938840" y="3528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941560" y="3881520"/>
          <a:ext cx="8229600" cy="25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5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6" descr="C:\Users\Q8\AppData\Local\Temp\FineReader12.00\media\image2.jpeg"/>
          <p:cNvPicPr/>
          <p:nvPr/>
        </p:nvPicPr>
        <p:blipFill>
          <a:blip r:embed="rId2"/>
          <a:stretch/>
        </p:blipFill>
        <p:spPr>
          <a:xfrm>
            <a:off x="1116000" y="3649680"/>
            <a:ext cx="6748560" cy="2862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7423200" y="355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6880" y="4365720"/>
            <a:ext cx="896436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«Теорія без практики мертва і безплідна, практика без теорії неможлива 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www.johnlarsenpodcast.com/wp-content/uploads/2015/07/Episode-12.png"/>
          <p:cNvPicPr/>
          <p:nvPr/>
        </p:nvPicPr>
        <p:blipFill>
          <a:blip r:embed="rId1"/>
          <a:stretch/>
        </p:blipFill>
        <p:spPr>
          <a:xfrm>
            <a:off x="3206880" y="262080"/>
            <a:ext cx="28764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1"/>
          <p:cNvGrpSpPr/>
          <p:nvPr/>
        </p:nvGrpSpPr>
        <p:grpSpPr>
          <a:xfrm>
            <a:off x="1057320" y="254160"/>
            <a:ext cx="7364160" cy="8115120"/>
            <a:chOff x="1057320" y="254160"/>
            <a:chExt cx="7364160" cy="8115120"/>
          </a:xfrm>
        </p:grpSpPr>
        <p:sp>
          <p:nvSpPr>
            <p:cNvPr id="126" name="AutoShape 28"/>
            <p:cNvSpPr/>
            <p:nvPr/>
          </p:nvSpPr>
          <p:spPr>
            <a:xfrm>
              <a:off x="1057320" y="254160"/>
              <a:ext cx="7200360" cy="60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0"/>
            <p:cNvSpPr/>
            <p:nvPr/>
          </p:nvSpPr>
          <p:spPr>
            <a:xfrm>
              <a:off x="2648880" y="822600"/>
              <a:ext cx="2199960" cy="4387680"/>
            </a:xfrm>
            <a:custGeom>
              <a:avLst/>
              <a:gdLst/>
              <a:ahLst/>
              <a:rect l="l" t="t" r="r" b="b"/>
              <a:pathLst>
                <a:path w="1195" h="2633">
                  <a:moveTo>
                    <a:pt x="0" y="2633"/>
                  </a:moveTo>
                  <a:lnTo>
                    <a:pt x="646" y="0"/>
                  </a:lnTo>
                  <a:lnTo>
                    <a:pt x="1195" y="2084"/>
                  </a:lnTo>
                  <a:lnTo>
                    <a:pt x="0" y="2633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rc 31"/>
            <p:cNvSpPr/>
            <p:nvPr/>
          </p:nvSpPr>
          <p:spPr>
            <a:xfrm>
              <a:off x="1600560" y="1919520"/>
              <a:ext cx="4475880" cy="3452760"/>
            </a:xfrm>
            <a:custGeom>
              <a:avLst/>
              <a:gdLst/>
              <a:ahLst/>
              <a:rect l="l" t="t" r="r" b="b"/>
              <a:pathLst>
                <a:path fill="none" w="25350" h="21600">
                  <a:moveTo>
                    <a:pt x="25350" y="17490"/>
                  </a:moveTo>
                  <a:cubicBezTo>
                    <a:pt x="21663" y="20161"/>
                    <a:pt x="17227" y="21599"/>
                    <a:pt x="12675" y="21600"/>
                  </a:cubicBezTo>
                  <a:cubicBezTo>
                    <a:pt x="8122" y="21600"/>
                    <a:pt x="3686" y="20161"/>
                    <a:pt x="-1" y="17490"/>
                  </a:cubicBezTo>
                </a:path>
                <a:path stroke="0" w="25350" h="21600">
                  <a:moveTo>
                    <a:pt x="25350" y="17490"/>
                  </a:moveTo>
                  <a:cubicBezTo>
                    <a:pt x="21663" y="20161"/>
                    <a:pt x="17227" y="21599"/>
                    <a:pt x="12675" y="21600"/>
                  </a:cubicBezTo>
                  <a:cubicBezTo>
                    <a:pt x="8122" y="21600"/>
                    <a:pt x="3686" y="20161"/>
                    <a:pt x="-1" y="17490"/>
                  </a:cubicBezTo>
                  <a:lnTo>
                    <a:pt x="12675" y="0"/>
                  </a:lnTo>
                  <a:lnTo>
                    <a:pt x="25350" y="1749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rc 32"/>
            <p:cNvSpPr/>
            <p:nvPr/>
          </p:nvSpPr>
          <p:spPr>
            <a:xfrm>
              <a:off x="1596960" y="4194360"/>
              <a:ext cx="4484520" cy="4174920"/>
            </a:xfrm>
            <a:custGeom>
              <a:avLst/>
              <a:gdLst/>
              <a:ahLst/>
              <a:rect l="l" t="t" r="r" b="b"/>
              <a:pathLst>
                <a:path fill="none" w="21070" h="21600">
                  <a:moveTo>
                    <a:pt x="0" y="2743"/>
                  </a:moveTo>
                  <a:cubicBezTo>
                    <a:pt x="3219" y="944"/>
                    <a:pt x="6846" y="-1"/>
                    <a:pt x="10535" y="0"/>
                  </a:cubicBezTo>
                  <a:cubicBezTo>
                    <a:pt x="14223" y="0"/>
                    <a:pt x="17850" y="944"/>
                    <a:pt x="21069" y="2743"/>
                  </a:cubicBezTo>
                </a:path>
                <a:path stroke="0" w="21070" h="21600">
                  <a:moveTo>
                    <a:pt x="0" y="2743"/>
                  </a:moveTo>
                  <a:cubicBezTo>
                    <a:pt x="3219" y="944"/>
                    <a:pt x="6846" y="-1"/>
                    <a:pt x="10535" y="0"/>
                  </a:cubicBezTo>
                  <a:cubicBezTo>
                    <a:pt x="14223" y="0"/>
                    <a:pt x="17850" y="944"/>
                    <a:pt x="21069" y="2743"/>
                  </a:cubicBezTo>
                  <a:lnTo>
                    <a:pt x="10535" y="21600"/>
                  </a:lnTo>
                  <a:lnTo>
                    <a:pt x="0" y="2743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3"/>
            <p:cNvSpPr/>
            <p:nvPr/>
          </p:nvSpPr>
          <p:spPr>
            <a:xfrm>
              <a:off x="3837960" y="822600"/>
              <a:ext cx="1440" cy="390024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4"/>
            <p:cNvSpPr/>
            <p:nvPr/>
          </p:nvSpPr>
          <p:spPr>
            <a:xfrm flipH="1">
              <a:off x="1595520" y="822600"/>
              <a:ext cx="2242080" cy="39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5"/>
            <p:cNvSpPr/>
            <p:nvPr/>
          </p:nvSpPr>
          <p:spPr>
            <a:xfrm>
              <a:off x="3837960" y="822600"/>
              <a:ext cx="2243880" cy="39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6"/>
            <p:cNvSpPr/>
            <p:nvPr/>
          </p:nvSpPr>
          <p:spPr>
            <a:xfrm flipH="1">
              <a:off x="2648880" y="822600"/>
              <a:ext cx="1188720" cy="43876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7"/>
            <p:cNvSpPr/>
            <p:nvPr/>
          </p:nvSpPr>
          <p:spPr>
            <a:xfrm>
              <a:off x="3837960" y="822600"/>
              <a:ext cx="1011240" cy="34732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8"/>
            <p:cNvSpPr/>
            <p:nvPr/>
          </p:nvSpPr>
          <p:spPr>
            <a:xfrm flipH="1">
              <a:off x="2648520" y="4295880"/>
              <a:ext cx="2199960" cy="91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9"/>
            <p:cNvSpPr/>
            <p:nvPr/>
          </p:nvSpPr>
          <p:spPr>
            <a:xfrm flipH="1">
              <a:off x="2648880" y="4722840"/>
              <a:ext cx="1188720" cy="48744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0"/>
            <p:cNvSpPr/>
            <p:nvPr/>
          </p:nvSpPr>
          <p:spPr>
            <a:xfrm>
              <a:off x="2224800" y="2244960"/>
              <a:ext cx="1030680" cy="75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1"/>
            <p:cNvSpPr/>
            <p:nvPr/>
          </p:nvSpPr>
          <p:spPr>
            <a:xfrm flipH="1">
              <a:off x="3906000" y="1737000"/>
              <a:ext cx="1188720" cy="71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2"/>
            <p:cNvSpPr/>
            <p:nvPr/>
          </p:nvSpPr>
          <p:spPr>
            <a:xfrm>
              <a:off x="3501000" y="4865760"/>
              <a:ext cx="899640" cy="91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3"/>
            <p:cNvSpPr/>
            <p:nvPr/>
          </p:nvSpPr>
          <p:spPr>
            <a:xfrm flipH="1">
              <a:off x="4265280" y="2854440"/>
              <a:ext cx="219636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4"/>
            <p:cNvSpPr/>
            <p:nvPr/>
          </p:nvSpPr>
          <p:spPr>
            <a:xfrm>
              <a:off x="5724360" y="2430720"/>
              <a:ext cx="180360" cy="918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0" y="110"/>
                  </a:moveTo>
                  <a:lnTo>
                    <a:pt x="98" y="110"/>
                  </a:lnTo>
                  <a:lnTo>
                    <a:pt x="49" y="0"/>
                  </a:lnTo>
                  <a:lnTo>
                    <a:pt x="0" y="1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5"/>
            <p:cNvSpPr/>
            <p:nvPr/>
          </p:nvSpPr>
          <p:spPr>
            <a:xfrm>
              <a:off x="5913720" y="2278080"/>
              <a:ext cx="250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SAB-осьовий перері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7"/>
            <p:cNvSpPr/>
            <p:nvPr/>
          </p:nvSpPr>
          <p:spPr>
            <a:xfrm>
              <a:off x="2813760" y="5759640"/>
              <a:ext cx="250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радіус основи кону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8"/>
            <p:cNvSpPr/>
            <p:nvPr/>
          </p:nvSpPr>
          <p:spPr>
            <a:xfrm>
              <a:off x="4966200" y="1432080"/>
              <a:ext cx="13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вісь кону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1376280" y="1941480"/>
              <a:ext cx="82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твір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3688200" y="27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1"/>
            <p:cNvSpPr/>
            <p:nvPr/>
          </p:nvSpPr>
          <p:spPr>
            <a:xfrm>
              <a:off x="3325680" y="4945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2"/>
            <p:cNvSpPr/>
            <p:nvPr/>
          </p:nvSpPr>
          <p:spPr>
            <a:xfrm>
              <a:off x="3794040" y="4683240"/>
              <a:ext cx="11196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3"/>
            <p:cNvSpPr/>
            <p:nvPr/>
          </p:nvSpPr>
          <p:spPr>
            <a:xfrm>
              <a:off x="3645000" y="443880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4"/>
            <p:cNvSpPr/>
            <p:nvPr/>
          </p:nvSpPr>
          <p:spPr>
            <a:xfrm>
              <a:off x="2605320" y="5168880"/>
              <a:ext cx="11196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5"/>
            <p:cNvSpPr/>
            <p:nvPr/>
          </p:nvSpPr>
          <p:spPr>
            <a:xfrm>
              <a:off x="2432520" y="5230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6"/>
            <p:cNvSpPr/>
            <p:nvPr/>
          </p:nvSpPr>
          <p:spPr>
            <a:xfrm>
              <a:off x="4802040" y="4256280"/>
              <a:ext cx="1123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>
              <a:off x="4901040" y="39513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8"/>
            <p:cNvSpPr/>
            <p:nvPr/>
          </p:nvSpPr>
          <p:spPr>
            <a:xfrm>
              <a:off x="3794040" y="782640"/>
              <a:ext cx="11196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9"/>
            <p:cNvSpPr/>
            <p:nvPr/>
          </p:nvSpPr>
          <p:spPr>
            <a:xfrm>
              <a:off x="3643920" y="457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64"/>
          <p:cNvSpPr/>
          <p:nvPr/>
        </p:nvSpPr>
        <p:spPr>
          <a:xfrm flipH="1">
            <a:off x="3951360" y="593640"/>
            <a:ext cx="44928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4657680" y="331920"/>
            <a:ext cx="22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ершина к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8000" y="765000"/>
            <a:ext cx="9036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вашій професії без математики не обійтися. На уроках технології та виробничого навчання вам часто доводиться вирішувати математичні завдання при розрахунку сировини для приготування ст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Вивчити форм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Знайти площу бічної поверхні конуса, радіус основи якого дорівнює 3 см, висота – 4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Твірна конуса дорівнює 8см і утворює 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ою основи кут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Знайдіть пло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ної поверхні кон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Укажіть елементи кон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64000" y="2204640"/>
            <a:ext cx="31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та 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діус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вірні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аметр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42880" y="1797120"/>
            <a:ext cx="105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ttp://disted.edu.vn.ua/media/images/vfntvfnbrf/geometry11/tila_obertannja/u14.files/image001.png"/>
          <p:cNvPicPr/>
          <p:nvPr/>
        </p:nvPicPr>
        <p:blipFill>
          <a:blip r:embed="rId1"/>
          <a:stretch/>
        </p:blipFill>
        <p:spPr>
          <a:xfrm>
            <a:off x="865080" y="138420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 є основою кону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4" descr=""/>
          <p:cNvPicPr/>
          <p:nvPr/>
        </p:nvPicPr>
        <p:blipFill>
          <a:blip r:embed="rId1"/>
          <a:srcRect l="12369" t="15799" r="22101" b="33498"/>
          <a:stretch/>
        </p:blipFill>
        <p:spPr>
          <a:xfrm>
            <a:off x="611280" y="1628640"/>
            <a:ext cx="8075520" cy="4680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4"/>
          <p:cNvSpPr/>
          <p:nvPr/>
        </p:nvSpPr>
        <p:spPr>
          <a:xfrm>
            <a:off x="826920" y="40464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000000"/>
                </a:solidFill>
                <a:latin typeface="Arial"/>
              </a:rPr>
              <a:t>Що є розгорткою конус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Q8\AppData\Local\Temp\FineReader12.00\media\image4.jpe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03280" y="1341360"/>
            <a:ext cx="243036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C:\Users\Q8\AppData\Local\Temp\FineReader12.00\media\image6.jpe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051600" y="1317600"/>
            <a:ext cx="1614600" cy="218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Q8\AppData\Local\Temp\FineReader12.00\media\image3.jpeg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544760" y="4221000"/>
            <a:ext cx="2557440" cy="2076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Q8\AppData\Local\Temp\FineReader12.00\media\image5.jpe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578560" y="3859200"/>
            <a:ext cx="20876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кий з даних трикутників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є осьовим перерізом конус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4" descr="http://kzgov.docdat.com/tw_files2/urls_4/39/d-38703/img18.jpg"/>
          <p:cNvPicPr/>
          <p:nvPr/>
        </p:nvPicPr>
        <p:blipFill>
          <a:blip r:embed="rId1"/>
          <a:srcRect l="4082" t="13380" r="4946" b="3987"/>
          <a:stretch/>
        </p:blipFill>
        <p:spPr>
          <a:xfrm>
            <a:off x="755640" y="1628640"/>
            <a:ext cx="7632720" cy="482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Зіставте формули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з відповідними понятт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7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533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3849840"/>
          <a:ext cx="8229600" cy="25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5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2"/>
          <p:cNvSpPr/>
          <p:nvPr/>
        </p:nvSpPr>
        <p:spPr>
          <a:xfrm>
            <a:off x="4938840" y="3528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47640" y="1557360"/>
          <a:ext cx="8229600" cy="25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5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6"/>
          <p:cNvSpPr/>
          <p:nvPr/>
        </p:nvSpPr>
        <p:spPr>
          <a:xfrm>
            <a:off x="6029280" y="1236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http://ribalych.ru/wp-content/uploads/2014/05/41325.jpg"/>
          <p:cNvPicPr/>
          <p:nvPr/>
        </p:nvPicPr>
        <p:blipFill>
          <a:blip r:embed="rId1"/>
          <a:stretch/>
        </p:blipFill>
        <p:spPr>
          <a:xfrm>
            <a:off x="324000" y="981000"/>
            <a:ext cx="83642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http://demiart.ru/forum/uploads/post-14992-1159863042.jpg"/>
          <p:cNvPicPr/>
          <p:nvPr/>
        </p:nvPicPr>
        <p:blipFill>
          <a:blip r:embed="rId1"/>
          <a:stretch/>
        </p:blipFill>
        <p:spPr>
          <a:xfrm>
            <a:off x="0" y="33480"/>
            <a:ext cx="2857680" cy="319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ce_cream_d"/>
          <p:cNvPicPr/>
          <p:nvPr/>
        </p:nvPicPr>
        <p:blipFill>
          <a:blip r:embed="rId2"/>
          <a:stretch/>
        </p:blipFill>
        <p:spPr>
          <a:xfrm>
            <a:off x="6740640" y="260280"/>
            <a:ext cx="2403360" cy="2963880"/>
          </a:xfrm>
          <a:prstGeom prst="rect">
            <a:avLst/>
          </a:prstGeom>
          <a:ln w="0">
            <a:noFill/>
          </a:ln>
        </p:spPr>
      </p:pic>
      <p:pic>
        <p:nvPicPr>
          <p:cNvPr id="79" name="WordArt 4" descr="Бумажный пакет"/>
          <p:cNvPicPr/>
          <p:nvPr/>
        </p:nvPicPr>
        <p:blipFill>
          <a:blip r:embed="rId3"/>
          <a:stretch/>
        </p:blipFill>
        <p:spPr>
          <a:xfrm>
            <a:off x="-317520" y="1158840"/>
            <a:ext cx="113140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2:34:01Z</dcterms:created>
  <dc:creator>User</dc:creator>
  <dc:description/>
  <dc:language>en-US</dc:language>
  <cp:lastModifiedBy>Пользователь Windows</cp:lastModifiedBy>
  <dcterms:modified xsi:type="dcterms:W3CDTF">2017-01-21T19:29:00Z</dcterms:modified>
  <cp:revision>85</cp:revision>
  <dc:subject/>
  <dc:title>Слайд 1</dc:title>
</cp:coreProperties>
</file>