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045-83E3-49DB-9873-0B297537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1E89-727C-4E10-B882-3998EE3A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F3A-E22E-4380-B00C-8E7733D6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EFC-8892-4E60-9ECD-09E2EA56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B2E-6D1C-4830-B00A-5AC711D1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9D4-0025-480B-B564-67042704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E6C-A466-4143-AC25-6B270FA1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941-4DC1-429A-9CBF-53F2E05E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6DB-8CFE-45DE-BDBF-6FE5C4F8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5B4-CF27-4CB3-8D08-90702846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D416-EAE2-4C95-B5A0-1547C2B8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87A-8741-4C34-85C3-DA805455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1A6C-D0D9-41E7-A212-4BE32DC90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&amp;SHcy;&amp;acy;&amp;bcy;&amp;lcy;&amp;ocy;&amp;ncy; &amp;dcy;&amp;lcy;&amp;yacy; &amp;ncy;&amp;acy;&amp;chcy;&amp;acy;&amp;lcy;&amp;softcy;&amp;ncy;&amp;ocy;&amp;jcy; &amp;shcy;&amp;kcy;&amp;ocy;&amp;lcy;&amp;y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240" y="990720"/>
            <a:ext cx="5638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рок розвитку зв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зного мовлення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Складання розповіді  з елементами опису на тему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Берізка в осінньому вбранн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880" y="464832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Підготувала вч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Слободська Оксана Василы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Словникові слова</a:t>
            </a:r>
            <a:br>
              <a:rPr sz="4000"/>
            </a:b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берізка                 усміхається</a:t>
            </a:r>
            <a:br>
              <a:rPr sz="4000"/>
            </a:b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кіски                      листочки</a:t>
            </a:r>
            <a:br>
              <a:rPr sz="4000"/>
            </a:b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розпустила         білоко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Читання творі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Намалювати ілюстрацію до записаного твор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&amp;SHcy;&amp;acy;&amp;bcy;&amp;lcy;&amp;ocy;&amp;ncy; (&amp;fcy;&amp;ocy;&amp;ncy;) &amp;pcy;&amp;rcy;&amp;iecy;&amp;zcy;&amp;iecy;&amp;ncy;&amp;tcy;&amp;acy;&amp;tscy;&amp;icy;&amp;icy; &quot;&amp;ZHcy;&amp;iecy;&amp;lcy;&amp;tcy;&amp;ycy;&amp;iecy; &amp;lcy;&amp;icy;&amp;scy;&amp;tcy;&amp;softcy;&amp;yacy;&quot; (3 &amp;vcy;&amp;acy;&amp;rcy;&amp;icy;&amp;acy;&amp;ncy;&amp;tcy;&amp;ycy;)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38160" y="869760"/>
            <a:ext cx="7195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В різнобарвному нами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Діва в сяйві своїх зва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Пожовтила трави, лист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Наче пензлем, і без фар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І, віддавши сил чимал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Позолоту скрізь поклал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Відгадайте: хто во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Та красуня чарів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uk-UA" sz="4000" spc="-1" strike="noStrike">
                <a:solidFill>
                  <a:srgbClr val="ff3300"/>
                </a:solidFill>
                <a:latin typeface="Arial"/>
              </a:rPr>
              <a:t>Цар Сонце</a:t>
            </a:r>
            <a:br>
              <a:rPr sz="4000"/>
            </a:br>
            <a:r>
              <a:rPr b="1" i="1" lang="uk-UA" sz="2800" spc="-1" strike="noStrike">
                <a:solidFill>
                  <a:srgbClr val="ff3300"/>
                </a:solidFill>
                <a:latin typeface="Arial"/>
              </a:rPr>
              <a:t>Був собі у небі цар Сонце. І мав він чотирьох доньок – красунь: Зиму, Весну, Літо, Осінь. Сам він ніколи не спускався на Землю, а посилав до людей своїх дівчат. Ось послав він Осінь – красуню.</a:t>
            </a:r>
            <a:br>
              <a:rPr sz="2800"/>
            </a:br>
            <a:r>
              <a:rPr b="1" i="1" lang="uk-UA" sz="2800" spc="-1" strike="noStrike">
                <a:solidFill>
                  <a:srgbClr val="ff3300"/>
                </a:solidFill>
                <a:latin typeface="Arial"/>
              </a:rPr>
              <a:t>Але люди за роботою не помітили її вроди. І тому цар Сонце попросив Осінь, щоб передала нам л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Я хочу,щоб яскравим цвітом</a:t>
            </a:r>
            <a:br>
              <a:rPr sz="3600"/>
            </a:b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Природа чарувала вас,</a:t>
            </a:r>
            <a:br>
              <a:rPr sz="3600"/>
            </a:b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Щоб так було не тільки влітку,</a:t>
            </a:r>
            <a:br>
              <a:rPr sz="3600"/>
            </a:b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А й взимку і негоди час.</a:t>
            </a:r>
            <a:br>
              <a:rPr sz="3600"/>
            </a:b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Я хочу, щоб красу уміли</a:t>
            </a:r>
            <a:br>
              <a:rPr sz="3600"/>
            </a:b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Сприймати серцем люди всі, </a:t>
            </a:r>
            <a:br>
              <a:rPr sz="3600"/>
            </a:b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Щоб цінували й розуміли, </a:t>
            </a:r>
            <a:br>
              <a:rPr sz="3600"/>
            </a:b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І поклонялися крас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Маю плаття золотеньк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Гнучкі, ніжні віт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Білу кору, стан тоненьки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Як я звуся, діт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75840" y="537696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Бері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21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352680" y="2286000"/>
            <a:ext cx="304812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Беріз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752480"/>
            <a:ext cx="297180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стру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962520"/>
            <a:ext cx="297180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ніж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029200"/>
            <a:ext cx="297180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зол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3733920"/>
            <a:ext cx="31240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білок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990720"/>
            <a:ext cx="3581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тендіт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304920"/>
            <a:ext cx="3581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довгок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457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60680" y="1109520"/>
            <a:ext cx="64576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 росте беріз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а во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і у берізки кіс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 прибрала деревце осі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задоволена берізка своїм вбранн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 почувається берізка напередодні зими? Чо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 як ми втішимо берізку, щоб вона не сумува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Берізка в осінньому вбранні</a:t>
            </a:r>
            <a:br>
              <a:rPr sz="3600"/>
            </a:b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Росте білокора берізка в гаю.</a:t>
            </a:r>
            <a:br>
              <a:rPr sz="3600"/>
            </a:b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Вона струнка і тендітна. Пустун -  вітерець грається її ніжними листочками і розчісує тонкі кіски красуні. Осінь подарувала берізонці золоте вбранн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0520" y="457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1109520"/>
            <a:ext cx="64576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1905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838080"/>
            <a:ext cx="7515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У ньому вона така загадкова, пишається, немов нарече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Але лісова красуня дещо зажуре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Не журися, берізко! Ти така чарівн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3:38:38Z</dcterms:created>
  <dc:creator>Elena</dc:creator>
  <dc:description/>
  <dc:language>en-US</dc:language>
  <cp:lastModifiedBy>User</cp:lastModifiedBy>
  <dcterms:modified xsi:type="dcterms:W3CDTF">2016-11-13T18:45:3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