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7.gif" ContentType="image/gif"/>
  <Override PartName="/ppt/media/image22.jpeg" ContentType="image/jpeg"/>
  <Override PartName="/ppt/media/image21.png" ContentType="image/png"/>
  <Override PartName="/ppt/media/image17.png" ContentType="image/png"/>
  <Override PartName="/ppt/media/image24.gif" ContentType="image/gif"/>
  <Override PartName="/ppt/media/image28.gif" ContentType="image/gif"/>
  <Override PartName="/ppt/media/image14.jpeg" ContentType="image/jpeg"/>
  <Override PartName="/ppt/media/image30.gif" ContentType="image/gif"/>
  <Override PartName="/ppt/media/image8.png" ContentType="image/png"/>
  <Override PartName="/ppt/media/image9.gif" ContentType="image/gif"/>
  <Override PartName="/ppt/media/image37.png" ContentType="image/png"/>
  <Override PartName="/ppt/media/image10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25.gif" ContentType="image/gif"/>
  <Override PartName="/ppt/media/image18.png" ContentType="image/png"/>
  <Override PartName="/ppt/media/image20.png" ContentType="image/png"/>
  <Override PartName="/ppt/media/image5.png" ContentType="image/png"/>
  <Override PartName="/ppt/media/image35.png" ContentType="image/png"/>
  <Override PartName="/ppt/media/image31.gif" ContentType="image/gif"/>
  <Override PartName="/ppt/media/image36.png" ContentType="image/png"/>
  <Override PartName="/ppt/media/image6.png" ContentType="image/png"/>
  <Override PartName="/ppt/media/image26.gif" ContentType="image/gif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6.png" ContentType="image/png"/>
  <Override PartName="/ppt/media/image23.gif" ContentType="image/gif"/>
  <Override PartName="/ppt/media/image32.png" ContentType="image/png"/>
  <Override PartName="/ppt/media/image2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E6C-91BC-4AE0-97F8-AF1F8D16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265-E67F-4059-85A1-5AF822A8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004-4A13-4FAB-94C4-259299D2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782-973B-4063-9560-6BA836F4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599-9BCA-40E9-93C1-71FF4149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0FE-E18C-4599-B788-84D80EA0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B58-E7A1-4D06-8C0D-DFED3E58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5D0-B498-42E9-B7BE-035E3DFA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ADF-48C0-481D-93BA-699B6168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A54-AF70-4842-9302-88BFC3FA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349-F175-4067-A57C-732B8E0F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5B7-13FE-4CF0-9691-3DBF6928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86BC-85F2-474B-AA96-1EA0FF85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692280"/>
            <a:ext cx="526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ітературне читан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1341360"/>
            <a:ext cx="6048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яжко тому жити, 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то не хоче нічого робити. 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64000" y="4581360"/>
            <a:ext cx="4943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Леонід Глібов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«Коник-стрибунець»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27716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зширити знання про творчість Л.Гліб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зкрити зміст поняття «морал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звивати пам’ять, образність сприйнят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62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ЗАВДАННЯ УРОКУ: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909720"/>
            <a:ext cx="837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Зн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анрові особливості бай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ттєвий та творчий шлях Л. Гліб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Вмі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ізувати вчинки персонаж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авати їм характерис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изначати та пояснювати мораль тв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итати в особ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irc_mi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3637080" cy="403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524720" y="5516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050920" y="476280"/>
            <a:ext cx="4876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йк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онід Глібов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Коник-стрибунець»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1992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96720" y="2275920"/>
            <a:ext cx="27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ат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5080" y="134064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дат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3840" y="134064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дібний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0040" y="176760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хочу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6520" y="1772640"/>
            <a:ext cx="18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доста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5800" y="227592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зкошува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98520" y="278064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видкий, спри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7800" y="278064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р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1280" y="4215600"/>
            <a:ext cx="18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йду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8520" y="328392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бора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98160" y="32839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д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7800" y="378864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б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3788640"/>
            <a:ext cx="25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ідолах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97440" y="4291920"/>
            <a:ext cx="44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звертав уваги ні на щ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8160" y="472356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ерелив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97800" y="479664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же погано, скру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340000" y="47628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никова робот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&amp;Pcy;&amp;rcy;&amp;ocy;&amp;gcy;&amp;rcy;&amp;acy;&amp;mcy;&amp;mcy;&amp;acy; &amp;lcy;&amp;iecy;&amp;tcy;&amp;ncy;&amp;iecy;&amp;gcy;&amp;ocy; &amp;lcy;&amp;acy;&amp;gcy;&amp;iecy;&amp;rcy;&amp;yacy; &amp;pcy;&amp;ocy; &amp;zcy;&amp;ocy;&amp;zhcy; - &amp;Ncy;&amp;ocy;&amp;vcy;&amp;ycy;&amp;jcy; &amp;ucy;&amp;chcy;&amp;iecy;&amp;bcy;&amp;ncy;&amp;icy;&amp;kcy;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1042920" y="2421000"/>
            <a:ext cx="442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ізкультхвилинк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132000" y="692280"/>
            <a:ext cx="4824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700360" y="1052640"/>
            <a:ext cx="4632480" cy="51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987640" y="620640"/>
            <a:ext cx="49690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627280" y="90792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0" t="0" r="0" b="16689"/>
          <a:stretch/>
        </p:blipFill>
        <p:spPr>
          <a:xfrm>
            <a:off x="0" y="476280"/>
            <a:ext cx="3211560" cy="417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&amp;Pcy;&amp;rcy;&amp;ocy;&amp;shcy;&amp;ucy; &amp;tcy;&amp;icy;&amp;shcy;&amp;icy;&amp;ncy;&amp;ycy;. - &amp;Fcy;&amp;iecy;&amp;ncy;&amp;yacy; &amp;KHcy;&amp;acy;&amp;mcy;&amp;icy;&amp;dcy;&amp;bcy;&amp;icy;&amp;iecy;&amp;vcy;&amp;ncy;&amp;acy; &amp;Kcy;&amp;acy;&amp;ncy;&amp;kcy;&amp;ucy;&amp;lcy;&amp;ocy;&amp;vcy;&amp;acy;"/>
          <p:cNvPicPr/>
          <p:nvPr/>
        </p:nvPicPr>
        <p:blipFill>
          <a:blip r:embed="rId3"/>
          <a:stretch/>
        </p:blipFill>
        <p:spPr>
          <a:xfrm>
            <a:off x="3419640" y="112536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&amp;Bcy;&amp;iecy;&amp;scy;&amp;pcy;&amp;lcy;&amp;acy;&amp;tcy;&amp;ncy;&amp;ycy;&amp;iecy; &amp;kcy;&amp;lcy;&amp;icy;&amp;pcy;&amp;acy;&amp;rcy;&amp;tcy;&amp;ycy; &amp;pcy;&amp;tcy;&amp;icy;&amp;tscy;&amp;ycy; &amp;pcy;&amp;ocy;&amp;pcy;&amp;ucy;&amp;gcy;&amp;acy;&amp;icy;, &amp;kcy;&amp;lcy;&amp;icy;&amp;pcy;&amp;acy;&amp;rcy;&amp;tcy;&amp;ycy; &amp;pcy;&amp;iecy;&amp;tcy;&amp;ucy;&amp;khcy; &amp;pcy;&amp;acy;&amp;vcy;&amp;lcy;&amp;icy;&amp;ncy; &amp;kcy;&amp;ucy;&amp;rcy;&amp;icy;&amp;tscy;&amp;acy; &amp;pcy;&amp;ocy;&amp;pcy;&amp;ucy;&amp;gcy;&amp;acy;&amp;jcy; &amp;pcy;&amp;tcy;&amp;icy;&amp;tscy;&amp;ycy;, &amp;kcy;&amp;lcy;&amp;icy;&amp;pcy; &amp;acy;&amp;rcy;&amp;tcy;, clipart birds parrot, &amp;scy;&amp;kcy;&amp;acy;&amp;chcy;&amp;acy;&amp;tcy;&amp;softcy; &amp;kcy;&amp;lcy;&amp;icy;&amp;pcy;&amp;acy;&amp;rcy;&amp;tcy;,"/>
          <p:cNvPicPr/>
          <p:nvPr/>
        </p:nvPicPr>
        <p:blipFill>
          <a:blip r:embed="rId4"/>
          <a:stretch/>
        </p:blipFill>
        <p:spPr>
          <a:xfrm>
            <a:off x="5940360" y="1628640"/>
            <a:ext cx="2952720" cy="199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&amp;fcy;&amp;ocy;&amp;kcy;&amp;scy; &amp;pcy;&amp;rcy;&amp;ocy;&amp;zcy;&amp;rcy;&amp;acy;&amp;chcy;&amp;ncy;&amp;ycy;&amp;jcy; &amp;kcy;&amp;lcy;&amp;icy;&amp;pcy;&amp;acy;&amp;rcy;&amp;tcy;&amp;ycy;, &amp;kcy;&amp;lcy;&amp;icy;&amp;pcy;&amp;acy;&amp;rcy;&amp;tcy; - ClipartLogo.com"/>
          <p:cNvPicPr/>
          <p:nvPr/>
        </p:nvPicPr>
        <p:blipFill>
          <a:blip r:embed="rId5"/>
          <a:stretch/>
        </p:blipFill>
        <p:spPr>
          <a:xfrm>
            <a:off x="684360" y="4797360"/>
            <a:ext cx="2519280" cy="180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Photoshopia.su &amp;Vcy;&amp;iecy;&amp;rcy;&amp;scy;&amp;icy;&amp;yacy; &amp;dcy;&amp;lcy;&amp;yacy; &amp;pcy;&amp;iecy;&amp;chcy;&amp;acy;&amp;tcy;&amp;icy; Transport / &amp;Tcy;&amp;rcy;&amp;acy;&amp;ncy;&amp;scy;&amp;pcy;&amp;ocy;&amp;rcy;&amp;tcy; - &amp;vcy;&amp;iecy;&amp;kcy;&amp;tcy;&amp;ocy;&amp;rcy;&amp;ncy;&amp;ycy;&amp;jcy; &amp;kcy;&amp;lcy;&amp;icy;&amp;pcy;&amp;acy;&amp;rcy;&amp;tcy;."/>
          <p:cNvPicPr/>
          <p:nvPr/>
        </p:nvPicPr>
        <p:blipFill>
          <a:blip r:embed="rId6"/>
          <a:stretch/>
        </p:blipFill>
        <p:spPr>
          <a:xfrm>
            <a:off x="6012000" y="4149720"/>
            <a:ext cx="2881080" cy="2451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&amp;Mcy;&amp;ucy;&amp;lcy;&amp;softcy;&amp;tcy;&amp;yacy;&amp;shcy;&amp;kcy;&amp;icy; png &quot;Funny friends&quot;. &amp;Ocy;&amp;bcy;&amp;scy;&amp;ucy;&amp;zhcy;&amp;dcy;&amp;iecy;&amp;ncy;&amp;icy;&amp;iecy; &amp;ncy;&amp;acy; LiveInternet - …"/>
          <p:cNvPicPr/>
          <p:nvPr/>
        </p:nvPicPr>
        <p:blipFill>
          <a:blip r:embed="rId7"/>
          <a:stretch/>
        </p:blipFill>
        <p:spPr>
          <a:xfrm>
            <a:off x="3635280" y="2924280"/>
            <a:ext cx="2814840" cy="331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56000" y="404640"/>
            <a:ext cx="590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імнастика для ротиків</a:t>
            </a:r>
            <a:endParaRPr b="1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059280" y="1197000"/>
            <a:ext cx="393192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203640" y="98100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140360" y="765000"/>
            <a:ext cx="26035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987640" y="476280"/>
            <a:ext cx="2695680" cy="5183280"/>
          </a:xfrm>
          <a:prstGeom prst="rect">
            <a:avLst/>
          </a:prstGeom>
          <a:ln w="0">
            <a:noFill/>
          </a:ln>
        </p:spPr>
      </p:pic>
      <p:sp>
        <p:nvSpPr>
          <p:cNvPr id="236" name="Выноска-облако 6"/>
          <p:cNvSpPr/>
          <p:nvPr/>
        </p:nvSpPr>
        <p:spPr>
          <a:xfrm>
            <a:off x="5148360" y="620640"/>
            <a:ext cx="3643200" cy="2143080"/>
          </a:xfrm>
          <a:prstGeom prst="cloudCallout">
            <a:avLst>
              <a:gd name="adj1" fmla="val -60587"/>
              <a:gd name="adj2" fmla="val 37555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Calibri"/>
              </a:rPr>
              <a:t>Па – п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435640" y="3717720"/>
            <a:ext cx="311148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Мурав’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удрий                        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ацьов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йдужий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рехли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судли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414440"/>
            <a:ext cx="3111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Ко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міливий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езтурбот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едачий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полегли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ацьовитий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ультя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16357" t="4947" r="15209" b="3799"/>
          <a:stretch/>
        </p:blipFill>
        <p:spPr>
          <a:xfrm>
            <a:off x="4067280" y="1125360"/>
            <a:ext cx="1942920" cy="2590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rcRect l="0" t="37657" r="51641" b="9436"/>
          <a:stretch/>
        </p:blipFill>
        <p:spPr>
          <a:xfrm>
            <a:off x="1908000" y="3789360"/>
            <a:ext cx="1928880" cy="2781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195640" y="1413000"/>
            <a:ext cx="1511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0000" y="4005360"/>
            <a:ext cx="1511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2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00000" y="476280"/>
            <a:ext cx="700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арактеристика героїв байк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58920" y="1125360"/>
            <a:ext cx="6626160" cy="5183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05520" y="1462680"/>
            <a:ext cx="431064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 лісі , у траві пахучій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ик, вдатний стрибунець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веселий, і співучий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проворний молодець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и в пшениченьку, чи в жито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схочу розкошував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цілісінькую зиму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 вгаваючи, співав;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гулявся на всі боки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е байдуже, все дарма..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ли гульк — аж в ліс високий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не теплая весн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63640" y="404640"/>
            <a:ext cx="511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 “Впіймай помилку”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258920" y="1125360"/>
            <a:ext cx="6626160" cy="5183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6560" y="1839960"/>
            <a:ext cx="516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У степу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 в траві пахучій,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оник, вдатний </a:t>
            </a: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молодець,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 веселий, і співучий,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 проворний </a:t>
            </a: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стрибунець,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Чи в пшениченьку, чи в жито,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схочу розкошував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цілісінькеє літо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е вгаваючи, співав;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гулявся на всі боки,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се байдуже, все дарма..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оли гульк — аж в </a:t>
            </a: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степ широкий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уне </a:t>
            </a: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злючая зим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987640" y="404640"/>
            <a:ext cx="3241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вір себе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Содержимое 5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280360" cy="4464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2852640"/>
            <a:ext cx="1584360" cy="1152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140360" y="2852280"/>
            <a:ext cx="1368360" cy="1081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68360" y="620640"/>
            <a:ext cx="4967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  « З′єднай   пари»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258920" y="2492280"/>
            <a:ext cx="685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.131 – 132 - прочитати виразно ба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вдання від Коника — намалювати ілюстрацію до ба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вдання від Мурав’я —  створити свій варіант деформованого тек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484360" y="907920"/>
            <a:ext cx="460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є завдання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Блок-схема: узел 12"/>
          <p:cNvSpPr/>
          <p:nvPr/>
        </p:nvSpPr>
        <p:spPr>
          <a:xfrm>
            <a:off x="2643120" y="1785960"/>
            <a:ext cx="1143000" cy="1071720"/>
          </a:xfrm>
          <a:prstGeom prst="flowChartConnector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узел 15"/>
          <p:cNvSpPr/>
          <p:nvPr/>
        </p:nvSpPr>
        <p:spPr>
          <a:xfrm>
            <a:off x="3786120" y="1643040"/>
            <a:ext cx="1143000" cy="1071720"/>
          </a:xfrm>
          <a:prstGeom prst="flowChartConnector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узел 16"/>
          <p:cNvSpPr/>
          <p:nvPr/>
        </p:nvSpPr>
        <p:spPr>
          <a:xfrm>
            <a:off x="1785960" y="2500200"/>
            <a:ext cx="1143000" cy="1071720"/>
          </a:xfrm>
          <a:prstGeom prst="flowChartConnector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c00000"/>
                </a:solidFill>
                <a:latin typeface="Constantia"/>
              </a:rPr>
              <a:t>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узел 17"/>
          <p:cNvSpPr/>
          <p:nvPr/>
        </p:nvSpPr>
        <p:spPr>
          <a:xfrm>
            <a:off x="4857840" y="2214720"/>
            <a:ext cx="1143000" cy="1071360"/>
          </a:xfrm>
          <a:prstGeom prst="flowChartConnector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узел 18"/>
          <p:cNvSpPr/>
          <p:nvPr/>
        </p:nvSpPr>
        <p:spPr>
          <a:xfrm>
            <a:off x="1571760" y="3571920"/>
            <a:ext cx="1143000" cy="1071360"/>
          </a:xfrm>
          <a:prstGeom prst="flowChartConnector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узел 19"/>
          <p:cNvSpPr/>
          <p:nvPr/>
        </p:nvSpPr>
        <p:spPr>
          <a:xfrm>
            <a:off x="5357880" y="3214800"/>
            <a:ext cx="1143000" cy="1071360"/>
          </a:xfrm>
          <a:prstGeom prst="flowChartConnector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узел 20"/>
          <p:cNvSpPr/>
          <p:nvPr/>
        </p:nvSpPr>
        <p:spPr>
          <a:xfrm>
            <a:off x="2000160" y="4643280"/>
            <a:ext cx="1143000" cy="1071720"/>
          </a:xfrm>
          <a:prstGeom prst="flowChartConnector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узел 21"/>
          <p:cNvSpPr/>
          <p:nvPr/>
        </p:nvSpPr>
        <p:spPr>
          <a:xfrm>
            <a:off x="3000240" y="5286240"/>
            <a:ext cx="1143000" cy="1071720"/>
          </a:xfrm>
          <a:prstGeom prst="flowChartConnector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узел 22"/>
          <p:cNvSpPr/>
          <p:nvPr/>
        </p:nvSpPr>
        <p:spPr>
          <a:xfrm>
            <a:off x="4214880" y="5143680"/>
            <a:ext cx="1143000" cy="1071360"/>
          </a:xfrm>
          <a:prstGeom prst="flowChartConnector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узел 23"/>
          <p:cNvSpPr/>
          <p:nvPr/>
        </p:nvSpPr>
        <p:spPr>
          <a:xfrm>
            <a:off x="5072040" y="4357800"/>
            <a:ext cx="1143000" cy="1071360"/>
          </a:xfrm>
          <a:prstGeom prst="flowChartConnector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extBox 14" descr=""/>
          <p:cNvPicPr/>
          <p:nvPr/>
        </p:nvPicPr>
        <p:blipFill>
          <a:blip r:embed="rId12"/>
          <a:stretch/>
        </p:blipFill>
        <p:spPr>
          <a:xfrm>
            <a:off x="6300720" y="1989000"/>
            <a:ext cx="2548080" cy="955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619280" y="476280"/>
            <a:ext cx="59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ифрограма-колограма</a:t>
            </a:r>
            <a:endParaRPr b="1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extBox 18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7532640" cy="993600"/>
          </a:xfrm>
          <a:prstGeom prst="rect">
            <a:avLst/>
          </a:prstGeom>
          <a:ln w="0">
            <a:noFill/>
          </a:ln>
        </p:spPr>
      </p:pic>
      <p:pic>
        <p:nvPicPr>
          <p:cNvPr id="260" name="TextBox 17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6278400" cy="714600"/>
          </a:xfrm>
          <a:prstGeom prst="rect">
            <a:avLst/>
          </a:prstGeom>
          <a:ln w="0">
            <a:noFill/>
          </a:ln>
        </p:spPr>
      </p:pic>
      <p:pic>
        <p:nvPicPr>
          <p:cNvPr id="261" name="TextBox 15" descr=""/>
          <p:cNvPicPr/>
          <p:nvPr/>
        </p:nvPicPr>
        <p:blipFill>
          <a:blip r:embed="rId4"/>
          <a:stretch/>
        </p:blipFill>
        <p:spPr>
          <a:xfrm>
            <a:off x="3635280" y="1773360"/>
            <a:ext cx="1994040" cy="712800"/>
          </a:xfrm>
          <a:prstGeom prst="rect">
            <a:avLst/>
          </a:prstGeom>
          <a:ln w="0">
            <a:noFill/>
          </a:ln>
        </p:spPr>
      </p:pic>
      <p:pic>
        <p:nvPicPr>
          <p:cNvPr id="262" name="TextBox 16" descr=""/>
          <p:cNvPicPr/>
          <p:nvPr/>
        </p:nvPicPr>
        <p:blipFill>
          <a:blip r:embed="rId5"/>
          <a:stretch/>
        </p:blipFill>
        <p:spPr>
          <a:xfrm>
            <a:off x="2340000" y="2637000"/>
            <a:ext cx="4438800" cy="712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2771640" y="692280"/>
            <a:ext cx="40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ідсумок уроку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03280" y="1557360"/>
            <a:ext cx="66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ається, байка просто бре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справді ясну правду че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ікого в світі не м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тайте, згадуйте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онід Глі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0496240" y="106746840"/>
            <a:ext cx="4716720" cy="6762600"/>
          </a:xfrm>
          <a:prstGeom prst="rect">
            <a:avLst/>
          </a:prstGeom>
          <a:solidFill>
            <a:srgbClr val="4ca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2553640" y="112761720"/>
            <a:ext cx="241560" cy="2635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75960" y="112833000"/>
            <a:ext cx="314280" cy="3445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427080" y="113104440"/>
            <a:ext cx="291960" cy="319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974400" y="107427600"/>
            <a:ext cx="707760" cy="773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502800" y="107091000"/>
            <a:ext cx="865080" cy="944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190560" y="106911720"/>
            <a:ext cx="707760" cy="773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3718960" y="106575120"/>
            <a:ext cx="865080" cy="9460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2042440" y="107019720"/>
            <a:ext cx="392400" cy="428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663600" y="111980520"/>
            <a:ext cx="706320" cy="773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506280" y="112417200"/>
            <a:ext cx="863640" cy="944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675880" y="113018760"/>
            <a:ext cx="528480" cy="577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2618800" y="112761720"/>
            <a:ext cx="708120" cy="773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3090400" y="113098320"/>
            <a:ext cx="550800" cy="601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637720" y="108465840"/>
            <a:ext cx="708120" cy="773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0558160" y="108894600"/>
            <a:ext cx="263520" cy="287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663600" y="110269440"/>
            <a:ext cx="706320" cy="772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584040" y="110699640"/>
            <a:ext cx="551160" cy="601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1270000">
            <a:off x="112853880" y="107295840"/>
            <a:ext cx="1847880" cy="5445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270000">
            <a:off x="111056760" y="107489520"/>
            <a:ext cx="1846080" cy="5445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042360" y="107415000"/>
            <a:ext cx="3624480" cy="542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724840" y="110956680"/>
            <a:ext cx="243000" cy="265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5043040" y="110183760"/>
            <a:ext cx="241200" cy="264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734880" y="107091000"/>
            <a:ext cx="243000" cy="265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04360" y="106660800"/>
            <a:ext cx="241200" cy="265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380760" y="110867760"/>
            <a:ext cx="3232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Garamond"/>
              </a:rPr>
              <a:t>Сторінками байок Леоніда Глібо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380760" y="112307760"/>
            <a:ext cx="3232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858600">
            <a:off x="112916880" y="107195400"/>
            <a:ext cx="1895400" cy="2498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20382000">
            <a:off x="111096360" y="107318160"/>
            <a:ext cx="17128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irc_mi" descr=""/>
          <p:cNvPicPr/>
          <p:nvPr/>
        </p:nvPicPr>
        <p:blipFill>
          <a:blip r:embed="rId4"/>
          <a:stretch/>
        </p:blipFill>
        <p:spPr>
          <a:xfrm>
            <a:off x="112198320" y="10935648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0712240" y="106962480"/>
            <a:ext cx="4716360" cy="6762960"/>
          </a:xfrm>
          <a:prstGeom prst="rect">
            <a:avLst/>
          </a:prstGeom>
          <a:solidFill>
            <a:srgbClr val="4ca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2769640" y="112977720"/>
            <a:ext cx="241200" cy="2635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891600" y="113049000"/>
            <a:ext cx="314640" cy="3445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643080" y="113320440"/>
            <a:ext cx="291960" cy="319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2190040" y="107643600"/>
            <a:ext cx="708120" cy="773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718800" y="107307000"/>
            <a:ext cx="865080" cy="944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406200" y="107127720"/>
            <a:ext cx="708120" cy="772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3934960" y="106791120"/>
            <a:ext cx="865080" cy="9460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2258440" y="107235720"/>
            <a:ext cx="392040" cy="4284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879600" y="112196520"/>
            <a:ext cx="706320" cy="773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722280" y="112633200"/>
            <a:ext cx="863640" cy="944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891520" y="113234760"/>
            <a:ext cx="528840" cy="577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2834800" y="112977720"/>
            <a:ext cx="708120" cy="772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3306400" y="113314320"/>
            <a:ext cx="550800" cy="601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0853360" y="108681840"/>
            <a:ext cx="708120" cy="773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0774160" y="109110600"/>
            <a:ext cx="263520" cy="287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879600" y="110485080"/>
            <a:ext cx="706320" cy="773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800040" y="110915280"/>
            <a:ext cx="550800" cy="601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1270000">
            <a:off x="113069520" y="107511840"/>
            <a:ext cx="1847880" cy="5445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1270000">
            <a:off x="111272760" y="107705520"/>
            <a:ext cx="1846080" cy="544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258360" y="107631000"/>
            <a:ext cx="3624120" cy="542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0940840" y="111172680"/>
            <a:ext cx="243000" cy="264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5258680" y="110399400"/>
            <a:ext cx="241560" cy="265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950880" y="107307000"/>
            <a:ext cx="243000" cy="265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20360" y="106876800"/>
            <a:ext cx="241200" cy="265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596400" y="111083760"/>
            <a:ext cx="3232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Garamond"/>
              </a:rPr>
              <a:t>Сторінками байок Леоніда Глібо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596400" y="112523760"/>
            <a:ext cx="323208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 rot="858600">
            <a:off x="113132880" y="107411400"/>
            <a:ext cx="1895400" cy="2498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 rot="20382000">
            <a:off x="111312360" y="107534160"/>
            <a:ext cx="171288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irc_mi" descr=""/>
          <p:cNvPicPr/>
          <p:nvPr/>
        </p:nvPicPr>
        <p:blipFill>
          <a:blip r:embed="rId7"/>
          <a:stretch/>
        </p:blipFill>
        <p:spPr>
          <a:xfrm>
            <a:off x="112413960" y="109572480"/>
            <a:ext cx="194328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5435640" y="1413000"/>
            <a:ext cx="3240000" cy="4680000"/>
            <a:chOff x="5435640" y="1413000"/>
            <a:chExt cx="3240000" cy="4680000"/>
          </a:xfrm>
        </p:grpSpPr>
        <p:sp>
          <p:nvSpPr>
            <p:cNvPr id="125" name=""/>
            <p:cNvSpPr/>
            <p:nvPr/>
          </p:nvSpPr>
          <p:spPr>
            <a:xfrm>
              <a:off x="5435640" y="1526040"/>
              <a:ext cx="3240000" cy="4442760"/>
            </a:xfrm>
            <a:prstGeom prst="rect">
              <a:avLst/>
            </a:prstGeom>
            <a:solidFill>
              <a:srgbClr val="4ca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48280" y="5476320"/>
              <a:ext cx="165960" cy="17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5640" y="5524560"/>
              <a:ext cx="215640" cy="225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35640" y="5702400"/>
              <a:ext cx="200880" cy="209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50480" y="1973160"/>
              <a:ext cx="485640" cy="507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26480" y="1751760"/>
              <a:ext cx="594000" cy="620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3640" y="1634400"/>
              <a:ext cx="485640" cy="507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49640" y="1413000"/>
              <a:ext cx="594000" cy="620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97280" y="1704240"/>
              <a:ext cx="269640" cy="282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58400" y="5645880"/>
              <a:ext cx="362880" cy="379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93280" y="5476320"/>
              <a:ext cx="485640" cy="507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7280" y="5698080"/>
              <a:ext cx="378000" cy="394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32480" y="2654640"/>
              <a:ext cx="485640" cy="507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78840" y="2936880"/>
              <a:ext cx="180360" cy="188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44000" y="4122000"/>
              <a:ext cx="378000" cy="394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1270000">
              <a:off x="7054560" y="1886400"/>
              <a:ext cx="1269360" cy="35769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1270000">
              <a:off x="5819760" y="2013480"/>
              <a:ext cx="1269360" cy="3576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10760" y="1964520"/>
              <a:ext cx="2489400" cy="356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92960" y="4291200"/>
              <a:ext cx="165960" cy="17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47320" y="1751760"/>
              <a:ext cx="165960" cy="173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21280" y="1469520"/>
              <a:ext cx="165960" cy="173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42600" y="4232880"/>
              <a:ext cx="222048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</a:rPr>
                <a:t>Сторінками байок Леоніда Глібо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42600" y="5178960"/>
              <a:ext cx="222048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Arial"/>
                </a:rPr>
                <a:t>____________________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glibov-strubunec" descr=""/>
            <p:cNvPicPr/>
            <p:nvPr/>
          </p:nvPicPr>
          <p:blipFill>
            <a:blip r:embed="rId8"/>
            <a:stretch/>
          </p:blipFill>
          <p:spPr>
            <a:xfrm rot="858600">
              <a:off x="7098480" y="1820520"/>
              <a:ext cx="1301400" cy="164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ANd9GcQMrbTUuW0PmEirc6E4Y-mVKxcfx-24h_ABtxNmkI1diIATPOq6" descr=""/>
            <p:cNvPicPr/>
            <p:nvPr/>
          </p:nvPicPr>
          <p:blipFill>
            <a:blip r:embed="rId9"/>
            <a:stretch/>
          </p:blipFill>
          <p:spPr>
            <a:xfrm rot="20382000">
              <a:off x="5847120" y="1900800"/>
              <a:ext cx="1176120" cy="16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irc_mi" descr=""/>
            <p:cNvPicPr/>
            <p:nvPr/>
          </p:nvPicPr>
          <p:blipFill>
            <a:blip r:embed="rId10"/>
            <a:stretch/>
          </p:blipFill>
          <p:spPr>
            <a:xfrm>
              <a:off x="6602400" y="3027240"/>
              <a:ext cx="1334880" cy="127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171279076" descr="http://orenda.pl.ua/file/171279076"/>
          <p:cNvPicPr/>
          <p:nvPr/>
        </p:nvPicPr>
        <p:blipFill>
          <a:blip r:embed="rId11"/>
          <a:srcRect l="0" t="0" r="0" b="17614"/>
          <a:stretch/>
        </p:blipFill>
        <p:spPr>
          <a:xfrm>
            <a:off x="971640" y="162864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755640" y="476280"/>
            <a:ext cx="75913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вірка домашнього завдання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8920" y="1125360"/>
            <a:ext cx="6626160" cy="5183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1486800"/>
            <a:ext cx="583236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БІДЬ, ЩУКА І 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товаристві ____— усяк тому радіє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урне безладдя  _____ діє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І діло, як на гріх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діло — тільки   ______ 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ись-то Лебідь, Рак та Щука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авить хуру узялись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 троє ______ запряглись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икнули — катма ходу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Що за морока? Що робить?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й не велика, бачся, штука,—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 Лебідь рветься підлетіть 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к упирається, а Щука  тягне в воду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то винен з них, хто ні — судить не нам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 тільки хура й досі ____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63640" y="404640"/>
            <a:ext cx="5934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права “Доповни текст”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58920" y="1125360"/>
            <a:ext cx="6626160" cy="5183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11280" y="1343520"/>
            <a:ext cx="4564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БІДЬ, ЩУКА І 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товаристві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ла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усяк тому радіє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урне безладдя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лих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діє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І діло, як на гріх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діло — тільки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мі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ись-то Лебідь, Рак та Щука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авить хуру узялись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 троє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раз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запряглись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икнули — катма ходу…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Що за морока? Що робить?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й не велика, бачся, штука,—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 Лебідь рветься підлетіть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к упирається, а Щука тягне в воду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то винен з них, хто ні — судить не нам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 тільки хура й досі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та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987640" y="333360"/>
            <a:ext cx="33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вір себе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&amp;Kcy;&amp;acy;&amp;kcy; &amp;ncy;&amp;acy;&amp;rcy;&amp;icy;&amp;scy;&amp;ocy;&amp;vcy;&amp;acy;&amp;tcy;&amp;softcy; &amp;lcy;&amp;iecy;&amp;bcy;&amp;iecy;&amp;dcy;&amp;softcy; &amp;shchcy;&amp;ucy;&amp;kcy;&amp;acy; &amp;rcy;&amp;acy;&amp;kcy; &amp;Scy;&amp;acy;&amp;jcy;&amp;tcy; &amp;ocy; &amp;rcy;&amp;icy;&amp;scy;&amp;ocy;&amp;vcy;&amp;acy;&amp;ncy;&amp;icy;&amp;icy;"/>
          <p:cNvPicPr/>
          <p:nvPr/>
        </p:nvPicPr>
        <p:blipFill>
          <a:blip r:embed="rId2"/>
          <a:stretch/>
        </p:blipFill>
        <p:spPr>
          <a:xfrm>
            <a:off x="395280" y="2852640"/>
            <a:ext cx="4968720" cy="3816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16000" y="15573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242100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Бідь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8360" y="3429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Кащ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1557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421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бід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48360" y="3429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щу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556000" y="549360"/>
            <a:ext cx="4219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 “Перекладачі”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427640" y="1557360"/>
            <a:ext cx="432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ибає пружинк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лена в неї спинк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 трави на стебелин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 гілки на стежин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800" y="3716280"/>
            <a:ext cx="465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і біжать і поспішають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обі все щось таскаю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іють місто будуват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з відра і без лопа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&amp;CHcy;&amp;lcy;&amp;iecy;&amp;ncy;&amp;icy;&amp;scy;&amp;tcy;&amp;ocy;&amp;ncy;&amp;ocy;&amp;gcy;&amp;icy;&amp;iecy; &amp;kcy;&amp;lcy;&amp;icy;&amp;pcy;&amp;acy;&amp;rcy;&amp;tcy;, &amp;kcy;&amp;lcy;&amp;icy;&amp;pcy;&amp;acy;&amp;rcy;&amp;tcy;&amp;ycy; &amp;scy;&amp;tcy;&amp;rcy;&amp;iecy;&amp;kcy;&amp;ocy;&amp;zcy;&amp;acy; &amp;kcy;&amp;ocy;&amp;bcy;&amp;ycy;&amp;lcy;&amp;kcy;&amp;acy; &amp;pcy;&amp;acy;&amp;ucy;&amp;kcy; &amp;mcy;&amp;ncy;&amp;ocy;&amp;gcy;&amp;ocy;&amp;ncy;&amp;ocy;&amp;zhcy;&amp;kcy;&amp;acy; &amp;mcy;&amp;iecy;&amp;dcy;&amp;vcy;&amp;iecy;&amp;dcy;&amp;icy;&amp;tscy;&amp;acy; &amp;kcy;&amp;rcy;&amp;acy;&amp;bcy; &amp;kcy;&amp;ocy;&amp;mcy;&amp;acy;&amp;rcy;, clipart insect, &amp;scy;&amp;kcy;&amp;acy;&amp;chcy;&amp;acy;&amp;tcy;&amp;softcy; &amp;kcy;&amp;lcy;&amp;icy;&amp;pcy;&amp;acy;&amp;rcy;&amp;tcy;, &amp;bcy;&amp;iecy;&amp;scy;&amp;pcy;&amp;lcy;&amp;acy;&amp;tcy;&amp;ncy;"/>
          <p:cNvPicPr/>
          <p:nvPr/>
        </p:nvPicPr>
        <p:blipFill>
          <a:blip r:embed="rId2"/>
          <a:stretch/>
        </p:blipFill>
        <p:spPr>
          <a:xfrm>
            <a:off x="684360" y="1052640"/>
            <a:ext cx="3528720" cy="2297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&amp;Bcy;&amp;lcy;&amp;acy;&amp;gcy;&amp;ocy;&amp;ucy;&amp;khcy;&amp;acy;&amp;yucy;&amp;shchcy;&amp;icy;&amp;jcy; &amp;Mcy;&amp;ucy;&amp;rcy;&amp;acy;&amp;vcy;&amp;iecy;&amp;jcy;"/>
          <p:cNvPicPr/>
          <p:nvPr/>
        </p:nvPicPr>
        <p:blipFill>
          <a:blip r:embed="rId3"/>
          <a:stretch/>
        </p:blipFill>
        <p:spPr>
          <a:xfrm>
            <a:off x="4140360" y="3860640"/>
            <a:ext cx="4771800" cy="2486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564000" y="476280"/>
            <a:ext cx="2448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ідгада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00000" y="2060640"/>
            <a:ext cx="73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яжко тому жити, хто не хоче нічого роби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онід Гліб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оник-стрибунец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987640" y="692280"/>
            <a:ext cx="31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у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8:45:11Z</dcterms:created>
  <dc:creator>Максим</dc:creator>
  <dc:description/>
  <dc:language>en-US</dc:language>
  <cp:lastModifiedBy>Максим</cp:lastModifiedBy>
  <dcterms:modified xsi:type="dcterms:W3CDTF">2017-01-07T09:04:51Z</dcterms:modified>
  <cp:revision>7</cp:revision>
  <dc:subject/>
  <dc:title>Літературне читання</dc:title>
</cp:coreProperties>
</file>