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D3D-D9DF-4179-A698-D968B901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926-959C-4CA5-83AC-BCB8CC0A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77B-6B69-42C5-AE84-2F34A155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728-9F8E-4007-9CD2-D2D06516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08F-FAC6-473E-92DE-CD984C8C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A21-E777-4A39-AE10-D757F491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AE8-9E0D-4B6B-B1D8-450A69C9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BCF-A198-476C-A341-4DEA587B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C26-EA99-47EC-8D58-78284B81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B52-F25F-4997-91EB-C20A6B8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D27-80DA-4555-8B13-D42A24CB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A22-8148-4B49-A933-DC544CB3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12AC-26E1-4981-B10B-58B527D3A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Pcy;&amp;rcy;&amp;ocy;&amp;gcy;&amp;rcy;&amp;acy;&amp;mcy;&amp;mcy;&amp;acy; &amp;lcy;&amp;iecy;&amp;tcy;&amp;ncy;&amp;iecy;&amp;gcy;&amp;ocy; &amp;lcy;&amp;acy;&amp;gcy;&amp;iecy;&amp;rcy;&amp;yacy; &amp;pcy;&amp;ocy; &amp;zcy;&amp;ocy;&amp;zhcy; - &amp;Ncy;&amp;ocy;&amp;vcy;&amp;ycy;&amp;jcy; &amp;ucy;&amp;chcy;&amp;iecy;&amp;bcy;&amp;ncy;&amp;icy;&amp;k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97080" y="206028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d60093"/>
                </a:solidFill>
                <a:latin typeface="Forte"/>
              </a:rPr>
              <a:t>Фізкультхвилин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987640" y="3357720"/>
            <a:ext cx="36828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7640" y="476280"/>
            <a:ext cx="2695680" cy="5183280"/>
          </a:xfrm>
          <a:prstGeom prst="rect">
            <a:avLst/>
          </a:prstGeom>
          <a:ln w="0">
            <a:noFill/>
          </a:ln>
        </p:spPr>
      </p:pic>
      <p:sp>
        <p:nvSpPr>
          <p:cNvPr id="80" name="Выноска-облако 6"/>
          <p:cNvSpPr/>
          <p:nvPr/>
        </p:nvSpPr>
        <p:spPr>
          <a:xfrm>
            <a:off x="5148360" y="620640"/>
            <a:ext cx="3643200" cy="2143080"/>
          </a:xfrm>
          <a:prstGeom prst="cloudCallout">
            <a:avLst>
              <a:gd name="adj1" fmla="val -60587"/>
              <a:gd name="adj2" fmla="val 37555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Calibri"/>
              </a:rPr>
              <a:t>Па – п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32000" y="692280"/>
            <a:ext cx="4824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463248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620640"/>
            <a:ext cx="49690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03640" y="112536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9319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acy;&amp;bcy;&amp;scy;&amp;tcy;&amp;rcy;&amp;acy;&amp;kcy;&amp;tcy;&amp;ncy;&amp;ycy;&amp;iecy; &amp;tscy;&amp;vcy;&amp;iecy;&amp;tcy;&amp;ocy;&amp;chcy;&amp;ncy;&amp;ycy;&amp;iecy; &amp;Ocy;&amp;bcy;&amp;ocy;&amp;icy; HD &amp;lcy;&amp;ucy;&amp;gcy;&amp;acy; - Flowers &amp; Plants (#10594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40360" y="765000"/>
            <a:ext cx="26035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8:20:31Z</dcterms:created>
  <dc:creator>Максим</dc:creator>
  <dc:description/>
  <dc:language>en-US</dc:language>
  <cp:lastModifiedBy>Максим</cp:lastModifiedBy>
  <dcterms:modified xsi:type="dcterms:W3CDTF">2015-01-19T19:04:00Z</dcterms:modified>
  <cp:revision>3</cp:revision>
  <dc:subject/>
  <dc:title>Фізкультхвилинка </dc:title>
</cp:coreProperties>
</file>