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27.wmf" ContentType="image/x-wmf"/>
  <Override PartName="/ppt/media/image1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2.png" ContentType="image/png"/>
  <Override PartName="/ppt/media/image1.jpeg" ContentType="image/jpeg"/>
  <Override PartName="/ppt/media/image10.png" ContentType="image/png"/>
  <Override PartName="/ppt/media/image19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A1C-82A2-440C-B19E-D45DB73F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031-9CEB-45F4-A430-3CEE16A3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77E6E-B3B2-4BEA-9E9C-271CF41E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8D81B-BB52-45A1-9309-E106953A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AC594-62CB-4BAA-9B41-336048F7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48E0F-C305-4BFF-9C79-C56A0769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78471-4BCB-433E-841B-47E896EF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C8FAC-FF82-40B2-9DCB-F4E825A5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6122B-34FE-4C23-93C8-E9B9F7EA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715A8-7BDF-4DB3-AA59-D1527D3A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26CDC-8CEF-4626-86DB-677F9E7D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AB8-EF95-4EE7-BA69-79A32304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838-95F1-49D5-ABCA-0F791C8A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FF8B-D8B0-4213-AC96-07612A2B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B81C-BB0F-478B-8686-5E8A2CD8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6307-B409-46F2-B3CD-4035F6D6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786E-9E8E-4408-833D-39446A65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2337-3901-44C3-8902-6EADAEF2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33AF-6FFA-4B51-8C3F-2D9C32EE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E07B-F5A3-43F9-BA3D-6EF8FC52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CE5-CA5B-43EC-BA53-45CCB099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C616-7674-469D-AC7C-36CBAB9D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34AA-968D-4FD0-AF46-DFB7D36D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8CD9-2D62-45D3-B794-5796C34C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CBE0-657D-465B-B031-B5CA2B6F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97B9-276C-4F17-9FE1-C64986DB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7826B-389F-44C9-A32F-F440045F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F449A-4862-4D06-817A-E5FA09F6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056D2-BD49-408C-8DAF-85315228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2AE0-D310-405E-802E-B1958647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41F04-33E9-4843-8F96-CEF9AD5A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028D-DFE6-4A9F-8EF7-9A3855DA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8D49-E8D8-4F88-803F-D5C40B69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B31B6-4A90-4CBD-B60A-1B2E0E10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124D5-BF1A-421B-A364-DFA6E926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5F0CE-C6A5-4678-9D5C-89C3650C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896C-005D-4EF5-8990-51B1D77E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6911B-6F4B-422D-9767-9D2C3DDD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1268E-254A-4C62-92E3-3A1472AE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8F622-AF5E-4A07-966D-9E2C965D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276C3-083A-4108-83D7-D31884E1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8B65-CB98-44F4-A760-C3AD1A70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9E4-944F-41CD-B97E-DB918B05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6D099-2503-4903-A1B7-65920916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8BAD4-FFAE-43A9-B1FE-E0B0B50B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05C83-D253-4C26-BF1A-5C03FDAA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3A404-A375-407A-AA10-6FE5B686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1DC30-D305-4F2F-AFB9-01BD4092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FE57A-4738-46FF-B1F7-635CBDCE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45315-A2D1-433D-BA52-59229B11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48553-CE1B-4F30-B533-F1A32E7D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4BAB3-3E45-425F-8DBB-A69C3764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E5F60-BDF4-4E00-8024-87D1D9B1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753-B322-4001-8D10-2C305D26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F570F-A9EB-47DA-B707-D7E9EC01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917EA-0F9F-4413-BD87-90406475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68AAB-C544-4274-A854-9604AB68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499FB-1E38-468D-9AAF-65E7A759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53FF8-C1C2-4F6F-8202-5A7036EB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CA7CD-44E9-4C5B-8BFD-60C9691A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A0532-29BF-4CE8-9F90-A3B5D16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48129-9077-4EB3-9ABE-181E3722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6A3C4-57FE-409A-9F29-8F82BF68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54BEC-15A9-48EF-8924-437F8586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99F-3802-410D-9446-1D0AD43F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8B8B6-240B-4800-B203-23316E52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C0020-383E-4E0D-ADA7-AC796AAD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59CF6-043F-479F-BDF8-57C0235D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12015-F313-4DB3-B64D-70B9D488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BFF25-0BDB-46AF-AB62-82B3399C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FEDE5-EA0C-422D-9F7C-7F0A5500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10793-029C-48B7-9CF0-F48B3F9F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10E7B-9587-4FCD-9828-D6B74A7B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520AF-9B79-4B08-A1CB-314A887F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0EE53-7AFE-4841-9FD3-F4D21C6B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8050-0458-4017-AD9D-EF85E63D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6BC65-ADE6-44AD-AADA-4C9CE4B9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5F084-C88B-4F83-AED9-E5076DD4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9055E-0E94-44B6-8DD3-73DFB455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95489-D293-412A-A758-66BD93F2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D3039-37E5-4586-BB04-88507A15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B2846-BB0A-4387-AF08-E862F006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97A03-82F2-4FA1-8637-93358283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CE795-2E55-4010-8409-E06740F2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823E8-E536-4CE5-85EE-085704CA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B1C42-3297-45EF-9D3B-62F18C1A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D91-442C-4057-9A57-A932446C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9FAEA-A0F4-43B2-9C2B-CAECD336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CDC81-FA66-4F29-9323-AC78A8D9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DD5D6-0D2B-40ED-B194-F82E4EFD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EE253-601D-403C-A240-6DAD8194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64D68-0C07-4E1A-80D5-C9DB3AAA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D4B54-6165-4251-A20C-6DBC6DCA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B290E-0E5A-4942-8125-AA9F2EF0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11F5C-249A-420B-9F42-2577954E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14CC4-A917-47C4-9907-F407BC3E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60D27-254B-4CF5-81DC-DA072092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556-B658-4A17-819C-1D173FDE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33372-F804-40F9-BC93-9B513895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C4C24-1A1B-4A48-83BC-B8EC3140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4838E-3B7C-4B57-B293-718C6B6E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D86BF-0677-4009-9FCB-448D4BE9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F9293-5D52-4EF1-8D3D-B0243DB6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37AF9-E805-4385-9040-8096D4E8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A6E32-F1D5-4757-B451-D25C07E1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C1F4A-25ED-46EB-8B56-8107EE70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30F48-F51C-476F-98B6-72FF08F7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E70A6-0A8B-48C6-92C3-C94D709A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37DB-32A3-4386-ABE2-A1C824E37A4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6E65-E86C-418A-89A8-7C5C3CF1EF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8866-FB69-4DC6-90BA-D05AD47121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8BA6-5A14-416E-855C-9642B67450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2221-6BDC-4E8E-AD7D-AD6DA3D17B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29DA-7173-4E0F-98AD-56919872CC0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3626-A163-4DBD-9B2E-2B750849A5F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1465-0D8A-4D2B-AA9D-E6CEE9B736C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046A-1751-44A5-9089-6BAAB51EB4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s://uk.wikipedia.org/wiki/&#1071;&#1087;&#1086;&#1085;&#1089;&#1100;&#1082;&#1080;&#1081;_&#1072;&#1088;&#1093;&#1110;&#1087;&#1077;&#1083;&#1072;&#1075;" TargetMode="External"/><Relationship Id="rId3" Type="http://schemas.openxmlformats.org/officeDocument/2006/relationships/hyperlink" Target="https://uk.wikipedia.org/wiki/&#1058;&#1080;&#1093;&#1080;&#1081;_&#1086;&#1082;&#1077;&#1072;&#1085;" TargetMode="External"/><Relationship Id="rId4" Type="http://schemas.openxmlformats.org/officeDocument/2006/relationships/hyperlink" Target="https://uk.wikipedia.org/wiki/&#1058;&#1086;&#1082;&#1110;&#1086;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1320481767_12121"/>
          <p:cNvPicPr/>
          <p:nvPr/>
        </p:nvPicPr>
        <p:blipFill>
          <a:blip r:embed="rId1"/>
          <a:stretch/>
        </p:blipFill>
        <p:spPr>
          <a:xfrm>
            <a:off x="378000" y="835200"/>
            <a:ext cx="7785000" cy="4584600"/>
          </a:xfrm>
          <a:prstGeom prst="rect">
            <a:avLst/>
          </a:prstGeom>
          <a:ln w="0">
            <a:noFill/>
          </a:ln>
        </p:spPr>
      </p:pic>
      <p:pic>
        <p:nvPicPr>
          <p:cNvPr id="400" name="Rectangle 2" descr=""/>
          <p:cNvPicPr/>
          <p:nvPr/>
        </p:nvPicPr>
        <p:blipFill>
          <a:blip r:embed="rId2"/>
          <a:stretch/>
        </p:blipFill>
        <p:spPr>
          <a:xfrm>
            <a:off x="682560" y="60480"/>
            <a:ext cx="7785000" cy="1665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733560" y="4266720"/>
            <a:ext cx="510516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Перегонов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Галина Дмитрівн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педагог-організатор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ЗОШ І-ІІІ ступенів №31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М.Краматорськ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Японія - маленька країна з територією в 372,2 тис. км., Японія складається приблизно з 6800 островів. А з цього числа 70% займають гори, і виходить, що на території, що залишилася проживають 127 мільйонів людей.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Японці дуже поважають тих, хто може сказати їхньою мовою хоча б дві фрази. Вони вважають, що вивчити її нереально.</a:t>
            </a: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4" descr="tokyo_disneysea"/>
          <p:cNvPicPr/>
          <p:nvPr/>
        </p:nvPicPr>
        <p:blipFill>
          <a:blip r:embed="rId1"/>
          <a:stretch/>
        </p:blipFill>
        <p:spPr>
          <a:xfrm>
            <a:off x="2514600" y="33526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2" descr="http://www.santour.ru/Japan/images/index/JAPAN3.jpg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6226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298440" y="-42840"/>
            <a:ext cx="8699400" cy="22431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8" name="Picture 2" descr="C:\Users\User\Desktop\000212870.jpg"/>
          <p:cNvPicPr/>
          <p:nvPr/>
        </p:nvPicPr>
        <p:blipFill>
          <a:blip r:embed="rId2"/>
          <a:stretch/>
        </p:blipFill>
        <p:spPr>
          <a:xfrm>
            <a:off x="838080" y="1600200"/>
            <a:ext cx="7696440" cy="4950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http://www.animacity.ru/sites/default/files/imagecache/photo-big/user/27969/avatar/6478_1312169357.jpg"/>
          <p:cNvPicPr/>
          <p:nvPr/>
        </p:nvPicPr>
        <p:blipFill>
          <a:blip r:embed="rId1"/>
          <a:stretch/>
        </p:blipFill>
        <p:spPr>
          <a:xfrm>
            <a:off x="228600" y="990720"/>
            <a:ext cx="3733920" cy="5867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http://samopoznanie.ru/avatars/objects/3-18235_1_4.jpg?8b58446ca857e9a426f50c4a08ef9d17"/>
          <p:cNvPicPr/>
          <p:nvPr/>
        </p:nvPicPr>
        <p:blipFill>
          <a:blip r:embed="rId2"/>
          <a:stretch/>
        </p:blipFill>
        <p:spPr>
          <a:xfrm>
            <a:off x="5097600" y="1081080"/>
            <a:ext cx="4046400" cy="5776920"/>
          </a:xfrm>
          <a:prstGeom prst="rect">
            <a:avLst/>
          </a:prstGeom>
          <a:ln w="0">
            <a:noFill/>
          </a:ln>
        </p:spPr>
      </p:pic>
      <p:pic>
        <p:nvPicPr>
          <p:cNvPr id="431" name="Заголовок 1" descr=""/>
          <p:cNvPicPr/>
          <p:nvPr/>
        </p:nvPicPr>
        <p:blipFill>
          <a:blip r:embed="rId3"/>
          <a:stretch/>
        </p:blipFill>
        <p:spPr>
          <a:xfrm>
            <a:off x="450720" y="4664160"/>
            <a:ext cx="7864560" cy="16938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D:\Новая папка\Анаит\Изображения\AN00932_.WMF"/>
          <p:cNvPicPr/>
          <p:nvPr/>
        </p:nvPicPr>
        <p:blipFill>
          <a:blip r:embed="rId4"/>
          <a:stretch/>
        </p:blipFill>
        <p:spPr>
          <a:xfrm>
            <a:off x="2895480" y="0"/>
            <a:ext cx="3962520" cy="2590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2" descr="http://www.5.ua/media/pictures/400x270/66891.jpg"/>
          <p:cNvPicPr/>
          <p:nvPr/>
        </p:nvPicPr>
        <p:blipFill>
          <a:blip r:embed="rId1"/>
          <a:stretch/>
        </p:blipFill>
        <p:spPr>
          <a:xfrm>
            <a:off x="304920" y="380880"/>
            <a:ext cx="8578800" cy="5791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33520" y="3805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Японія - остання країна в світі, формально зберегла титул Імперії. Японська імператорська династія ніколи не переривалася. Правлячий сьогодні імператор Акіхіто прямий нащадок першого імператора Дзімму, що заснував Японію в 711 році до нашої ер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Picture 6" descr="http://newstes.ru/uploads/posts/2016-10/yaponskiy-imperator-otrechetsya-ot-prestola-v-2018-godu_1.jpeg"/>
          <p:cNvPicPr/>
          <p:nvPr/>
        </p:nvPicPr>
        <p:blipFill>
          <a:blip r:embed="rId1"/>
          <a:stretch/>
        </p:blipFill>
        <p:spPr>
          <a:xfrm>
            <a:off x="1447920" y="2819520"/>
            <a:ext cx="6095880" cy="3814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225360"/>
            <a:ext cx="8699400" cy="233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228600" y="2286000"/>
            <a:ext cx="922032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Tahoma"/>
              </a:rPr>
              <a:t>Офіційна назва — </a:t>
            </a:r>
            <a:r>
              <a:rPr b="1" lang="vi-VN" sz="3600" spc="-1" strike="noStrike">
                <a:solidFill>
                  <a:srgbClr val="000000"/>
                </a:solidFill>
                <a:latin typeface="Tahoma"/>
              </a:rPr>
              <a:t>Япо́нська Держа́ва</a:t>
            </a:r>
            <a:r>
              <a:rPr b="0" lang="vi-VN" sz="3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Tahoma"/>
              </a:rPr>
              <a:t>Розташована на </a:t>
            </a:r>
            <a:r>
              <a:rPr b="0" lang="vi-VN" sz="3600" spc="-1" strike="noStrike" u="sng">
                <a:solidFill>
                  <a:srgbClr val="ad1f1f"/>
                </a:solidFill>
                <a:uFillTx/>
                <a:latin typeface="Tahoma"/>
                <a:hlinkClick r:id="rId2"/>
              </a:rPr>
              <a:t>Японському архіпелазі</a:t>
            </a:r>
            <a:r>
              <a:rPr b="0" lang="vi-VN" sz="3600" spc="-1" strike="noStrike">
                <a:solidFill>
                  <a:srgbClr val="000000"/>
                </a:solidFill>
                <a:latin typeface="Tahoma"/>
              </a:rPr>
              <a:t>, у</a:t>
            </a:r>
            <a:r>
              <a:rPr b="0" lang="uk-UA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vi-VN" sz="3600" spc="-1" strike="noStrike">
                <a:solidFill>
                  <a:srgbClr val="000000"/>
                </a:solidFill>
                <a:latin typeface="Tahoma"/>
              </a:rPr>
              <a:t>північно-західній частині </a:t>
            </a:r>
            <a:r>
              <a:rPr b="0" lang="vi-VN" sz="3600" spc="-1" strike="noStrike" u="sng">
                <a:solidFill>
                  <a:srgbClr val="ad1f1f"/>
                </a:solidFill>
                <a:uFillTx/>
                <a:latin typeface="Tahoma"/>
                <a:hlinkClick r:id="rId3"/>
              </a:rPr>
              <a:t>Тихого океану</a:t>
            </a:r>
            <a:r>
              <a:rPr b="0" lang="vi-VN" sz="3600" spc="-1" strike="noStrike">
                <a:solidFill>
                  <a:srgbClr val="000000"/>
                </a:solidFill>
                <a:latin typeface="Tahoma"/>
              </a:rPr>
              <a:t>.  Столиця — </a:t>
            </a:r>
            <a:r>
              <a:rPr b="0" lang="vi-VN" sz="3600" spc="-1" strike="noStrike" u="sng">
                <a:solidFill>
                  <a:srgbClr val="ad1f1f"/>
                </a:solidFill>
                <a:uFillTx/>
                <a:latin typeface="Tahoma"/>
                <a:hlinkClick r:id="rId4"/>
              </a:rPr>
              <a:t>Токіо</a:t>
            </a:r>
            <a:r>
              <a:rPr b="0" lang="vi-VN" sz="3600" spc="-1" strike="noStrike">
                <a:solidFill>
                  <a:srgbClr val="000000"/>
                </a:solidFill>
                <a:latin typeface="Tahoma"/>
              </a:rPr>
              <a:t>. Одна з найбільш технологічно розвинутих країн світу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5"/>
          <a:stretch/>
        </p:blipFill>
        <p:spPr>
          <a:xfrm>
            <a:off x="298440" y="5479920"/>
            <a:ext cx="8699400" cy="1317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390600"/>
            <a:ext cx="8699400" cy="19018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3"/>
          <p:cNvSpPr/>
          <p:nvPr/>
        </p:nvSpPr>
        <p:spPr>
          <a:xfrm>
            <a:off x="5257800" y="1905120"/>
            <a:ext cx="358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фіційна назва: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HGｺﾞｼｯｸE"/>
              </a:rPr>
              <a:t>日章旗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Gｺﾞｼｯｸ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Gｺﾞｼｯｸ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иссьо:кі) – «державний прапор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гальна назва: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HGｺﾞｼｯｸE"/>
              </a:rPr>
              <a:t>日の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Gｺﾞｼｯｸ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іномару) – «сонячне коло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ата офіційного приняття: 13 серпня  1999 рок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лір: білий, черво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2" descr="https://upload.wikimedia.org/wikipedia/commons/thumb/9/9e/Flag_of_Japan.svg/900px-Flag_of_Japan.svg.png"/>
          <p:cNvPicPr/>
          <p:nvPr/>
        </p:nvPicPr>
        <p:blipFill>
          <a:blip r:embed="rId2"/>
          <a:stretch/>
        </p:blipFill>
        <p:spPr>
          <a:xfrm>
            <a:off x="380880" y="1828800"/>
            <a:ext cx="4730760" cy="3154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25360" y="871560"/>
            <a:ext cx="8699400" cy="309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https://upload.wikimedia.org/wikipedia/commons/thumb/3/37/Imperial_Seal_of_Japan.svg/85px-Imperial_Seal_of_Japan.svg.png"/>
          <p:cNvPicPr/>
          <p:nvPr/>
        </p:nvPicPr>
        <p:blipFill>
          <a:blip r:embed="rId2"/>
          <a:stretch/>
        </p:blipFill>
        <p:spPr>
          <a:xfrm>
            <a:off x="2819520" y="350532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98440" y="414360"/>
            <a:ext cx="8699400" cy="1268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ереклад Гімну на українську мову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рав, імператор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Тисячу, чи вісім тисяч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околінь, пок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Мох не прикрасить скелі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Що виросли з щебен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http://os1.i.ua/3/1/6270875_195a36ed.jpg"/>
          <p:cNvPicPr/>
          <p:nvPr/>
        </p:nvPicPr>
        <p:blipFill>
          <a:blip r:embed="rId1"/>
          <a:stretch/>
        </p:blipFill>
        <p:spPr>
          <a:xfrm>
            <a:off x="-15840" y="457200"/>
            <a:ext cx="9159840" cy="5943600"/>
          </a:xfrm>
          <a:prstGeom prst="rect">
            <a:avLst/>
          </a:prstGeom>
          <a:ln w="0">
            <a:noFill/>
          </a:ln>
        </p:spPr>
      </p:pic>
      <p:pic>
        <p:nvPicPr>
          <p:cNvPr id="418" name="Заголовок 1" descr=""/>
          <p:cNvPicPr/>
          <p:nvPr/>
        </p:nvPicPr>
        <p:blipFill>
          <a:blip r:embed="rId2"/>
          <a:stretch/>
        </p:blipFill>
        <p:spPr>
          <a:xfrm>
            <a:off x="450720" y="158760"/>
            <a:ext cx="8723520" cy="6076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https://aviaua.com/images/country/japan/see/crop_720_405_1.jpg"/>
          <p:cNvPicPr/>
          <p:nvPr/>
        </p:nvPicPr>
        <p:blipFill>
          <a:blip r:embed="rId1"/>
          <a:stretch/>
        </p:blipFill>
        <p:spPr>
          <a:xfrm>
            <a:off x="1143000" y="304920"/>
            <a:ext cx="6705720" cy="3771720"/>
          </a:xfrm>
          <a:prstGeom prst="rect">
            <a:avLst/>
          </a:prstGeom>
          <a:ln w="0">
            <a:noFill/>
          </a:ln>
        </p:spPr>
      </p:pic>
      <p:pic>
        <p:nvPicPr>
          <p:cNvPr id="420" name="Заголовок 1" descr=""/>
          <p:cNvPicPr/>
          <p:nvPr/>
        </p:nvPicPr>
        <p:blipFill>
          <a:blip r:embed="rId2"/>
          <a:stretch/>
        </p:blipFill>
        <p:spPr>
          <a:xfrm>
            <a:off x="347760" y="3998880"/>
            <a:ext cx="8802720" cy="29512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8:55:41Z</dcterms:created>
  <dc:creator>inna</dc:creator>
  <dc:description/>
  <dc:language>en-US</dc:language>
  <cp:lastModifiedBy>User</cp:lastModifiedBy>
  <dcterms:modified xsi:type="dcterms:W3CDTF">2017-01-04T21:08:44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