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47C4-9D7D-48DC-8F15-58A7361AC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1CDB-2DF5-4D49-B0AB-DF500A2BBA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821-EE0E-42B1-A6E2-8E2A5DA673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9447-AF9F-4BB2-9959-F58DAA8C70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0E5E-45C7-4707-AEFD-5F113AD81F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043E-02E6-40FC-99DA-FEFA25B95A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9C0-ADB4-4DD9-A327-748ED38CA6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ED7-8191-439F-B51E-7C96919A67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996-AACA-4C71-8C65-7F9536336A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F2E1-41BF-40B1-9D7E-1EA8027DE9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B7CA-1930-4D91-9327-5863CE3255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633-29BE-4E21-B546-31015698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054-6D12-46F6-BEBE-8194E02F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3E0-F72E-4F59-B949-D800AF77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235-ED81-4888-9BF3-B17D6AF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377-205E-4CE6-822E-B8D1B367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87F-E61C-47AA-AF1D-DF8A8B18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A9A-C1A9-402A-8878-E678DE6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C14-13FB-4655-9574-80C2289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D7BF-E76F-4587-856F-F0FAFF5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4A0-F101-41D9-80C6-ADF6A0C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8D6-B4D4-4973-A061-B3671CC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E16-BB9C-4EB9-A809-C9CE699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C53E-396C-449D-A752-DD06C29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A90-B059-4DC4-97A6-BDD07C2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7A5-3431-487E-A713-7E60852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892-07DF-4CA6-88D7-18542698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8D1-A7DE-47AD-8406-F3EF5394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067-7FEC-4637-9B04-DE0C6FA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F35-5AA0-49CC-B017-A86D3B0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A02-10AD-4511-98DE-1658718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0A0-437E-4033-9471-835E966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81F-AB17-4DA4-A8DA-1F35ED6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10E-2924-403F-9170-B625C80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C49-7236-4D2A-830D-7658CF6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4F58-1F97-4BEF-B2C4-00EF2425857E}" type="slidenum">
              <a:rPr b="0" lang="uk-U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848-41A8-42EF-8E59-8ECF71DCB9B7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ловая игр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3680" y="4005000"/>
            <a:ext cx="81946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Verdana"/>
              </a:rPr>
              <a:t>ПРАВОВИЙ БАТЛ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8" descr="530c3741-68ea-11db-68ea-11d494da62c3"/>
          <p:cNvPicPr/>
          <p:nvPr/>
        </p:nvPicPr>
        <p:blipFill>
          <a:blip r:embed="rId1"/>
          <a:stretch/>
        </p:blipFill>
        <p:spPr>
          <a:xfrm>
            <a:off x="4500720" y="0"/>
            <a:ext cx="3563640" cy="356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6da068f142e6bb4c29b7287a04d08428e52a54ce"/>
          <p:cNvPicPr/>
          <p:nvPr/>
        </p:nvPicPr>
        <p:blipFill>
          <a:blip r:embed="rId2"/>
          <a:stretch/>
        </p:blipFill>
        <p:spPr>
          <a:xfrm>
            <a:off x="468360" y="333360"/>
            <a:ext cx="39592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ІІІ ТУР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ПРАВОВИЙ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ВІНЕГРЕТ</a:t>
            </a:r>
            <a:br>
              <a:rPr sz="4800"/>
            </a:b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1.“Чорний ящик”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2. “Заверши прислі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.”Юридична математика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luemarble2k_big"/>
          <p:cNvPicPr/>
          <p:nvPr/>
        </p:nvPicPr>
        <p:blipFill>
          <a:blip r:embed="rId1"/>
          <a:stretch/>
        </p:blipFill>
        <p:spPr>
          <a:xfrm>
            <a:off x="0" y="0"/>
            <a:ext cx="37638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322280"/>
            <a:ext cx="82425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Verdana"/>
              </a:rPr>
              <a:t>ЗАВЕРШИ ПРИСЛІВ</a:t>
            </a:r>
            <a:r>
              <a:rPr b="1" lang="en-GB" sz="8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uk-UA" sz="8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luemarble2k_big"/>
          <p:cNvPicPr/>
          <p:nvPr/>
        </p:nvPicPr>
        <p:blipFill>
          <a:blip r:embed="rId1"/>
          <a:stretch/>
        </p:blipFill>
        <p:spPr>
          <a:xfrm>
            <a:off x="826920" y="0"/>
            <a:ext cx="7275600" cy="74613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3"/>
          <p:cNvSpPr/>
          <p:nvPr/>
        </p:nvSpPr>
        <p:spPr>
          <a:xfrm>
            <a:off x="0" y="5084640"/>
            <a:ext cx="9144000" cy="151308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32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5400" spc="-1" strike="noStrike">
                <a:solidFill>
                  <a:srgbClr val="ffffff"/>
                </a:solidFill>
                <a:latin typeface="Verdana"/>
              </a:rPr>
              <a:t>Юридична математика!</a:t>
            </a:r>
            <a:r>
              <a:rPr b="0" lang="uk-UA" sz="5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1447031694_7"/>
          <p:cNvPicPr/>
          <p:nvPr/>
        </p:nvPicPr>
        <p:blipFill>
          <a:blip r:embed="rId3"/>
          <a:stretch/>
        </p:blipFill>
        <p:spPr>
          <a:xfrm>
            <a:off x="2771640" y="2205000"/>
            <a:ext cx="40197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c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тур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САМ СОБІ АДВОКА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773360"/>
            <a:ext cx="288144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Конкурс «</a:t>
            </a:r>
            <a:r>
              <a:rPr b="0" lang="uk-UA" sz="2400" spc="-1" strike="noStrike">
                <a:solidFill>
                  <a:srgbClr val="6666ff"/>
                </a:solidFill>
                <a:latin typeface="Arial"/>
              </a:rPr>
              <a:t>Знай права, виконуй обовязки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2. Конкурс «Юридична консультація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284720" y="5734080"/>
            <a:ext cx="576360" cy="792000"/>
          </a:xfrm>
          <a:prstGeom prst="rect">
            <a:avLst/>
          </a:prstGeom>
          <a:solidFill>
            <a:srgbClr val="f2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1280x1024"/>
          <p:cNvPicPr/>
          <p:nvPr/>
        </p:nvPicPr>
        <p:blipFill>
          <a:blip r:embed="rId1"/>
          <a:stretch/>
        </p:blipFill>
        <p:spPr>
          <a:xfrm>
            <a:off x="3780000" y="1700280"/>
            <a:ext cx="4716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250920" y="4437000"/>
            <a:ext cx="8675640" cy="1701720"/>
          </a:xfrm>
          <a:prstGeom prst="roundRect">
            <a:avLst>
              <a:gd name="adj" fmla="val 16667"/>
            </a:avLst>
          </a:prstGeom>
          <a:blipFill rotWithShape="0">
            <a:blip r:embed="rId1">
              <a:alphaModFix amt="32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Verdana"/>
              </a:rPr>
              <a:t>1 конкурс “ЗНАЙ ПРАВ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Verdana"/>
              </a:rPr>
              <a:t>ВИКОНУЙ ОБОВЯЗКИ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MoonAni"/>
          <p:cNvPicPr/>
          <p:nvPr/>
        </p:nvPicPr>
        <p:blipFill>
          <a:blip r:embed="rId2"/>
          <a:stretch/>
        </p:blipFill>
        <p:spPr>
          <a:xfrm>
            <a:off x="3635280" y="1787400"/>
            <a:ext cx="5508720" cy="2203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580000" y="3357720"/>
            <a:ext cx="316872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6" descr="highres_440787882"/>
          <p:cNvPicPr/>
          <p:nvPr/>
        </p:nvPicPr>
        <p:blipFill>
          <a:blip r:embed="rId3"/>
          <a:stretch/>
        </p:blipFill>
        <p:spPr>
          <a:xfrm>
            <a:off x="4500720" y="260280"/>
            <a:ext cx="4857480" cy="3643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sruhr42011-ru-969x0"/>
          <p:cNvPicPr/>
          <p:nvPr/>
        </p:nvPicPr>
        <p:blipFill>
          <a:blip r:embed="rId4"/>
          <a:stretch/>
        </p:blipFill>
        <p:spPr>
          <a:xfrm>
            <a:off x="0" y="1125360"/>
            <a:ext cx="4680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"/>
                            </p:stCondLst>
                            <p:childTnLst>
                              <p:par>
                                <p:cTn id="87" nodeType="afterEffect" fill="hold" presetClass="exit" presetID="7" presetSubtype="1">
                                  <p:stCondLst>
                                    <p:cond delay="10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курс 2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Юридична консультаці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7" descr="22892467_html_1eff6e7b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ДЯКУЄМО ЗА УВАГ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bluemarble2k_big"/>
          <p:cNvPicPr/>
          <p:nvPr/>
        </p:nvPicPr>
        <p:blipFill>
          <a:blip r:embed="rId1"/>
          <a:stretch/>
        </p:blipFill>
        <p:spPr>
          <a:xfrm>
            <a:off x="826920" y="119700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Space024"/>
          <p:cNvPicPr/>
          <p:nvPr/>
        </p:nvPicPr>
        <p:blipFill>
          <a:blip r:embed="rId1"/>
          <a:stretch/>
        </p:blipFill>
        <p:spPr>
          <a:xfrm>
            <a:off x="-252360" y="0"/>
            <a:ext cx="1130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Зевс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4" descr="image"/>
          <p:cNvPicPr/>
          <p:nvPr/>
        </p:nvPicPr>
        <p:blipFill>
          <a:blip r:embed="rId1"/>
          <a:stretch/>
        </p:blipFill>
        <p:spPr>
          <a:xfrm>
            <a:off x="2484360" y="50760"/>
            <a:ext cx="5445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364000" y="3284640"/>
            <a:ext cx="316872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6" descr="Archive_Miscellaneous_Collision_03250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Фемі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186358"/>
          <p:cNvPicPr/>
          <p:nvPr/>
        </p:nvPicPr>
        <p:blipFill>
          <a:blip r:embed="rId1"/>
          <a:stretch/>
        </p:blipFill>
        <p:spPr>
          <a:xfrm>
            <a:off x="247176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j0396042"/>
          <p:cNvPicPr/>
          <p:nvPr/>
        </p:nvPicPr>
        <p:blipFill>
          <a:blip r:embed="rId1"/>
          <a:stretch/>
        </p:blipFill>
        <p:spPr>
          <a:xfrm>
            <a:off x="-118908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829080" y="0"/>
            <a:ext cx="9001080" cy="597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ерший тур</a:t>
            </a:r>
            <a:r>
              <a:rPr b="1" i="1" lang="uk-UA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Розминка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6600"/>
            </a:br>
            <a:br>
              <a:rPr sz="6600"/>
            </a:b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1 конкурс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най закони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4400"/>
            </a:b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2 конкурс “Правовий бліц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339640" y="260280"/>
            <a:ext cx="655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І ТУР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«ПОДУМАЄМО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Р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СЛІДКИ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ава людини в літературних творах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Майнові злочини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Обставини скоєння злочину”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EARTH"/>
          <p:cNvPicPr/>
          <p:nvPr/>
        </p:nvPicPr>
        <p:blipFill>
          <a:blip r:embed="rId1"/>
          <a:stretch/>
        </p:blipFill>
        <p:spPr>
          <a:xfrm>
            <a:off x="0" y="189000"/>
            <a:ext cx="360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ПРАВА ЛЮДИНИ В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Л</a:t>
            </a:r>
            <a:r>
              <a:rPr b="0" lang="uk-UA" sz="8000" spc="-1" strike="noStrike">
                <a:solidFill>
                  <a:srgbClr val="ffffff"/>
                </a:solidFill>
                <a:latin typeface="Verdana"/>
              </a:rPr>
              <a:t>ІТЕРАТУРНИХ ТВОРАХ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9228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йнові злочини: 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грабіж, крадіжка, шахрайство,розбі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cac1ef3c2ff36a7c0ac1918d7bce5c48"/>
          <p:cNvPicPr/>
          <p:nvPr/>
        </p:nvPicPr>
        <p:blipFill>
          <a:blip r:embed="rId1"/>
          <a:stretch/>
        </p:blipFill>
        <p:spPr>
          <a:xfrm>
            <a:off x="395280" y="1557360"/>
            <a:ext cx="835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Обставини скоєння злочин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ставини, які п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шують покарання за злочин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ставини, що посилюють покарання за злочин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ставини, які не впливають на покарання за злоч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6" descr="grabitel-(page-picture-large)"/>
          <p:cNvPicPr/>
          <p:nvPr/>
        </p:nvPicPr>
        <p:blipFill>
          <a:blip r:embed="rId1"/>
          <a:stretch/>
        </p:blipFill>
        <p:spPr>
          <a:xfrm>
            <a:off x="1332000" y="4221000"/>
            <a:ext cx="60991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09:08:02Z</dcterms:created>
  <dc:creator>Саражинська Наталія Анатоліївна</dc:creator>
  <dc:description>2007 р</dc:description>
  <dc:language>en-US</dc:language>
  <cp:lastModifiedBy>Admin</cp:lastModifiedBy>
  <dcterms:modified xsi:type="dcterms:W3CDTF">2016-11-22T16:58:11Z</dcterms:modified>
  <cp:revision>66</cp:revision>
  <dc:subject/>
  <dc:title>Земля - планета Сонячної систе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