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FCF-B489-46E6-A04C-290FD1DD9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731-6C2F-4636-B403-468ED988E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39E9-0B1B-494E-9E0E-23435100CF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05A7-C1E4-4646-818B-314161C25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309A-858A-4F7E-858E-C6DC6CCA0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C15-E4BE-4F94-9B80-8359972007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E95B-61A3-4377-918F-09D10C809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19A-189F-4230-A339-AEE3ECD03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33C8-9718-4C3D-8B08-48AD916AA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FDD-E17E-40A2-B82A-5452EAFAA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001-41E7-463C-9362-9399BFD53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1C96-C8EC-4245-9910-C25EA16869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87E-510B-4DE5-92E8-F94934CA0F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2B1B-7C7D-4835-9447-BC14079F7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EE4-824A-493D-A9D7-E48255F81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1E9-B7E6-4D0B-9C48-8B774FD024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6509-0D38-41EB-BBB8-326F797442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8BC-AF00-49EB-83B2-A2E578E5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9E6-6963-4A84-9304-9A3E3E91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3A5-FEDF-4DD9-8DCB-9F6FA186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FEE-0C56-47A4-A6A3-2BCB9934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ACC-7E0C-41FF-93F4-DFC6DF7E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5A1-0B54-4C87-AB50-B0E22586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B2E4-D50B-455F-AF8F-38BABAC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669-3D43-4A02-8DBD-58365D0F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197-C9CC-49D3-B6A9-52ECA7C2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DB64-EED1-4C95-B8E5-BB6E38A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2C57-BB46-4EDC-B414-4C5A30C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29B-4F46-4784-9A80-9D06A32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E325-4839-4FDE-83C5-0D5427D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4B4-B32E-44D0-BB76-E091C8F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E14A-5C51-4F4D-9559-129564D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08A-5B71-4967-9323-3C7B67D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3660-CE90-40F9-85EB-5CF8CF1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10CCC-FE99-496E-89BA-46D56F8F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72CAF-275B-41EA-98D8-86DB4776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9AC96-E09F-4FB6-950C-18290466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D5191-5879-4B69-A53B-CC675F1D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44B93-6AD9-482C-86B1-6F34D39E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CFE-F222-42F0-8E20-55C2DA4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6F85E-3994-4BBE-AD21-ADA91EC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69F8B-D250-4F8F-891E-920A150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B3CCC-EF28-476B-8DC8-37F3A5E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DCCEF-92F6-4616-A461-D87C7DA6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24AFA-C79A-4A33-809C-567AF9B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1798A-04B3-4355-9E5F-7F230218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09765-ED08-47CB-9660-F65FB666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DCC29-C9CA-46F3-8216-174CEBE1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A5A6C-F8EE-46DE-AD0D-AEF8E26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C57D3-77F9-4A80-BC8D-AEF48A1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339-EB81-4DE7-B89C-7DA8854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E4492-C642-4987-A5A9-57C11959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C0095-6E29-4F64-9B37-5B35F1A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05037-EDCE-4A65-8930-1B48345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E6A17-6EC2-4E3B-A0FC-6D0D430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5A13F-E8D0-4423-A112-CD4E8A4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90CB8-4FED-49C6-AD92-9B33E53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51111-4910-455B-8743-BB234422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AAA96-881F-43EC-84BE-B2023245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9083F-863A-41AE-B5B5-BD94667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FC4A7-561A-450A-8F72-407426AC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C12-8E47-49F8-86CF-B9F4C603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A5017-4771-4881-A423-4A2F934D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C5F06-DBAE-44B8-9B9B-D7E3AED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1DE6D-27C7-4B6B-808B-4C8D556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1CBCB-3E60-4736-9004-1328392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58C90-B731-46C6-BB13-F245231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803A1-AB74-4C8D-9F8E-06344CB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3F02A-67BE-4BF2-BCD7-4024FF3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0DA27-A163-439C-9D8A-984C8F0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853C6-56D7-4834-BED5-820AD37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52443-CE95-4135-8CDC-34488578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995-6CFF-4464-AA1B-B942969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BF959-C639-4D18-BFF7-8A79ED07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1F7A8-68CA-4354-8488-705053CA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F056-C040-4FDC-9227-6F3AD113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4CA9-FCF6-4E53-A5B9-21914CE3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F200-FDC4-4040-AA2C-7892CF4E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02D7-E847-49E6-8FC1-FD84BB4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862F-7561-41DE-A6F1-998F921F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46C8-E55D-4C76-93D0-0CAC6BC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9794-3D72-4820-BFF1-B8F3FDB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A0525-168F-4F65-8B43-62F3976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E28-A38D-43FD-8E92-706C02D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BF06-DC77-45AE-BE4E-98FC2F8D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3EBE-D474-4CFA-9A8C-BEE3CF7F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0CE8-9781-4AFF-985B-5D2C017F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9BEE8-4B3D-4D01-A378-D12C7936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78581-BBDB-41C6-B2A8-1D6B722A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8E7E9-5F65-413D-8FBB-CB97F19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9D71F-AFB5-4AFA-BC24-7F645E2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8BFDC-EDA8-443D-92C9-4E33574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3ED97-90AB-4C1E-87AD-8363D26E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D6DAC-648F-456A-A6C6-6AFCE5C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C87-B97D-4FE9-803A-DB9F01A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DC8D5-C7D7-44EC-97C3-7A32A13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8B34A-06BC-440D-AFB3-DC82842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E14A1-3A5E-4348-8F7A-BA58B864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BFA06-6FF9-45CC-9F78-4722B5C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7E4F4-1344-4826-A92E-93239F6C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371-9E78-4C61-867C-0B37590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F529-9352-4A7A-9132-027A12A14FB6}" type="datetime">
              <a:rPr b="0" lang="ru-RU" sz="1400" spc="-1" strike="noStrike">
                <a:solidFill>
                  <a:srgbClr val="1f497d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B437-BCA5-4097-845F-B3AE468EF8A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4533840"/>
            <a:ext cx="67849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7618-2429-413A-B54F-49662BD2A1E0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6A2-B932-4146-BC31-7224185FD31C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565-C340-4F45-94D7-E97B4F19086E}" type="datetime">
              <a:rPr b="0" lang="ru-RU" sz="1400" spc="-1" strike="noStrike">
                <a:solidFill>
                  <a:srgbClr val="1f497d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624A-3326-48AD-862C-5DD4652ED9FC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E028-5BC4-4C79-9E67-06DBA9DA596A}" type="datetime">
              <a:rPr b="0" lang="ru-RU" sz="1400" spc="-1" strike="noStrike">
                <a:solidFill>
                  <a:srgbClr val="1f497d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8432-088F-48A1-B1F7-FFCA7590D13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F3A8-7851-49FE-82A5-ACC7801657CA}" type="datetime">
              <a:rPr b="0" lang="ru-RU" sz="1400" spc="-1" strike="noStrike">
                <a:solidFill>
                  <a:srgbClr val="1f497d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22E-52E3-4F59-B1AE-6A9F6A8FD5A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0B4-7D99-4CDD-ADA9-866F19266D00}" type="datetime">
              <a:rPr b="0" lang="ru-RU" sz="1400" spc="-1" strike="noStrike">
                <a:solidFill>
                  <a:srgbClr val="1f497d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4686120"/>
            <a:ext cx="5335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046-4787-4C24-B3E6-4063DFB0E3E9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3490920"/>
            <a:ext cx="7589880" cy="534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24F-73E2-449F-91AD-83579D9A05A0}" type="datetime">
              <a:rPr b="0" lang="ru-RU" sz="1400" spc="-1" strike="noStrike">
                <a:solidFill>
                  <a:srgbClr val="eeece1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727A-7855-4682-99B8-5049F4DF51F9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sites.google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.bp.blogspot.com/-KPA3FX9mqDM/UblikPSz39I/AAAAAAAABBM/oOgOVgsTEDs/s1600/&#1100;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2.bp.blogspot.com/-ePR42LWkmmk/UblikHIVThI/AAAAAAAABBQ/GDU7Zqk4-bM/s1600/&#1080;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24880" cy="42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eeece1"/>
                </a:solidFill>
                <a:latin typeface="Calibri"/>
              </a:rPr>
              <a:t>“</a:t>
            </a:r>
            <a:r>
              <a:rPr b="0" lang="uk-UA" sz="4200" spc="-1" strike="noStrike">
                <a:solidFill>
                  <a:srgbClr val="eeece1"/>
                </a:solidFill>
                <a:latin typeface="Calibri"/>
              </a:rPr>
              <a:t>НЕ ЗВАЖАЮЧИ НА ВЕЛИЧЕЗНІ ВІДМІННОСТІ В ДЕТАЛЯХ, МАЙЖЕ ВСІ ЕКОНОМІЧНІ ПРОБЛЕМИ МАЮТЬ ОДНУ Й ТУ Ж СУТЬ… ЦЕ </a:t>
            </a:r>
            <a:r>
              <a:rPr b="0" lang="uk-UA" sz="4400" spc="-1" strike="noStrike">
                <a:solidFill>
                  <a:srgbClr val="eeece1"/>
                </a:solidFill>
                <a:latin typeface="Calibri"/>
              </a:rPr>
              <a:t>НЕОБХІДНІСТЬ ВРІВНОВАЖЕННЯ ПОПИТУ ТА ПРОПОЗИЦІЇ”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361960" y="4536720"/>
            <a:ext cx="65149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Альфред  Маршал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9" descr="абсол"/>
          <p:cNvPicPr/>
          <p:nvPr/>
        </p:nvPicPr>
        <p:blipFill>
          <a:blip r:embed="rId1"/>
          <a:stretch/>
        </p:blipFill>
        <p:spPr>
          <a:xfrm>
            <a:off x="214200" y="214200"/>
            <a:ext cx="5715000" cy="47372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4" descr=""/>
          <p:cNvPicPr/>
          <p:nvPr/>
        </p:nvPicPr>
        <p:blipFill>
          <a:blip r:embed="rId2"/>
          <a:stretch/>
        </p:blipFill>
        <p:spPr>
          <a:xfrm>
            <a:off x="3352680" y="-122400"/>
            <a:ext cx="5797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Основні поняття уроку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2920" y="1352520"/>
            <a:ext cx="885816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инкова рівноваг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стан ринку, за якого попит на товар відповідає його пропозиції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Qd = Qs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івноважна цін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іна, за якої величина попиту дорівнює величині пропозиції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e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івноважний обсяг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обсяг попиту і пропозиції за рівноважної ці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длишок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стан ринку, коли пропозиція перевищує попит (між продавцями виникає конкуренція, яка спонукає до збільшення попиту і руху у бік рівноваги)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Qs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&gt; Qd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Дефіци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стан ринку, коли попит перевищує пропозицію (між покупцями виникає конкуренція, яка спонукає до зменшення попиту і руху у бік рівноваги)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Qs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&lt; Qd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Calibri"/>
              </a:rPr>
              <a:t>Відхилення від рівноважного рівня як результат впливу нецінових чинників попиту та пропозиції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47" name="Picture 6" descr="Копия попит"/>
          <p:cNvPicPr/>
          <p:nvPr/>
        </p:nvPicPr>
        <p:blipFill>
          <a:blip r:embed="rId1"/>
          <a:stretch/>
        </p:blipFill>
        <p:spPr>
          <a:xfrm>
            <a:off x="1714680" y="1357200"/>
            <a:ext cx="2643120" cy="235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Копия пропозиція"/>
          <p:cNvPicPr/>
          <p:nvPr/>
        </p:nvPicPr>
        <p:blipFill>
          <a:blip r:embed="rId2"/>
          <a:stretch/>
        </p:blipFill>
        <p:spPr>
          <a:xfrm>
            <a:off x="4857840" y="1357200"/>
            <a:ext cx="2786040" cy="253548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>
            <a:off x="428760" y="371484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. &g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 попиту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→D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)→ &g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 рівноважної ціни (Ре →Р</a:t>
            </a:r>
            <a:r>
              <a:rPr b="0" lang="uk-UA" sz="12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2. &l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 попиту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→D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)→ &l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 рівноважної ціни (Ре →Р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3.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&g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 пропозиції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→S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)→ &l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 рівноважної ціни (Ре →Р</a:t>
            </a:r>
            <a:r>
              <a:rPr b="0" lang="uk-UA" sz="12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4.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 пропозиції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→S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)→ &gt;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 рівноважної ціни (Ре →Р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Calibri"/>
              </a:rPr>
              <a:t>Проект </a:t>
            </a:r>
            <a:br>
              <a:rPr sz="3200"/>
            </a:br>
            <a:r>
              <a:rPr b="0" lang="uk-UA" sz="3200" spc="-1" strike="noStrike">
                <a:solidFill>
                  <a:srgbClr val="1f497d"/>
                </a:solidFill>
                <a:latin typeface="Calibri"/>
              </a:rPr>
              <a:t>“Рівноважна ціна на підприємстві”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5480" y="1352160"/>
            <a:ext cx="86439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еорепортаж -інтерв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ю 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іпацьким Сергієм Вікторовичем — генеральним директором ТОВ "Геоід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3" descr="D:\Downloads\6941_4448.jpeg"/>
          <p:cNvPicPr/>
          <p:nvPr/>
        </p:nvPicPr>
        <p:blipFill>
          <a:blip r:embed="rId1"/>
          <a:stretch/>
        </p:blipFill>
        <p:spPr>
          <a:xfrm>
            <a:off x="237960" y="2286000"/>
            <a:ext cx="2376720" cy="1785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:\Downloads\6941_4447.jpeg"/>
          <p:cNvPicPr/>
          <p:nvPr/>
        </p:nvPicPr>
        <p:blipFill>
          <a:blip r:embed="rId2"/>
          <a:stretch/>
        </p:blipFill>
        <p:spPr>
          <a:xfrm>
            <a:off x="2786040" y="21970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D:\Downloads\6941_3993.jpeg"/>
          <p:cNvPicPr/>
          <p:nvPr/>
        </p:nvPicPr>
        <p:blipFill>
          <a:blip r:embed="rId3"/>
          <a:stretch/>
        </p:blipFill>
        <p:spPr>
          <a:xfrm>
            <a:off x="5834160" y="2052720"/>
            <a:ext cx="3095640" cy="2305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D:\Downloads\images.jpg"/>
          <p:cNvPicPr/>
          <p:nvPr/>
        </p:nvPicPr>
        <p:blipFill>
          <a:blip r:embed="rId4"/>
          <a:stretch/>
        </p:blipFill>
        <p:spPr>
          <a:xfrm>
            <a:off x="7143840" y="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IMG_1848.JPG"/>
          <p:cNvPicPr/>
          <p:nvPr/>
        </p:nvPicPr>
        <p:blipFill>
          <a:blip r:embed="rId1"/>
          <a:srcRect l="4162" t="23622" r="32305" b="0"/>
          <a:stretch/>
        </p:blipFill>
        <p:spPr>
          <a:xfrm>
            <a:off x="214200" y="0"/>
            <a:ext cx="1357560" cy="1224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202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Товариство з об</a:t>
            </a:r>
            <a:r>
              <a:rPr b="0" lang="uk-UA" sz="3600" spc="-1" strike="noStrike">
                <a:solidFill>
                  <a:srgbClr val="1f497d"/>
                </a:solidFill>
                <a:latin typeface="Calibri"/>
              </a:rPr>
              <a:t>меженою     відповідальністю “Агропродукт”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MVI_1850.MOV" descr=""/>
          <p:cNvPicPr/>
          <p:nvPr/>
        </p:nvPicPr>
        <p:blipFill>
          <a:blip r:embed="rId2"/>
          <a:stretch/>
        </p:blipFill>
        <p:spPr>
          <a:xfrm>
            <a:off x="8096400" y="4643280"/>
            <a:ext cx="357120" cy="2685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IMG_1851.JPG"/>
          <p:cNvPicPr/>
          <p:nvPr/>
        </p:nvPicPr>
        <p:blipFill>
          <a:blip r:embed="rId3"/>
          <a:stretch/>
        </p:blipFill>
        <p:spPr>
          <a:xfrm>
            <a:off x="1643040" y="121428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Группа 4"/>
          <p:cNvGrpSpPr/>
          <p:nvPr/>
        </p:nvGrpSpPr>
        <p:grpSpPr>
          <a:xfrm>
            <a:off x="428760" y="1919880"/>
            <a:ext cx="8429040" cy="2437560"/>
            <a:chOff x="428760" y="1919880"/>
            <a:chExt cx="8429040" cy="2437560"/>
          </a:xfrm>
        </p:grpSpPr>
        <p:pic>
          <p:nvPicPr>
            <p:cNvPr id="362" name="Рисунок 5" descr="4532.jpg"/>
            <p:cNvPicPr/>
            <p:nvPr/>
          </p:nvPicPr>
          <p:blipFill>
            <a:blip r:embed="rId1"/>
            <a:srcRect l="20175" t="0" r="20414" b="15132"/>
            <a:stretch/>
          </p:blipFill>
          <p:spPr>
            <a:xfrm>
              <a:off x="3295800" y="1919880"/>
              <a:ext cx="1547640" cy="23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Рисунок 6" descr="family-tree-with-roots-clipart-cliparthut-free-clipart-12eLt8-clipart.png"/>
            <p:cNvPicPr/>
            <p:nvPr/>
          </p:nvPicPr>
          <p:blipFill>
            <a:blip r:embed="rId2"/>
            <a:stretch/>
          </p:blipFill>
          <p:spPr>
            <a:xfrm>
              <a:off x="428760" y="1919880"/>
              <a:ext cx="1796400" cy="20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Рисунок 7" descr="передоз1.jpg"/>
            <p:cNvPicPr/>
            <p:nvPr/>
          </p:nvPicPr>
          <p:blipFill>
            <a:blip r:embed="rId3"/>
            <a:stretch/>
          </p:blipFill>
          <p:spPr>
            <a:xfrm>
              <a:off x="5991120" y="1919880"/>
              <a:ext cx="18720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Box 8"/>
            <p:cNvSpPr/>
            <p:nvPr/>
          </p:nvSpPr>
          <p:spPr>
            <a:xfrm rot="10800000">
              <a:off x="2189880" y="2800440"/>
              <a:ext cx="1036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600" spc="-1" strike="noStrike">
                  <a:solidFill>
                    <a:srgbClr val="000000"/>
                  </a:solidFill>
                  <a:latin typeface="Arial"/>
                </a:rPr>
                <a:t>,,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9"/>
            <p:cNvSpPr/>
            <p:nvPr/>
          </p:nvSpPr>
          <p:spPr>
            <a:xfrm rot="10800000">
              <a:off x="4884840" y="2800440"/>
              <a:ext cx="117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600" spc="-1" strike="noStrike">
                  <a:solidFill>
                    <a:srgbClr val="000000"/>
                  </a:solidFill>
                  <a:latin typeface="Arial"/>
                </a:rPr>
                <a:t>,,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10"/>
            <p:cNvSpPr/>
            <p:nvPr/>
          </p:nvSpPr>
          <p:spPr>
            <a:xfrm rot="10800000">
              <a:off x="7165440" y="2800440"/>
              <a:ext cx="1692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600" spc="-1" strike="noStrike">
                  <a:solidFill>
                    <a:srgbClr val="000000"/>
                  </a:solidFill>
                  <a:latin typeface="Arial"/>
                </a:rPr>
                <a:t>,,,,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Прямоугольник 11" descr=""/>
          <p:cNvPicPr/>
          <p:nvPr/>
        </p:nvPicPr>
        <p:blipFill>
          <a:blip r:embed="rId4"/>
          <a:stretch/>
        </p:blipFill>
        <p:spPr>
          <a:xfrm>
            <a:off x="950760" y="12600"/>
            <a:ext cx="42436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5840" y="117360"/>
            <a:ext cx="84772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1f497d"/>
                </a:solidFill>
                <a:latin typeface="Calibri"/>
              </a:rPr>
              <a:t>Проект-відеорепортаж</a:t>
            </a:r>
            <a:br>
              <a:rPr sz="3600"/>
            </a:br>
            <a:r>
              <a:rPr b="0" lang="uk-UA" sz="3600" spc="-1" strike="noStrike">
                <a:solidFill>
                  <a:srgbClr val="1f497d"/>
                </a:solidFill>
                <a:latin typeface="Calibri"/>
              </a:rPr>
              <a:t>                                      “Дефіцит і надлишок”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7120" y="1352520"/>
            <a:ext cx="84060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2060"/>
                </a:solidFill>
                <a:latin typeface="Calibri"/>
              </a:rPr>
              <a:t>Опитування пересічного населення міста Знам</a:t>
            </a:r>
            <a:r>
              <a:rPr b="0" lang="en-US" sz="2900" spc="-1" strike="noStrike">
                <a:solidFill>
                  <a:srgbClr val="002060"/>
                </a:solidFill>
                <a:latin typeface="Tw Cen MT"/>
              </a:rPr>
              <a:t>’</a:t>
            </a:r>
            <a:r>
              <a:rPr b="0" lang="uk-UA" sz="2900" spc="-1" strike="noStrike">
                <a:solidFill>
                  <a:srgbClr val="002060"/>
                </a:solidFill>
                <a:latin typeface="Calibri"/>
              </a:rPr>
              <a:t>янки “Що таке дефіцит і надлишок? Пригадайте приклади з власного життя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D:\Downloads\опитування.jpg"/>
          <p:cNvPicPr/>
          <p:nvPr/>
        </p:nvPicPr>
        <p:blipFill>
          <a:blip r:embed="rId1"/>
          <a:stretch/>
        </p:blipFill>
        <p:spPr>
          <a:xfrm>
            <a:off x="5643720" y="2357280"/>
            <a:ext cx="32526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иникнення надлишку та дефіциту на ринку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8" descr="копия еластичність"/>
          <p:cNvPicPr/>
          <p:nvPr/>
        </p:nvPicPr>
        <p:blipFill>
          <a:blip r:embed="rId1"/>
          <a:stretch/>
        </p:blipFill>
        <p:spPr>
          <a:xfrm>
            <a:off x="285840" y="1285920"/>
            <a:ext cx="6565680" cy="371484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4"/>
          <p:cNvSpPr/>
          <p:nvPr/>
        </p:nvSpPr>
        <p:spPr>
          <a:xfrm>
            <a:off x="6643800" y="1357200"/>
            <a:ext cx="24289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 запровадженні ціни вищої за рівноважн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Р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P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“ціна підлоги”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иникає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надлишок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оварів на р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 установленні мінімальних цін, тобто нижчих за рівноважн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Р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Pe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“ціна стелі”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виникає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дефіцит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товарів на рин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Підсумки уроку .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7" name="Дефіцит картоплі.mp4" descr=""/>
          <p:cNvPicPr/>
          <p:nvPr/>
        </p:nvPicPr>
        <p:blipFill>
          <a:blip r:embed="rId1"/>
          <a:stretch/>
        </p:blipFill>
        <p:spPr>
          <a:xfrm>
            <a:off x="3881520" y="1285920"/>
            <a:ext cx="5143320" cy="37148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285840" y="1500120"/>
            <a:ext cx="314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іни параметрів ринкової рівноваги також можуть відбуватись в результаті втручання держави, коли вона встановлює податок на виробників або надає їм субсидію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аналізуйте зміщення кривої пропон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54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42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4200"/>
            </a:b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є завданн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2714760" cy="278604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Опрацювати матеріал підруч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Виконати практичну роботу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sites.google.com/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te/ukraienskageografina/ekonom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500280" y="1357200"/>
            <a:ext cx="55008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даткове завд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пустимо, що уряд держави Білорусь запровадив обмеження на вивіз лісу,а Україна є імпортером лісу. Проаналізуйте ситуацію(зміни попиту, пропозиції, ціни й обсягу реалізації) на ринках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) лісу в Україні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) будматеріалів у Білорусі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) дерев’яних меблів в Україні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пластикових меблів в Украї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f497d"/>
                </a:solidFill>
                <a:latin typeface="Calibri"/>
              </a:rPr>
              <a:t>Проект "Вплив попиту</a:t>
            </a: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 на бізнес”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120" y="1352160"/>
            <a:ext cx="81536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Відеорепортаж “Туреччина платитеме за кожного українського туриста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D:\Downloads\Туреччина.jpg"/>
          <p:cNvPicPr/>
          <p:nvPr/>
        </p:nvPicPr>
        <p:blipFill>
          <a:blip r:embed="rId1"/>
          <a:stretch/>
        </p:blipFill>
        <p:spPr>
          <a:xfrm>
            <a:off x="5286240" y="185724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318" name="MVI_0032.MP4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4572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3840" y="117360"/>
            <a:ext cx="85489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рактична робота №2 “Визначення ціни ринкової рівноваги з урахуванням функцій попиту і пропозиції за ціною”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1352160"/>
            <a:ext cx="3886200" cy="32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Мет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навчитися знаходити рівноважну ринкову ціну та обсяг продаж алгебраїчним і табличним метод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будувати графіки попиту і пропозиції това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57480" y="14997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ілюструвати на графіку дефіцит або надлишок товару, що виникають внаслідок порушення ринкової рівнова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ояснювати наслідки впливу нецінових чинників попиту і пропозиції на параметри ринкової рівнов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3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3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3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3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актична робота № 2  Визначення ціни ринкової рівноваги з урахуванням функцій попиту та пропозиції за ціною.</a:t>
            </a:r>
            <a:br>
              <a:rPr sz="1800"/>
            </a:br>
            <a:r>
              <a:rPr b="1" lang="uk-UA" sz="1400" spc="-1" strike="noStrike">
                <a:solidFill>
                  <a:srgbClr val="1f497d"/>
                </a:solidFill>
                <a:latin typeface="Bookman Old Style"/>
              </a:rPr>
              <a:t>Хід   роботи:</a:t>
            </a: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120" y="1643040"/>
            <a:ext cx="3886200" cy="3200400"/>
          </a:xfrm>
          <a:prstGeom prst="rect">
            <a:avLst/>
          </a:prstGeom>
          <a:solidFill>
            <a:srgbClr val="c0504d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Функції попиту і пропозиції певного товару на місцевому ринку борошна задані функціями            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1" lang="ru-RU" sz="7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= 50 – 2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1" lang="ru-RU" sz="7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= 20 + 4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844520" y="1660320"/>
            <a:ext cx="3886200" cy="3268440"/>
          </a:xfrm>
          <a:prstGeom prst="rect">
            <a:avLst/>
          </a:prstGeom>
          <a:solidFill>
            <a:srgbClr val="c0504d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Р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– ціна одного кілограма борошн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– величина попиту на борошно в кілограм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– величина пропозиції борошна місцевими продавцями в кілограм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авдання 1: </a:t>
            </a:r>
            <a:r>
              <a:rPr b="1" lang="en-US" sz="24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икористовуючи умову ринкової рівноваги, визначте рівноважну ціну Р* та рівноважну кількість товару (ринковий обсяг продажу) Q*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4643280" y="4357800"/>
            <a:ext cx="41436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ідповідь: Р* =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5 грн/кг; </a:t>
            </a:r>
            <a:r>
              <a:rPr b="1" i="1" lang="en-US" sz="1800" spc="-1" strike="noStrike">
                <a:solidFill>
                  <a:srgbClr val="000000"/>
                </a:solidFill>
                <a:latin typeface="Tw Cen MT"/>
              </a:rPr>
              <a:t>Q* = 40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1000080" y="1643040"/>
            <a:ext cx="2000160" cy="50004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QD = QS; </a:t>
            </a:r>
            <a:r>
              <a:rPr b="1" i="1" lang="uk-UA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000680" y="2143080"/>
            <a:ext cx="2571480" cy="64296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w Cen MT"/>
              </a:rPr>
              <a:t>50 – 2P = 20 + 4P;</a:t>
            </a:r>
            <a:r>
              <a:rPr b="1" i="1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i="1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3643200" y="2786040"/>
            <a:ext cx="3214800" cy="64296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w Cen MT"/>
              </a:rPr>
              <a:t>30 = 6P; </a:t>
            </a:r>
            <a:r>
              <a:rPr b="1" i="1" lang="uk-UA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; </a:t>
            </a:r>
            <a:r>
              <a:rPr b="1" i="1" lang="uk-UA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357720" y="3429000"/>
            <a:ext cx="3786120" cy="642960"/>
          </a:xfrm>
          <a:prstGeom prst="rect">
            <a:avLst/>
          </a:prstGeom>
          <a:solidFill>
            <a:srgbClr val="9bbb5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w Cen MT"/>
              </a:rPr>
              <a:t>P* = 5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грн;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; </a:t>
            </a:r>
            <a:r>
              <a:rPr b="1" i="1" lang="uk-UA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42920" y="4071960"/>
            <a:ext cx="3786120" cy="642960"/>
          </a:xfrm>
          <a:prstGeom prst="rect">
            <a:avLst/>
          </a:prstGeom>
          <a:solidFill>
            <a:srgbClr val="9bbb5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Q* = 40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; </a:t>
            </a:r>
            <a:r>
              <a:rPr b="1" i="1" lang="uk-UA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6643800" y="1500120"/>
            <a:ext cx="2286000" cy="271476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ffffff"/>
                </a:solidFill>
                <a:latin typeface="Calibri"/>
              </a:rPr>
              <a:t>Послідовність дій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w Cen MT"/>
              </a:rPr>
              <a:t>QD = QS; </a:t>
            </a:r>
            <a:r>
              <a:rPr b="0" i="1" lang="uk-UA" sz="17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w Cen MT"/>
              </a:rPr>
              <a:t>50 – 2P = 20 + 4P; </a:t>
            </a:r>
            <a:r>
              <a:rPr b="0" i="1" lang="uk-UA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w Cen MT"/>
              </a:rPr>
              <a:t>30 = 6P; </a:t>
            </a:r>
            <a:r>
              <a:rPr b="0" i="1" lang="uk-UA" sz="17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w Cen MT"/>
              </a:rPr>
              <a:t>P* = 5 </a:t>
            </a:r>
            <a:r>
              <a:rPr b="0" i="1" lang="ru-RU" sz="1700" spc="-1" strike="noStrike">
                <a:solidFill>
                  <a:srgbClr val="ffffff"/>
                </a:solidFill>
                <a:latin typeface="Calibri"/>
              </a:rPr>
              <a:t>грн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w Cen MT"/>
              </a:rPr>
              <a:t>Q* = 40 </a:t>
            </a:r>
            <a:r>
              <a:rPr b="0" i="1" lang="ru-RU" sz="1700" spc="-1" strike="noStrike">
                <a:solidFill>
                  <a:srgbClr val="ffffff"/>
                </a:solidFill>
                <a:latin typeface="Calibri"/>
              </a:rPr>
              <a:t>к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7 0.00709 L -0.35382 0.00709 E">
                                      <p:cBhvr>
                                        <p:cTn id="174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66 -0.00585 L -0.34982 -0.00585 E">
                                      <p:cBhvr>
                                        <p:cTn id="18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41 -0.00493 L -0.34982 -0.00493 E">
                                      <p:cBhvr>
                                        <p:cTn id="192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Проте: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14240" y="1428840"/>
            <a:ext cx="804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ід звернути увагу  на те, що обсяг попиту і обсяг пропозиції за відсутності ціни (Р = 0) також мають певні значення (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QD = 50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г,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QS = 2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Це пояснюється не тільки алгебраїчним виразом функцій попиту і пропозиції, а й має економічний сенс. На конкретному ринку, навіть якщо ціна буде знижена до нуля, все одно не може пропонуватися більше, ніж вироблено товару, і бажаючих взяти безкоштовний товар упродовж обмеженого періоду часу не може бути занадто багато. Для будь-якої функції попиту (особливо заданою лінійною функцією) може знайтися також така ціна, за якою покупці взагалі відмовляються від даного товару.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нашому випадкуQD = 0 при Р = 25 грн/к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авдання 2: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кладіть шкалу попиту і пропозиції залежно від ціни і визначте за шкалою рівноважну ціну Р* та рівноважну кількість </a:t>
            </a:r>
            <a:r>
              <a:rPr b="1" lang="en-US" sz="2400" spc="-1" strike="noStrike">
                <a:solidFill>
                  <a:srgbClr val="1f497d"/>
                </a:solidFill>
                <a:latin typeface="Tw Cen MT"/>
              </a:rPr>
              <a:t>Q*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157176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ідповідь: Р* =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5 грн/ кілограм;   </a:t>
            </a:r>
            <a:r>
              <a:rPr b="1" i="1" lang="en-US" sz="1800" spc="-1" strike="noStrike">
                <a:solidFill>
                  <a:srgbClr val="ffffff"/>
                </a:solidFill>
                <a:latin typeface="Tw Cen MT"/>
              </a:rPr>
              <a:t>Q* = 40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кілограм.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143080" y="1643040"/>
          <a:ext cx="6572160" cy="2357640"/>
        </p:xfrm>
        <a:graphic>
          <a:graphicData uri="http://schemas.openxmlformats.org/drawingml/2006/table">
            <a:tbl>
              <a:tblPr/>
              <a:tblGrid>
                <a:gridCol w="1785960"/>
                <a:gridCol w="428760"/>
                <a:gridCol w="428400"/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  <a:gridCol w="428400"/>
                <a:gridCol w="5000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Ціна товару, (Р), грн. за кіло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чина попиту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QD)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іло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чина пропозиції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QS)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іло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авдання 3: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икористовуючи дані шкали, побудуйте лінії попиту та пропозиції на графіку, позначте на ньому рівноважну ціну Р* і рівноважну кількість Q*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1428840"/>
            <a:ext cx="8120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2960" y="1514520"/>
            <a:ext cx="7929720" cy="305748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cxnSp>
        <p:nvCxnSpPr>
          <p:cNvPr id="405" name="Прямая со стрелкой 9"/>
          <p:cNvCxnSpPr/>
          <p:nvPr/>
        </p:nvCxnSpPr>
        <p:spPr>
          <a:xfrm flipV="1">
            <a:off x="214200" y="1856520"/>
            <a:ext cx="858240" cy="2429640"/>
          </a:xfrm>
          <a:prstGeom prst="straightConnector1">
            <a:avLst/>
          </a:prstGeom>
          <a:ln cap="sq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6" name="Прямая со стрелкой 13"/>
          <p:cNvCxnSpPr/>
          <p:nvPr/>
        </p:nvCxnSpPr>
        <p:spPr>
          <a:xfrm flipH="1">
            <a:off x="7571520" y="2500200"/>
            <a:ext cx="1143720" cy="1858320"/>
          </a:xfrm>
          <a:prstGeom prst="straightConnector1">
            <a:avLst/>
          </a:prstGeom>
          <a:ln cap="sq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7" name="Прямая со стрелкой 21"/>
          <p:cNvCxnSpPr/>
          <p:nvPr/>
        </p:nvCxnSpPr>
        <p:spPr>
          <a:xfrm flipH="1" flipV="1">
            <a:off x="4285440" y="4071600"/>
            <a:ext cx="2072520" cy="72000"/>
          </a:xfrm>
          <a:prstGeom prst="straightConnector1">
            <a:avLst/>
          </a:prstGeom>
          <a:ln cap="sq"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08" name="Прямая со стрелкой 23"/>
          <p:cNvCxnSpPr/>
          <p:nvPr/>
        </p:nvCxnSpPr>
        <p:spPr>
          <a:xfrm>
            <a:off x="4070880" y="1643040"/>
            <a:ext cx="429480" cy="643320"/>
          </a:xfrm>
          <a:prstGeom prst="straightConnector1">
            <a:avLst/>
          </a:prstGeom>
          <a:ln cap="sq" w="76320">
            <a:solidFill>
              <a:srgbClr val="0070c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Завдання 4: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изначте алгебраїчним методом, яке явище ( дефіцит або надлишок товару) виникне на даному ринку, якщо місцеві виробники або влада будуть утримувати ціну на товар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943760" cy="2643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cxnSp>
        <p:nvCxnSpPr>
          <p:cNvPr id="412" name="Прямая со стрелкой 7"/>
          <p:cNvCxnSpPr/>
          <p:nvPr/>
        </p:nvCxnSpPr>
        <p:spPr>
          <a:xfrm flipV="1">
            <a:off x="141840" y="4500000"/>
            <a:ext cx="429480" cy="500760"/>
          </a:xfrm>
          <a:prstGeom prst="straightConnector1">
            <a:avLst/>
          </a:prstGeom>
          <a:ln cap="sq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3" name="Прямая со стрелкой 13"/>
          <p:cNvCxnSpPr/>
          <p:nvPr/>
        </p:nvCxnSpPr>
        <p:spPr>
          <a:xfrm flipH="1">
            <a:off x="7571880" y="3071520"/>
            <a:ext cx="572400" cy="857880"/>
          </a:xfrm>
          <a:prstGeom prst="straightConnector1">
            <a:avLst/>
          </a:prstGeom>
          <a:ln cap="sq"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f497d"/>
                </a:solidFill>
                <a:latin typeface="Calibri"/>
              </a:rPr>
              <a:t>Завдання 5: </a:t>
            </a:r>
            <a:r>
              <a:rPr b="1" lang="ru-RU" sz="1700" spc="-1" strike="noStrike">
                <a:solidFill>
                  <a:srgbClr val="1f497d"/>
                </a:solidFill>
                <a:latin typeface="Calibri"/>
              </a:rPr>
              <a:t>Визначте зміни попиту D, пропонування S, рівноважної ціни P, обсягів продажу ( – підвищення,  – зниження, = – незмінність) та проілюструйте на графіках відповідні зміни, які відбудуться на ринку борошна внаслідок впливу певних подій: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72160" y="1500120"/>
            <a:ext cx="228600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сновок: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меншення доходів  –  чинник 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опит зменшиться, внаслідок цього знизяться </a:t>
            </a:r>
            <a:r>
              <a:rPr b="1" i="1" lang="en-US" sz="1800" spc="-1" strike="noStrike">
                <a:solidFill>
                  <a:srgbClr val="ffffff"/>
                </a:solidFill>
                <a:latin typeface="Tw Cen MT"/>
              </a:rPr>
              <a:t>P*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і </a:t>
            </a:r>
            <a:r>
              <a:rPr b="1" i="1" lang="en-US" sz="1800" spc="-1" strike="noStrike">
                <a:solidFill>
                  <a:srgbClr val="ffffff"/>
                </a:solidFill>
                <a:latin typeface="Tw Cen MT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2714760" y="1714680"/>
            <a:ext cx="3693960" cy="2500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357120" y="1643040"/>
            <a:ext cx="185760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ія І: внаслідок економічного спаду доходи місцевих жителів зменши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f497d"/>
                </a:solidFill>
                <a:latin typeface="Calibri"/>
              </a:rPr>
              <a:t>Завдання 5: </a:t>
            </a:r>
            <a:r>
              <a:rPr b="1" lang="ru-RU" sz="1700" spc="-1" strike="noStrike">
                <a:solidFill>
                  <a:srgbClr val="1f497d"/>
                </a:solidFill>
                <a:latin typeface="Calibri"/>
              </a:rPr>
              <a:t>Визначте зміни попиту D, пропонування S, рівноважної ціни P, обсягів продажу ( – підвищення,  – зниження, = – незмінність) та проілюструйте на графіках відповідні зміни, які відбудуться на ринку борошна внаслідок впливу певних подій: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72160" y="1500120"/>
            <a:ext cx="228600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сновок: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исокий врожай – чинник S. Пропозиція збільшиться, внаслідок цього ціна борошна знизиться, а обсяг зро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57120" y="1643040"/>
            <a:ext cx="185760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ія ІІ:      цього року фермери зібрали рекордний урожай зерн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714760" y="2000160"/>
            <a:ext cx="2771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f497d"/>
                </a:solidFill>
                <a:latin typeface="Calibri"/>
              </a:rPr>
              <a:t>Завдання 5: </a:t>
            </a:r>
            <a:r>
              <a:rPr b="1" lang="ru-RU" sz="1700" spc="-1" strike="noStrike">
                <a:solidFill>
                  <a:srgbClr val="1f497d"/>
                </a:solidFill>
                <a:latin typeface="Calibri"/>
              </a:rPr>
              <a:t>Визначте зміни попиту D, пропонування S, рівноважної ціни P, обсягів продажу ( – підвищення,  – зниження, = – незмінність) та проілюструйте на графіках відповідні зміни, які відбудуться на ринку борошна внаслідок впливу певних подій: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72160" y="1500120"/>
            <a:ext cx="228600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сновок: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міна смаків – чинник D. Попит зросте, рівноважні ціна і обсяг продаж збільш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57120" y="1643040"/>
            <a:ext cx="214308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ія ІІІ:взимку, коли запаси свіжих овочів і фруктів закінчуються, українці част</a:t>
            </a: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отують вареники, млинці та палян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6766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Проект “Вплив попиту на бізнес”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71680" y="1428480"/>
            <a:ext cx="815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Відеорепортаж “Найгучніші касові провали в історії кінематографа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D:\Downloads\кино.jpg"/>
          <p:cNvPicPr/>
          <p:nvPr/>
        </p:nvPicPr>
        <p:blipFill>
          <a:blip r:embed="rId1"/>
          <a:stretch/>
        </p:blipFill>
        <p:spPr>
          <a:xfrm>
            <a:off x="811080" y="2428920"/>
            <a:ext cx="3189600" cy="2406600"/>
          </a:xfrm>
          <a:prstGeom prst="rect">
            <a:avLst/>
          </a:prstGeom>
          <a:ln w="0">
            <a:noFill/>
          </a:ln>
        </p:spPr>
      </p:pic>
      <p:pic>
        <p:nvPicPr>
          <p:cNvPr id="324" name="DSCF7690.mp4" descr=""/>
          <p:cNvPicPr/>
          <p:nvPr/>
        </p:nvPicPr>
        <p:blipFill>
          <a:blip r:embed="rId2"/>
          <a:stretch/>
        </p:blipFill>
        <p:spPr>
          <a:xfrm>
            <a:off x="4643280" y="1982880"/>
            <a:ext cx="39294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f497d"/>
                </a:solidFill>
                <a:latin typeface="Calibri"/>
              </a:rPr>
              <a:t>Завдання 5: </a:t>
            </a:r>
            <a:r>
              <a:rPr b="1" lang="ru-RU" sz="1700" spc="-1" strike="noStrike">
                <a:solidFill>
                  <a:srgbClr val="1f497d"/>
                </a:solidFill>
                <a:latin typeface="Calibri"/>
              </a:rPr>
              <a:t>Визначте зміни попиту D, пропонування S, рівноважної ціни P, обсягів продажу ( – підвищення,  – зниження, = – незмінність) та проілюструйте на графіках відповідні зміни, які відбудуться на ринку борошна внаслідок впливу певних подій: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0880" y="1500120"/>
            <a:ext cx="235728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сновок: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міна кількості виробників – чинник S. Пропозиція скоротиться, рівноважна ціна зросте,  рівноважний обсяг зменш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357120" y="1643040"/>
            <a:ext cx="2143080" cy="30672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ія І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 під час спаду в економіці збанкрутували два старих борошномель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мбін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857680" y="1928880"/>
            <a:ext cx="3019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3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5" descr="mice.jpeg"/>
          <p:cNvPicPr/>
          <p:nvPr/>
        </p:nvPicPr>
        <p:blipFill>
          <a:blip r:embed="rId1"/>
          <a:stretch/>
        </p:blipFill>
        <p:spPr>
          <a:xfrm>
            <a:off x="2214720" y="857160"/>
            <a:ext cx="2801880" cy="13226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6"/>
          <p:cNvSpPr/>
          <p:nvPr/>
        </p:nvSpPr>
        <p:spPr>
          <a:xfrm>
            <a:off x="684360" y="0"/>
            <a:ext cx="148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7"/>
          <p:cNvSpPr/>
          <p:nvPr/>
        </p:nvSpPr>
        <p:spPr>
          <a:xfrm>
            <a:off x="714240" y="1643040"/>
            <a:ext cx="103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2556000" y="1438200"/>
            <a:ext cx="187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=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1"/>
          <p:cNvSpPr/>
          <p:nvPr/>
        </p:nvSpPr>
        <p:spPr>
          <a:xfrm rot="10800000">
            <a:off x="3924360" y="11916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2" descr="Ok.jpg"/>
          <p:cNvPicPr/>
          <p:nvPr/>
        </p:nvPicPr>
        <p:blipFill>
          <a:blip r:embed="rId2"/>
          <a:stretch/>
        </p:blipFill>
        <p:spPr>
          <a:xfrm>
            <a:off x="5940360" y="519120"/>
            <a:ext cx="1755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Дякую за увагу!!!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120" y="1428840"/>
            <a:ext cx="1600200" cy="312408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362320" y="142884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ада була з вами співпрацювати </a:t>
            </a:r>
            <a:r>
              <a:rPr b="0" lang="uk-U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о наступних зустріч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Проект “Сторінки історії”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9120" y="1352160"/>
            <a:ext cx="8153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Відеорепортаж “За” і “проти” “сухого закону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" descr="D:\Downloads\сухой закон.jpg"/>
          <p:cNvPicPr/>
          <p:nvPr/>
        </p:nvPicPr>
        <p:blipFill>
          <a:blip r:embed="rId1"/>
          <a:stretch/>
        </p:blipFill>
        <p:spPr>
          <a:xfrm>
            <a:off x="5429160" y="1928880"/>
            <a:ext cx="3340080" cy="280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D:\Downloads\аль капоне.png"/>
          <p:cNvPicPr/>
          <p:nvPr/>
        </p:nvPicPr>
        <p:blipFill>
          <a:blip r:embed="rId2"/>
          <a:stretch/>
        </p:blipFill>
        <p:spPr>
          <a:xfrm>
            <a:off x="7000920" y="71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329" name="DSCF7675.mp4" descr=""/>
          <p:cNvPicPr/>
          <p:nvPr/>
        </p:nvPicPr>
        <p:blipFill>
          <a:blip r:embed="rId3"/>
          <a:stretch/>
        </p:blipFill>
        <p:spPr>
          <a:xfrm>
            <a:off x="857160" y="185724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Репродукції картин: «Запорожці пишуть листа турецькому султанові» І. Рєпіна  та «Буря» І.Айвазовського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31" name="Содержимое 3" descr="http://2.bp.blogspot.com/-KPA3FX9mqDM/UblikPSz39I/AAAAAAAABBM/oOgOVgsTEDs/s320/%D1%8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428840"/>
            <a:ext cx="4357440" cy="35719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http://2.bp.blogspot.com/-ePR42LWkmmk/UblikHIVThI/AAAAAAAABBQ/GDU7Zqk4-bM/s320/%D0%B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1428840"/>
            <a:ext cx="4143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   Чому настільки різні картини мають            однакову ціну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120" y="1352520"/>
            <a:ext cx="81774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бид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ві репродукції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страховані н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00 000 грн.  і оцінені «чорним» ринком 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000 000 гр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отно «Запорожці пишуть листа турецькому султанові» І. Рєпін писав 11 років (1880 – 1891),  а картина  І. Айвазовського «Буря»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ворена за … 14 днів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17360"/>
            <a:ext cx="8263080" cy="14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Тема: “Визначення ціни ринкової рівноваги з урахуванням функцій попиту і пропозиції за ціною”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36" name="Содержимое 3" descr="http://4.bp.blogspot.com/-pnJ4PRKbn8I/VAsPAQtH2kI/AAAAAAAAAHU/S_pD2Q63P_k/s1600/33.jpg"/>
          <p:cNvPicPr/>
          <p:nvPr/>
        </p:nvPicPr>
        <p:blipFill>
          <a:blip r:embed="rId1"/>
          <a:stretch/>
        </p:blipFill>
        <p:spPr>
          <a:xfrm>
            <a:off x="2714760" y="1571760"/>
            <a:ext cx="378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7120" y="117360"/>
            <a:ext cx="84060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Мета уроку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14200" y="1356840"/>
            <a:ext cx="87868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чити учні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’ясовувати та  пояснювати, як встановлюється ринкова рівновага;                                                        визначати, яким чином попит та пропозиція впливають на формування ціни в рамках ринкової економічної системи;                                                                 розвивати практичні навички роботи із  категоріями «попит», «пропозиція», «ринкова рівновага»;              удосконалити навички проектно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ї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бо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ховувати культуру споживчих віднос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1f497d"/>
                </a:solidFill>
                <a:latin typeface="Calibri"/>
              </a:rPr>
              <a:t>Параметри ринкової рівноваги</a:t>
            </a:r>
            <a:endParaRPr b="0" lang="en-US" sz="4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71480" y="1499760"/>
            <a:ext cx="3786120" cy="714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Qd = Q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428760" y="2500200"/>
            <a:ext cx="77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d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ількість товару (послуги), яку готовий купити спожив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ількість товару (послуги), яку готовий продати вироб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вноважна ці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вноважна кількість товару (послу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5:13:37Z</dcterms:created>
  <dc:creator/>
  <dc:description/>
  <dc:language>en-US</dc:language>
  <cp:lastModifiedBy/>
  <dcterms:modified xsi:type="dcterms:W3CDTF">2016-10-30T15:32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