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FF02-728F-48CC-A409-397A1795E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7CEA-F975-4637-B02C-FD693B8E9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DB0F-2FB0-4691-B7CA-CD65A2451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2AAF-1807-4F85-A23D-50B11E4F2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4C6F6-BB3C-4100-A792-D93724D4E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82E7F-3431-4AEC-8D77-8E9407D06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920BF-4C22-4690-B1EF-882A5A376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DDBF9-0387-41E3-BE6B-AF850B4DD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46DC2-CEBE-4895-A212-CB544DDAD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280B1-A508-465A-8225-43603586D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0BE50-BDFF-4091-A9A9-59F18CA76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7D86-EC69-4682-9527-9478E160F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143A1-45B2-4D2F-91C3-EA73BABD6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EE470-1FCA-4692-838E-A0C5F1A52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3515A-EF96-4173-91FF-F5A514E63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4FCA5-C953-41D9-A6AA-D30DE69CA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099D2-3710-473F-B09A-3CC5576E9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15D2-BA63-44A4-880F-3F1D0966C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6413-1EBD-47EC-85AF-BE0E2A3FF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CEC8-E261-417A-BBAC-4C2F32C20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79D3-A777-4750-949D-571F85195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C5E8-F954-48A0-AD56-AF70D6488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8A5F-6154-4B33-82E5-0D9D0DBC1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481C-2983-47CF-8510-6EDAB8B84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500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1000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F304A-AEB8-4A60-871F-61EA1525103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7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1000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EAF3C-4FFF-4C83-ABBC-84EEE94F7FC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Video.mp4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Mass Media. Средства массовой информации."/>
          <p:cNvPicPr/>
          <p:nvPr/>
        </p:nvPicPr>
        <p:blipFill>
          <a:blip r:embed="rId1"/>
          <a:stretch/>
        </p:blipFill>
        <p:spPr>
          <a:xfrm>
            <a:off x="1116000" y="1413000"/>
            <a:ext cx="6624720" cy="4721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QUESTION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44640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) The letter in Peter's file is from hi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mother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father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aunt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) In her letter Peter's mum writes that she ___   the day she comes back to him.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longs for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hate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forgets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)Peter's mum writes that he'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mean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tough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extraordinary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)She promises that Peter will see her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soon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tomorrow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in this world or another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)Where does Peter live?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In a palace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In an orphan home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At home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)He is spirited away from the orphan home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alone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with the other boy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with the dog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7)The boys are taken to the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ship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plane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train</a:t>
            </a:r>
            <a:br>
              <a:rPr sz="1200"/>
            </a:br>
            <a:br>
              <a:rPr sz="10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0" y="1341360"/>
            <a:ext cx="396072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)The boys arrive to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Russia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Greenland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Neverland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)What is the name of the young Captain Hook?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Jame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William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Ben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)Pan is the tribe's ______ warrior.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bravest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fastest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most coward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1)Peter _____ the rope when he is in a ca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tween two rig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tie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bite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cuts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2)Tiger Lily is a ______ .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mermaid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cat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girl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3)Peter _____ bedtime stories.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doesn't believe in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likes listening to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h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NSWER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)The letter in Peter's file is from h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answer is: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)In her letter Peter's mum writes that she _______ the day she comes back to hi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answer is: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ngs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)Peter's mum writes that he'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answer is: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traordin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)She promises that Peter will see 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answer is: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his world or ano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)Where does Peter liv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answer is: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an orphan ho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)He is spirited away from the orphan ho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answer is: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 the other bo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4796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)The boys are taken to t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answer is: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)The boys arrive 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answer is: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verl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)What is the name of the young Captain Hook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answer is: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a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)Pan is the tribe's ______ warrio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answer is: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av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)Peter _____ the rope when he is in a cabin between two ri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answer is: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)Tiger Lily is a ______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answer is: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ir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)Peter _____ bedtime stori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answer is: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esn't believe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SUMMARISING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d you enjoy our lesson tod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you changed your mind about the place of the television in your lif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you think the television influences your lif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advantages and disadvantages of televis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THE MOTTO OF THE LESSON: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WHEN TELEVISION IS GOOD, NOTHING IS BETT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WHEN TELEVISION IS BAD, NOTHING IS WORS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ton Minow (an American  lawyer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A LESSON ON THE TOPIC: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476000" y="3357720"/>
            <a:ext cx="662940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MASS MEDIA. TELEVISION IN UKRAIN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IMS AND OBJECTIV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revise and enrich pupils’ vocabulary on the topic “Mass Media”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velop listening for gist and detail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velop listening skills of pupils through methods of interactive activitie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velop pupils’ creative and cultural thinking skill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practise listening, speaking and reading on the topic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velop culture of communication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cultivate love for the Motherland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ASS MEDI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33cc"/>
                </a:solidFill>
                <a:latin typeface="Arial"/>
              </a:rPr>
              <a:t>PRES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33cc"/>
                </a:solidFill>
                <a:latin typeface="Arial"/>
              </a:rPr>
              <a:t>TELEVIS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33cc"/>
                </a:solidFill>
                <a:latin typeface="Arial"/>
              </a:rPr>
              <a:t>RADI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33cc"/>
                </a:solidFill>
                <a:latin typeface="Arial"/>
              </a:rPr>
              <a:t>INTERNE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EVELOPING OF THE READING AND WRITING SKILL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 the text: “TELEVISION PROGRAMMES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SWER THE QUES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kind of programme is “Tom and Jerry”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kind of film is “Hard Nut”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 is the star in the fil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can you watch a programme about festivals in Kharkiv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what channel can you watch the “BBC Wildlife Show”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may you watch at 8 o’clock on “Inter”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ELEVIS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3" name="Group 4"/>
          <p:cNvGrpSpPr/>
          <p:nvPr/>
        </p:nvGrpSpPr>
        <p:grpSpPr>
          <a:xfrm>
            <a:off x="-649440" y="1125360"/>
            <a:ext cx="9793440" cy="5183280"/>
            <a:chOff x="-649440" y="1125360"/>
            <a:chExt cx="9793440" cy="5183280"/>
          </a:xfrm>
        </p:grpSpPr>
        <p:sp>
          <p:nvSpPr>
            <p:cNvPr id="104" name="AutoShape 5"/>
            <p:cNvSpPr/>
            <p:nvPr/>
          </p:nvSpPr>
          <p:spPr>
            <a:xfrm>
              <a:off x="-649440" y="1125360"/>
              <a:ext cx="9793440" cy="518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 Box 6"/>
            <p:cNvSpPr/>
            <p:nvPr/>
          </p:nvSpPr>
          <p:spPr>
            <a:xfrm>
              <a:off x="3766680" y="3620880"/>
              <a:ext cx="960120" cy="57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33cc"/>
                  </a:solidFill>
                  <a:latin typeface="Times New Roman"/>
                </a:rPr>
                <a:t>TV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7"/>
            <p:cNvSpPr/>
            <p:nvPr/>
          </p:nvSpPr>
          <p:spPr>
            <a:xfrm>
              <a:off x="4727160" y="2276640"/>
              <a:ext cx="2494440" cy="57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vertis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8"/>
            <p:cNvSpPr/>
            <p:nvPr/>
          </p:nvSpPr>
          <p:spPr>
            <a:xfrm>
              <a:off x="5110920" y="2852640"/>
              <a:ext cx="3649320" cy="574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eligious Programm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9"/>
            <p:cNvSpPr/>
            <p:nvPr/>
          </p:nvSpPr>
          <p:spPr>
            <a:xfrm>
              <a:off x="5302800" y="3620880"/>
              <a:ext cx="2880360" cy="57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Chat (talk) show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10"/>
            <p:cNvSpPr/>
            <p:nvPr/>
          </p:nvSpPr>
          <p:spPr>
            <a:xfrm>
              <a:off x="5495760" y="4196880"/>
              <a:ext cx="2304000" cy="57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Spor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 Box 11"/>
            <p:cNvSpPr/>
            <p:nvPr/>
          </p:nvSpPr>
          <p:spPr>
            <a:xfrm>
              <a:off x="4919040" y="4964040"/>
              <a:ext cx="2304000" cy="578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Natu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12"/>
            <p:cNvSpPr/>
            <p:nvPr/>
          </p:nvSpPr>
          <p:spPr>
            <a:xfrm>
              <a:off x="2422800" y="5539680"/>
              <a:ext cx="3264120" cy="57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Music Programm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13"/>
            <p:cNvSpPr/>
            <p:nvPr/>
          </p:nvSpPr>
          <p:spPr>
            <a:xfrm>
              <a:off x="694080" y="4964040"/>
              <a:ext cx="2304000" cy="57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Quiz Show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 Box 14"/>
            <p:cNvSpPr/>
            <p:nvPr/>
          </p:nvSpPr>
          <p:spPr>
            <a:xfrm>
              <a:off x="502560" y="4388400"/>
              <a:ext cx="2302560" cy="578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Film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 Box 15"/>
            <p:cNvSpPr/>
            <p:nvPr/>
          </p:nvSpPr>
          <p:spPr>
            <a:xfrm>
              <a:off x="694080" y="3620880"/>
              <a:ext cx="2304000" cy="57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Comed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16"/>
            <p:cNvSpPr/>
            <p:nvPr/>
          </p:nvSpPr>
          <p:spPr>
            <a:xfrm>
              <a:off x="885960" y="3045240"/>
              <a:ext cx="2302920" cy="57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New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17"/>
            <p:cNvSpPr/>
            <p:nvPr/>
          </p:nvSpPr>
          <p:spPr>
            <a:xfrm>
              <a:off x="1078920" y="2468160"/>
              <a:ext cx="2301480" cy="578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Soap Oper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 Box 18"/>
            <p:cNvSpPr/>
            <p:nvPr/>
          </p:nvSpPr>
          <p:spPr>
            <a:xfrm>
              <a:off x="2422800" y="1892160"/>
              <a:ext cx="2495880" cy="578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Documentari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19"/>
            <p:cNvSpPr/>
            <p:nvPr/>
          </p:nvSpPr>
          <p:spPr>
            <a:xfrm flipH="1" flipV="1">
              <a:off x="3766320" y="2468160"/>
              <a:ext cx="383400" cy="115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20"/>
            <p:cNvSpPr/>
            <p:nvPr/>
          </p:nvSpPr>
          <p:spPr>
            <a:xfrm flipV="1">
              <a:off x="4343760" y="2852640"/>
              <a:ext cx="766800" cy="76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21"/>
            <p:cNvSpPr/>
            <p:nvPr/>
          </p:nvSpPr>
          <p:spPr>
            <a:xfrm flipV="1">
              <a:off x="4535280" y="3236400"/>
              <a:ext cx="767160" cy="38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22"/>
            <p:cNvSpPr/>
            <p:nvPr/>
          </p:nvSpPr>
          <p:spPr>
            <a:xfrm>
              <a:off x="4535280" y="3812400"/>
              <a:ext cx="960480" cy="19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23"/>
            <p:cNvSpPr/>
            <p:nvPr/>
          </p:nvSpPr>
          <p:spPr>
            <a:xfrm>
              <a:off x="4343760" y="4003920"/>
              <a:ext cx="1152000" cy="38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24"/>
            <p:cNvSpPr/>
            <p:nvPr/>
          </p:nvSpPr>
          <p:spPr>
            <a:xfrm>
              <a:off x="4150440" y="4003920"/>
              <a:ext cx="960480" cy="96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25"/>
            <p:cNvSpPr/>
            <p:nvPr/>
          </p:nvSpPr>
          <p:spPr>
            <a:xfrm>
              <a:off x="3958560" y="4196880"/>
              <a:ext cx="1080" cy="153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26"/>
            <p:cNvSpPr/>
            <p:nvPr/>
          </p:nvSpPr>
          <p:spPr>
            <a:xfrm flipH="1">
              <a:off x="2422440" y="4196880"/>
              <a:ext cx="1343880" cy="958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27"/>
            <p:cNvSpPr/>
            <p:nvPr/>
          </p:nvSpPr>
          <p:spPr>
            <a:xfrm flipH="1">
              <a:off x="1462680" y="4196880"/>
              <a:ext cx="1920240" cy="57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28"/>
            <p:cNvSpPr/>
            <p:nvPr/>
          </p:nvSpPr>
          <p:spPr>
            <a:xfrm flipH="1" flipV="1">
              <a:off x="2037960" y="3427920"/>
              <a:ext cx="1728720" cy="38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29"/>
            <p:cNvSpPr/>
            <p:nvPr/>
          </p:nvSpPr>
          <p:spPr>
            <a:xfrm flipH="1" flipV="1">
              <a:off x="2998080" y="2852640"/>
              <a:ext cx="960480" cy="76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30"/>
            <p:cNvSpPr/>
            <p:nvPr/>
          </p:nvSpPr>
          <p:spPr>
            <a:xfrm flipH="1">
              <a:off x="2037600" y="4003920"/>
              <a:ext cx="1536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MAKING A PROJEK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WORK IN GROUP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MAKE A PAGE FROM THE MAGAZINE USING A BIG SHEET OF PAPER, PARTS OF ARTICLES, PICTURES AND HEADLI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DEVELOPING OF THE        LISTENING SKILLS.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6666"/>
                </a:solidFill>
                <a:uFillTx/>
                <a:latin typeface="Arial"/>
                <a:hlinkClick r:id="rId1"/>
              </a:rPr>
              <a:t>WATCH THE VIDEO-TRAILER TO THE FILM “PAN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DO THE TEST AFTER WATCHING OF THE TRAIL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CHECK YOUR ANSW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PUT THE MARK FOR THE JO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5T07:54:11Z</dcterms:created>
  <dc:creator>Image&amp;Matros ®</dc:creator>
  <dc:description/>
  <dc:language>en-US</dc:language>
  <cp:lastModifiedBy>Image&amp;Matros ®</cp:lastModifiedBy>
  <dcterms:modified xsi:type="dcterms:W3CDTF">2015-11-16T15:27:31Z</dcterms:modified>
  <cp:revision>9</cp:revision>
  <dc:subject/>
  <dc:title>A LESSON ON THE TOPIC:</dc:title>
</cp:coreProperties>
</file>