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D9130-C805-4673-801D-FBFA32A69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CCAB1-28FC-47BF-A9D0-4AC9E0C7D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C65B8-3CDD-4A6D-9E8F-E4922EACD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9AC9D-8ED2-4644-9A0D-AD88D56D3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77730-A8A2-4723-9B3D-401F1F794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A652D-7AEA-4D2E-8BBB-0F6E7BE4B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39523-9860-44AD-8FAD-770D95B59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F3D99-0C67-47C0-A4BF-3CED06ADD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4AE69-27E3-482B-AE51-989717F9E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F5318-D14D-44C0-ADA4-51990E4DF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75F85-C49B-4774-BDD3-7246B3465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3C976-5920-4B80-9DEC-B85EBAEBA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44EFF3-7E7D-4986-8548-EE71245B9C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2006640" y="14400"/>
            <a:ext cx="6176880" cy="755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1619280" y="-179280"/>
            <a:ext cx="6659640" cy="7754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884160" y="631800"/>
            <a:ext cx="8280360" cy="594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619280" y="0"/>
            <a:ext cx="6840360" cy="755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160720" y="0"/>
            <a:ext cx="5759280" cy="755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2340000" y="14400"/>
            <a:ext cx="5580000" cy="755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2160720" y="0"/>
            <a:ext cx="5580000" cy="749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2340000" y="0"/>
            <a:ext cx="5311800" cy="7574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1979640" y="0"/>
            <a:ext cx="6119640" cy="7559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8:32:32Z</dcterms:created>
  <dc:creator/>
  <dc:description/>
  <dc:language>en-US</dc:language>
  <cp:lastModifiedBy/>
  <dcterms:modified xsi:type="dcterms:W3CDTF">2009-04-16T08:32:35Z</dcterms:modified>
  <cp:revision>2</cp:revision>
  <dc:subject/>
  <dc:title/>
</cp:coreProperties>
</file>