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2A9-C9A0-4EC3-BFEC-D93ADF84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4B6-EF08-4EE1-B6EC-9A457E53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E53-2119-4B3F-9C80-22A4E273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069-8F49-4C06-BE0F-69190239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44B-6383-4E06-89C7-B05B7039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182-A885-4A2B-8DA0-98B72CB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C13-5E65-41F4-8E39-49CBE2C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02E-CF7B-4D5E-BA2A-71B24379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6D8-5FC4-487C-94CB-EA03FFC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C56-F920-4A48-A094-3326D0A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8BF-F8A4-46C4-B890-D5B87FE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321-4519-40DB-95A5-7DC2D35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5443-975E-4513-B500-9CA20278F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57120" y="2026800"/>
            <a:ext cx="8572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09680"/>
                <a:tab algn="l" pos="63036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ування креативної особистості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09680"/>
                <a:tab algn="l" pos="63036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бами музичного виховання»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4214880" y="5429160"/>
            <a:ext cx="4538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 дошкільний навчальний заклад (ясла-садок) №9 «Перли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ої міської ради  Харківської област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_727b2_93bce279_L"/>
          <p:cNvPicPr/>
          <p:nvPr/>
        </p:nvPicPr>
        <p:blipFill>
          <a:blip r:embed="rId1"/>
          <a:stretch/>
        </p:blipFill>
        <p:spPr>
          <a:xfrm>
            <a:off x="7572240" y="357120"/>
            <a:ext cx="105120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:\WINDOWS\Temp\Rar$DIa0.245\Девочка_улыбается.png"/>
          <p:cNvPicPr/>
          <p:nvPr/>
        </p:nvPicPr>
        <p:blipFill>
          <a:blip r:embed="rId2"/>
          <a:stretch/>
        </p:blipFill>
        <p:spPr>
          <a:xfrm>
            <a:off x="500040" y="4000680"/>
            <a:ext cx="2178000" cy="248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314280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ічне фантазування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Відповідну роботу  доцільно розпочинати з фантазування на тему власного імені кож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прикла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итм імені можна озвучити однаковим за кількістю складів плесканням у долон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складнення - придумати товаришу ритмічне і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, враховуючи його характ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часно виконуючи різноманітні танцювальні рух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Оскільки центр відчуття ритму міститься в лівій, «логічній» півкулі, то завдяки ритмічному фантазуванню розвивається розумова активність дітей.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760" y="26427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одійне фантазуванн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 музичне, тому й найскладніше для діт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Дітям пропонують придумати мелодійн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ання або прощання, прохання, або визначити день, який діти повністю співають під час спілкування один з одним, під час занять з педагогами.  Це нелегко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і використовують цей вид імпровізації не час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727b2_93bce279_L"/>
          <p:cNvPicPr/>
          <p:nvPr/>
        </p:nvPicPr>
        <p:blipFill>
          <a:blip r:embed="rId1"/>
          <a:stretch/>
        </p:blipFill>
        <p:spPr>
          <a:xfrm>
            <a:off x="7643880" y="285840"/>
            <a:ext cx="979560" cy="1085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712800" y="3035160"/>
            <a:ext cx="7785000" cy="1822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85880" y="1071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імпровізації під музику виділяють види музичного фантазув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040" y="4714560"/>
            <a:ext cx="84297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фантазув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відомі процеси, які відбуваються під впливом навколишніх звуків, не керуються людиною, але їх можна виразити графічно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ж саме може відбуватися під впливом музики. Дітям пропонують малювати що завгодно, коли звучить музика. Музичний фрагмент має бути яскравим, емоційно багатий,  нетривалий - 2-4 хвилини, якщо діти малюють по завершенні музи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7-10 хвилин, якщо діти малюватимуть під музику.  На завершенні нехай усі висловлятьс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е фантазування</a:t>
            </a:r>
            <a:br>
              <a:rPr sz="3200"/>
            </a:b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м молодша дитина, тим природніші, пластичніші її рухи. Мимовільна реакція на випадкові або постійні жести, міміку, рухи дорослих викликає у неї появу рухових стереотипів. Відтак пластичне фантазування відновлює природну тілесну гнучкість та виразність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прави під музику варто розпочинати з рухів усього тіла, корпуса, ніг, рук, голови. Рухова амплітуда має бути велика та повна, щоб працював кожен суглоб. Це створює у дитини відчуття краси, гнучкості, виразності, пластичності свого ті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"/>
          <p:cNvPicPr/>
          <p:nvPr/>
        </p:nvPicPr>
        <p:blipFill>
          <a:blip r:embed="rId1"/>
          <a:stretch/>
        </p:blipFill>
        <p:spPr>
          <a:xfrm rot="20658000">
            <a:off x="431640" y="542520"/>
            <a:ext cx="4248360" cy="381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64176256_1284821395_19"/>
          <p:cNvPicPr/>
          <p:nvPr/>
        </p:nvPicPr>
        <p:blipFill>
          <a:blip r:embed="rId2"/>
          <a:stretch/>
        </p:blipFill>
        <p:spPr>
          <a:xfrm rot="20952600">
            <a:off x="1619280" y="4508280"/>
            <a:ext cx="183816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06263652_70003451_post2901941281415971"/>
          <p:cNvPicPr/>
          <p:nvPr/>
        </p:nvPicPr>
        <p:blipFill>
          <a:blip r:embed="rId3"/>
          <a:stretch/>
        </p:blipFill>
        <p:spPr>
          <a:xfrm rot="21270600">
            <a:off x="6443280" y="18900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"/>
          <p:cNvPicPr/>
          <p:nvPr/>
        </p:nvPicPr>
        <p:blipFill>
          <a:blip r:embed="rId4"/>
          <a:stretch/>
        </p:blipFill>
        <p:spPr>
          <a:xfrm rot="784200">
            <a:off x="4412880" y="2472840"/>
            <a:ext cx="4255920" cy="3776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83444152_large_0_56be7_779ba442_L"/>
          <p:cNvPicPr/>
          <p:nvPr/>
        </p:nvPicPr>
        <p:blipFill>
          <a:blip r:embed="rId1"/>
          <a:stretch/>
        </p:blipFill>
        <p:spPr>
          <a:xfrm>
            <a:off x="611280" y="4869000"/>
            <a:ext cx="154440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0_727b2_93bce279_L"/>
          <p:cNvPicPr/>
          <p:nvPr/>
        </p:nvPicPr>
        <p:blipFill>
          <a:blip r:embed="rId2"/>
          <a:stretch/>
        </p:blipFill>
        <p:spPr>
          <a:xfrm>
            <a:off x="7164360" y="404640"/>
            <a:ext cx="1374840" cy="15242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1714680" y="1643040"/>
            <a:ext cx="600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Тільки з повагою й любов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Наближаймось до мети: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Дітей поганих не буває,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Якщо талановита ти,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Їх безталанних не буває,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Якщо працюєш творчо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600084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ємо за увагу!!!</a:t>
            </a:r>
            <a:br>
              <a:rPr sz="5400"/>
            </a:br>
            <a:r>
              <a:rPr b="1" i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атель-методист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Форост Т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C:\WINDOWS\Temp\Rar$DIa0.744\Рыжий мальчик.png"/>
          <p:cNvPicPr/>
          <p:nvPr/>
        </p:nvPicPr>
        <p:blipFill>
          <a:blip r:embed="rId1"/>
          <a:stretch/>
        </p:blipFill>
        <p:spPr>
          <a:xfrm>
            <a:off x="357120" y="4214880"/>
            <a:ext cx="1852560" cy="23162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C:\WINDOWS\Temp\Rar$DIa0.431\Девочка с бантом.png"/>
          <p:cNvPicPr/>
          <p:nvPr/>
        </p:nvPicPr>
        <p:blipFill>
          <a:blip r:embed="rId2"/>
          <a:stretch/>
        </p:blipFill>
        <p:spPr>
          <a:xfrm>
            <a:off x="7072200" y="3929040"/>
            <a:ext cx="175752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071720" y="2230560"/>
            <a:ext cx="75009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зика — уява — фантазія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ка — творчість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стежинка, йдучи якою дит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ває свої духовні си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О. Сухомлин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5643720" y="60721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C:\Users\Татьяна\Desktop\diti_2_mid.jpg"/>
          <p:cNvPicPr/>
          <p:nvPr/>
        </p:nvPicPr>
        <p:blipFill>
          <a:blip r:embed="rId1"/>
          <a:stretch/>
        </p:blipFill>
        <p:spPr>
          <a:xfrm>
            <a:off x="549360" y="781200"/>
            <a:ext cx="2687400" cy="479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99980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вність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сукупність тих особливостей психіки, які забезпечують продуктивні перетворення в діяльності особистості, розвиваючи та 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уючись з її провідними мотивами і виявляючись як здатність до продуктивної змі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3"/>
          <p:cNvSpPr/>
          <p:nvPr/>
        </p:nvSpPr>
        <p:spPr>
          <a:xfrm>
            <a:off x="5786280" y="60721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C:\WINDOWS\Temp\Rar$DIa0.472\Дети_2.png"/>
          <p:cNvPicPr/>
          <p:nvPr/>
        </p:nvPicPr>
        <p:blipFill>
          <a:blip r:embed="rId1"/>
          <a:stretch/>
        </p:blipFill>
        <p:spPr>
          <a:xfrm>
            <a:off x="6215040" y="3714840"/>
            <a:ext cx="24354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хема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602928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3"/>
          <p:cNvSpPr/>
          <p:nvPr/>
        </p:nvSpPr>
        <p:spPr>
          <a:xfrm>
            <a:off x="5929200" y="60008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етапи розвитку 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ої активності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1"/>
          <a:stretch/>
        </p:blipFill>
        <p:spPr>
          <a:xfrm>
            <a:off x="493560" y="2249640"/>
            <a:ext cx="7998120" cy="339552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3"/>
          <p:cNvSpPr/>
          <p:nvPr/>
        </p:nvSpPr>
        <p:spPr>
          <a:xfrm>
            <a:off x="5929200" y="60008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0_727b2_93bce279_L"/>
          <p:cNvPicPr/>
          <p:nvPr/>
        </p:nvPicPr>
        <p:blipFill>
          <a:blip r:embed="rId2"/>
          <a:stretch/>
        </p:blipFill>
        <p:spPr>
          <a:xfrm>
            <a:off x="7429680" y="357120"/>
            <a:ext cx="11602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звитку креативного мислення педагог має створити сприятливі умов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 сам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хема 3" descr=""/>
          <p:cNvPicPr/>
          <p:nvPr/>
        </p:nvPicPr>
        <p:blipFill>
          <a:blip r:embed="rId1"/>
          <a:stretch/>
        </p:blipFill>
        <p:spPr>
          <a:xfrm>
            <a:off x="2425680" y="2152800"/>
            <a:ext cx="6157800" cy="372420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3"/>
          <p:cNvSpPr/>
          <p:nvPr/>
        </p:nvSpPr>
        <p:spPr>
          <a:xfrm>
            <a:off x="5857920" y="60721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C:\WINDOWS\Temp\Rar$DIa0.245\Девочка_улыбается.png"/>
          <p:cNvPicPr/>
          <p:nvPr/>
        </p:nvPicPr>
        <p:blipFill>
          <a:blip r:embed="rId2"/>
          <a:stretch/>
        </p:blipFill>
        <p:spPr>
          <a:xfrm>
            <a:off x="214200" y="3786120"/>
            <a:ext cx="2428920" cy="2768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6427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необхідно правильно сприймати прояви дитячої креативності:</a:t>
            </a:r>
            <a:br>
              <a:rPr sz="32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ереривати та не гальмувати їх критичними зауваженнями, негативними оцінками;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комога частіше створювати ситуації для вільного спілкування, обміну думками, розвивати нестандартне мислення, руйнувати стереотип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585792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1444680" y="2682720"/>
            <a:ext cx="6394320" cy="2754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85880" y="856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імпровізації з музичними звуками виділяють такі види фантазув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альне фантазування</a:t>
            </a:r>
            <a:br>
              <a:rPr sz="3200"/>
            </a:b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наслідування найближче дітям дошкільного віку. Нехай дитина придумує та виконує за допомогою голосу музично-шумові картинки до будь-яких сюжетів. Наприклад, «Пташиний двір», «Ми у зоопарку», «Ми в лісі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покаже голосом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тече вода з-під кран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иплять двері і шелестять сторінки кни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зенькає  посуд тощ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5715000" y="60008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івський ДНЗ№9 «Перлин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83444152_large_0_56be7_779ba442_L"/>
          <p:cNvPicPr/>
          <p:nvPr/>
        </p:nvPicPr>
        <p:blipFill>
          <a:blip r:embed="rId1"/>
          <a:stretch/>
        </p:blipFill>
        <p:spPr>
          <a:xfrm>
            <a:off x="357120" y="4857840"/>
            <a:ext cx="15447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9:45:18Z</dcterms:created>
  <dc:creator>Liza</dc:creator>
  <dc:description/>
  <dc:language>en-US</dc:language>
  <cp:lastModifiedBy>Татьяна</cp:lastModifiedBy>
  <dcterms:modified xsi:type="dcterms:W3CDTF">2017-02-01T21:13:02Z</dcterms:modified>
  <cp:revision>117</cp:revision>
  <dc:subject/>
  <dc:title>Слайд 1</dc:title>
</cp:coreProperties>
</file>