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D91A-A1AF-4EC5-B575-76EFFC99A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DEBE-44CD-44AA-8BCD-C611DCD21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08A-0917-4B4A-BDA3-C4A9E890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51A-2DEC-4B70-AF93-586F658B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5E0-FD24-4610-BDA3-6939C554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EAE-0625-46DF-9C6A-1E48DFDF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773-A8E9-4412-834F-822E6D2A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9ED-7D15-4E4A-A0AC-582036F9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245-AFA7-4F06-974C-8A4FF7D8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F4E-42A9-458F-8D2D-0F110B5F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6FD-053F-447B-9674-0917A24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9F4-ACB0-4E78-9C71-27BDBD9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FA3-6695-466C-A95C-E4589962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0C4-BEFE-4001-A4AD-1720D5FA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DD4-C46D-4094-BEDA-2C75D2043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7chudes.in.ua/sites/default/files/herson-askaniya3.jpg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b050"/>
                </a:solidFill>
                <a:latin typeface="Georgia"/>
              </a:rPr>
              <a:t>Неси добро у св</a:t>
            </a:r>
            <a:r>
              <a:rPr b="1" lang="uk-UA" sz="6500" spc="-1" strike="noStrike">
                <a:solidFill>
                  <a:srgbClr val="00b050"/>
                </a:solidFill>
                <a:latin typeface="Georgia"/>
              </a:rPr>
              <a:t>іт природи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3885840"/>
            <a:ext cx="756144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uk-UA" sz="3200" spc="-1" strike="noStrike">
                <a:solidFill>
                  <a:srgbClr val="000000"/>
                </a:solidFill>
                <a:latin typeface="Georgia"/>
              </a:rPr>
              <a:t>екологічна гра для  учнів 7-8 класі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6 станція</a:t>
            </a:r>
            <a:br>
              <a:rPr sz="4000"/>
            </a:b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«Битва капітані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1781280" cy="12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2843280" y="2247840"/>
            <a:ext cx="1297080" cy="1612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3"/>
          <a:stretch/>
        </p:blipFill>
        <p:spPr>
          <a:xfrm>
            <a:off x="6665760" y="1700280"/>
            <a:ext cx="1722600" cy="113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1989000" cy="127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5724360" y="3054240"/>
            <a:ext cx="1584360" cy="143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600120" y="3357720"/>
            <a:ext cx="1989000" cy="143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7"/>
          <a:stretch/>
        </p:blipFill>
        <p:spPr>
          <a:xfrm>
            <a:off x="3851280" y="4076640"/>
            <a:ext cx="1708200" cy="124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"/>
          <p:cNvPicPr/>
          <p:nvPr/>
        </p:nvPicPr>
        <p:blipFill>
          <a:blip r:embed="rId8"/>
          <a:stretch/>
        </p:blipFill>
        <p:spPr>
          <a:xfrm>
            <a:off x="7524720" y="3054240"/>
            <a:ext cx="1212840" cy="150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"/>
          <p:cNvPicPr/>
          <p:nvPr/>
        </p:nvPicPr>
        <p:blipFill>
          <a:blip r:embed="rId9"/>
          <a:stretch/>
        </p:blipFill>
        <p:spPr>
          <a:xfrm>
            <a:off x="1873080" y="4941720"/>
            <a:ext cx="1838520" cy="129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"/>
          <p:cNvPicPr/>
          <p:nvPr/>
        </p:nvPicPr>
        <p:blipFill>
          <a:blip r:embed="rId10"/>
          <a:stretch/>
        </p:blipFill>
        <p:spPr>
          <a:xfrm>
            <a:off x="5808600" y="4797360"/>
            <a:ext cx="171612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7 станція</a:t>
            </a:r>
            <a:br>
              <a:rPr sz="4000"/>
            </a:b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«Переговори сусіда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18920" y="1593360"/>
            <a:ext cx="795636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Тротуарами трито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Тягнуть тістечок три тон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За тритонами піто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Тягнуть ще чотири тон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А на тістечка кр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Вже роззявили ро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208908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6732720" y="3645000"/>
            <a:ext cx="194292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16876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00"/>
                </a:solidFill>
                <a:latin typeface="Georgia"/>
              </a:rPr>
              <a:t>Будь другом природі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Збиваючи з шовкових трав   рос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Задумайся, затамувавши поди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рім доброти, дарує нам при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ебе й свою немеркнучу кр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таїні земної диво-вро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раса буття ніколи не в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Заходьте в гості, в гості до її господ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Лиш марно не топчіть її добр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Georgia"/>
              </a:rPr>
              <a:t>Використана літерату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.Альба Г. Еколого-натуралістичні ігри /Г.Альба. - Т. : Підруч. і посіб., 2005.- 48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. Голойда Г. Природа навколо нас : сценарії шкіл. свят для учнів 5-7 кл. / Г. Голойда.— Т. : Підруч. і посіб., 2000. — 40 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3.  Данилова М. Знатоки леса : литературно-экологич. ринг / М. Данилова // Воспитание школьников. — 2007. — С. 77-8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4. Досвід екологічного виховання: [добірка сценаріїв еколог. спрямування] // Позаклас. час. — 2004. — № 3-4. — С. 69-9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5. Досвід екологічного виховання: [добірка сценаріїв еколог. спрямування] // Позаклас. час. — 2008. — № 4. — С. 91-11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6.Загубинога О.О., Науменко Г.С. Інтелектуальні розваги та дидактичні ігри з екології.- К.-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7.Калюжна Г. Земля — це не звалище : екологіч. гра / Г. Калюжна // Хімія. —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8. Пустовіт Н. Екологічні задачі, ігри та вікторини : навч посіб. / Н. Пустовіт, З. Плечова. — К. : Наук. думка, 1995. — 72 с. : ілюстр.— № 11. — С. 36-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Georgia"/>
              </a:rPr>
              <a:t>Ме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280" y="1341000"/>
            <a:ext cx="8147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узагальнити знання дітей з основ екологічної культур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навчити розуміти приро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розвивати творчість, мислення, зв’язне мовленн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виховува­ти любов і бережливе ставлення до приро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«МИ ВСІ ГОСПОДАРІ ПРИРОДИ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ТОЖ ЗБЕРЕЖЕМО ЇЇ ВРОДУ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Georgia"/>
              </a:rPr>
              <a:t>Девіз гр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520" y="834840"/>
            <a:ext cx="8664480" cy="43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0099"/>
                </a:solidFill>
                <a:latin typeface="Georgia"/>
              </a:rPr>
              <a:t>1 станція</a:t>
            </a:r>
            <a:br>
              <a:rPr sz="4400"/>
            </a:br>
            <a:r>
              <a:rPr b="1" lang="uk-UA" sz="4400" spc="-1" strike="noStrike">
                <a:solidFill>
                  <a:srgbClr val="990099"/>
                </a:solidFill>
                <a:latin typeface="Georgia"/>
              </a:rPr>
              <a:t>« Квіткове розмаїття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 rot="10800000">
            <a:off x="857160" y="5331960"/>
            <a:ext cx="7747200" cy="1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1584360" cy="1440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rcRect l="0" t="0" r="42419" b="0"/>
          <a:stretch/>
        </p:blipFill>
        <p:spPr>
          <a:xfrm>
            <a:off x="5148360" y="4149720"/>
            <a:ext cx="156528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2968560" y="4189320"/>
            <a:ext cx="1724040" cy="136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611280" y="3746520"/>
            <a:ext cx="1962000" cy="146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5"/>
          <a:stretch/>
        </p:blipFill>
        <p:spPr>
          <a:xfrm>
            <a:off x="611280" y="671400"/>
            <a:ext cx="1512720" cy="17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6"/>
          <a:stretch/>
        </p:blipFill>
        <p:spPr>
          <a:xfrm>
            <a:off x="6713640" y="1293840"/>
            <a:ext cx="1520640" cy="132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7"/>
          <a:stretch/>
        </p:blipFill>
        <p:spPr>
          <a:xfrm>
            <a:off x="2411280" y="671400"/>
            <a:ext cx="1419480" cy="1244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8"/>
          <a:stretch/>
        </p:blipFill>
        <p:spPr>
          <a:xfrm>
            <a:off x="4140360" y="671400"/>
            <a:ext cx="2016000" cy="142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9"/>
          <a:stretch/>
        </p:blipFill>
        <p:spPr>
          <a:xfrm>
            <a:off x="155520" y="2421000"/>
            <a:ext cx="960480" cy="137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10"/>
          <a:stretch/>
        </p:blipFill>
        <p:spPr>
          <a:xfrm>
            <a:off x="7862760" y="2606760"/>
            <a:ext cx="93672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Georgia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Georgia"/>
              </a:rPr>
              <a:t>2 станція</a:t>
            </a:r>
            <a:br>
              <a:rPr sz="3600"/>
            </a:br>
            <a:r>
              <a:rPr b="1" lang="uk-UA" sz="3600" spc="-1" strike="noStrike">
                <a:solidFill>
                  <a:srgbClr val="990099"/>
                </a:solidFill>
                <a:latin typeface="Georgia"/>
              </a:rPr>
              <a:t>«Наші друзі – птахи»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611280" y="1649520"/>
            <a:ext cx="1730160" cy="1208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411280" y="1714680"/>
            <a:ext cx="2016360" cy="1353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709560" y="3132000"/>
            <a:ext cx="1846440" cy="1582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5"/>
          <a:stretch/>
        </p:blipFill>
        <p:spPr>
          <a:xfrm>
            <a:off x="4741920" y="3132000"/>
            <a:ext cx="1919160" cy="152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6"/>
          <a:stretch/>
        </p:blipFill>
        <p:spPr>
          <a:xfrm>
            <a:off x="4741920" y="1649520"/>
            <a:ext cx="191916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7"/>
          <a:stretch/>
        </p:blipFill>
        <p:spPr>
          <a:xfrm>
            <a:off x="6804000" y="1801800"/>
            <a:ext cx="19051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8"/>
          <a:stretch/>
        </p:blipFill>
        <p:spPr>
          <a:xfrm>
            <a:off x="6804000" y="378936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9"/>
          <a:stretch/>
        </p:blipFill>
        <p:spPr>
          <a:xfrm>
            <a:off x="2771640" y="3429000"/>
            <a:ext cx="1876680" cy="1689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10"/>
          <a:stretch/>
        </p:blipFill>
        <p:spPr>
          <a:xfrm>
            <a:off x="4741920" y="4714920"/>
            <a:ext cx="1846080" cy="1095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3 станція</a:t>
            </a:r>
            <a:br>
              <a:rPr sz="4000"/>
            </a:b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 «Розважальна»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817640"/>
            <a:ext cx="7991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Georgia"/>
              </a:rPr>
              <a:t>Фізкультхвил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887640" cy="244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360072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4 станція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Georgia"/>
              </a:rPr>
              <a:t> </a:t>
            </a: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«У світі тварин»</a:t>
            </a:r>
            <a:br>
              <a:rPr sz="4000"/>
            </a:br>
            <a:br>
              <a:rPr sz="40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1280" y="1773360"/>
            <a:ext cx="8075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3792600" y="3129120"/>
            <a:ext cx="1643040" cy="137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755640" y="1771560"/>
            <a:ext cx="2095560" cy="1095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4880" y="1771560"/>
            <a:ext cx="1569960" cy="123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1476360" y="3129120"/>
            <a:ext cx="1871640" cy="1193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4932360" y="1771560"/>
            <a:ext cx="1771560" cy="1252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6804000" y="1806480"/>
            <a:ext cx="1847880" cy="11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7"/>
          <a:stretch/>
        </p:blipFill>
        <p:spPr>
          <a:xfrm>
            <a:off x="5545080" y="4343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8"/>
          <a:stretch/>
        </p:blipFill>
        <p:spPr>
          <a:xfrm>
            <a:off x="6588000" y="3129120"/>
            <a:ext cx="1944720" cy="1193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9"/>
          <a:stretch/>
        </p:blipFill>
        <p:spPr>
          <a:xfrm>
            <a:off x="2289240" y="4343400"/>
            <a:ext cx="149544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5 станція</a:t>
            </a:r>
            <a:br>
              <a:rPr sz="4000"/>
            </a:b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 «Охорона природи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944720" cy="28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003640" y="2276640"/>
            <a:ext cx="172908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6869160" y="328464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tretch/>
        </p:blipFill>
        <p:spPr>
          <a:xfrm>
            <a:off x="3132000" y="2997360"/>
            <a:ext cx="172728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Асканія-Нова (біосферний заповідник, Херсонщи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ілинний степ „Асканія-Нова” – єдина в Європі ділянка (11054 га) типчаково-ковилового степу, якого ніколи не торкався пл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ут 478 видів рос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шкають не менше 1155 видів членистоногих, 7 видів земноводних і плазунів, 18 видів ссавців, в різні пори року зустрічається більше 270 видів птах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7" descr="http://7chudes.in.ua/sites/default/files/imagecache/Inline_foto/herson-askaniya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95892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35:29Z</dcterms:created>
  <dc:creator>Liza</dc:creator>
  <dc:description/>
  <dc:language>en-US</dc:language>
  <cp:lastModifiedBy>USER</cp:lastModifiedBy>
  <dcterms:modified xsi:type="dcterms:W3CDTF">2016-12-18T20:43:32Z</dcterms:modified>
  <cp:revision>107</cp:revision>
  <dc:subject/>
  <dc:title>Слайд 1</dc:title>
</cp:coreProperties>
</file>