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037-C982-44A6-839C-5F4ED254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9B7-CD0A-4BF5-A47B-EB0AF55C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783-0C9B-4C26-91CF-FB8871FE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DD4-4237-4F2D-83CA-C11D29E4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A6F-45AE-4E83-9FC4-83B087B1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9F28-5954-4C8D-9BED-6A539C85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CE5-FBFF-4AB6-9915-2471C850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41F-56F2-40E9-993C-50C7D120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45D-81AD-4F7B-9692-ABD7D658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A0D-47C0-4AD4-881C-12E160E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3CD-7D4F-4833-9EBD-7F909E95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223-718B-45EE-B7DB-69A6CB3A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3E74-2459-46FA-A348-B9C1E43A3C3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Пов’язане зображення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8240" y="1844640"/>
            <a:ext cx="9036000" cy="24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900" spc="-1" strike="noStrike">
                <a:solidFill>
                  <a:srgbClr val="4f81bd"/>
                </a:solidFill>
                <a:latin typeface="Monotype Corsiva"/>
              </a:rPr>
              <a:t>Серцево-судинні хвороби та їх профілактика.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364000" y="573264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итель біологі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сівської ЗОШ І-ІІІ ступен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йдук Дмитро Володими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Результат пошуку зображень за запитом &quot;кардіограма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4f81bd"/>
                </a:solidFill>
                <a:latin typeface="Monotype Corsiva"/>
              </a:rPr>
              <a:t>Домашнє завдан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9280" y="1413000"/>
            <a:ext cx="8964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аграф підручника вивчит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писати есе на тему «Чому можна навчитись у Миколи Амосова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900" spc="-1" strike="noStrike">
                <a:solidFill>
                  <a:srgbClr val="000000"/>
                </a:solidFill>
                <a:latin typeface="Times New Roman"/>
              </a:rPr>
              <a:t>Ішемічна хвороба серця</a:t>
            </a:r>
            <a:r>
              <a:rPr b="0" lang="vi-VN" sz="1900" spc="-1" strike="noStrike">
                <a:solidFill>
                  <a:srgbClr val="000000"/>
                </a:solidFill>
                <a:latin typeface="Times New Roman"/>
              </a:rPr>
              <a:t> — захворювання, яке виникає внаслідок абсолютного або відносного порушення кровопостачання міокарду через ураження коронарних артерій серця.</a:t>
            </a:r>
            <a:br>
              <a:rPr sz="1900"/>
            </a:br>
            <a:r>
              <a:rPr b="0" lang="vi-VN" sz="1900" spc="-1" strike="noStrike">
                <a:solidFill>
                  <a:srgbClr val="000000"/>
                </a:solidFill>
                <a:latin typeface="Times New Roman"/>
              </a:rPr>
              <a:t>В основі ішемічної хвороби серця лежить порушення кровотоку в коронарних судинах, що призводить до недостатнього кровопостачання серцевого м'яза. Переважно ішемічну хворобу серця зумовлює атеросклеро</a:t>
            </a:r>
            <a:r>
              <a:rPr b="0" lang="uk-UA" sz="19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vi-VN" sz="1900" spc="-1" strike="noStrike">
                <a:solidFill>
                  <a:srgbClr val="000000"/>
                </a:solidFill>
                <a:latin typeface="Times New Roman"/>
              </a:rPr>
              <a:t>. Внаслідок утворення атеросклеротичної бляшки просвіт судини звужується. Слід зазначити, що атеросклероз може розвинутися не тільки в коронарних, але й в будь-яких інших судинах людського організму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Результат пошуку зображень за запитом &quot;ішемічна хвороба серця&quot;"/>
          <p:cNvPicPr/>
          <p:nvPr/>
        </p:nvPicPr>
        <p:blipFill>
          <a:blip r:embed="rId1"/>
          <a:stretch/>
        </p:blipFill>
        <p:spPr>
          <a:xfrm>
            <a:off x="5218200" y="0"/>
            <a:ext cx="3932280" cy="393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Результат пошуку зображень за запитом &quot;ішемічна хвороба серця&quot;"/>
          <p:cNvPicPr/>
          <p:nvPr/>
        </p:nvPicPr>
        <p:blipFill>
          <a:blip r:embed="rId2"/>
          <a:stretch/>
        </p:blipFill>
        <p:spPr>
          <a:xfrm>
            <a:off x="5262480" y="4365720"/>
            <a:ext cx="3888000" cy="247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Результат пошуку зображень за запитом &quot;інфаркт&quot;"/>
          <p:cNvPicPr/>
          <p:nvPr/>
        </p:nvPicPr>
        <p:blipFill>
          <a:blip r:embed="rId1"/>
          <a:stretch/>
        </p:blipFill>
        <p:spPr>
          <a:xfrm>
            <a:off x="-17640" y="765000"/>
            <a:ext cx="3260880" cy="338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43280" y="-360"/>
            <a:ext cx="630072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Інфар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аркт- змертвіння (некроз) частини м’язових клітин серц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ою є блокування (оклюзія) коронарних судин. В коронарних судинах з’являють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осклеротичні бляшк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икає крововилив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ини спазмують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и інфаркту: Сильний стискаючий біль з грудиною, не минає навіть у стані спокою.  Часто біль поширюється в руку, в шию, в щелепу. Можливе потовиділення,  слабкість, втрата свідомості            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нфаркт небезпечний також тим, що після нього виникає багато ускладнен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2"/>
          <a:srcRect l="12905" t="0" r="12782" b="0"/>
          <a:stretch/>
        </p:blipFill>
        <p:spPr>
          <a:xfrm>
            <a:off x="1908000" y="4292640"/>
            <a:ext cx="523728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Результат пошуку зображень за запитом &quot;стенокардія&quot;"/>
          <p:cNvPicPr/>
          <p:nvPr/>
        </p:nvPicPr>
        <p:blipFill>
          <a:blip r:embed="rId1"/>
          <a:stretch/>
        </p:blipFill>
        <p:spPr>
          <a:xfrm>
            <a:off x="1116000" y="-96840"/>
            <a:ext cx="6480360" cy="381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тенокарді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окардія - звуження коронарних суди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и- спазми стінок, внаслідок дії сильних емоцій, важкої їжі, охолодження, а також атеросклеротичні бляшки. Найчастіше стенокардія виникає  на місці розгалуження суди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3330720" y="4221000"/>
            <a:ext cx="5813280" cy="263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Результат пошуку зображень за запитом &quot;пролапс&quot;"/>
          <p:cNvPicPr/>
          <p:nvPr/>
        </p:nvPicPr>
        <p:blipFill>
          <a:blip r:embed="rId2"/>
          <a:stretch/>
        </p:blipFill>
        <p:spPr>
          <a:xfrm>
            <a:off x="4716360" y="765000"/>
            <a:ext cx="4515120" cy="234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0"/>
            <a:ext cx="48592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едостатність  ( пролапс ) клапана 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ще, при якому стулки клапанів не повністю  закриваються і кров повертається у зворотному  напрямку. Така патологія - порок серц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ить поширеною патологією є пролапс  метрального  клапана 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лапана між лівим передсердям і лівим шлуночком). 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лідок пролапса - серцева недостатність. Це явище, при якому  досить сильно потовщується стінка лівого шлуночка. 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Результат пошуку зображень за запитом &quot;інсульт&quot;"/>
          <p:cNvPicPr/>
          <p:nvPr/>
        </p:nvPicPr>
        <p:blipFill>
          <a:blip r:embed="rId1"/>
          <a:stretch/>
        </p:blipFill>
        <p:spPr>
          <a:xfrm>
            <a:off x="0" y="0"/>
            <a:ext cx="3995640" cy="422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51280" y="0"/>
            <a:ext cx="5292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Інсульт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 порушення мозкового кровообігу, некроз тканин моз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и інсульту є : крововилив у мозок, закупорка дрібних судин мозку,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орення тромбу у мозкових судинах. Відповідно - інсульти поділяються на геморагічні і ішемічні 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ія судин послаблюється в разі втрати еластичності чи потовщення їхньої  еластичності, потовщення стінки, ураження клапанів. Течію крові утруднює закупорення судин атеросклеротичними бляшками чи тромбами. Це може бути причиною інсуль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Результат пошуку зображень за запитом &quot;інсульт&quot;"/>
          <p:cNvPicPr/>
          <p:nvPr/>
        </p:nvPicPr>
        <p:blipFill>
          <a:blip r:embed="rId2"/>
          <a:stretch/>
        </p:blipFill>
        <p:spPr>
          <a:xfrm>
            <a:off x="155520" y="3676680"/>
            <a:ext cx="3591000" cy="318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4645080" y="3139920"/>
            <a:ext cx="4389480" cy="3718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Результат пошуку зображень за запитом &quot;атеросклероз&quot;"/>
          <p:cNvPicPr/>
          <p:nvPr/>
        </p:nvPicPr>
        <p:blipFill>
          <a:blip r:embed="rId2"/>
          <a:stretch/>
        </p:blipFill>
        <p:spPr>
          <a:xfrm>
            <a:off x="-42840" y="3139920"/>
            <a:ext cx="4286160" cy="3041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4320"/>
            <a:ext cx="9144000" cy="32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Атеросклероз</a:t>
            </a:r>
            <a:r>
              <a:rPr b="0" lang="uk-UA" sz="2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росклеротичні бляшки утворюються внаслідок нагромадження і відкладення ліпідів у стінці артерій. Вони складаються із жирового ядра і фіброзної оболо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яшки зумовлюють стоншення стінок артерій, звуження їх просвіту, та погіршення кровообігу.                                                               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потік крові ушкоджує поверхню бляшки, то це може спричинити скупчення   тромбоцитів  та утворення кров’яного згустка - тромбу, що блокує рух кров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-360" y="0"/>
            <a:ext cx="4848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Емболія</a:t>
            </a:r>
            <a:r>
              <a:rPr b="0" lang="uk-UA" sz="25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 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гостре закриття просвіту (обтурація) кровоносної судини з порушенням кровопостачання тканини або органу, внаслідок перенесення потоком крові різних субстратів (емболів), які не зустрічаються в нормі. Частіше спостерігають тромбоемболію, яка зазвичай виникає при венозному тромбозі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Результат пошуку зображень за запитом &quot;емболія&quot;"/>
          <p:cNvPicPr/>
          <p:nvPr/>
        </p:nvPicPr>
        <p:blipFill>
          <a:blip r:embed="rId1"/>
          <a:stretch/>
        </p:blipFill>
        <p:spPr>
          <a:xfrm>
            <a:off x="4788000" y="36360"/>
            <a:ext cx="4105080" cy="3113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4971960" y="314964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ова емболі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Результат пошуку зображень за запитом &quot;емболія&quot;"/>
          <p:cNvPicPr/>
          <p:nvPr/>
        </p:nvPicPr>
        <p:blipFill>
          <a:blip r:embed="rId2"/>
          <a:stretch/>
        </p:blipFill>
        <p:spPr>
          <a:xfrm>
            <a:off x="4848120" y="3502080"/>
            <a:ext cx="4137120" cy="3044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884840" y="6494400"/>
            <a:ext cx="40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ітряна емболі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Результат пошуку зображень за запитом &quot;микола амосов&quot;"/>
          <p:cNvPicPr/>
          <p:nvPr/>
        </p:nvPicPr>
        <p:blipFill>
          <a:blip r:embed="rId1"/>
          <a:stretch/>
        </p:blipFill>
        <p:spPr>
          <a:xfrm>
            <a:off x="-30240" y="622440"/>
            <a:ext cx="2998800" cy="2084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5920" y="-19080"/>
            <a:ext cx="91695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Monotype Corsiva"/>
              </a:rPr>
              <a:t>Микола Амосов – геній кардіології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916000" y="588600"/>
            <a:ext cx="6227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 М. Амосов — автор понад 400 наукових робіт, включаючи 19 монографій. Ряд монографій перевидано в США, Японії, Німеччині, Болгарії. У створеному ним інституті підготовлено 40 докторів і понад 150 кандидатів наук, багато хто з них очолює великі наукові центри. Микола Михайлович широко відомий як письменник. Його повісті «Думки та серце», «Записки з майбутнього», «ППГ-2266», «Книга про щастя та нещастя» неодноразово видавалися у нас в країні та за кордоном.  Він був удостоєний багатьох високих урядових нагород України. У 2003 році Інституту серцево-судинної хірургії Академії медичних наук України присвоєно ім’я академіка Миколи Михайловича Амосова. У 2008 році він був визнаний другим після Ярослава Мудрого великим українцем за результатами опитування громадської думки «Великі українці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Результат пошуку зображень за запитом &quot;микола амосов&quot;"/>
          <p:cNvPicPr/>
          <p:nvPr/>
        </p:nvPicPr>
        <p:blipFill>
          <a:blip r:embed="rId2"/>
          <a:stretch/>
        </p:blipFill>
        <p:spPr>
          <a:xfrm>
            <a:off x="826920" y="4748040"/>
            <a:ext cx="1595520" cy="1594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6226200"/>
            <a:ext cx="29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с срібної монети 5 гривен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Результат пошуку зображень за запитом &quot;микола амосов&quot;"/>
          <p:cNvPicPr/>
          <p:nvPr/>
        </p:nvPicPr>
        <p:blipFill>
          <a:blip r:embed="rId3"/>
          <a:stretch/>
        </p:blipFill>
        <p:spPr>
          <a:xfrm>
            <a:off x="36360" y="2736720"/>
            <a:ext cx="2865600" cy="204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1T17:07:39Z</dcterms:created>
  <dc:creator>Admin</dc:creator>
  <dc:description/>
  <dc:language>en-US</dc:language>
  <cp:lastModifiedBy>Admin</cp:lastModifiedBy>
  <dcterms:modified xsi:type="dcterms:W3CDTF">2016-12-22T17:38:24Z</dcterms:modified>
  <cp:revision>7</cp:revision>
  <dc:subject/>
  <dc:title>Презентация PowerPoint</dc:title>
</cp:coreProperties>
</file>