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png" ContentType="image/png"/>
  <Override PartName="/ppt/media/image4.png" ContentType="image/png"/>
  <Override PartName="/ppt/media/image7.gif" ContentType="image/gif"/>
  <Override PartName="/ppt/media/image40.jpeg" ContentType="image/jpeg"/>
  <Override PartName="/ppt/media/image9.png" ContentType="image/png"/>
  <Override PartName="/ppt/media/image39.png" ContentType="image/png"/>
  <Override PartName="/ppt/media/image31.png" ContentType="image/png"/>
  <Override PartName="/ppt/media/image26.gif" ContentType="image/gif"/>
  <Override PartName="/ppt/media/image29.png" ContentType="image/png"/>
  <Override PartName="/ppt/media/image32.png" ContentType="image/png"/>
  <Override PartName="/ppt/media/image12.png" ContentType="image/png"/>
  <Override PartName="/ppt/media/image18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6.gif" ContentType="image/gif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4F3-A504-4BB9-A05E-EFD8D8C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435-FB62-44BC-863F-A6292F28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DFE-0077-424A-A1FF-1D882508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493-5C71-44DE-BFFE-219689C0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919-C860-4C51-861A-8A760C1C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09D-DFBC-457F-B11D-BD5B74B4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C04-6F5F-4E02-9350-3DD2906A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608-5AD4-40D4-AC8D-E292F2E4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B49-EDEC-4667-A694-B96FAD43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95B-03CF-4B33-8B53-DE39AEA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CC8-B5DB-4E8A-A39C-92A6966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568-FF90-4159-B769-5CE1FCD5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C499-26B3-45A2-A204-A14CE8B1D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hyperlink" Target="file:///&#1054;&#1087;&#1099;&#1083;&#1077;&#1085;&#1080;&#1077;.fl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5786280" cy="34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2d050"/>
                </a:solidFill>
                <a:latin typeface="Bookman Old Style"/>
              </a:rPr>
              <a:t>У</a:t>
            </a:r>
            <a:r>
              <a:rPr b="1" lang="uk-UA" sz="2400" spc="-1" strike="noStrike">
                <a:solidFill>
                  <a:srgbClr val="92d050"/>
                </a:solidFill>
                <a:latin typeface="Bookman Old Style"/>
              </a:rPr>
              <a:t>РОК</a:t>
            </a:r>
            <a:r>
              <a:rPr b="1" lang="uk-UA" sz="3200" spc="-1" strike="noStrike">
                <a:solidFill>
                  <a:srgbClr val="92d050"/>
                </a:solidFill>
                <a:latin typeface="Bookman Old Style"/>
              </a:rPr>
              <a:t> з елементами формування позитивного мислення</a:t>
            </a:r>
            <a:br>
              <a:rPr sz="3200"/>
            </a:br>
            <a:r>
              <a:rPr b="1" lang="uk-UA" sz="3200" spc="-1" strike="noStrike">
                <a:solidFill>
                  <a:srgbClr val="cc0000"/>
                </a:solidFill>
                <a:latin typeface="Arial Black"/>
              </a:rPr>
              <a:t>“</a:t>
            </a:r>
            <a:r>
              <a:rPr b="1" lang="uk-UA" sz="3600" spc="-1" strike="noStrike">
                <a:solidFill>
                  <a:srgbClr val="cc0000"/>
                </a:solidFill>
                <a:latin typeface="Arial Black"/>
              </a:rPr>
              <a:t>Плекаймо в серці кожне слово, прозоре диво калинове</a:t>
            </a:r>
            <a:r>
              <a:rPr b="1" lang="uk-UA" sz="3200" spc="-1" strike="noStrike">
                <a:solidFill>
                  <a:srgbClr val="cc0000"/>
                </a:solidFill>
                <a:latin typeface="Arial Black"/>
              </a:rPr>
              <a:t>”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57760"/>
            <a:ext cx="61293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Bookman Old Style"/>
              </a:rPr>
              <a:t>Узагальнення й систематизація знань з те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Bookman Old Style"/>
              </a:rPr>
              <a:t>“</a:t>
            </a:r>
            <a:r>
              <a:rPr b="0" lang="uk-UA" sz="4000" spc="-1" strike="noStrike">
                <a:solidFill>
                  <a:srgbClr val="0000ff"/>
                </a:solidFill>
                <a:latin typeface="Bookman Old Style"/>
              </a:rPr>
              <a:t>ПРИКМЕТНИ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raznoe125"/>
          <p:cNvPicPr/>
          <p:nvPr/>
        </p:nvPicPr>
        <p:blipFill>
          <a:blip r:embed="rId1"/>
          <a:stretch/>
        </p:blipFill>
        <p:spPr>
          <a:xfrm>
            <a:off x="7308720" y="333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raznoe88"/>
          <p:cNvPicPr/>
          <p:nvPr/>
        </p:nvPicPr>
        <p:blipFill>
          <a:blip r:embed="rId2"/>
          <a:stretch/>
        </p:blipFill>
        <p:spPr>
          <a:xfrm>
            <a:off x="357120" y="357120"/>
            <a:ext cx="1500120" cy="155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85840" y="49291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6715080" y="492912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09480" y="13190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 rot="20774400">
            <a:off x="174240" y="555480"/>
            <a:ext cx="447048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0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ізкульт хвил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0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00200" y="1500120"/>
            <a:ext cx="64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Жіночий рід - руки вг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Чоловічий рід - руки в    стор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Середній рід - руки впе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3643200" y="4071960"/>
            <a:ext cx="500076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357120" y="4071960"/>
            <a:ext cx="32050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Bookman Old Style"/>
              </a:rPr>
              <a:t>Діаграма Эйлера — Вен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28"/>
          <p:cNvSpPr txBox="1"/>
          <p:nvPr/>
        </p:nvSpPr>
        <p:spPr>
          <a:xfrm>
            <a:off x="755640" y="5589720"/>
            <a:ext cx="741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214200" y="107748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два кола, що частково накладаються одне на одне, утворюючи, таким чином, одну спільну частину та дві відмінні. У спільній для двох кіл частині записують спільні ознаки, а у відмінних частинах — відмінні ознак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1" name="Picture 4" descr="raznoe203"/>
          <p:cNvPicPr/>
          <p:nvPr/>
        </p:nvPicPr>
        <p:blipFill>
          <a:blip r:embed="rId1"/>
          <a:stretch/>
        </p:blipFill>
        <p:spPr>
          <a:xfrm rot="5400000">
            <a:off x="5375160" y="2554200"/>
            <a:ext cx="1000080" cy="117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"/>
          <p:cNvPicPr/>
          <p:nvPr/>
        </p:nvPicPr>
        <p:blipFill>
          <a:blip r:embed="rId2"/>
          <a:stretch/>
        </p:blipFill>
        <p:spPr>
          <a:xfrm>
            <a:off x="3929040" y="3571920"/>
            <a:ext cx="4143240" cy="2409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raznoe215"/>
          <p:cNvPicPr/>
          <p:nvPr/>
        </p:nvPicPr>
        <p:blipFill>
          <a:blip r:embed="rId3"/>
          <a:stretch/>
        </p:blipFill>
        <p:spPr>
          <a:xfrm>
            <a:off x="142920" y="285840"/>
            <a:ext cx="136836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6" descr=""/>
          <p:cNvPicPr/>
          <p:nvPr/>
        </p:nvPicPr>
        <p:blipFill>
          <a:blip r:embed="rId4"/>
          <a:stretch/>
        </p:blipFill>
        <p:spPr>
          <a:xfrm>
            <a:off x="571680" y="3000240"/>
            <a:ext cx="300024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7"/>
          <p:cNvSpPr txBox="1"/>
          <p:nvPr/>
        </p:nvSpPr>
        <p:spPr>
          <a:xfrm>
            <a:off x="785880" y="1857240"/>
            <a:ext cx="742932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лід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v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3190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62120" y="1471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91440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7"/>
          <p:cNvSpPr/>
          <p:nvPr/>
        </p:nvSpPr>
        <p:spPr>
          <a:xfrm>
            <a:off x="214200" y="1714680"/>
            <a:ext cx="5072040" cy="49291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Змінюються з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родами ,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числами,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відмінками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Група присвійних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прикметників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Мають повні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Bookman Old Style"/>
              </a:rPr>
              <a:t>і короткі  форми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3857760" y="1643040"/>
            <a:ext cx="5072040" cy="50007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Окрема група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икметників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з  суфіксом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–ed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Часто роль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ідносних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иконують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изначники-іменники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емає граматичного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узгодження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з іменником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3190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14200" y="357120"/>
            <a:ext cx="877752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066680" y="17762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857760" y="2500200"/>
            <a:ext cx="1285920" cy="3500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Ознак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Прості 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кладн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Якісні та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ідносн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Ступені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орівня-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н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УКРАЇНСЬКА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Діаграма Ейлера-Ве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85840" y="0"/>
            <a:ext cx="1646280" cy="1643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928800" y="2000160"/>
            <a:ext cx="7408800" cy="35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вознавц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7"/>
          <p:cNvSpPr txBox="1"/>
          <p:nvPr/>
        </p:nvSpPr>
        <p:spPr>
          <a:xfrm>
            <a:off x="428760" y="142920"/>
            <a:ext cx="80517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Bookman Old Style"/>
              </a:rPr>
              <a:t>Діаграма Ейлера-Венн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0" y="1916280"/>
            <a:ext cx="5219640" cy="44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ідповідає на питанн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Хто?Що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азви власні т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загальні, істот т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еістот. Відміни І, ІІ,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ІІІ,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V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.Мішана група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77680" y="2642400"/>
            <a:ext cx="3717000" cy="315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повіда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питання Який?Ч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існі, відносні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свійні.Ступ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рівняння:вищй і на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щий.Форми:повна 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отка, стягнена та н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яг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714840" y="2643120"/>
            <a:ext cx="1428840" cy="3071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Само-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тійн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Рід, число,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ідміно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Тверда 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яка групи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-Будь-який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член  рече-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н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428760" y="11430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Bookman Old Style"/>
              </a:rPr>
              <a:t>Іменник             Прикметник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nasekomoe6"/>
          <p:cNvPicPr/>
          <p:nvPr/>
        </p:nvPicPr>
        <p:blipFill>
          <a:blip r:embed="rId1"/>
          <a:stretch/>
        </p:blipFill>
        <p:spPr>
          <a:xfrm>
            <a:off x="6012000" y="5084640"/>
            <a:ext cx="2232000" cy="177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2000160" cy="17146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7"/>
          <p:cNvSpPr txBox="1"/>
          <p:nvPr/>
        </p:nvSpPr>
        <p:spPr>
          <a:xfrm>
            <a:off x="428760" y="1928880"/>
            <a:ext cx="8358120" cy="32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кспер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1" descr="linerich"/>
          <p:cNvPicPr/>
          <p:nvPr/>
        </p:nvPicPr>
        <p:blipFill>
          <a:blip r:embed="rId1"/>
          <a:stretch/>
        </p:blipFill>
        <p:spPr>
          <a:xfrm>
            <a:off x="468360" y="6237360"/>
            <a:ext cx="8136000" cy="35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2" descr="linerich"/>
          <p:cNvPicPr/>
          <p:nvPr/>
        </p:nvPicPr>
        <p:blipFill>
          <a:blip r:embed="rId2"/>
          <a:stretch/>
        </p:blipFill>
        <p:spPr>
          <a:xfrm>
            <a:off x="324000" y="189000"/>
            <a:ext cx="8135640" cy="352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Сенк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лово "сенкан" походить від фр. слова "п’ять" і означає неримований вірш у п’ять рядків на запропоновану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міст сенк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. Іменник (те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. Два прикметники (яке вон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. Три дієслова (що воно робить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. Фраза-висновок з чотирьох с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5. Іменник-синонім до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сього – 11 слі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" descr=""/>
          <p:cNvPicPr/>
          <p:nvPr/>
        </p:nvPicPr>
        <p:blipFill>
          <a:blip r:embed="rId1"/>
          <a:stretch/>
        </p:blipFill>
        <p:spPr>
          <a:xfrm>
            <a:off x="204840" y="115920"/>
            <a:ext cx="4270320" cy="32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270680" cy="320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2370240" y="3500280"/>
            <a:ext cx="4321080" cy="308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290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Є у світі моя країна.wma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6381360" y="62866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. Фалькович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28760" y="1869120"/>
            <a:ext cx="4000320" cy="265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Bookman Old Style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Bookman Old Style"/>
              </a:rPr>
              <a:t>Радісна, кольоров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Bookman Old Style"/>
              </a:rPr>
              <a:t>Кохає, посміхається, живе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Bookman Old Style"/>
              </a:rPr>
              <a:t>Краплинка сиропу після зим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Bookman Old Style"/>
              </a:rPr>
              <a:t>Квітка.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500040" y="581040"/>
            <a:ext cx="5429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есна</a:t>
            </a:r>
            <a:r>
              <a:rPr b="1" lang="uk-UA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адісна, кольорова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охає, посміхається, живе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раплинка сиропу після зими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вітка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Arial Black"/>
                <a:ea typeface="Arial"/>
              </a:rPr>
              <a:t>Мета занятт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торити вивчене, узагальнити та систематиз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ня про прикметник як частину мови, й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фологічні ознаки, синтаксичну роль, продовж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осконалювати орфографічні навички, розви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орчі здібності дітей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увати вм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ловлювати власну думку; виховувати тактовність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дінці учнів під час робот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пах, спри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ванню позитивного мисл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429240" y="442908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785880" y="4429080"/>
            <a:ext cx="221436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285840" y="3581640"/>
            <a:ext cx="528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це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скраве, тепле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ує, гріє, світить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емлю падають промені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а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290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Є у світі моя країна.wma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8"/>
          <p:cNvSpPr/>
          <p:nvPr/>
        </p:nvSpPr>
        <p:spPr>
          <a:xfrm>
            <a:off x="6381360" y="62866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. Фалькович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0" y="35712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214200" y="3009240"/>
            <a:ext cx="5643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ва.</a:t>
            </a:r>
            <a:endParaRPr b="0" lang="en-US" sz="25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ідна, барвінкова.</a:t>
            </a:r>
            <a:endParaRPr b="0" lang="en-US" sz="25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ливається, єднає, дзвенить.</a:t>
            </a:r>
            <a:endParaRPr b="0" lang="en-US" sz="25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на </a:t>
            </a:r>
            <a:r>
              <a:rPr b="1" lang="ru-RU" sz="25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–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єдина й найцінніша.</a:t>
            </a:r>
            <a:endParaRPr b="0" lang="en-US" sz="25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ля.</a:t>
            </a:r>
            <a:endParaRPr b="0" lang="en-US" sz="25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3" descr=""/>
          <p:cNvPicPr/>
          <p:nvPr/>
        </p:nvPicPr>
        <p:blipFill>
          <a:blip r:embed="rId1"/>
          <a:stretch/>
        </p:blipFill>
        <p:spPr>
          <a:xfrm>
            <a:off x="92160" y="328680"/>
            <a:ext cx="8770680" cy="6396120"/>
          </a:xfrm>
          <a:prstGeom prst="rect">
            <a:avLst/>
          </a:prstGeom>
          <a:ln w="0">
            <a:noFill/>
          </a:ln>
        </p:spPr>
      </p:pic>
      <p:pic>
        <p:nvPicPr>
          <p:cNvPr id="163" name="Є у світі моя країна.wma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500040" y="4214880"/>
            <a:ext cx="2071800" cy="22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6572160" y="4286160"/>
            <a:ext cx="2057400" cy="222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290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итяча мова, щира, кльова, щедросл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ай живе дитяча мо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дорослу, переросл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люблю я, бо вон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лякана й ну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 – дитяча, неледач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оч, буває, і заплач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перкласна, пречуд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звінко-різно-кольор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розуміла квітам, зві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раблю і журавл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 цій мові просто ві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 я її люб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ім дорослим людям зно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еба вчить дитячу м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den_nezal1"/>
          <p:cNvPicPr/>
          <p:nvPr/>
        </p:nvPicPr>
        <p:blipFill>
          <a:blip r:embed="rId1"/>
          <a:stretch/>
        </p:blipFill>
        <p:spPr>
          <a:xfrm>
            <a:off x="324000" y="981000"/>
            <a:ext cx="3528720" cy="468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den_nezal1"/>
          <p:cNvPicPr/>
          <p:nvPr/>
        </p:nvPicPr>
        <p:blipFill>
          <a:blip r:embed="rId2"/>
          <a:stretch/>
        </p:blipFill>
        <p:spPr>
          <a:xfrm>
            <a:off x="357120" y="1000080"/>
            <a:ext cx="3529080" cy="468648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8"/>
          <p:cNvSpPr/>
          <p:nvPr/>
        </p:nvSpPr>
        <p:spPr>
          <a:xfrm>
            <a:off x="6381360" y="62866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. Фалькович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889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Методи і прийо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81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Кубування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Вільне письм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Діаграми Ейлера-Вен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Сен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mickey1"/>
          <p:cNvPicPr/>
          <p:nvPr/>
        </p:nvPicPr>
        <p:blipFill>
          <a:blip r:embed="rId1"/>
          <a:stretch/>
        </p:blipFill>
        <p:spPr>
          <a:xfrm>
            <a:off x="250920" y="4365720"/>
            <a:ext cx="197172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6929280" y="214200"/>
            <a:ext cx="175284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786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3429000" y="464328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Bookman Old Style"/>
              </a:rPr>
              <a:t>Епіграф до уроку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142640"/>
            <a:ext cx="853596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c00000"/>
                </a:solidFill>
                <a:latin typeface="Book Antiqua"/>
              </a:rPr>
              <a:t>Позитивне мислення дозволяє нам зібрати свої сили, подолати слабкості. Вон</a:t>
            </a:r>
            <a:r>
              <a:rPr b="1" i="1" lang="uk-UA" sz="3000" spc="-1" strike="noStrike">
                <a:solidFill>
                  <a:srgbClr val="c00000"/>
                </a:solidFill>
                <a:latin typeface="Book Antiqua"/>
              </a:rPr>
              <a:t>о</a:t>
            </a:r>
            <a:r>
              <a:rPr b="1" i="1" lang="ru-RU" sz="30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i="1" lang="en-US" sz="3000" spc="-1" strike="noStrike">
                <a:solidFill>
                  <a:srgbClr val="c00000"/>
                </a:solidFill>
                <a:latin typeface="Book Antiqua"/>
              </a:rPr>
              <a:t>допомагає зрозуміти, що ми народилися для великих справ, бо позитивна сила, яка є всередині нас, дозволяє реалізувати будь-яку високу думку. Р. Енто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57160" y="10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6357960" y="4286160"/>
            <a:ext cx="2617920" cy="221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3714840" y="421488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857160" y="4286160"/>
            <a:ext cx="24670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Прикметник-худ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5364000" y="1052640"/>
            <a:ext cx="17272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5357880" y="4286160"/>
            <a:ext cx="35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7093080" y="4786200"/>
            <a:ext cx="12650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>
            <a:off x="366840" y="642960"/>
            <a:ext cx="827712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Bookman Old Style"/>
              </a:rPr>
              <a:t>Прикме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5364000" y="1052640"/>
            <a:ext cx="17272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5357880" y="4286160"/>
            <a:ext cx="35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7093080" y="4786200"/>
            <a:ext cx="12650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471492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кметник дасть іменнику-предме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усь його ознаку чи прикмет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кметник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це частина мов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неї нам не обійтис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 вслухайсь в слово пречудове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йому, як другові, всміхнис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я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ласкава, люба, рідн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сонце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щире, золот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небо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лагідне й погідне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ття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красне, дорог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очі в мами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обрі, ніжні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голос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чистий і дзвінкий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руки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теплі і надійні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погляд </a:t>
            </a:r>
            <a:r>
              <a:rPr b="1" lang="ru-RU" sz="23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—</a:t>
            </a: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онячний, яс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uk-UA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. Білоу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3"/>
          <p:cNvSpPr/>
          <p:nvPr/>
        </p:nvSpPr>
        <p:spPr>
          <a:xfrm>
            <a:off x="1643040" y="1357200"/>
            <a:ext cx="5786640" cy="10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Bookman Old Style"/>
              </a:rPr>
              <a:t>На уроці ми повинні: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714240" y="2857680"/>
            <a:ext cx="2786040" cy="5713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торити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загальнити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2571840" y="3857760"/>
            <a:ext cx="3143160" cy="785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Прогнозування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714920" y="2928960"/>
            <a:ext cx="3071880" cy="5745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истематизувати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досконалювати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Line 17"/>
          <p:cNvSpPr/>
          <p:nvPr/>
        </p:nvSpPr>
        <p:spPr>
          <a:xfrm flipH="1">
            <a:off x="1785600" y="2357280"/>
            <a:ext cx="865080" cy="43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715000" y="2357280"/>
            <a:ext cx="1152360" cy="43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642960" y="5143680"/>
            <a:ext cx="1857240" cy="14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На цьому уроц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я дізнаюся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3500280" y="5214960"/>
            <a:ext cx="1928880" cy="142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уроці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не чекає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6300720" y="5214960"/>
            <a:ext cx="1986120" cy="142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ід урок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я очікую…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857240" y="464328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4572000" y="478620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7286760" y="471492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9" name="Picture 26" descr="raznoe236"/>
          <p:cNvPicPr/>
          <p:nvPr/>
        </p:nvPicPr>
        <p:blipFill>
          <a:blip r:embed="rId1"/>
          <a:stretch/>
        </p:blipFill>
        <p:spPr>
          <a:xfrm>
            <a:off x="3786120" y="2428920"/>
            <a:ext cx="720720" cy="431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9"/>
          <p:cNvSpPr/>
          <p:nvPr/>
        </p:nvSpPr>
        <p:spPr>
          <a:xfrm>
            <a:off x="2571840" y="357120"/>
            <a:ext cx="3429000" cy="86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Цілевизначенн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1" name="Picture 33" descr=""/>
          <p:cNvPicPr/>
          <p:nvPr/>
        </p:nvPicPr>
        <p:blipFill>
          <a:blip r:embed="rId2"/>
          <a:stretch/>
        </p:blipFill>
        <p:spPr>
          <a:xfrm>
            <a:off x="6786720" y="214200"/>
            <a:ext cx="19620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1857240" cy="1857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Bookman Old Style"/>
              </a:rPr>
              <a:t>Кубув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643040"/>
            <a:ext cx="8507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 метою повторення вивченого матеріалу, узагальнення й систематизації знань про прикметник пропон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кубик, на шести гранях якого записані запитання й завд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озкажіть про прикметник як частину м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озкажіть про написання не з прикмет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ясніть написання -н- і -нн- у прикметни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озкажіть про групи прикметників за значен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озкажіть про ступені порівняння прикметни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ясніть написання прикметникових суфіксів -ев-, -єв, -ов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raznoe203"/>
          <p:cNvPicPr/>
          <p:nvPr/>
        </p:nvPicPr>
        <p:blipFill>
          <a:blip r:embed="rId1"/>
          <a:stretch/>
        </p:blipFill>
        <p:spPr>
          <a:xfrm rot="5400000">
            <a:off x="4118760" y="803880"/>
            <a:ext cx="642960" cy="1177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12840" y="5079960"/>
            <a:ext cx="61164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Вчитель по черзі кида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кубик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учням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які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усно відповідають на те запитання,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що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їм випало на грані кубика)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214200" y="285840"/>
            <a:ext cx="2000520" cy="121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Фрірайтинг (free writing, вільне письмо) </a:t>
            </a:r>
            <a:br>
              <a:rPr sz="4000"/>
            </a:br>
            <a:r>
              <a:rPr b="1" lang="ru-RU" sz="2000" spc="-1" strike="noStrike">
                <a:solidFill>
                  <a:srgbClr val="0000ff"/>
                </a:solidFill>
                <a:latin typeface="Bookman Old Style"/>
              </a:rPr>
              <a:t>– безперервне написання текстів протягом певного проміжку ч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2356920"/>
            <a:ext cx="81979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 метою розвитку творчих здібностей, формування вмінь мислити позитивно, а також працювати у групах пропоную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ступне цікаве завдання - складання т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вилинного ес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за допомогою технології “Вільного письм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ісля перегляду відео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чн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ідно викласти письмово свої думки в довільній формі , використовуючи пр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мет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Учні переглядають відеоролик 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инають письмово викладати свої дум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raznoe290"/>
          <p:cNvPicPr/>
          <p:nvPr/>
        </p:nvPicPr>
        <p:blipFill>
          <a:blip r:embed="rId1"/>
          <a:stretch/>
        </p:blipFill>
        <p:spPr>
          <a:xfrm>
            <a:off x="571680" y="5429160"/>
            <a:ext cx="2155680" cy="121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6072120" y="4500720"/>
            <a:ext cx="2619360" cy="1742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356640" y="5877000"/>
            <a:ext cx="83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 віде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8:42:20Z</dcterms:created>
  <dc:creator>User</dc:creator>
  <dc:description/>
  <dc:language>en-US</dc:language>
  <cp:lastModifiedBy>Admin</cp:lastModifiedBy>
  <dcterms:modified xsi:type="dcterms:W3CDTF">2013-03-18T17:51:41Z</dcterms:modified>
  <cp:revision>114</cp:revision>
  <dc:subject/>
  <dc:title>Слайд 1</dc:title>
</cp:coreProperties>
</file>