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5EC-695C-40C6-AD79-1C519797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902E-B208-41DF-9370-F530A3C5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2FF-96DF-4AC4-AFC9-A873A44D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7519-E1CF-444E-93EC-92AD108A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7885-15DE-4522-BCEF-CCCB35FF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437C-5A3A-4FA9-92BD-6FB37E24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2BAE-0197-4902-B7C5-B9FEA9B2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2C30-4390-49E1-AA18-80B4E488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6D88-E79D-4AA4-A6E3-B9A76308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63E9-BA74-43A4-9DB7-848F461E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E4DD-167F-44C4-882E-01DA9711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68F-FD35-401E-BFF6-83B3F0C4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77E6-F302-44FD-8BDB-CE07AC86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845F-25FC-4B45-BDB5-6819B176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5C16-43A2-4448-B249-6DA4ACCA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0FD2-FE1F-499D-A54E-A602D887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3949-D39F-423C-A295-F85614BA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6429-B2CA-4A88-AA39-F922C523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5EA-E914-4F3B-9874-4B4B4105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B09-F51B-403E-8F50-8B9C2151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DD2-71BE-47B4-B8D2-D44A53904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B80-7890-45E2-ABF7-DDBAC093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B52-737A-456C-87B0-F6D6442A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1E2C-3A71-4DB9-9105-327471F7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7FD4-503B-48FB-A952-7FC1C62CA116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5F8A-FACC-47A8-8213-956A8B0ADCA5}" type="slidenum"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797000"/>
            <a:ext cx="9144000" cy="1368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Нарис історії вивчення клітини.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Клітинна теорія: засновники, основні положення. 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начення клітинної теорії для розвитку біології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3" descr="G:\Картинки к презентации\1.jpg"/>
          <p:cNvPicPr/>
          <p:nvPr/>
        </p:nvPicPr>
        <p:blipFill>
          <a:blip r:embed="rId1"/>
          <a:stretch/>
        </p:blipFill>
        <p:spPr>
          <a:xfrm>
            <a:off x="971640" y="404640"/>
            <a:ext cx="3600360" cy="4270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53" name="Picture 2" descr="G:\Картинки к презентации\15.jpg"/>
          <p:cNvPicPr/>
          <p:nvPr/>
        </p:nvPicPr>
        <p:blipFill>
          <a:blip r:embed="rId2"/>
          <a:stretch/>
        </p:blipFill>
        <p:spPr>
          <a:xfrm>
            <a:off x="4716360" y="404640"/>
            <a:ext cx="3622680" cy="430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200400" cy="38574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1543680" y="5589720"/>
            <a:ext cx="23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Олександр Флемін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(1843-1905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822480" y="150012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В 1876 РОЦІ ОЛЕКСАНДР ФЛЕМІНГ ВІДКРИ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ЛІТИННИЙ ЦЕНТ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3" descr="G:\Картинки к презентации\6.jpg"/>
          <p:cNvPicPr/>
          <p:nvPr/>
        </p:nvPicPr>
        <p:blipFill>
          <a:blip r:embed="rId2"/>
          <a:stretch/>
        </p:blipFill>
        <p:spPr>
          <a:xfrm>
            <a:off x="5000760" y="2498760"/>
            <a:ext cx="2928960" cy="2716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4" name="Text Box 9"/>
          <p:cNvSpPr/>
          <p:nvPr/>
        </p:nvSpPr>
        <p:spPr>
          <a:xfrm>
            <a:off x="5669640" y="544500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КЛІТИННИЙ ЦЕНТ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132000" cy="242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8" name="Picture 3" descr="G:\Картинки к презентации\12.jpg"/>
          <p:cNvPicPr/>
          <p:nvPr/>
        </p:nvPicPr>
        <p:blipFill>
          <a:blip r:embed="rId2"/>
          <a:stretch/>
        </p:blipFill>
        <p:spPr>
          <a:xfrm>
            <a:off x="179280" y="4365720"/>
            <a:ext cx="3240360" cy="213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09" name="Text Box 6"/>
          <p:cNvSpPr/>
          <p:nvPr/>
        </p:nvSpPr>
        <p:spPr>
          <a:xfrm>
            <a:off x="3863880" y="1427040"/>
            <a:ext cx="48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 1809РОЦІ РІХАРД АЛЬТМАН ВІДКРИВ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МІТОХОНДРІ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3809160" y="4164120"/>
            <a:ext cx="504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 1896 РОЦІ КАМІЛЛО ГОЛЬДЖІ ВІДКРИ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ОРГАНОЇД НАЗВАНИЙ НА ЙОГО ЧЕСТЬ –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КОМПЛЕКС ГОЛЬДЖІ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C:\Documents and Settings\Мошка\Рабочий стол\8.jpg"/>
          <p:cNvPicPr/>
          <p:nvPr/>
        </p:nvPicPr>
        <p:blipFill>
          <a:blip r:embed="rId1"/>
          <a:stretch/>
        </p:blipFill>
        <p:spPr>
          <a:xfrm>
            <a:off x="214200" y="1428840"/>
            <a:ext cx="4824360" cy="44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14" name="Text Box 5"/>
          <p:cNvSpPr/>
          <p:nvPr/>
        </p:nvSpPr>
        <p:spPr>
          <a:xfrm>
            <a:off x="5098320" y="1773360"/>
            <a:ext cx="3733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 РУБЕЖІ 19-20 СТОЛІ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СФОРМУВАЛАСЬ НОВА НАУ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ЦИТОЛОГІЯ (ВІД ГРЕЦЬКОГ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КІТОС”-КЛІТИНА “ЛОГОС”-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У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ОСНОВНІ ПОЛОЖЕННЯ СУЧАСНОЇ КЛІТИННОЇ ТЕОРІЇ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КЛІТИНА Є ОСНОВНОЮ ФУНКЦІОНАЛЬНОЮ ОДИНИЦЕЮ ВСЬОГО ЖИВОГО,ДЛЯ НЕЇ ХАРАКТЕРНІ ВСІ ОЗНАКИ ЖИВОГО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КЛІТИНИ ВСІХ ОРГАНІЗМІВ МАЮТЬСХОЖИЙ ХІМІЧНИЙ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СКЛАД І ЗАГАЛЬНИЙ ПЛАН  БУДОВ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3.    НОВА КЛІТИНА УТВОРЮЄТЬСЯ У РЕЗУЛЬТАТІ ПОДІЛУ СТАРОЇ КЛІТИН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24000" y="4076640"/>
            <a:ext cx="8640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4.    БАГАТОКЛІТИННІ ОРГАНІЗМИ  РОЗВИВАЮТЬСЯ З ОДНІЄЇ КЛІТИН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5.    СХОЖІСТЬ КЛІТИННОЇ БУДОВИСВІДЧИТЬ ПРО ЄДНІСТЬ </a:t>
            </a:r>
            <a:r>
              <a:rPr b="0" lang="uk-UA" sz="1800" spc="-1" strike="noStrike">
                <a:solidFill>
                  <a:srgbClr val="000000"/>
                </a:solidFill>
                <a:latin typeface="Comic Sans MS"/>
              </a:rPr>
              <a:t>ЇХ   ПОХОДЖЕНН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Значення клітинної теорії для розвитку біології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Створення клітинної теорії стало найважливішою подією в біології, одним із рішучих доказів єдності всієї живої природ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Клітинна теорія мала значний і вирішальний вплив на розвиток біології, слугувала головним фундаментом для розвитку таких дисциплін, як ембріологія, гістологія та фізіологі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mic Sans MS"/>
              </a:rPr>
              <a:t>Вона дала основу для розуміння життя, для пояснення родинних взаємозв’язків організмів, для розуміння механізму індивідуального розвитку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214200" y="785880"/>
            <a:ext cx="3168720" cy="3857400"/>
          </a:xfrm>
          <a:prstGeom prst="rect">
            <a:avLst/>
          </a:prstGeom>
          <a:ln w="0">
            <a:noFill/>
          </a:ln>
        </p:spPr>
      </p:pic>
      <p:sp>
        <p:nvSpPr>
          <p:cNvPr id="156" name="Oval 6"/>
          <p:cNvSpPr/>
          <p:nvPr/>
        </p:nvSpPr>
        <p:spPr>
          <a:xfrm>
            <a:off x="324000" y="5157720"/>
            <a:ext cx="2736720" cy="692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Роберт Гу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1635 -1703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492360" y="907920"/>
            <a:ext cx="51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 1665 році англійський природодослідни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оберт Гук розглядав під мікроскопом зрі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кори пробкового дерева і помітив що вон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схожі на бджолині соти. Описуючи побачене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ук використав слово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ll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”, що на англійські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значає “камера”.На українську слово перекладається я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“клітина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" descr="C:\Documents and Settings\Мошка\Рабочий стол\ris5_100.jpg"/>
          <p:cNvPicPr/>
          <p:nvPr/>
        </p:nvPicPr>
        <p:blipFill>
          <a:blip r:embed="rId2"/>
          <a:stretch/>
        </p:blipFill>
        <p:spPr>
          <a:xfrm>
            <a:off x="3643200" y="3071880"/>
            <a:ext cx="2183040" cy="28414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9" name="Text Box 13"/>
          <p:cNvSpPr/>
          <p:nvPr/>
        </p:nvSpPr>
        <p:spPr>
          <a:xfrm>
            <a:off x="2000160" y="5786280"/>
            <a:ext cx="4214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знаходиться у Дарвіновському музеї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5"/>
          <p:cNvSpPr/>
          <p:nvPr/>
        </p:nvSpPr>
        <p:spPr>
          <a:xfrm>
            <a:off x="3357720" y="5857920"/>
            <a:ext cx="194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Мікроскоп Гу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9" descr="Картинки по запросу клітини, які побачив гук фото"/>
          <p:cNvPicPr/>
          <p:nvPr/>
        </p:nvPicPr>
        <p:blipFill>
          <a:blip r:embed="rId3"/>
          <a:stretch/>
        </p:blipFill>
        <p:spPr>
          <a:xfrm>
            <a:off x="6643800" y="3214800"/>
            <a:ext cx="17031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895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469080" y="4869000"/>
            <a:ext cx="28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АНТОНІ ван ЛЕВЕНГУК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564000" y="1268280"/>
            <a:ext cx="558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ГОЛЛАНДСЬКИЙ КУПЕЦЬ АНТОНІ ван ЛЕВЕНГУК ЗДОБУВ СЛАВУ ВЧЕНОГО І ПОДАРУВАВ НАУЦІ ЦІННІ ВІДКРИТТЯ. 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ВІН ВДОСКОНАЛИВ  МІКРОСКОП ГУКА І СТВОРИВ ЛІНЗИ, ЯКІ ДАЮТЬ  ЗБІЛЬШЕННЯ В 100 – 300 РАЗІВ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ТАК ВІДКРИЛИ СВІТ ОДНОКЛІТИННИХ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ОРГАНІЗМІВ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779640" cy="38671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900000" y="494172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РОБЕРТ БРОУ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(1773 -1858 р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4551480" y="1500120"/>
            <a:ext cx="459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 1831 р. РОБЕРТ БРОУН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,ШОТЛАНДСЬКИЙ БОТАНІК,ОПИСАВ ЯДРО В РОСЛИННІЙ КЛІТИНІ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3" descr="G:\Картинки к презентации\11.jpg"/>
          <p:cNvPicPr/>
          <p:nvPr/>
        </p:nvPicPr>
        <p:blipFill>
          <a:blip r:embed="rId2"/>
          <a:stretch/>
        </p:blipFill>
        <p:spPr>
          <a:xfrm>
            <a:off x="5381640" y="2676600"/>
            <a:ext cx="2333520" cy="2467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71" name="Text Box 8"/>
          <p:cNvSpPr/>
          <p:nvPr/>
        </p:nvSpPr>
        <p:spPr>
          <a:xfrm>
            <a:off x="5054040" y="553896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ЯДРО РОСЛИННОЇ КЛІТИН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3419280" cy="38577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268200" y="4678200"/>
            <a:ext cx="390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В 1883 році МАТТІАС ШЛЕЙДЕН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ПРИЙШОВ ДО ВИСНОВКУ ЩО ТКАНИН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РОСЛИН СКЛАДАЮТЬСЯ З КЛІТ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5219640" y="836640"/>
            <a:ext cx="3132360" cy="38671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211640" y="4724280"/>
            <a:ext cx="5148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В 1839 РОЦІ НІМЕЦЬКИЙ ФІЗІОЛОГ ТЕОДОР ШВАНН ВИДАВ КНИГУ  “МІКРОСКОПІЧНІ ДОСЛІДЖЕННЯ ПРО ВІДПОВІДНІСТЬ В СТРУКТУРІ  ТА РОСТУ ТВАРИН І РОСЛИН”, В ЯКІЙ  СФОРМУЛЮВАВ ВИСНОВОК ПРО ТЕ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</a:rPr>
              <a:t>ЩО КЛІТИНА Є СТРУКТУРНОЮ І  ФУНКЦІОНАЛЬНОЮ ОДИНИЦЕЮ ЖИВИХ ОРГАНІЗМІВ. 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ЦЕ УЯВЛЕННЯ І ОТРИМАЛО НАЗВУ</a:t>
            </a:r>
            <a:br>
              <a:rPr sz="1400"/>
            </a:br>
            <a:r>
              <a:rPr b="1" lang="uk-UA" sz="1400" spc="-1" strike="noStrike">
                <a:solidFill>
                  <a:srgbClr val="000000"/>
                </a:solidFill>
                <a:latin typeface="Times New Roman"/>
              </a:rPr>
              <a:t>ТЕОРІЇ ШВАННА-ШЛЕЙДЕНА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ОСНОВНІ ПОЛОЖЕННЯ ТЕОРІ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Comic Sans MS"/>
              </a:rPr>
              <a:t>ШВАННА –ШЛЕЙДЕН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СІ ОРГАНІЗМИ СКЛАДАЮТЬСЯ З КЛІТИН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ЛІТИНИ ПРЕДСТАВЛЯЮТЬ СОБОЮ НАЙМЕНШІ СТРУКТУРНІ ОДИНИЦІ ЖИТТ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ЛІТИНІ В ОРГАНІЗМІ ВИНИКАЮТЬ ШЛЯХОМ НОВОУТВОРЕНЬ З КЛІТИННОЇ РЕЧОВИН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84360" y="4292640"/>
            <a:ext cx="72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ПОМИЛКИ ТЕОРІЇМ. ШЛЕЙДЕН І Т. ШВАНН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ПОМИЛКОВО ВВАЖАЛИ ,ЩО КЛІТИНИ ВИНИКАЮТЬ ШЛЯХОМ НОВОУТВОРЕНЬ З КЛІТИННОЇ РЕЧОВИ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276720" cy="38671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1187280" y="4898880"/>
            <a:ext cx="18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АРЛ БЕР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(1792 -1876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759840" y="1601640"/>
            <a:ext cx="520524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АРЛ БЕР – АКАДЕМІК РОСІЙСЬКОЇ АКАДЕМІЇ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ІДКРИВ ЯЙЦЕКЛІТИНУ ССАВЦІВ. БЕР ВСТАНО-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ИВ, ЩО ВСІ ОРГАНІЗМИ ПОЧИНАЮТЬ СВІЙ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РОЗВИТОК З ОДНІЄЇ КЛІТИНИ – ЗИГОТИ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ЦЕ ВІДКРИТТЯ ДОВОДИТЬ, ЩО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</a:rPr>
              <a:t>КЛІТИНА Є ЩЕ Й ОДИНИЦЕЮ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</a:rPr>
              <a:t>РОЗМНОЖЕННЯ ВСІХ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</a:rPr>
              <a:t>ЖИВИХ ОРГАНІЗМІВ</a:t>
            </a:r>
            <a:r>
              <a:rPr b="1" i="1" lang="uk-UA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348000" cy="385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1692720" y="516420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ЯН ПУРКІН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Є</a:t>
            </a:r>
            <a:br>
              <a:rPr sz="1800"/>
            </a:b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1784 -189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269960" y="1413000"/>
            <a:ext cx="4812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В 1840 РОЦІ ЯН 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ПУРКІН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uk-UA" sz="1600" spc="-1" strike="noStrike">
                <a:solidFill>
                  <a:srgbClr val="000000"/>
                </a:solidFill>
                <a:latin typeface="Comic Sans MS"/>
              </a:rPr>
              <a:t>Є</a:t>
            </a: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 ЗАПРОПОНУВАВ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ТЕРМІН “ПРОТОПЛАЗМА” ДЛЯ ПОЗНАЧЕНН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ЖИВОГО ВМІСТУ КЛІТИНИ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089240" y="3357720"/>
            <a:ext cx="50547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В 1884 році ВЧЕНИЙ ГУГО МОЛЬ (1805 – 1872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ДЕТАЛЬНО ОПИСАВ ВМІСТ КЛІТИНИ,</a:t>
            </a: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ЗАСТОСОВУЮЧИ ДЛЯ НЬОГО ТЕРМІН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ПРОТОПЛАЗМА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3101760" cy="31384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901800" y="4299120"/>
            <a:ext cx="182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Рудольф Вірхов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(1821 – 1902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055040" y="1197000"/>
            <a:ext cx="4704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В 1885 РОЦІ НІМЕЦЬКИЙ ЛІКА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РУДОЛДЬФ ВІРХОВ ПЕРЕКОНЛИВ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ДОВІВ ЩО КЛІТИНИ ВИНИКАЮТЬ 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КЛІТИН ШЛЯХОМ РОЗМНОЖЕННЯ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КЛІТИНИ З КЛІТИНИ” СПРОСТУВАВ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ШИ ПОМИЛКОВЕ УЯВЛЕННЯ ШЛЕЙДЕ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НА іІ ШВАНН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468360" y="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mic Sans MS"/>
              </a:rPr>
              <a:t>Історія вивчення кліти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16:24:02Z</dcterms:created>
  <dc:creator>Uzer</dc:creator>
  <dc:description/>
  <dc:language>en-US</dc:language>
  <cp:lastModifiedBy>Користувач Windows</cp:lastModifiedBy>
  <dcterms:modified xsi:type="dcterms:W3CDTF">2016-12-26T21:13:10Z</dcterms:modified>
  <cp:revision>13</cp:revision>
  <dc:subject/>
  <dc:title>Історія і методи вивчення клітини.  Клітинна теорія</dc:title>
</cp:coreProperties>
</file>