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8BB-D8E2-4E9C-B334-9855D6A0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834-8D35-4D1C-B6E4-7649B065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C2D-2C0A-4171-8C63-DBC4ED32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4BB-995E-4605-A647-9550C230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3D62-7236-48EB-92C5-F1B95AFB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1C67-768A-4D82-A6A6-C28FF31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3C0D-D746-41D3-B963-F6CB97F2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3A00-C81C-4696-96F6-ABCD1780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C360-A170-4C1E-9463-098A4728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F9CA-36B5-46FD-9ACB-1E433E4C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EF86-BD9E-4D69-8FAF-9310FD9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AB5-7C8C-41BF-B17E-0A6AD28E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C009-D5CD-4940-8616-CC0B531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A4DB-91E0-405A-9EBE-ED6858A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7D2D-DC58-4431-A7D0-E14290DC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B7BF-730D-4F38-8B97-8EE9DF6B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E00-4353-478F-BFC9-04E9B8EE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4471-804C-4C0F-881C-9932D8BE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0A40-5403-49BD-8214-E00E55CC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D39A-491C-42CC-901B-D766C095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D701-9EE2-4FF7-8115-B44FF1C6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7394-5684-443D-AAF3-AE5A006D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F06-9D06-48B6-88E5-DEFDFC3D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0EB2-DDDE-48C0-A031-ACB428D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85B91-4CC3-4598-8D81-B55D39F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1872-DFC5-43EE-A9F9-AB09D52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C838-89F4-442F-8C83-D58CD3E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BE83-3069-404B-B20E-31E09333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E67A-5B3F-4DF0-9109-4BF70F73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5075-13F3-471D-9258-F487A3DC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D16F-4EE2-43A8-AE51-9714B11B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CEBE-AEC3-4DDB-B805-F19787FD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A26E-C94C-4583-B835-3D8BD973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17A-2AC3-4DBA-BDB6-5143DA38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499D-DCBF-4D77-8FDD-4C0ADD5C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516D-5E70-44AE-851C-C7C6FBD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D8BC-EB71-4226-9CAE-E95B58E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C145-77E2-4635-9493-441D5CDB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10A9-5597-4774-9FD9-7370F50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B90B4-9443-40BB-9E34-18A504B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10A9-D160-4225-95CE-7E8DD545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137A-58E9-4267-BE8A-A4BD6873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7ED0-93D5-429C-B57A-49568209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701-501F-4D2B-BF04-EA2D95AB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934-42A5-49FF-871F-B538C5FD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979-36F2-4195-BF3C-C378ACAB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345-EB8D-4253-8598-3275583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95D-31EF-4768-BD29-3666C42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1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13.xml"/><Relationship Id="rId27" Type="http://schemas.openxmlformats.org/officeDocument/2006/relationships/slideLayout" Target="../slideLayouts/slideLayout14.xml"/><Relationship Id="rId28" Type="http://schemas.openxmlformats.org/officeDocument/2006/relationships/slideLayout" Target="../slideLayouts/slideLayout15.xml"/><Relationship Id="rId29" Type="http://schemas.openxmlformats.org/officeDocument/2006/relationships/slideLayout" Target="../slideLayouts/slideLayout16.xml"/><Relationship Id="rId30" Type="http://schemas.openxmlformats.org/officeDocument/2006/relationships/slideLayout" Target="../slideLayouts/slideLayout17.xml"/><Relationship Id="rId31" Type="http://schemas.openxmlformats.org/officeDocument/2006/relationships/slideLayout" Target="../slideLayouts/slideLayout18.xml"/><Relationship Id="rId32" Type="http://schemas.openxmlformats.org/officeDocument/2006/relationships/slideLayout" Target="../slideLayouts/slideLayout19.xml"/><Relationship Id="rId33" Type="http://schemas.openxmlformats.org/officeDocument/2006/relationships/slideLayout" Target="../slideLayouts/slideLayout20.xml"/><Relationship Id="rId34" Type="http://schemas.openxmlformats.org/officeDocument/2006/relationships/slideLayout" Target="../slideLayouts/slideLayout21.xml"/><Relationship Id="rId35" Type="http://schemas.openxmlformats.org/officeDocument/2006/relationships/slideLayout" Target="../slideLayouts/slideLayout22.xml"/><Relationship Id="rId36" Type="http://schemas.openxmlformats.org/officeDocument/2006/relationships/slideLayout" Target="../slideLayouts/slideLayout23.xml"/><Relationship Id="rId3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3802-6B27-4C32-8379-3177E46866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3"/>
          <p:cNvGrpSpPr/>
          <p:nvPr/>
        </p:nvGrpSpPr>
        <p:grpSpPr>
          <a:xfrm>
            <a:off x="-77760" y="476280"/>
            <a:ext cx="870120" cy="5832360"/>
            <a:chOff x="-77760" y="476280"/>
            <a:chExt cx="870120" cy="5832360"/>
          </a:xfrm>
        </p:grpSpPr>
        <p:pic>
          <p:nvPicPr>
            <p:cNvPr id="42" name="Рисунок 7" descr="62850280_puce93270_puce93270123953930289_gros.gif"/>
            <p:cNvPicPr/>
            <p:nvPr/>
          </p:nvPicPr>
          <p:blipFill>
            <a:blip r:embed="rId2"/>
            <a:stretch/>
          </p:blipFill>
          <p:spPr>
            <a:xfrm rot="16200000">
              <a:off x="-594720" y="1713240"/>
              <a:ext cx="18000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8" descr="62850280_puce93270_puce93270123953930289_gros.gif"/>
            <p:cNvPicPr/>
            <p:nvPr/>
          </p:nvPicPr>
          <p:blipFill>
            <a:blip r:embed="rId3"/>
            <a:stretch/>
          </p:blipFill>
          <p:spPr>
            <a:xfrm rot="16200000">
              <a:off x="-568800" y="4233600"/>
              <a:ext cx="18000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9" descr="89118064101785.gif"/>
            <p:cNvPicPr/>
            <p:nvPr/>
          </p:nvPicPr>
          <p:blipFill>
            <a:blip r:embed="rId4"/>
            <a:stretch/>
          </p:blipFill>
          <p:spPr>
            <a:xfrm>
              <a:off x="-64800" y="476280"/>
              <a:ext cx="79272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Рисунок 10" descr="89118064101785.gif"/>
            <p:cNvPicPr/>
            <p:nvPr/>
          </p:nvPicPr>
          <p:blipFill>
            <a:blip r:embed="rId5"/>
            <a:stretch/>
          </p:blipFill>
          <p:spPr>
            <a:xfrm>
              <a:off x="-25920" y="2924280"/>
              <a:ext cx="79272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Рисунок 11" descr="89118064101785.gif"/>
            <p:cNvPicPr/>
            <p:nvPr/>
          </p:nvPicPr>
          <p:blipFill>
            <a:blip r:embed="rId6"/>
            <a:stretch/>
          </p:blipFill>
          <p:spPr>
            <a:xfrm>
              <a:off x="-360" y="5516640"/>
              <a:ext cx="79272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Группа 18"/>
          <p:cNvGrpSpPr/>
          <p:nvPr/>
        </p:nvGrpSpPr>
        <p:grpSpPr>
          <a:xfrm>
            <a:off x="0" y="6022800"/>
            <a:ext cx="9144000" cy="860760"/>
            <a:chOff x="0" y="6022800"/>
            <a:chExt cx="9144000" cy="860760"/>
          </a:xfrm>
        </p:grpSpPr>
        <p:pic>
          <p:nvPicPr>
            <p:cNvPr id="48" name="Рисунок 13" descr="62850280_puce93270_puce93270123953930289_gros.gif"/>
            <p:cNvPicPr/>
            <p:nvPr/>
          </p:nvPicPr>
          <p:blipFill>
            <a:blip r:embed="rId7"/>
            <a:stretch/>
          </p:blipFill>
          <p:spPr>
            <a:xfrm>
              <a:off x="0" y="6052320"/>
              <a:ext cx="18000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Рисунок 14" descr="89118064101785.gif"/>
            <p:cNvPicPr/>
            <p:nvPr/>
          </p:nvPicPr>
          <p:blipFill>
            <a:blip r:embed="rId8"/>
            <a:stretch/>
          </p:blipFill>
          <p:spPr>
            <a:xfrm>
              <a:off x="1691640" y="609120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Рисунок 15" descr="62850280_puce93270_puce93270123953930289_gros.gif"/>
            <p:cNvPicPr/>
            <p:nvPr/>
          </p:nvPicPr>
          <p:blipFill>
            <a:blip r:embed="rId9"/>
            <a:stretch/>
          </p:blipFill>
          <p:spPr>
            <a:xfrm>
              <a:off x="2419200" y="6052320"/>
              <a:ext cx="18000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Рисунок 16" descr="89118064101785.gif"/>
            <p:cNvPicPr/>
            <p:nvPr/>
          </p:nvPicPr>
          <p:blipFill>
            <a:blip r:embed="rId10"/>
            <a:stretch/>
          </p:blipFill>
          <p:spPr>
            <a:xfrm>
              <a:off x="4165560" y="606528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Рисунок 17" descr="62850280_puce93270_puce93270123953930289_gros.gif"/>
            <p:cNvPicPr/>
            <p:nvPr/>
          </p:nvPicPr>
          <p:blipFill>
            <a:blip r:embed="rId11"/>
            <a:stretch/>
          </p:blipFill>
          <p:spPr>
            <a:xfrm>
              <a:off x="4898520" y="6022800"/>
              <a:ext cx="18000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Рисунок 18" descr="89118064101785.gif"/>
            <p:cNvPicPr/>
            <p:nvPr/>
          </p:nvPicPr>
          <p:blipFill>
            <a:blip r:embed="rId12"/>
            <a:stretch/>
          </p:blipFill>
          <p:spPr>
            <a:xfrm>
              <a:off x="6606360" y="605232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Рисунок 19" descr="62850280_puce93270_puce93270123953930289_gros.gif"/>
            <p:cNvPicPr/>
            <p:nvPr/>
          </p:nvPicPr>
          <p:blipFill>
            <a:blip r:embed="rId13"/>
            <a:stretch/>
          </p:blipFill>
          <p:spPr>
            <a:xfrm>
              <a:off x="7344000" y="6039360"/>
              <a:ext cx="1800000" cy="76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Группа 44"/>
          <p:cNvGrpSpPr/>
          <p:nvPr/>
        </p:nvGrpSpPr>
        <p:grpSpPr>
          <a:xfrm>
            <a:off x="8364600" y="399960"/>
            <a:ext cx="869760" cy="5832720"/>
            <a:chOff x="8364600" y="399960"/>
            <a:chExt cx="869760" cy="5832720"/>
          </a:xfrm>
        </p:grpSpPr>
        <p:pic>
          <p:nvPicPr>
            <p:cNvPr id="56" name="Рисунок 21" descr="62850280_puce93270_puce93270123953930289_gros.gif"/>
            <p:cNvPicPr/>
            <p:nvPr/>
          </p:nvPicPr>
          <p:blipFill>
            <a:blip r:embed="rId14"/>
            <a:stretch/>
          </p:blipFill>
          <p:spPr>
            <a:xfrm rot="16200000">
              <a:off x="7847280" y="1636920"/>
              <a:ext cx="18000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Рисунок 22" descr="62850280_puce93270_puce93270123953930289_gros.gif"/>
            <p:cNvPicPr/>
            <p:nvPr/>
          </p:nvPicPr>
          <p:blipFill>
            <a:blip r:embed="rId15"/>
            <a:stretch/>
          </p:blipFill>
          <p:spPr>
            <a:xfrm rot="16200000">
              <a:off x="7872840" y="4157280"/>
              <a:ext cx="18000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Рисунок 23" descr="89118064101785.gif"/>
            <p:cNvPicPr/>
            <p:nvPr/>
          </p:nvPicPr>
          <p:blipFill>
            <a:blip r:embed="rId16"/>
            <a:stretch/>
          </p:blipFill>
          <p:spPr>
            <a:xfrm>
              <a:off x="8377200" y="399960"/>
              <a:ext cx="79272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Рисунок 24" descr="89118064101785.gif"/>
            <p:cNvPicPr/>
            <p:nvPr/>
          </p:nvPicPr>
          <p:blipFill>
            <a:blip r:embed="rId17"/>
            <a:stretch/>
          </p:blipFill>
          <p:spPr>
            <a:xfrm>
              <a:off x="8416080" y="2848320"/>
              <a:ext cx="79272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Рисунок 25" descr="89118064101785.gif"/>
            <p:cNvPicPr/>
            <p:nvPr/>
          </p:nvPicPr>
          <p:blipFill>
            <a:blip r:embed="rId18"/>
            <a:stretch/>
          </p:blipFill>
          <p:spPr>
            <a:xfrm>
              <a:off x="8441640" y="5440680"/>
              <a:ext cx="79272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Группа 17"/>
          <p:cNvGrpSpPr/>
          <p:nvPr/>
        </p:nvGrpSpPr>
        <p:grpSpPr>
          <a:xfrm>
            <a:off x="0" y="-68400"/>
            <a:ext cx="9144000" cy="860760"/>
            <a:chOff x="0" y="-68400"/>
            <a:chExt cx="9144000" cy="860760"/>
          </a:xfrm>
        </p:grpSpPr>
        <p:pic>
          <p:nvPicPr>
            <p:cNvPr id="62" name="Рисунок 27" descr="62850280_puce93270_puce93270123953930289_gros.gif"/>
            <p:cNvPicPr/>
            <p:nvPr/>
          </p:nvPicPr>
          <p:blipFill>
            <a:blip r:embed="rId19"/>
            <a:stretch/>
          </p:blipFill>
          <p:spPr>
            <a:xfrm>
              <a:off x="0" y="-38520"/>
              <a:ext cx="180000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28" descr="89118064101785.gif"/>
            <p:cNvPicPr/>
            <p:nvPr/>
          </p:nvPicPr>
          <p:blipFill>
            <a:blip r:embed="rId20"/>
            <a:stretch/>
          </p:blipFill>
          <p:spPr>
            <a:xfrm>
              <a:off x="1691640" y="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Рисунок 29" descr="62850280_puce93270_puce93270123953930289_gros.gif"/>
            <p:cNvPicPr/>
            <p:nvPr/>
          </p:nvPicPr>
          <p:blipFill>
            <a:blip r:embed="rId21"/>
            <a:stretch/>
          </p:blipFill>
          <p:spPr>
            <a:xfrm>
              <a:off x="2419200" y="-38520"/>
              <a:ext cx="180000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Рисунок 30" descr="89118064101785.gif"/>
            <p:cNvPicPr/>
            <p:nvPr/>
          </p:nvPicPr>
          <p:blipFill>
            <a:blip r:embed="rId22"/>
            <a:stretch/>
          </p:blipFill>
          <p:spPr>
            <a:xfrm>
              <a:off x="4165560" y="-2556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Рисунок 31" descr="62850280_puce93270_puce93270123953930289_gros.gif"/>
            <p:cNvPicPr/>
            <p:nvPr/>
          </p:nvPicPr>
          <p:blipFill>
            <a:blip r:embed="rId23"/>
            <a:stretch/>
          </p:blipFill>
          <p:spPr>
            <a:xfrm>
              <a:off x="4898520" y="-68400"/>
              <a:ext cx="180000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Рисунок 32" descr="89118064101785.gif"/>
            <p:cNvPicPr/>
            <p:nvPr/>
          </p:nvPicPr>
          <p:blipFill>
            <a:blip r:embed="rId24"/>
            <a:stretch/>
          </p:blipFill>
          <p:spPr>
            <a:xfrm>
              <a:off x="6606360" y="-3852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Рисунок 33" descr="62850280_puce93270_puce93270123953930289_gros.gif"/>
            <p:cNvPicPr/>
            <p:nvPr/>
          </p:nvPicPr>
          <p:blipFill>
            <a:blip r:embed="rId25"/>
            <a:stretch/>
          </p:blipFill>
          <p:spPr>
            <a:xfrm>
              <a:off x="7344000" y="-51480"/>
              <a:ext cx="180000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539F-754A-4A27-BCD0-9ACB489EF2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6"/>
    <p:sldLayoutId id="2147483663" r:id="rId27"/>
    <p:sldLayoutId id="2147483664" r:id="rId28"/>
    <p:sldLayoutId id="2147483665" r:id="rId29"/>
    <p:sldLayoutId id="2147483666" r:id="rId30"/>
    <p:sldLayoutId id="2147483667" r:id="rId31"/>
    <p:sldLayoutId id="2147483668" r:id="rId32"/>
    <p:sldLayoutId id="2147483669" r:id="rId33"/>
    <p:sldLayoutId id="2147483670" r:id="rId34"/>
    <p:sldLayoutId id="2147483671" r:id="rId35"/>
    <p:sldLayoutId id="2147483672" r:id="rId36"/>
    <p:sldLayoutId id="2147483673" r:id="rId3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" descr="2a9e98713b41.gif"/>
          <p:cNvPicPr/>
          <p:nvPr/>
        </p:nvPicPr>
        <p:blipFill>
          <a:blip r:embed="rId2"/>
          <a:stretch/>
        </p:blipFill>
        <p:spPr>
          <a:xfrm>
            <a:off x="7105680" y="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2a9e98713b41.gif"/>
          <p:cNvPicPr/>
          <p:nvPr/>
        </p:nvPicPr>
        <p:blipFill>
          <a:blip r:embed="rId3"/>
          <a:stretch/>
        </p:blipFill>
        <p:spPr>
          <a:xfrm>
            <a:off x="0" y="48196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2a9e98713b41.gif"/>
          <p:cNvPicPr/>
          <p:nvPr/>
        </p:nvPicPr>
        <p:blipFill>
          <a:blip r:embed="rId4"/>
          <a:stretch/>
        </p:blipFill>
        <p:spPr>
          <a:xfrm>
            <a:off x="0" y="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8ca21c8b03b4.png"/>
          <p:cNvPicPr/>
          <p:nvPr/>
        </p:nvPicPr>
        <p:blipFill>
          <a:blip r:embed="rId5"/>
          <a:stretch/>
        </p:blipFill>
        <p:spPr>
          <a:xfrm>
            <a:off x="6875640" y="4527720"/>
            <a:ext cx="2098440" cy="23302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2a9e98713b41.gif"/>
          <p:cNvPicPr/>
          <p:nvPr/>
        </p:nvPicPr>
        <p:blipFill>
          <a:blip r:embed="rId6"/>
          <a:stretch/>
        </p:blipFill>
        <p:spPr>
          <a:xfrm>
            <a:off x="7105680" y="4819680"/>
            <a:ext cx="2038320" cy="2038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0EB1-3504-4CB7-818B-679B676FD5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6" descr="483abf6eb5f1.png"/>
          <p:cNvPicPr/>
          <p:nvPr/>
        </p:nvPicPr>
        <p:blipFill>
          <a:blip r:embed="rId2"/>
          <a:stretch/>
        </p:blipFill>
        <p:spPr>
          <a:xfrm rot="1666200">
            <a:off x="6886440" y="4520880"/>
            <a:ext cx="2116440" cy="21114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7" descr="2a9e98713b41.gif"/>
          <p:cNvPicPr/>
          <p:nvPr/>
        </p:nvPicPr>
        <p:blipFill>
          <a:blip r:embed="rId3"/>
          <a:stretch/>
        </p:blipFill>
        <p:spPr>
          <a:xfrm>
            <a:off x="0" y="48196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2a9e98713b41.gif"/>
          <p:cNvPicPr/>
          <p:nvPr/>
        </p:nvPicPr>
        <p:blipFill>
          <a:blip r:embed="rId4"/>
          <a:stretch/>
        </p:blipFill>
        <p:spPr>
          <a:xfrm>
            <a:off x="7105680" y="48196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9" descr="2a9e98713b41.gif"/>
          <p:cNvPicPr/>
          <p:nvPr/>
        </p:nvPicPr>
        <p:blipFill>
          <a:blip r:embed="rId5"/>
          <a:stretch/>
        </p:blipFill>
        <p:spPr>
          <a:xfrm>
            <a:off x="7105680" y="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0" descr="2a9e98713b41.gif"/>
          <p:cNvPicPr/>
          <p:nvPr/>
        </p:nvPicPr>
        <p:blipFill>
          <a:blip r:embed="rId6"/>
          <a:stretch/>
        </p:blipFill>
        <p:spPr>
          <a:xfrm>
            <a:off x="0" y="0"/>
            <a:ext cx="2038320" cy="2038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808-698D-4AD9-A15C-35E34A6E70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загальнення й систематизація вивченого з теми «Дієприслівни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0755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Урок – віноч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95640" y="2973240"/>
            <a:ext cx="475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uk-UA" sz="4000" spc="-1" strike="noStrike">
                <a:solidFill>
                  <a:srgbClr val="ff0000"/>
                </a:solidFill>
                <a:latin typeface="Elephant"/>
              </a:rPr>
              <a:t>Калина </a:t>
            </a:r>
            <a:br>
              <a:rPr sz="4000"/>
            </a:br>
            <a:r>
              <a:rPr b="1" i="1" lang="uk-UA" sz="4000" spc="-1" strike="noStrike">
                <a:solidFill>
                  <a:srgbClr val="000066"/>
                </a:solidFill>
                <a:latin typeface="Elephant"/>
              </a:rPr>
              <a:t>символ України, вроди та чисто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06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Elephant"/>
              </a:rPr>
              <a:t>Рефлекс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Elephant"/>
              </a:rPr>
              <a:t>Все зрозумі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Elephant"/>
              </a:rPr>
              <a:t>Є труднощ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Elephant"/>
              </a:rPr>
              <a:t>Багато незрозумілого</a:t>
            </a:r>
            <a:r>
              <a:rPr b="1" i="1" lang="uk-UA" sz="32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888000" cy="1117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8944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9640" y="4410000"/>
            <a:ext cx="38880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Elephant"/>
              </a:rPr>
              <a:t>До</a:t>
            </a:r>
            <a:r>
              <a:rPr b="0" i="1" lang="uk-UA" sz="4400" spc="-1" strike="noStrike">
                <a:solidFill>
                  <a:srgbClr val="ff0000"/>
                </a:solidFill>
                <a:latin typeface="Elephant"/>
              </a:rPr>
              <a:t>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1. §26-30 повторит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2. Вправа 35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БО скласти твір-мініатюру про одну квіточку з українського віночка, ввівши в речення  дієприслівникові зворо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0866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Elephant"/>
              </a:rPr>
              <a:t>Дякую всім за роботу на уроці</a:t>
            </a:r>
            <a:br>
              <a:rPr sz="4000"/>
            </a:br>
            <a:r>
              <a:rPr b="1" i="1" lang="uk-UA" sz="4000" spc="-1" strike="noStrike">
                <a:solidFill>
                  <a:srgbClr val="ff0000"/>
                </a:solidFill>
                <a:latin typeface="Elephant"/>
              </a:rPr>
              <a:t>Бажаю успіхі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Elephant"/>
              </a:rPr>
              <a:t>Мовленнєва ро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Elephant"/>
              </a:rPr>
              <a:t>МА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Elephant"/>
              </a:rPr>
              <a:t>Символ боротьби українського народу за вол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3923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4400" spc="-1" strike="noStrike">
                <a:solidFill>
                  <a:srgbClr val="ff0000"/>
                </a:solidFill>
                <a:latin typeface="Elephant"/>
              </a:rPr>
              <a:t>Розшифрувати символічне значення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Elephant"/>
              </a:rPr>
              <a:t>Коло, малювати, малий, троє, умивати, близький, долати, радіти, ламаючі, танути, іти, сонний, вільний, співати, четверо, тихий, танцюв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Arial"/>
              </a:rPr>
              <a:t>ВОЛ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алюват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миват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олат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адіт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І</a:t>
            </a: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т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піват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Т</a:t>
            </a: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анцюват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Elephant"/>
              </a:rPr>
              <a:t>Символ мудрості, людського прозріння, краси і величі неб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Elephant"/>
              </a:rPr>
              <a:t>Лінгвістичне змаг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Elephant"/>
              </a:rPr>
              <a:t>Не/нагнувшись, гриба не знайдеш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Elephant"/>
              </a:rPr>
              <a:t>Не/хтуючи честю, не вбережеш совіст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Elephant"/>
              </a:rPr>
              <a:t>Не/ працюючи, не будеш сит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Elephant"/>
              </a:rPr>
              <a:t>Не/славлячи інших, соромиш с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Elephant"/>
              </a:rPr>
              <a:t>Безсмерт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Elephant"/>
              </a:rPr>
              <a:t>Дарує здоров’я роду людському. Гоїть ранки чи вир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36007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Elephant"/>
              </a:rPr>
              <a:t>Гра “Впіймай помилку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Elephant"/>
              </a:rPr>
              <a:t>1. Вишивши сорочку, майстриня вкладає всю душу в ро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Elephant"/>
              </a:rPr>
              <a:t>2. Віночок не просто елемент костюма, він оберігав, захищаючі від бі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Elephant"/>
              </a:rPr>
              <a:t>3. Віночки дівчата плели, усміхаючис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Elephant"/>
              </a:rPr>
              <a:t>4. Селяни працювали, не покладаючи рук</a:t>
            </a:r>
            <a:r>
              <a:rPr b="1" i="1" lang="ru-RU" sz="24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Ромаш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Elephant"/>
              </a:rPr>
              <a:t>Символ доброти, ніжності, дівочої чисто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43280" y="3349800"/>
            <a:ext cx="410544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Elephant"/>
              </a:rPr>
              <a:t>Гра “Редактор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Elephant"/>
              </a:rPr>
              <a:t>1</a:t>
            </a:r>
            <a:r>
              <a:rPr b="1" i="1" lang="uk-UA" sz="2800" spc="-1" strike="noStrike">
                <a:solidFill>
                  <a:srgbClr val="000000"/>
                </a:solidFill>
                <a:latin typeface="Elephant"/>
              </a:rPr>
              <a:t>. Повертаючись додому, мені було холод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Elephant"/>
              </a:rPr>
              <a:t>2. Простягнувши руку по ягоду, з куща почулося шипінн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Elephant"/>
              </a:rPr>
              <a:t>3. Йдучи парком, привертають увагу засніжені ялинки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Яблуневий цві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Символ материнської любо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3889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Elephant"/>
              </a:rPr>
              <a:t>Барвінок</a:t>
            </a:r>
            <a:br>
              <a:rPr sz="4800"/>
            </a:br>
            <a:r>
              <a:rPr b="1" i="1" lang="uk-UA" sz="4000" spc="-1" strike="noStrike">
                <a:solidFill>
                  <a:srgbClr val="000066"/>
                </a:solidFill>
                <a:latin typeface="Elephant"/>
              </a:rPr>
              <a:t>символ життя людської душ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5f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Elephant"/>
              </a:rPr>
              <a:t>“</a:t>
            </a:r>
            <a:r>
              <a:rPr b="1" i="1" lang="uk-UA" sz="4400" spc="-1" strike="noStrike">
                <a:solidFill>
                  <a:srgbClr val="ff0000"/>
                </a:solidFill>
                <a:latin typeface="Elephant"/>
              </a:rPr>
              <a:t>Малюнковий диктан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0T18:08:30Z</dcterms:created>
  <dc:creator>Lenovo</dc:creator>
  <dc:description/>
  <dc:language>en-US</dc:language>
  <cp:lastModifiedBy>Lenovo</cp:lastModifiedBy>
  <dcterms:modified xsi:type="dcterms:W3CDTF">2017-02-08T19:17:16Z</dcterms:modified>
  <cp:revision>4</cp:revision>
  <dc:subject/>
  <dc:title>Шаблон презентации</dc:title>
</cp:coreProperties>
</file>