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46D-0D37-4145-8F27-FA60A90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342-F24D-4E57-92D2-9AC0837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9C4-EA18-47EC-B1CB-5AB29BA8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307-0A4D-4966-B9BC-0E10EE55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A9E-AC97-4CD8-90DD-87A5843C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7D5-340B-466E-87CC-E6D705EC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94C-5857-4ABB-8A8A-A0C6DE96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7A9-9E33-464A-98CA-939C5E0F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3C2-2090-4FA1-B645-389C5DA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61C-3917-4498-9E34-784CFBF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69F-82F5-4517-85EE-C212495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FAC-6041-46A5-80BB-706032D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968-B9EB-4672-B241-5D3C906BD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159" t="25077" r="1432" b="0"/>
          <a:stretch/>
        </p:blipFill>
        <p:spPr>
          <a:xfrm>
            <a:off x="0" y="0"/>
            <a:ext cx="9144000" cy="5075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714240" y="471492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"/>
              </a:rPr>
              <a:t>Them</a:t>
            </a:r>
            <a:r>
              <a:rPr b="1" lang="uk-UA" sz="5400" spc="-1" strike="noStrike">
                <a:solidFill>
                  <a:srgbClr val="2d2d8a"/>
                </a:solidFill>
                <a:latin typeface="Arial"/>
              </a:rPr>
              <a:t>а : </a:t>
            </a: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Olympische</a:t>
            </a: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Spie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57268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Texterläuterungen</a:t>
            </a:r>
            <a:br>
              <a:rPr sz="3600"/>
            </a:br>
            <a:br>
              <a:rPr sz="40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• die Aufmerksamkeit auf sich ziehen 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рнути до себе уваг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• das Streben der Menschheit nach Frieden widerspiegeln —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ідобража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гнення людства до мир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70c0"/>
                </a:solidFill>
                <a:latin typeface="Arial"/>
              </a:rPr>
              <a:t>Hausaufgabe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ellt 7 Fragen zum Text „Die Olympischen Spiele als Symbol der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reundschaft“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357200" y="928800"/>
            <a:ext cx="6786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limpische Ringe symbolisieren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e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de-DE" sz="2800" spc="-1" strike="noStrike">
                <a:solidFill>
                  <a:srgbClr val="c00000"/>
                </a:solidFill>
                <a:latin typeface="Arial"/>
              </a:rPr>
              <a:t>ünf  Erdteil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uropa ( blau)                                    Asien ( gel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frika ( schwarz)                                Australien ( gr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ün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merika ( r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1159" t="25077" r="1432" b="0"/>
          <a:stretch/>
        </p:blipFill>
        <p:spPr>
          <a:xfrm>
            <a:off x="1000080" y="2928960"/>
            <a:ext cx="6929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500040" y="1285920"/>
            <a:ext cx="8286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500280" y="4357800"/>
            <a:ext cx="328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Hört zu und sprecht nach!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eder muss Sport treiben!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port macht mutig!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port macht fit und gesund!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port hält jung!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port macht ordentlich und diszipliniert!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port macht zielbewusst und zielstrebig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reibe Sport zu jeder Stund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ort macht lustig und gesund!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asser, Sonne, Luft und Wind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sere besten Freunde sind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40096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as passt nicht in die Rei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Schwimmen, Boxen, Tennis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en,Wasserball,Tauchen,Ringen,Skilaufen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. surfen, segeln, reiten, gewinnen,spielen,schwimmen,fernsehen,springen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. Verein, Sportverein, Fußballverein, Sportabzeichen,Volleyballverein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. A. Schewtschenko, M. Schumacher, J.Klotschkowa, J.Haydn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elche ukrainischen oder deutschen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c00000"/>
                </a:solidFill>
                <a:latin typeface="Arial"/>
              </a:rPr>
              <a:t>Sportler sind in diesen Sportarten bekannt?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Schwimmen                A. Brüder Klytschko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. Eiskunstlauf                B. Boris Becker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. Boxen                         C. Michael Schumacher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. Tennis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.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justschenko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. Autorennen                 E. Jana Klotschkow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Spiel: „Ratet, wer auf diesem </a:t>
            </a:r>
            <a:r>
              <a:rPr b="1" lang="de-DE" sz="4400" spc="-1" strike="noStrike">
                <a:solidFill>
                  <a:srgbClr val="7030a0"/>
                </a:solidFill>
                <a:latin typeface="Arial"/>
              </a:rPr>
              <a:t>Foto ist?“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сафонова\pre1169136582.png"/>
          <p:cNvPicPr/>
          <p:nvPr/>
        </p:nvPicPr>
        <p:blipFill>
          <a:blip r:embed="rId1"/>
          <a:stretch/>
        </p:blipFill>
        <p:spPr>
          <a:xfrm>
            <a:off x="642960" y="1643040"/>
            <a:ext cx="130968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D:\сафонова\pre1169549911.png"/>
          <p:cNvPicPr/>
          <p:nvPr/>
        </p:nvPicPr>
        <p:blipFill>
          <a:blip r:embed="rId2"/>
          <a:stretch/>
        </p:blipFill>
        <p:spPr>
          <a:xfrm>
            <a:off x="2714760" y="250020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:\сафонова\pre1173639720.png"/>
          <p:cNvPicPr/>
          <p:nvPr/>
        </p:nvPicPr>
        <p:blipFill>
          <a:blip r:embed="rId3"/>
          <a:stretch/>
        </p:blipFill>
        <p:spPr>
          <a:xfrm>
            <a:off x="4786200" y="2000160"/>
            <a:ext cx="1309680" cy="191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:\сафонова\pre1173707382.png"/>
          <p:cNvPicPr/>
          <p:nvPr/>
        </p:nvPicPr>
        <p:blipFill>
          <a:blip r:embed="rId4"/>
          <a:stretch/>
        </p:blipFill>
        <p:spPr>
          <a:xfrm>
            <a:off x="6786720" y="1500120"/>
            <a:ext cx="1428480" cy="17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:\сафонова\pre1175004736.png"/>
          <p:cNvPicPr/>
          <p:nvPr/>
        </p:nvPicPr>
        <p:blipFill>
          <a:blip r:embed="rId5"/>
          <a:stretch/>
        </p:blipFill>
        <p:spPr>
          <a:xfrm>
            <a:off x="785880" y="4429080"/>
            <a:ext cx="1452600" cy="177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:\сафонова\pre1268812289_1.jpg"/>
          <p:cNvPicPr/>
          <p:nvPr/>
        </p:nvPicPr>
        <p:blipFill>
          <a:blip r:embed="rId6"/>
          <a:stretch/>
        </p:blipFill>
        <p:spPr>
          <a:xfrm>
            <a:off x="4357800" y="4500720"/>
            <a:ext cx="1285920" cy="192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сафонова\pre1331121426_1.jpg"/>
          <p:cNvPicPr/>
          <p:nvPr/>
        </p:nvPicPr>
        <p:blipFill>
          <a:blip r:embed="rId7"/>
          <a:stretch/>
        </p:blipFill>
        <p:spPr>
          <a:xfrm>
            <a:off x="6786720" y="3848040"/>
            <a:ext cx="1357200" cy="1709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143000" y="335772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3214800" y="45007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5286240" y="392904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7286760" y="33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1428840" y="62150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5000760" y="64292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7358040" y="5572080"/>
            <a:ext cx="5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Olympische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mbole</a:t>
            </a:r>
            <a:br>
              <a:rPr sz="4400"/>
            </a:br>
            <a:r>
              <a:rPr b="1" lang="de-DE" sz="4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Das Motto</a:t>
            </a:r>
            <a:r>
              <a:rPr b="1" lang="uk-UA" sz="3600" spc="-1" strike="noStrike">
                <a:solidFill>
                  <a:srgbClr val="2d2d8a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2d2d8a"/>
                </a:solidFill>
                <a:latin typeface="Arial"/>
              </a:rPr>
              <a:t>"</a:t>
            </a: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Citius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, Altius, Fortius"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715240" y="3244680"/>
            <a:ext cx="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:\сафонова\rubase_3_1319096827_52801.jpg"/>
          <p:cNvPicPr/>
          <p:nvPr/>
        </p:nvPicPr>
        <p:blipFill>
          <a:blip r:embed="rId1"/>
          <a:stretch/>
        </p:blipFill>
        <p:spPr>
          <a:xfrm>
            <a:off x="1428840" y="2000160"/>
            <a:ext cx="196200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сафонова\rubase_3_1319212844_16498.jpg"/>
          <p:cNvPicPr/>
          <p:nvPr/>
        </p:nvPicPr>
        <p:blipFill>
          <a:blip r:embed="rId2"/>
          <a:stretch/>
        </p:blipFill>
        <p:spPr>
          <a:xfrm>
            <a:off x="4786200" y="2214720"/>
            <a:ext cx="1521000" cy="20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:\сафонова\rubase_3_1319246742_5461.jpg"/>
          <p:cNvPicPr/>
          <p:nvPr/>
        </p:nvPicPr>
        <p:blipFill>
          <a:blip r:embed="rId3"/>
          <a:stretch/>
        </p:blipFill>
        <p:spPr>
          <a:xfrm>
            <a:off x="1143000" y="3857760"/>
            <a:ext cx="190512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869400" y="32148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mpische F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757224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221520" y="2286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ympisches Fe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013040" y="5500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ympische Si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4714920" y="51436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ympis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5437080" y="55008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dai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C:\Users\Admin\Desktop\rubase_3_1319180842_10977.jpg"/>
          <p:cNvPicPr/>
          <p:nvPr/>
        </p:nvPicPr>
        <p:blipFill>
          <a:blip r:embed="rId4"/>
          <a:stretch/>
        </p:blipFill>
        <p:spPr>
          <a:xfrm>
            <a:off x="6715080" y="4357800"/>
            <a:ext cx="1747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</a:t>
            </a: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002060"/>
                </a:solidFill>
                <a:latin typeface="Arial"/>
              </a:rPr>
              <a:t> Text </a:t>
            </a: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: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Die Olympischen Spiele als Symbol der Freundschaft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1:04:04Z</dcterms:created>
  <dc:creator>Мама</dc:creator>
  <dc:description/>
  <dc:language>en-US</dc:language>
  <cp:lastModifiedBy>Admin</cp:lastModifiedBy>
  <dcterms:modified xsi:type="dcterms:W3CDTF">2014-02-07T07:56:05Z</dcterms:modified>
  <cp:revision>32</cp:revision>
  <dc:subject/>
  <dc:title>Сидней – город на краю света …</dc:title>
</cp:coreProperties>
</file>