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6.gif" ContentType="image/gif"/>
  <Override PartName="/ppt/media/image36.gif" ContentType="image/gif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7.gif" ContentType="image/gif"/>
  <Override PartName="/ppt/media/image30.png" ContentType="image/png"/>
  <Override PartName="/ppt/media/image31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44.gif" ContentType="image/gif"/>
  <Override PartName="/ppt/media/image12.png" ContentType="image/png"/>
  <Override PartName="/ppt/media/image11.png" ContentType="image/png"/>
  <Override PartName="/ppt/media/image43.gif" ContentType="image/gif"/>
  <Override PartName="/ppt/media/image45.jpeg" ContentType="image/jpeg"/>
  <Override PartName="/ppt/media/image40.gif" ContentType="image/gif"/>
  <Override PartName="/ppt/media/image33.png" ContentType="image/png"/>
  <Override PartName="/ppt/media/image14.jpeg" ContentType="image/jpeg"/>
  <Override PartName="/ppt/media/image46.jpeg" ContentType="image/jpeg"/>
  <Override PartName="/ppt/media/image8.png" ContentType="image/png"/>
  <Override PartName="/ppt/media/image41.wmf" ContentType="image/x-wmf"/>
  <Override PartName="/ppt/media/image38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5.png" ContentType="image/png"/>
  <Override PartName="/ppt/media/image16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D61-AD1E-4E4B-986E-27EC249F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2EC-700B-4E03-B4CB-B6641FBB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904-26D9-4A0D-88E7-58DEF608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5D6-8A50-4E3B-A40A-6E670059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766F-59E5-4EAC-9C32-5C10391F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1A43-38A0-46B1-8FEC-6C565C99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D783-6516-4DFB-9936-ED53554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EFF9-38B4-4CC0-A842-BA705AD6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CFFD-1020-477A-8A07-4F9C003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1A7E-1EE9-4D95-AE89-782292A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02ED-3264-4845-BAA9-10BB931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D74-8C96-440E-AC42-1B65B2B7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DC8D-01B4-4C0A-AB3A-EA7E28F1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5946-F6C4-4FEB-8FC1-D98AE824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D72E-7DA0-45A7-B1B9-77DB3978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8DBA-82B0-41BA-B8AF-68F7B268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D35F-E60B-4A23-AE09-3E075083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7E33-66C1-4CE6-83F0-BB91A654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ED03-57BC-4929-BACE-9F363F7C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55F3-326C-42F9-AD47-D66BB7A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BB6A-9250-4B64-9DE6-29816808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7240-994A-4628-9244-25D45413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A4C-3D01-4D6E-B93A-5B14DA70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FDA7-9358-4563-A152-10C66C20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BB64-810B-4F92-AE3F-1D1D5F63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C991-F7A0-40D3-9640-0A437477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69A0-53E5-42F2-B6EF-A79500E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7BA2-766A-42F1-B3AC-79229E8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893C-5075-4014-BFF8-F9B79800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91E9-88BF-4D0A-BDC5-EE11DF5C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157-FFB8-43F1-BBE9-D3490DA3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ABB-32B4-4B4A-A544-CB62B340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D40-C4AD-4167-B10F-620D218C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441-A0B9-4AE7-85BC-3CF61B8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AE2-B7A0-4E20-B341-EC4E0FEF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0F2-7B4F-46B3-8A6B-11F7DDC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1ADF-6AD4-4AF2-87AD-50C07C758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1905-81AF-468A-8D25-4749986E80C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03DC-3A32-498C-A1D2-0BB2BF36EB2C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bv10302"/>
          <p:cNvPicPr/>
          <p:nvPr/>
        </p:nvPicPr>
        <p:blipFill>
          <a:blip r:embed="rId1"/>
          <a:stretch/>
        </p:blipFill>
        <p:spPr>
          <a:xfrm>
            <a:off x="-304920" y="-16344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0" descr="http://www.ru.all.biz/img/ru/catalog/middle/2355857.png?rrr=1"/>
          <p:cNvPicPr/>
          <p:nvPr/>
        </p:nvPicPr>
        <p:blipFill>
          <a:blip r:embed="rId2"/>
          <a:stretch/>
        </p:blipFill>
        <p:spPr>
          <a:xfrm>
            <a:off x="2487600" y="4913280"/>
            <a:ext cx="1076400" cy="10778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4"/>
          <p:cNvSpPr txBox="1"/>
          <p:nvPr/>
        </p:nvSpPr>
        <p:spPr>
          <a:xfrm>
            <a:off x="787320" y="898560"/>
            <a:ext cx="42562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НЯТ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ТАТИСТИ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11" descr="22222"/>
          <p:cNvPicPr/>
          <p:nvPr/>
        </p:nvPicPr>
        <p:blipFill>
          <a:blip r:embed="rId3"/>
          <a:stretch/>
        </p:blipFill>
        <p:spPr>
          <a:xfrm>
            <a:off x="4572000" y="587700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44444"/>
          <p:cNvPicPr/>
          <p:nvPr/>
        </p:nvPicPr>
        <p:blipFill>
          <a:blip r:embed="rId4"/>
          <a:stretch/>
        </p:blipFill>
        <p:spPr>
          <a:xfrm>
            <a:off x="7596360" y="465300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99999"/>
          <p:cNvPicPr/>
          <p:nvPr/>
        </p:nvPicPr>
        <p:blipFill>
          <a:blip r:embed="rId5"/>
          <a:stretch/>
        </p:blipFill>
        <p:spPr>
          <a:xfrm>
            <a:off x="7740720" y="6095880"/>
            <a:ext cx="71424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66666"/>
          <p:cNvPicPr/>
          <p:nvPr/>
        </p:nvPicPr>
        <p:blipFill>
          <a:blip r:embed="rId6"/>
          <a:stretch/>
        </p:blipFill>
        <p:spPr>
          <a:xfrm>
            <a:off x="3564000" y="5300640"/>
            <a:ext cx="72396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55555"/>
          <p:cNvPicPr/>
          <p:nvPr/>
        </p:nvPicPr>
        <p:blipFill>
          <a:blip r:embed="rId7"/>
          <a:stretch/>
        </p:blipFill>
        <p:spPr>
          <a:xfrm>
            <a:off x="5943600" y="5886360"/>
            <a:ext cx="71424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http://stavkiprognozy.ru/wp-content/uploads/2014/05/analitika-stavok-na-sport.png"/>
          <p:cNvPicPr/>
          <p:nvPr/>
        </p:nvPicPr>
        <p:blipFill>
          <a:blip r:embed="rId8"/>
          <a:stretch/>
        </p:blipFill>
        <p:spPr>
          <a:xfrm>
            <a:off x="4746600" y="3071880"/>
            <a:ext cx="2879640" cy="28702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0" descr="http://www.ru.all.biz/img/ru/catalog/middle/2355857.png?rrr=1"/>
          <p:cNvPicPr/>
          <p:nvPr/>
        </p:nvPicPr>
        <p:blipFill>
          <a:blip r:embed="rId9"/>
          <a:stretch/>
        </p:blipFill>
        <p:spPr>
          <a:xfrm>
            <a:off x="1839960" y="5280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0" descr="http://www.ru.all.biz/img/ru/catalog/middle/2355857.png?rrr=1"/>
          <p:cNvPicPr/>
          <p:nvPr/>
        </p:nvPicPr>
        <p:blipFill>
          <a:blip r:embed="rId10"/>
          <a:stretch/>
        </p:blipFill>
        <p:spPr>
          <a:xfrm>
            <a:off x="2378160" y="58132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http://www.ru.all.biz/img/ru/catalog/middle/2355857.png?rrr=1"/>
          <p:cNvPicPr/>
          <p:nvPr/>
        </p:nvPicPr>
        <p:blipFill>
          <a:blip r:embed="rId11"/>
          <a:stretch/>
        </p:blipFill>
        <p:spPr>
          <a:xfrm>
            <a:off x="264960" y="50767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0" descr="http://www.ru.all.biz/img/ru/catalog/middle/2355857.png?rrr=1"/>
          <p:cNvPicPr/>
          <p:nvPr/>
        </p:nvPicPr>
        <p:blipFill>
          <a:blip r:embed="rId12"/>
          <a:stretch/>
        </p:blipFill>
        <p:spPr>
          <a:xfrm>
            <a:off x="722160" y="580716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2" descr="http://geekapple.ru/wp-content/uploads/2013/06/Money-icon-300x269.png"/>
          <p:cNvPicPr/>
          <p:nvPr/>
        </p:nvPicPr>
        <p:blipFill>
          <a:blip r:embed="rId13"/>
          <a:stretch/>
        </p:blipFill>
        <p:spPr>
          <a:xfrm>
            <a:off x="3322800" y="2778120"/>
            <a:ext cx="1930320" cy="1728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4" descr="http://www.marco.polfirms.eu/img/MARCO08.png"/>
          <p:cNvPicPr/>
          <p:nvPr/>
        </p:nvPicPr>
        <p:blipFill>
          <a:blip r:embed="rId14"/>
          <a:stretch/>
        </p:blipFill>
        <p:spPr>
          <a:xfrm>
            <a:off x="5423040" y="-322200"/>
            <a:ext cx="3047760" cy="2028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8" descr="http://www.marco.polfirms.eu/img/MARCO08.png"/>
          <p:cNvPicPr/>
          <p:nvPr/>
        </p:nvPicPr>
        <p:blipFill>
          <a:blip r:embed="rId15"/>
          <a:stretch/>
        </p:blipFill>
        <p:spPr>
          <a:xfrm>
            <a:off x="5796000" y="939960"/>
            <a:ext cx="2301840" cy="1531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4" descr="http://www.marco.polfirms.eu/img/MARCO08.png"/>
          <p:cNvPicPr/>
          <p:nvPr/>
        </p:nvPicPr>
        <p:blipFill>
          <a:blip r:embed="rId16"/>
          <a:stretch/>
        </p:blipFill>
        <p:spPr>
          <a:xfrm>
            <a:off x="6805440" y="-85680"/>
            <a:ext cx="304812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4" descr="http://www.marco.polfirms.eu/img/MARCO08.png"/>
          <p:cNvPicPr/>
          <p:nvPr/>
        </p:nvPicPr>
        <p:blipFill>
          <a:blip r:embed="rId17"/>
          <a:stretch/>
        </p:blipFill>
        <p:spPr>
          <a:xfrm>
            <a:off x="6805440" y="-114480"/>
            <a:ext cx="304812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8" descr="http://www.marco.polfirms.eu/img/MARCO08.png"/>
          <p:cNvPicPr/>
          <p:nvPr/>
        </p:nvPicPr>
        <p:blipFill>
          <a:blip r:embed="rId18"/>
          <a:stretch/>
        </p:blipFill>
        <p:spPr>
          <a:xfrm>
            <a:off x="7236000" y="689040"/>
            <a:ext cx="2301840" cy="153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6" descr="http://www.marco.polfirms.eu/img/MARCO08.png"/>
          <p:cNvPicPr/>
          <p:nvPr/>
        </p:nvPicPr>
        <p:blipFill>
          <a:blip r:embed="rId19"/>
          <a:stretch/>
        </p:blipFill>
        <p:spPr>
          <a:xfrm>
            <a:off x="6138720" y="1782720"/>
            <a:ext cx="1812960" cy="120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6" descr="http://www.marco.polfirms.eu/img/MARCO08.png"/>
          <p:cNvPicPr/>
          <p:nvPr/>
        </p:nvPicPr>
        <p:blipFill>
          <a:blip r:embed="rId20"/>
          <a:stretch/>
        </p:blipFill>
        <p:spPr>
          <a:xfrm>
            <a:off x="7242120" y="1455840"/>
            <a:ext cx="1812960" cy="120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9" descr="http://www.xn---24-6cdalmg8bf5binmdads1r.xn--p1ai/sites/default/files/job/manager.png"/>
          <p:cNvPicPr/>
          <p:nvPr/>
        </p:nvPicPr>
        <p:blipFill>
          <a:blip r:embed="rId21"/>
          <a:stretch/>
        </p:blipFill>
        <p:spPr>
          <a:xfrm>
            <a:off x="722160" y="2421000"/>
            <a:ext cx="22860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Группа 4"/>
          <p:cNvGrpSpPr/>
          <p:nvPr/>
        </p:nvGrpSpPr>
        <p:grpSpPr>
          <a:xfrm>
            <a:off x="-18000" y="0"/>
            <a:ext cx="9179280" cy="6858000"/>
            <a:chOff x="-18000" y="0"/>
            <a:chExt cx="9179280" cy="6858000"/>
          </a:xfrm>
        </p:grpSpPr>
        <p:pic>
          <p:nvPicPr>
            <p:cNvPr id="301" name="Picture 4" descr="Lab3"/>
            <p:cNvPicPr/>
            <p:nvPr/>
          </p:nvPicPr>
          <p:blipFill>
            <a:blip r:embed="rId1"/>
            <a:srcRect l="20211" t="18787" r="4790" b="0"/>
            <a:stretch/>
          </p:blipFill>
          <p:spPr>
            <a:xfrm rot="5400000">
              <a:off x="-661320" y="643320"/>
              <a:ext cx="6858000" cy="55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" descr="Lab3"/>
            <p:cNvPicPr/>
            <p:nvPr/>
          </p:nvPicPr>
          <p:blipFill>
            <a:blip r:embed="rId2"/>
            <a:srcRect l="20211" t="18787" r="4790" b="21333"/>
            <a:stretch/>
          </p:blipFill>
          <p:spPr>
            <a:xfrm rot="5400000">
              <a:off x="3678480" y="1375200"/>
              <a:ext cx="6858000" cy="410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79280" y="3284280"/>
            <a:ext cx="86868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Объём выборки: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Разма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ыборки: 8-1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Мо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выборки:  2 и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Медиан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выборки:  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реднее значени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1+1+2+2+2+3+4+4+5+5+5+6+6+7+7+8):16=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0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Вычислим числовые характеристики выб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кутник 1"/>
          <p:cNvSpPr/>
          <p:nvPr/>
        </p:nvSpPr>
        <p:spPr>
          <a:xfrm>
            <a:off x="684360" y="170028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1,1,2,2,2,3,4,4,5,5,5,6,6,7,7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La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3059280" y="1484280"/>
          <a:ext cx="5798880" cy="1743120"/>
        </p:xfrm>
        <a:graphic>
          <a:graphicData uri="http://schemas.openxmlformats.org/drawingml/2006/table">
            <a:tbl>
              <a:tblPr/>
              <a:tblGrid>
                <a:gridCol w="1303200"/>
                <a:gridCol w="414360"/>
                <a:gridCol w="415800"/>
                <a:gridCol w="414360"/>
                <a:gridCol w="490680"/>
                <a:gridCol w="342720"/>
                <a:gridCol w="343080"/>
                <a:gridCol w="342720"/>
                <a:gridCol w="343080"/>
                <a:gridCol w="1388880"/>
              </a:tblGrid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итых голов (гол +па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ари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 иг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частота вари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49"/>
          <p:cNvSpPr/>
          <p:nvPr/>
        </p:nvSpPr>
        <p:spPr>
          <a:xfrm>
            <a:off x="84240" y="1700280"/>
            <a:ext cx="27954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тобы визуально охватить данные на-блюдения, построим на координатной плос-кости точки, абсциссы  которых равны количеству забитых голов, а ординаты соот-ветствующему количеству игроков и соединим соседние точки отрезками. Полученную ломаную называют   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полигон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част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Группа 5"/>
          <p:cNvGrpSpPr/>
          <p:nvPr/>
        </p:nvGrpSpPr>
        <p:grpSpPr>
          <a:xfrm>
            <a:off x="3708360" y="0"/>
            <a:ext cx="3892680" cy="1341360"/>
            <a:chOff x="3708360" y="0"/>
            <a:chExt cx="3892680" cy="1341360"/>
          </a:xfrm>
        </p:grpSpPr>
        <p:pic>
          <p:nvPicPr>
            <p:cNvPr id="310" name="Picture 4" descr="Lab3"/>
            <p:cNvPicPr/>
            <p:nvPr/>
          </p:nvPicPr>
          <p:blipFill>
            <a:blip r:embed="rId2"/>
            <a:srcRect l="41130" t="0" r="48226" b="80436"/>
            <a:stretch/>
          </p:blipFill>
          <p:spPr>
            <a:xfrm>
              <a:off x="4681440" y="0"/>
              <a:ext cx="9730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4" descr="Lab3"/>
            <p:cNvPicPr/>
            <p:nvPr/>
          </p:nvPicPr>
          <p:blipFill>
            <a:blip r:embed="rId3"/>
            <a:srcRect l="41130" t="0" r="48226" b="80436"/>
            <a:stretch/>
          </p:blipFill>
          <p:spPr>
            <a:xfrm>
              <a:off x="3708360" y="0"/>
              <a:ext cx="9730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" descr="Lab3"/>
            <p:cNvPicPr/>
            <p:nvPr/>
          </p:nvPicPr>
          <p:blipFill>
            <a:blip r:embed="rId4"/>
            <a:srcRect l="41130" t="0" r="48226" b="80436"/>
            <a:stretch/>
          </p:blipFill>
          <p:spPr>
            <a:xfrm>
              <a:off x="5654880" y="0"/>
              <a:ext cx="9730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4" descr="Lab3"/>
            <p:cNvPicPr/>
            <p:nvPr/>
          </p:nvPicPr>
          <p:blipFill>
            <a:blip r:embed="rId5"/>
            <a:srcRect l="41130" t="0" r="48226" b="80436"/>
            <a:stretch/>
          </p:blipFill>
          <p:spPr>
            <a:xfrm>
              <a:off x="6627960" y="0"/>
              <a:ext cx="973080" cy="13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TextBox 1"/>
          <p:cNvSpPr/>
          <p:nvPr/>
        </p:nvSpPr>
        <p:spPr>
          <a:xfrm>
            <a:off x="3564000" y="2746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Полигон част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Діаграма 6"/>
          <p:cNvGraphicFramePr/>
          <p:nvPr/>
        </p:nvGraphicFramePr>
        <p:xfrm>
          <a:off x="803160" y="353880"/>
          <a:ext cx="8285400" cy="64389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316" name="Діаграма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3160" y="353880"/>
                    <a:ext cx="828540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La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-181440" y="1599840"/>
            <a:ext cx="28083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наглядного изображения данных наблюдения можно использовать и  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гист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Lab3"/>
          <p:cNvPicPr/>
          <p:nvPr/>
        </p:nvPicPr>
        <p:blipFill>
          <a:blip r:embed="rId2"/>
          <a:srcRect l="41130" t="0" r="48226" b="80436"/>
          <a:stretch/>
        </p:blipFill>
        <p:spPr>
          <a:xfrm>
            <a:off x="4869000" y="0"/>
            <a:ext cx="973080" cy="1341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Lab3"/>
          <p:cNvPicPr/>
          <p:nvPr/>
        </p:nvPicPr>
        <p:blipFill>
          <a:blip r:embed="rId3"/>
          <a:srcRect l="41130" t="0" r="48226" b="80436"/>
          <a:stretch/>
        </p:blipFill>
        <p:spPr>
          <a:xfrm>
            <a:off x="3895560" y="0"/>
            <a:ext cx="973440" cy="1341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Lab3"/>
          <p:cNvPicPr/>
          <p:nvPr/>
        </p:nvPicPr>
        <p:blipFill>
          <a:blip r:embed="rId4"/>
          <a:srcRect l="41130" t="0" r="48226" b="80436"/>
          <a:stretch/>
        </p:blipFill>
        <p:spPr>
          <a:xfrm>
            <a:off x="5842080" y="0"/>
            <a:ext cx="973080" cy="1341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Lab3"/>
          <p:cNvPicPr/>
          <p:nvPr/>
        </p:nvPicPr>
        <p:blipFill>
          <a:blip r:embed="rId5"/>
          <a:srcRect l="41130" t="0" r="48226" b="80436"/>
          <a:stretch/>
        </p:blipFill>
        <p:spPr>
          <a:xfrm>
            <a:off x="6815160" y="0"/>
            <a:ext cx="973080" cy="13413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"/>
          <p:cNvSpPr/>
          <p:nvPr/>
        </p:nvSpPr>
        <p:spPr>
          <a:xfrm>
            <a:off x="3492360" y="237960"/>
            <a:ext cx="42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Гист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Діаграма 5"/>
          <p:cNvGraphicFramePr/>
          <p:nvPr/>
        </p:nvGraphicFramePr>
        <p:xfrm>
          <a:off x="3152880" y="2979720"/>
          <a:ext cx="5756040" cy="37400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325" name="Діаграма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52880" y="2979720"/>
                    <a:ext cx="57560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203640" y="1352520"/>
          <a:ext cx="5799240" cy="1744560"/>
        </p:xfrm>
        <a:graphic>
          <a:graphicData uri="http://schemas.openxmlformats.org/drawingml/2006/table">
            <a:tbl>
              <a:tblPr/>
              <a:tblGrid>
                <a:gridCol w="1303200"/>
                <a:gridCol w="414360"/>
                <a:gridCol w="415800"/>
                <a:gridCol w="414360"/>
                <a:gridCol w="490680"/>
                <a:gridCol w="343080"/>
                <a:gridCol w="342720"/>
                <a:gridCol w="343080"/>
                <a:gridCol w="342720"/>
                <a:gridCol w="1389240"/>
              </a:tblGrid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итых голов (гол +па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ари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 иг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частота вари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5300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0d7bfbb42edcbbc148491e5164e3ef67"/>
          <p:cNvPicPr/>
          <p:nvPr/>
        </p:nvPicPr>
        <p:blipFill>
          <a:blip r:embed="rId2"/>
          <a:stretch/>
        </p:blipFill>
        <p:spPr>
          <a:xfrm>
            <a:off x="4788000" y="0"/>
            <a:ext cx="3568680" cy="3887640"/>
          </a:xfrm>
          <a:prstGeom prst="rect">
            <a:avLst/>
          </a:prstGeom>
          <a:ln w="0">
            <a:noFill/>
          </a:ln>
        </p:spPr>
      </p:pic>
      <p:sp>
        <p:nvSpPr>
          <p:cNvPr id="329" name="WordArt 4"/>
          <p:cNvSpPr txBox="1"/>
          <p:nvPr/>
        </p:nvSpPr>
        <p:spPr>
          <a:xfrm>
            <a:off x="0" y="260280"/>
            <a:ext cx="6048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ерь с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0" name="WordArt 5"/>
          <p:cNvSpPr txBox="1"/>
          <p:nvPr/>
        </p:nvSpPr>
        <p:spPr>
          <a:xfrm>
            <a:off x="539640" y="400536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стные задач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1" name="Picture 7" descr="http://www.veryicon.com/icon/png/System/Alerts/Statistics%20Change.png"/>
          <p:cNvPicPr/>
          <p:nvPr/>
        </p:nvPicPr>
        <p:blipFill>
          <a:blip r:embed="rId3"/>
          <a:stretch/>
        </p:blipFill>
        <p:spPr>
          <a:xfrm>
            <a:off x="6875640" y="3645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http://sited.googlecode.com/svn/trunk/WindowsFormsApplication5/WindowsFormsApplication5/Resources/img1282_size1.png"/>
          <p:cNvPicPr/>
          <p:nvPr/>
        </p:nvPicPr>
        <p:blipFill>
          <a:blip r:embed="rId4"/>
          <a:stretch/>
        </p:blipFill>
        <p:spPr>
          <a:xfrm>
            <a:off x="741240" y="4970520"/>
            <a:ext cx="1770120" cy="1771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http://www2.psd100.com/ppp/2013/10/0501/Statistics-icon-pie-1005103217.png"/>
          <p:cNvPicPr/>
          <p:nvPr/>
        </p:nvPicPr>
        <p:blipFill>
          <a:blip r:embed="rId5"/>
          <a:stretch/>
        </p:blipFill>
        <p:spPr>
          <a:xfrm>
            <a:off x="2809800" y="4879800"/>
            <a:ext cx="1978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539280" y="1267920"/>
            <a:ext cx="792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ПРИ ОПРОСЕ ДВАДЦАТИ УЧАЩИХСЯ ШКОЛЫ БЫЛО ВЫЯВЛЕНО, ЧТО 7 УЧЕНИКОВ ЛЮБЯТ ПРЕДМЕТ ФИЗКУЛЬТУРУ, 5 УЧЕНИКОВ-МАТЕМАТИКУ, 4 УЧЕНИКА-ИСТОРИЮ , 3 УЧЕНИКА-БИОЛОГИЮ, 1 УЧЕНЬ-ХИМИЮ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ОПРЕДЕЛИТЬ  ГЕНЕРАЛЬНУЮ СОВОКУПНОСТЬ, ВЫБОРКУ, ВАРИАНТЫ ВЫБОРКИ И ЧАСТОТУ ВАРИАНТ 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mic Sans MS"/>
              </a:rPr>
              <a:t>ПРАВИЛЬНЫЙ ОТВЕТ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3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mic Sans MS"/>
              </a:rPr>
              <a:t>ГЕНЕРАЛЬНАЯ СОВОКУПНОСТЬ- КОЛИЧЕСТВО ВСЕХ УЧАЩИХСЯ ШКОЛЫ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mic Sans MS"/>
              </a:rPr>
              <a:t>ВЫБОРКА-20 УЧЕНИК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mic Sans MS"/>
              </a:rPr>
              <a:t>ВАРИАНТЫ – ФИЗКУЛЬТУРА, МАТЕМАТИКА, ИСТОРИЯ, БИОЛОГИЯ, ХИМИЯ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79280" y="4653000"/>
          <a:ext cx="8640720" cy="1224000"/>
        </p:xfrm>
        <a:graphic>
          <a:graphicData uri="http://schemas.openxmlformats.org/drawingml/2006/table">
            <a:tbl>
              <a:tblPr/>
              <a:tblGrid>
                <a:gridCol w="1330560"/>
                <a:gridCol w="1698480"/>
                <a:gridCol w="1773360"/>
                <a:gridCol w="1253880"/>
                <a:gridCol w="1395720"/>
                <a:gridCol w="1188720"/>
              </a:tblGrid>
              <a:tr h="612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РИА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ИЗ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Picture 56" descr="540567152"/>
          <p:cNvPicPr/>
          <p:nvPr/>
        </p:nvPicPr>
        <p:blipFill>
          <a:blip r:embed="rId1"/>
          <a:stretch/>
        </p:blipFill>
        <p:spPr>
          <a:xfrm>
            <a:off x="6877080" y="2276640"/>
            <a:ext cx="183528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440" y="549360"/>
            <a:ext cx="7270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ЗА ДАННЫМ ВАРИАЦИОННЫМ РЯДОМ ОПРЕДЕЛИТЕ ЕГО ЧИСЛОВЫЕ ХАРАКТЕРИСТИКИ: МОДУ , МЕДИАНУ, </a:t>
            </a:r>
            <a:r>
              <a:rPr b="0" lang="uk-UA" sz="3600" spc="-1" strike="noStrike">
                <a:solidFill>
                  <a:srgbClr val="ffffff"/>
                </a:solidFill>
                <a:latin typeface="Comic Sans MS"/>
              </a:rPr>
              <a:t>размах, объём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21,21,21,25,25,25,25,25,26,26,26,26,27,27,29,29,29,30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40" name="Object 32"/>
          <p:cNvGraphicFramePr/>
          <p:nvPr/>
        </p:nvGraphicFramePr>
        <p:xfrm>
          <a:off x="1979640" y="558720"/>
          <a:ext cx="377172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58720"/>
                    <a:ext cx="3771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omic Sans MS"/>
              </a:rPr>
              <a:t>ПРАВИЛЬНЫЙ ОТВЕТ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2133720"/>
            <a:ext cx="871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МОДА – 2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МЕДИАНА – 26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Размах – 9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Объём - 1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4" name="Picture 9" descr="540567152"/>
          <p:cNvPicPr/>
          <p:nvPr/>
        </p:nvPicPr>
        <p:blipFill>
          <a:blip r:embed="rId1"/>
          <a:stretch/>
        </p:blipFill>
        <p:spPr>
          <a:xfrm>
            <a:off x="5003640" y="2276640"/>
            <a:ext cx="183528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7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826560" y="518760"/>
            <a:ext cx="46818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5800" indent="-23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mic Sans MS"/>
              </a:rPr>
              <a:t>Большую роль в распространении идей теории вероятностей и математической статистики сыграли известные российские математики украинского происходжения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7" name="Рисунок 3" descr=""/>
          <p:cNvPicPr/>
          <p:nvPr/>
        </p:nvPicPr>
        <p:blipFill>
          <a:blip r:embed="rId2"/>
          <a:stretch/>
        </p:blipFill>
        <p:spPr>
          <a:xfrm rot="1884000">
            <a:off x="5276520" y="270468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"/>
          <p:cNvPicPr/>
          <p:nvPr/>
        </p:nvPicPr>
        <p:blipFill>
          <a:blip r:embed="rId3"/>
          <a:stretch/>
        </p:blipFill>
        <p:spPr>
          <a:xfrm>
            <a:off x="5072040" y="500040"/>
            <a:ext cx="3214800" cy="27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280" y="4652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omic Sans MS"/>
              </a:rPr>
              <a:t>В.Я. БУНЯКОВСКИ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0" name="Объект 3" descr=""/>
          <p:cNvPicPr/>
          <p:nvPr/>
        </p:nvPicPr>
        <p:blipFill>
          <a:blip r:embed="rId1"/>
          <a:srcRect l="0" t="0" r="784" b="14727"/>
          <a:stretch/>
        </p:blipFill>
        <p:spPr>
          <a:xfrm>
            <a:off x="2857680" y="1143000"/>
            <a:ext cx="33670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a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31880" y="1289160"/>
            <a:ext cx="6491160" cy="28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СТАТИСТИК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ЭТО НАУКА, КОТОРАЯ ИЗУЧАЕТ, ОБРАБАТЫВЕТ И АНАЛИЗИРУЕТ КОЛИЧЕСТВЕННЫЕ ДАННЫЕ ПРО РАЗНООБРАЗНЕЙШИЕ МАССОВЫЕ ЯВЛ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http://s1.iconbird.com/ico/0512/iconspackbyCem/w512h5121337871554512.png"/>
          <p:cNvPicPr/>
          <p:nvPr/>
        </p:nvPicPr>
        <p:blipFill>
          <a:blip r:embed="rId2"/>
          <a:stretch/>
        </p:blipFill>
        <p:spPr>
          <a:xfrm>
            <a:off x="468360" y="1279440"/>
            <a:ext cx="215748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3094200" y="4017960"/>
            <a:ext cx="604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бы не было статистики, мы бы даже не подозревали о том, как хорошо мы работае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толий Ефремович Новосельцев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/ф «Служебный ром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Группа 7"/>
          <p:cNvGrpSpPr/>
          <p:nvPr/>
        </p:nvGrpSpPr>
        <p:grpSpPr>
          <a:xfrm>
            <a:off x="3780000" y="0"/>
            <a:ext cx="3894120" cy="1341360"/>
            <a:chOff x="3780000" y="0"/>
            <a:chExt cx="3894120" cy="1341360"/>
          </a:xfrm>
        </p:grpSpPr>
        <p:pic>
          <p:nvPicPr>
            <p:cNvPr id="222" name="Picture 4" descr="Lab3"/>
            <p:cNvPicPr/>
            <p:nvPr/>
          </p:nvPicPr>
          <p:blipFill>
            <a:blip r:embed="rId3"/>
            <a:srcRect l="41130" t="0" r="48226" b="80436"/>
            <a:stretch/>
          </p:blipFill>
          <p:spPr>
            <a:xfrm>
              <a:off x="4753440" y="0"/>
              <a:ext cx="97344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Lab3"/>
            <p:cNvPicPr/>
            <p:nvPr/>
          </p:nvPicPr>
          <p:blipFill>
            <a:blip r:embed="rId4"/>
            <a:srcRect l="41130" t="0" r="48226" b="80436"/>
            <a:stretch/>
          </p:blipFill>
          <p:spPr>
            <a:xfrm>
              <a:off x="3780000" y="0"/>
              <a:ext cx="97344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" descr="Lab3"/>
            <p:cNvPicPr/>
            <p:nvPr/>
          </p:nvPicPr>
          <p:blipFill>
            <a:blip r:embed="rId5"/>
            <a:srcRect l="41130" t="0" r="48226" b="80436"/>
            <a:stretch/>
          </p:blipFill>
          <p:spPr>
            <a:xfrm>
              <a:off x="5727240" y="0"/>
              <a:ext cx="97344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Lab3"/>
            <p:cNvPicPr/>
            <p:nvPr/>
          </p:nvPicPr>
          <p:blipFill>
            <a:blip r:embed="rId6"/>
            <a:srcRect l="41130" t="0" r="48226" b="80436"/>
            <a:stretch/>
          </p:blipFill>
          <p:spPr>
            <a:xfrm>
              <a:off x="6700680" y="0"/>
              <a:ext cx="973440" cy="13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TextBox 1"/>
          <p:cNvSpPr/>
          <p:nvPr/>
        </p:nvSpPr>
        <p:spPr>
          <a:xfrm>
            <a:off x="4067280" y="2379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Стати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7"/>
          <a:stretch/>
        </p:blipFill>
        <p:spPr>
          <a:xfrm>
            <a:off x="388800" y="364500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46526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omic Sans MS"/>
              </a:rPr>
              <a:t>М.В. ОСТРОГРАДСКИ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2" name="Місце для вмісту 3" descr=""/>
          <p:cNvPicPr/>
          <p:nvPr/>
        </p:nvPicPr>
        <p:blipFill>
          <a:blip r:embed="rId1"/>
          <a:stretch/>
        </p:blipFill>
        <p:spPr>
          <a:xfrm>
            <a:off x="2743200" y="333360"/>
            <a:ext cx="37288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Группа 19"/>
          <p:cNvGrpSpPr/>
          <p:nvPr/>
        </p:nvGrpSpPr>
        <p:grpSpPr>
          <a:xfrm>
            <a:off x="-18000" y="0"/>
            <a:ext cx="9179280" cy="6858000"/>
            <a:chOff x="-18000" y="0"/>
            <a:chExt cx="9179280" cy="6858000"/>
          </a:xfrm>
        </p:grpSpPr>
        <p:pic>
          <p:nvPicPr>
            <p:cNvPr id="229" name="Picture 4" descr="Lab3"/>
            <p:cNvPicPr/>
            <p:nvPr/>
          </p:nvPicPr>
          <p:blipFill>
            <a:blip r:embed="rId1"/>
            <a:srcRect l="20211" t="18787" r="4790" b="0"/>
            <a:stretch/>
          </p:blipFill>
          <p:spPr>
            <a:xfrm rot="5400000">
              <a:off x="-661320" y="643320"/>
              <a:ext cx="6858000" cy="55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Lab3"/>
            <p:cNvPicPr/>
            <p:nvPr/>
          </p:nvPicPr>
          <p:blipFill>
            <a:blip r:embed="rId2"/>
            <a:srcRect l="20211" t="18787" r="4790" b="21333"/>
            <a:stretch/>
          </p:blipFill>
          <p:spPr>
            <a:xfrm rot="5400000">
              <a:off x="3678480" y="1375200"/>
              <a:ext cx="6858000" cy="410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Picture 31" descr="http://krm.gov.ua/image/pic_23.04.13_8.jpg"/>
          <p:cNvPicPr/>
          <p:nvPr/>
        </p:nvPicPr>
        <p:blipFill>
          <a:blip r:embed="rId3"/>
          <a:stretch/>
        </p:blipFill>
        <p:spPr>
          <a:xfrm>
            <a:off x="6877080" y="3790800"/>
            <a:ext cx="2236680" cy="1543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7" descr="http://upload.wikimedia.org/wikipedia/commons/thumb/f/f8/Compass_Rose_English_North.svg/150px-Compass_Rose_English_North.svg.png"/>
          <p:cNvPicPr/>
          <p:nvPr/>
        </p:nvPicPr>
        <p:blipFill>
          <a:blip r:embed="rId4"/>
          <a:stretch/>
        </p:blipFill>
        <p:spPr>
          <a:xfrm>
            <a:off x="3841920" y="527832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2168640" y="39600"/>
            <a:ext cx="61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Виды статис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6"/>
          <p:cNvSpPr/>
          <p:nvPr/>
        </p:nvSpPr>
        <p:spPr>
          <a:xfrm>
            <a:off x="3841920" y="2325600"/>
            <a:ext cx="42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Эконом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8"/>
          <p:cNvSpPr/>
          <p:nvPr/>
        </p:nvSpPr>
        <p:spPr>
          <a:xfrm>
            <a:off x="-92160" y="62247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Финан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9"/>
          <p:cNvSpPr/>
          <p:nvPr/>
        </p:nvSpPr>
        <p:spPr>
          <a:xfrm>
            <a:off x="5270400" y="50292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Налог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0"/>
          <p:cNvSpPr/>
          <p:nvPr/>
        </p:nvSpPr>
        <p:spPr>
          <a:xfrm>
            <a:off x="3038400" y="45864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Биолог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1"/>
          <p:cNvSpPr/>
          <p:nvPr/>
        </p:nvSpPr>
        <p:spPr>
          <a:xfrm>
            <a:off x="3495600" y="60451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Метереолог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1" descr="http://www.fancyicons.com/download/?id=1203&amp;t=png&amp;s=256"/>
          <p:cNvPicPr/>
          <p:nvPr/>
        </p:nvPicPr>
        <p:blipFill>
          <a:blip r:embed="rId5"/>
          <a:stretch/>
        </p:blipFill>
        <p:spPr>
          <a:xfrm>
            <a:off x="4781520" y="1386000"/>
            <a:ext cx="2166840" cy="1076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5" descr="http://fr.ill.in.ua/img/forall/a/13510/0.jpg?1365767437"/>
          <p:cNvPicPr/>
          <p:nvPr/>
        </p:nvPicPr>
        <p:blipFill>
          <a:blip r:embed="rId6"/>
          <a:stretch/>
        </p:blipFill>
        <p:spPr>
          <a:xfrm>
            <a:off x="257040" y="4649760"/>
            <a:ext cx="2343240" cy="149076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2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9" descr="http://4lifemd.ru/wp-content/uploads/2011/12/statistika-onkozabolevaniy2.jpg"/>
          <p:cNvPicPr/>
          <p:nvPr/>
        </p:nvPicPr>
        <p:blipFill>
          <a:blip r:embed="rId7"/>
          <a:stretch/>
        </p:blipFill>
        <p:spPr>
          <a:xfrm>
            <a:off x="174600" y="1400040"/>
            <a:ext cx="3808440" cy="298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3" descr="http://www.ugolzreniya.ru/_mod_files/ce_images/eshop/dinero6.png"/>
          <p:cNvPicPr/>
          <p:nvPr/>
        </p:nvPicPr>
        <p:blipFill>
          <a:blip r:embed="rId8"/>
          <a:stretch/>
        </p:blipFill>
        <p:spPr>
          <a:xfrm>
            <a:off x="1415880" y="4562640"/>
            <a:ext cx="2070360" cy="2070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5" descr="http://www.agrupamentosabandeira.pt/sitio/images/associao_de_pais.png"/>
          <p:cNvPicPr/>
          <p:nvPr/>
        </p:nvPicPr>
        <p:blipFill>
          <a:blip r:embed="rId9"/>
          <a:stretch/>
        </p:blipFill>
        <p:spPr>
          <a:xfrm>
            <a:off x="7129440" y="1720800"/>
            <a:ext cx="2104920" cy="1792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9" descr="http://fourschool.at.ua/img/newES/laboratory.png"/>
          <p:cNvPicPr/>
          <p:nvPr/>
        </p:nvPicPr>
        <p:blipFill>
          <a:blip r:embed="rId10"/>
          <a:stretch/>
        </p:blipFill>
        <p:spPr>
          <a:xfrm>
            <a:off x="4038480" y="356400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1" descr="http://4.bp.blogspot.com/-gdE5OkMxjms/VBQ9gplf6hI/AAAAAAAABcE/l0myPwBmyKc/s1600/eco_green_beetle_icon.png"/>
          <p:cNvPicPr/>
          <p:nvPr/>
        </p:nvPicPr>
        <p:blipFill>
          <a:blip r:embed="rId11"/>
          <a:stretch/>
        </p:blipFill>
        <p:spPr>
          <a:xfrm>
            <a:off x="5054760" y="379080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3" descr="http://d.lanrentuku.com/down/png/0904/frog_dog/frog_dog_08.png"/>
          <p:cNvPicPr/>
          <p:nvPr/>
        </p:nvPicPr>
        <p:blipFill>
          <a:blip r:embed="rId12"/>
          <a:stretch/>
        </p:blipFill>
        <p:spPr>
          <a:xfrm>
            <a:off x="5946840" y="3379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5"/>
          <p:cNvSpPr/>
          <p:nvPr/>
        </p:nvSpPr>
        <p:spPr>
          <a:xfrm>
            <a:off x="826920" y="1430280"/>
            <a:ext cx="35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Медици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7"/>
          <p:cNvSpPr/>
          <p:nvPr/>
        </p:nvSpPr>
        <p:spPr>
          <a:xfrm>
            <a:off x="4675320" y="2854440"/>
            <a:ext cx="44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La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711160" y="1484280"/>
            <a:ext cx="61815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МАТЕМАТИЧЕСКАЯ СТАТИСТИК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ЭТО РАЗДЕЛ МАТЕМАТИКИ, КОТОРЫЙ ИЗУЧАЕТ МАТЕМАТИЧЕСКИЕ МЕТОДЫ ОБРАБОТКИ И ИСПОЛЬЗОВАНИЯ СТАТИСТИЧЕСКИХ ДАННЫХ ДЛЯ НАУЧНИХ И ПРАКТИЧЕСКИХ  ВЫ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http://andreymaksimov.ru/blog/wp-content/uploads/2011/01/1289941372_numbers-icon.png"/>
          <p:cNvPicPr/>
          <p:nvPr/>
        </p:nvPicPr>
        <p:blipFill>
          <a:blip r:embed="rId2"/>
          <a:stretch/>
        </p:blipFill>
        <p:spPr>
          <a:xfrm>
            <a:off x="460440" y="1773360"/>
            <a:ext cx="1944720" cy="19429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Группа 8"/>
          <p:cNvGrpSpPr/>
          <p:nvPr/>
        </p:nvGrpSpPr>
        <p:grpSpPr>
          <a:xfrm>
            <a:off x="3924360" y="0"/>
            <a:ext cx="3892320" cy="1341360"/>
            <a:chOff x="3924360" y="0"/>
            <a:chExt cx="3892320" cy="1341360"/>
          </a:xfrm>
        </p:grpSpPr>
        <p:pic>
          <p:nvPicPr>
            <p:cNvPr id="256" name="Picture 4" descr="Lab3"/>
            <p:cNvPicPr/>
            <p:nvPr/>
          </p:nvPicPr>
          <p:blipFill>
            <a:blip r:embed="rId3"/>
            <a:srcRect l="41130" t="0" r="48226" b="80436"/>
            <a:stretch/>
          </p:blipFill>
          <p:spPr>
            <a:xfrm>
              <a:off x="4897440" y="0"/>
              <a:ext cx="9730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4" descr="Lab3"/>
            <p:cNvPicPr/>
            <p:nvPr/>
          </p:nvPicPr>
          <p:blipFill>
            <a:blip r:embed="rId4"/>
            <a:srcRect l="41130" t="0" r="48226" b="80436"/>
            <a:stretch/>
          </p:blipFill>
          <p:spPr>
            <a:xfrm>
              <a:off x="3924360" y="0"/>
              <a:ext cx="9730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Lab3"/>
            <p:cNvPicPr/>
            <p:nvPr/>
          </p:nvPicPr>
          <p:blipFill>
            <a:blip r:embed="rId5"/>
            <a:srcRect l="41130" t="0" r="48226" b="80436"/>
            <a:stretch/>
          </p:blipFill>
          <p:spPr>
            <a:xfrm>
              <a:off x="5870520" y="0"/>
              <a:ext cx="9730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" descr="Lab3"/>
            <p:cNvPicPr/>
            <p:nvPr/>
          </p:nvPicPr>
          <p:blipFill>
            <a:blip r:embed="rId6"/>
            <a:srcRect l="41130" t="0" r="48226" b="80436"/>
            <a:stretch/>
          </p:blipFill>
          <p:spPr>
            <a:xfrm>
              <a:off x="6843600" y="0"/>
              <a:ext cx="973080" cy="13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Box 1"/>
          <p:cNvSpPr/>
          <p:nvPr/>
        </p:nvSpPr>
        <p:spPr>
          <a:xfrm>
            <a:off x="920880" y="312840"/>
            <a:ext cx="86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Математическая стати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http://territoriaprava.ru/wp-content/uploads/2014/09/%D1%81%D1%82%D0%B0%D1%82%D0%B8%D1%81%D1%82%D0%B8%D0%BA%D0%B0.png"/>
          <p:cNvPicPr/>
          <p:nvPr/>
        </p:nvPicPr>
        <p:blipFill>
          <a:blip r:embed="rId7"/>
          <a:stretch/>
        </p:blipFill>
        <p:spPr>
          <a:xfrm>
            <a:off x="3825720" y="3429000"/>
            <a:ext cx="4792680" cy="3594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http://www.marketing4restaurants.com/slidershow/Image/webAnalysis.png"/>
          <p:cNvPicPr/>
          <p:nvPr/>
        </p:nvPicPr>
        <p:blipFill>
          <a:blip r:embed="rId8"/>
          <a:stretch/>
        </p:blipFill>
        <p:spPr>
          <a:xfrm>
            <a:off x="460440" y="4606920"/>
            <a:ext cx="22510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12"/>
          <p:cNvGrpSpPr/>
          <p:nvPr/>
        </p:nvGrpSpPr>
        <p:grpSpPr>
          <a:xfrm>
            <a:off x="-252720" y="-84240"/>
            <a:ext cx="9177120" cy="6858360"/>
            <a:chOff x="-252720" y="-84240"/>
            <a:chExt cx="9177120" cy="6858360"/>
          </a:xfrm>
        </p:grpSpPr>
        <p:pic>
          <p:nvPicPr>
            <p:cNvPr id="264" name="Picture 4" descr="Lab3"/>
            <p:cNvPicPr/>
            <p:nvPr/>
          </p:nvPicPr>
          <p:blipFill>
            <a:blip r:embed="rId1"/>
            <a:srcRect l="20211" t="18787" r="4790" b="0"/>
            <a:stretch/>
          </p:blipFill>
          <p:spPr>
            <a:xfrm rot="5400000">
              <a:off x="-896760" y="560160"/>
              <a:ext cx="6858000" cy="55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Lab3"/>
            <p:cNvPicPr/>
            <p:nvPr/>
          </p:nvPicPr>
          <p:blipFill>
            <a:blip r:embed="rId2"/>
            <a:srcRect l="20211" t="18787" r="4790" b="21333"/>
            <a:stretch/>
          </p:blipFill>
          <p:spPr>
            <a:xfrm rot="5400000">
              <a:off x="3441960" y="1291320"/>
              <a:ext cx="6858000" cy="410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Line 12"/>
          <p:cNvSpPr/>
          <p:nvPr/>
        </p:nvSpPr>
        <p:spPr>
          <a:xfrm flipH="1">
            <a:off x="1908000" y="1289160"/>
            <a:ext cx="270000" cy="62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443640" y="1289160"/>
            <a:ext cx="371520" cy="62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18"/>
          <p:cNvSpPr txBox="1"/>
          <p:nvPr/>
        </p:nvSpPr>
        <p:spPr>
          <a:xfrm>
            <a:off x="936720" y="2133720"/>
            <a:ext cx="30319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писательна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WordArt 19"/>
          <p:cNvSpPr txBox="1"/>
          <p:nvPr/>
        </p:nvSpPr>
        <p:spPr>
          <a:xfrm>
            <a:off x="5129280" y="2147760"/>
            <a:ext cx="3382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налитическа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790560" y="2379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Математическая стати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Блок-схема: несколько документов 1"/>
          <p:cNvSpPr/>
          <p:nvPr/>
        </p:nvSpPr>
        <p:spPr>
          <a:xfrm>
            <a:off x="360360" y="2732040"/>
            <a:ext cx="3635280" cy="358308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41360" y="3448080"/>
            <a:ext cx="28764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писание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абличное подач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рафическая подач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Блок-схема: несколько документов 17"/>
          <p:cNvSpPr/>
          <p:nvPr/>
        </p:nvSpPr>
        <p:spPr>
          <a:xfrm>
            <a:off x="4829040" y="2627280"/>
            <a:ext cx="3600720" cy="358308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0600" y="3444480"/>
            <a:ext cx="2952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работ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Формулировка вы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https://cdn2.iconfinder.com/data/icons/large-glossy-svg-icons/512/3d_chart_graph_pie_statistics-512.png"/>
          <p:cNvPicPr/>
          <p:nvPr/>
        </p:nvPicPr>
        <p:blipFill>
          <a:blip r:embed="rId3"/>
          <a:stretch/>
        </p:blipFill>
        <p:spPr>
          <a:xfrm>
            <a:off x="2949480" y="4811760"/>
            <a:ext cx="1903680" cy="1901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2.psd100.com/ppp/2013/11/0601/business-icon-1106114457.png"/>
          <p:cNvPicPr/>
          <p:nvPr/>
        </p:nvPicPr>
        <p:blipFill>
          <a:blip r:embed="rId4"/>
          <a:stretch/>
        </p:blipFill>
        <p:spPr>
          <a:xfrm>
            <a:off x="6910560" y="4616280"/>
            <a:ext cx="2212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Группа 5"/>
          <p:cNvGrpSpPr/>
          <p:nvPr/>
        </p:nvGrpSpPr>
        <p:grpSpPr>
          <a:xfrm>
            <a:off x="-18000" y="0"/>
            <a:ext cx="9179280" cy="6858000"/>
            <a:chOff x="-18000" y="0"/>
            <a:chExt cx="9179280" cy="6858000"/>
          </a:xfrm>
        </p:grpSpPr>
        <p:pic>
          <p:nvPicPr>
            <p:cNvPr id="278" name="Picture 4" descr="Lab3"/>
            <p:cNvPicPr/>
            <p:nvPr/>
          </p:nvPicPr>
          <p:blipFill>
            <a:blip r:embed="rId1"/>
            <a:srcRect l="20211" t="18787" r="4790" b="0"/>
            <a:stretch/>
          </p:blipFill>
          <p:spPr>
            <a:xfrm rot="5400000">
              <a:off x="-661320" y="643320"/>
              <a:ext cx="6858000" cy="55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4" descr="Lab3"/>
            <p:cNvPicPr/>
            <p:nvPr/>
          </p:nvPicPr>
          <p:blipFill>
            <a:blip r:embed="rId2"/>
            <a:srcRect l="20211" t="18787" r="4790" b="21333"/>
            <a:stretch/>
          </p:blipFill>
          <p:spPr>
            <a:xfrm rot="5400000">
              <a:off x="3678480" y="1375200"/>
              <a:ext cx="6858000" cy="410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сновные термины и понятия стат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1989000"/>
          <a:ext cx="8229600" cy="4546800"/>
        </p:xfrm>
        <a:graphic>
          <a:graphicData uri="http://schemas.openxmlformats.org/drawingml/2006/table">
            <a:tbl>
              <a:tblPr/>
              <a:tblGrid>
                <a:gridCol w="2879640"/>
                <a:gridCol w="534996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енеральная совокуп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жество всех возможных результатов наблюд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измерен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татистическая в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ы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орка, статистический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жество результатов, которые реально получен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е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данном наблюдении ( измерен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ариа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 из значений элементов выбо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ариационный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орядоченное множество всех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Группа 4"/>
          <p:cNvGrpSpPr/>
          <p:nvPr/>
        </p:nvGrpSpPr>
        <p:grpSpPr>
          <a:xfrm>
            <a:off x="-18000" y="0"/>
            <a:ext cx="9179280" cy="6858000"/>
            <a:chOff x="-18000" y="0"/>
            <a:chExt cx="9179280" cy="6858000"/>
          </a:xfrm>
        </p:grpSpPr>
        <p:pic>
          <p:nvPicPr>
            <p:cNvPr id="283" name="Picture 4" descr="Lab3"/>
            <p:cNvPicPr/>
            <p:nvPr/>
          </p:nvPicPr>
          <p:blipFill>
            <a:blip r:embed="rId1"/>
            <a:srcRect l="20211" t="18787" r="4790" b="0"/>
            <a:stretch/>
          </p:blipFill>
          <p:spPr>
            <a:xfrm rot="5400000">
              <a:off x="-661320" y="643320"/>
              <a:ext cx="6858000" cy="55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" descr="Lab3"/>
            <p:cNvPicPr/>
            <p:nvPr/>
          </p:nvPicPr>
          <p:blipFill>
            <a:blip r:embed="rId2"/>
            <a:srcRect l="20211" t="18787" r="4790" b="21333"/>
            <a:stretch/>
          </p:blipFill>
          <p:spPr>
            <a:xfrm rot="5400000">
              <a:off x="3678480" y="1375200"/>
              <a:ext cx="6858000" cy="410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Числовые характеристики выб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5280" y="1413000"/>
          <a:ext cx="8229600" cy="511020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86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ЗМ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ЫБ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ность  между наибольшим и наименьшим значениями величины в выбор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ЫБ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ия элемента выборки, которое встречается чаще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ЕДИАНА ВЫБ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 среднее значение упорядоченного ряда значений случайной вел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ана (в статистике) — варианта, которая размещена в середине вариационного 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 случае нечетного количества вариант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  среднее арифметическое двух средних членов (если количество вариант четное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РЕДНЕЕ ЗНАЧЕНИЕ ВЫБ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 арифметическое всех чисел ряда данной выб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Группа 9"/>
          <p:cNvGrpSpPr/>
          <p:nvPr/>
        </p:nvGrpSpPr>
        <p:grpSpPr>
          <a:xfrm>
            <a:off x="-18000" y="0"/>
            <a:ext cx="9179280" cy="6858000"/>
            <a:chOff x="-18000" y="0"/>
            <a:chExt cx="9179280" cy="6858000"/>
          </a:xfrm>
        </p:grpSpPr>
        <p:pic>
          <p:nvPicPr>
            <p:cNvPr id="288" name="Picture 4" descr="Lab3"/>
            <p:cNvPicPr/>
            <p:nvPr/>
          </p:nvPicPr>
          <p:blipFill>
            <a:blip r:embed="rId1"/>
            <a:srcRect l="20211" t="18787" r="4790" b="0"/>
            <a:stretch/>
          </p:blipFill>
          <p:spPr>
            <a:xfrm rot="5400000">
              <a:off x="-661320" y="643320"/>
              <a:ext cx="6858000" cy="55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4" descr="Lab3"/>
            <p:cNvPicPr/>
            <p:nvPr/>
          </p:nvPicPr>
          <p:blipFill>
            <a:blip r:embed="rId2"/>
            <a:srcRect l="20211" t="18787" r="4790" b="21333"/>
            <a:stretch/>
          </p:blipFill>
          <p:spPr>
            <a:xfrm rot="5400000">
              <a:off x="3678480" y="1375200"/>
              <a:ext cx="6858000" cy="410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18000" y="-360"/>
            <a:ext cx="916164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Рассмотрим данные понятия на прим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5560" y="1490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65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оки донецкого «Шахтера», которые за первую часть сезона УПЛ 2016-2017 годов забили(дали голевой пас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360600" y="2205000"/>
          <a:ext cx="5548320" cy="4581720"/>
        </p:xfrm>
        <a:graphic>
          <a:graphicData uri="http://schemas.openxmlformats.org/drawingml/2006/table">
            <a:tbl>
              <a:tblPr/>
              <a:tblGrid>
                <a:gridCol w="803520"/>
                <a:gridCol w="2895480"/>
                <a:gridCol w="1849320"/>
              </a:tblGrid>
              <a:tr h="3754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+па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2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тинь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маил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ло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2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е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ас Степаненк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2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 Коваленк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нар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ио Ср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2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 Орде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с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2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ослав Ракиц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ндо Феррей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дуард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2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дан Бутк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 Борячу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2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 Селезне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293" name="Рисунок 2" descr=""/>
          <p:cNvPicPr/>
          <p:nvPr/>
        </p:nvPicPr>
        <p:blipFill>
          <a:blip r:embed="rId3"/>
          <a:stretch/>
        </p:blipFill>
        <p:spPr>
          <a:xfrm>
            <a:off x="184320" y="3056040"/>
            <a:ext cx="29509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Группа 4"/>
          <p:cNvGrpSpPr/>
          <p:nvPr/>
        </p:nvGrpSpPr>
        <p:grpSpPr>
          <a:xfrm>
            <a:off x="-18000" y="0"/>
            <a:ext cx="9179280" cy="6858000"/>
            <a:chOff x="-18000" y="0"/>
            <a:chExt cx="9179280" cy="6858000"/>
          </a:xfrm>
        </p:grpSpPr>
        <p:pic>
          <p:nvPicPr>
            <p:cNvPr id="295" name="Picture 4" descr="Lab3"/>
            <p:cNvPicPr/>
            <p:nvPr/>
          </p:nvPicPr>
          <p:blipFill>
            <a:blip r:embed="rId1"/>
            <a:srcRect l="20211" t="18787" r="4790" b="0"/>
            <a:stretch/>
          </p:blipFill>
          <p:spPr>
            <a:xfrm rot="5400000">
              <a:off x="-661320" y="643320"/>
              <a:ext cx="6858000" cy="55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" descr="Lab3"/>
            <p:cNvPicPr/>
            <p:nvPr/>
          </p:nvPicPr>
          <p:blipFill>
            <a:blip r:embed="rId2"/>
            <a:srcRect l="20211" t="18787" r="4790" b="21333"/>
            <a:stretch/>
          </p:blipFill>
          <p:spPr>
            <a:xfrm rot="5400000">
              <a:off x="3678480" y="1375200"/>
              <a:ext cx="6858000" cy="410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8920" y="1341000"/>
            <a:ext cx="907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Генеральная совокупност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- количество забитых голов (гол+пас) всеми игроками ФК «Шах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ыбор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личество забитых голов (гол+пас) игроками данного сп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ивность- 6,4,6,4,1,5,5,7,3,7,2,8,5,2,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1,1,2,2,2,3,4,4,5,5,5,6,6,7,7,8- </a:t>
            </a:r>
            <a:r>
              <a:rPr b="0" lang="uk-UA" sz="2200" spc="-1" strike="noStrike">
                <a:solidFill>
                  <a:srgbClr val="ff0000"/>
                </a:solidFill>
                <a:latin typeface="Times New Roman"/>
              </a:rPr>
              <a:t> статистический, ранжированный ря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8920" y="3933720"/>
          <a:ext cx="8947080" cy="2563920"/>
        </p:xfrm>
        <a:graphic>
          <a:graphicData uri="http://schemas.openxmlformats.org/drawingml/2006/table">
            <a:tbl>
              <a:tblPr/>
              <a:tblGrid>
                <a:gridCol w="2538360"/>
                <a:gridCol w="649440"/>
                <a:gridCol w="647640"/>
                <a:gridCol w="647640"/>
                <a:gridCol w="720720"/>
                <a:gridCol w="647640"/>
                <a:gridCol w="647640"/>
                <a:gridCol w="648000"/>
                <a:gridCol w="647640"/>
                <a:gridCol w="1152360"/>
              </a:tblGrid>
              <a:tr h="53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итых голов (гол +па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ариа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 иг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частота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оличества забитых голов(гол+пас) к количеству игроков из сп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\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тноси-тельная частота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1"/>
          <p:cNvSpPr/>
          <p:nvPr/>
        </p:nvSpPr>
        <p:spPr>
          <a:xfrm>
            <a:off x="482760" y="189000"/>
            <a:ext cx="81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пишем количество забитых голов и количества соответствующих им игроков в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20:40:53Z</dcterms:created>
  <dc:creator>Самвел</dc:creator>
  <dc:description/>
  <dc:language>en-US</dc:language>
  <cp:lastModifiedBy>ОЛЯ</cp:lastModifiedBy>
  <dcterms:modified xsi:type="dcterms:W3CDTF">2017-02-13T18:43:21Z</dcterms:modified>
  <cp:revision>103</cp:revision>
  <dc:subject/>
  <dc:title>Слайд 1</dc:title>
</cp:coreProperties>
</file>