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581F-42F4-4B18-B459-1BE5739A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3099-D8D0-4452-9B7B-3D7E5215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549C-D266-40B5-986A-7DAC3A97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E84F-8B29-4A9C-B151-C78D91CA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0476-6AEF-4E78-90CF-8F113F73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6FF3-C04F-4801-B24B-F864B12B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6F33-F2C9-482F-B999-4A86204A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EA77-DEDE-4FE8-A0E9-2CE70241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DB29-29A0-49CB-BB47-3F70B53C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AB32-8A10-4D8D-A718-876B7303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37E7-D292-4EFD-A35A-E2D796DE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8F478-5DF9-40C8-BF32-3917BD0C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28E7-392F-4E03-B186-59AD3937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30F9-0D21-4E20-8424-4933C54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1863-FE12-478B-8B10-68FA5BA0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1ADD-363B-4724-BF01-B91A07D7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C281-24F1-4114-877E-C7FC2A0C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1539-88EE-40FB-A0AE-2A96A2D0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E8A8-2359-432A-A745-E0910295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D213-7995-4A39-B454-A9DF60E5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AB1F-5020-4325-90FB-D5ACFA38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7E91-2069-4A84-89A5-686C6C8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FB7F-DD4B-4CA9-947F-80450226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B579-BEB4-4E4C-AE35-546DD18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1200-F65A-4173-ADCA-F150EC78C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6483-DD24-4B67-B2DD-10FF42DC4E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uz-color.ru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Garamond"/>
              </a:rPr>
              <a:t>Ідеали й образи Ренесансу</a:t>
            </a:r>
            <a:br>
              <a:rPr sz="4000"/>
            </a:br>
            <a:r>
              <a:rPr b="0" lang="uk-UA" sz="2400" spc="-1" strike="noStrike">
                <a:solidFill>
                  <a:srgbClr val="ffcc00"/>
                </a:solidFill>
                <a:latin typeface="Garamond"/>
              </a:rPr>
              <a:t>2 урок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0" y="2636640"/>
            <a:ext cx="4037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Практична робо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00720" y="3645000"/>
            <a:ext cx="4249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Автопортр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(за бажанням в інтер</a:t>
            </a:r>
            <a:r>
              <a:rPr b="1" lang="uk-UA" sz="2400" spc="-1" strike="noStrike">
                <a:solidFill>
                  <a:srgbClr val="ffffff"/>
                </a:solidFill>
                <a:latin typeface="Constantia"/>
                <a:ea typeface="Arial"/>
              </a:rPr>
              <a:t>’єрі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025880" cy="5307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597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Хоровий спів у добу Відродження був найбільш популярним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71978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Початок нотодруку, нові умови побутування вели до переосмислення її соціального статусу. 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59280" y="1267920"/>
            <a:ext cx="4105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анри і стилі музики відродження розрізнялися й залежно від їхньої соціальної функції — музика народна й «учена», церковна і світська, для «недосвідчених аматорів» і для «вишуканих вух»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росла роль світських жанрів, самостійною стала інструментальна, відродився інтерес до танцювального мистецт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60640" y="1633680"/>
            <a:ext cx="32065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рактична робота</a:t>
            </a:r>
            <a:br>
              <a:rPr sz="4000"/>
            </a:b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Жіночий образ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05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оловічий образ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917720"/>
            <a:ext cx="82296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Художня культура доби Відродження , унікальний період в історії розвитку людства, подарувала плеяду геніальних митців у різних сферах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Мені запам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  <a:ea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талося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Мені сподобалося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Музика епохи Відродження, подібно образотворчому мистецтву й літературі, вернулася до цінностей античної культури. Вона не тільки тішила слух, але й виявляла на слухачів духовний і емоційний вплив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4978440" cy="443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867280" y="2637000"/>
            <a:ext cx="2705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5e5ff"/>
                </a:solidFill>
                <a:latin typeface="Garamond"/>
              </a:rPr>
              <a:t>Відродження сприяло розвитку музичного мистецтва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У цей період виникло поняття “композитор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Творчість митців набуває індивідуальності, зазнає впливу народної муз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Вершиною духовної хорової музики стає 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меса-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циклічний жанр духовної хорової поліфонічної музики.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Поліфонічний розвиток музики відбувається з використанням 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нтифонного співу -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спів-перегук двох хорів або частин хор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8587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ізнаємо мистец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2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http://poiskm.org/show/палест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ке враження справила на вас музика мес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оміркуйте, де її краще слухати: у храмі, на сцені філармонії, просто неб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64000" y="1125360"/>
            <a:ext cx="345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У центрі музичної культури італійського Відродження – хорова спадщина Джованні Палестріни (1525-1594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842840"/>
            <a:ext cx="447516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Усе своє життя він присвятив створенню церковної музик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Написав близько 100 мес, багато гімні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Стилю композитора притаманні прості та щирі наспіви, гармонійний розвиток, світла та прозора фактур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3280" y="1655640"/>
            <a:ext cx="33861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Слухаємо музику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ve Maria. 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Джуліо Каччіні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8680" y="1770120"/>
            <a:ext cx="7437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muz-color.ru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У добу Відродження в Італії зародився новий </a:t>
            </a:r>
            <a:r>
              <a:rPr b="0" i="1" lang="uk-UA" sz="2400" spc="-1" strike="noStrike" u="sng">
                <a:solidFill>
                  <a:srgbClr val="ffffff"/>
                </a:solidFill>
                <a:uFillTx/>
                <a:latin typeface="Garamond"/>
              </a:rPr>
              <a:t>гамофонний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стиль, в якому голоса поділялися на головний і супровідні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Уявіть як одна з хорових партій почала поступово відокремлюватися від інших голосів, щоб стати панівною. Інші об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  <a:ea typeface="Arial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єдналися в акорди й виконували роль гармонійного тла. Таким чином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з’явилися мелодії та акомпанимент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5e5ff"/>
                </a:solidFill>
                <a:latin typeface="Garamond"/>
              </a:rPr>
              <a:t>З епохи Відродження бере початок професійна композиторська творчість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Митці Ренесансу прагнули відродити традиції античного театр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ерші опери писали переважно на сюжети з античної міфології, найпопулярнішою була тема Орфе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иникло два різновиди оперного співу – арія та речитати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Набули розквіту й інші оперні форми: ансамблі, увертюри, які згодом з театру перейшли на концертну музи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0" y="333360"/>
            <a:ext cx="40435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Шансони тих років виконувалися в кілька голосів на зворушливі вірші - від піднесеної теми любові до повсякденного сільського життя. Композитори складали до віршів дуже прості мелодії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годом із цієї традиції народився мадригал - добуток для 4 або 5 голосів на вільну поетичну темати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1054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Garamond"/>
              </a:rPr>
              <a:t>В Італії розвинулося й побутове музикування, і професійне мистецтво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90440"/>
            <a:ext cx="403704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Фаворитом у гуртках аматорів стала </a:t>
            </a: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лютня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, захоплення якою відображено на численних полотнах живописців цієї доб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21440" y="1917720"/>
            <a:ext cx="3465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1T23:21:41Z</dcterms:created>
  <dc:creator>Admin</dc:creator>
  <dc:description/>
  <dc:language>en-US</dc:language>
  <cp:lastModifiedBy>Admin</cp:lastModifiedBy>
  <dcterms:modified xsi:type="dcterms:W3CDTF">2017-02-02T18:22:47Z</dcterms:modified>
  <cp:revision>8</cp:revision>
  <dc:subject/>
  <dc:title>Ідеали й образи Ренесансу</dc:title>
</cp:coreProperties>
</file>