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3.png" ContentType="image/pn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4.png" ContentType="image/png"/>
  <Override PartName="/ppt/media/image12.jpeg" ContentType="image/jpeg"/>
  <Override PartName="/ppt/media/image31.gif" ContentType="image/gif"/>
  <Override PartName="/ppt/media/image7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gif" ContentType="image/gif"/>
  <Override PartName="/ppt/media/image27.jpeg" ContentType="image/jpeg"/>
  <Override PartName="/ppt/media/image17.gif" ContentType="image/gif"/>
  <Override PartName="/ppt/media/image21.jpeg" ContentType="image/jpe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020-787B-4028-AB25-4912E15F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4C1-4AC9-4120-BF60-46E1D86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014-04B3-45CB-8798-EE3CC4B7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C403-E2F8-458C-A5FD-C0AFABF0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2F5-0FAD-47D6-9BE2-C2D7595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F68-804E-4E6F-B93A-4A1B03C6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EA9-15DD-4D32-A33E-1F57C3E6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276-71AE-494A-9983-C9F93754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87C-B607-4B2C-AE26-F0C2D81C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4BF-CE4A-472F-BCA9-3E8FADEF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5E0D-EB1A-4E7F-8585-3E36280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0265-CD8B-42BE-BECE-B9B7014D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5AA5-E905-44D5-A0E2-67182CCF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84360" y="592200"/>
            <a:ext cx="6265800" cy="6265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5040" y="5373720"/>
            <a:ext cx="750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Закріплення знань про звук [ж], букву Жж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працювання української народної казки «Лисичка і Журавел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оваль Любов Дмитрі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КУ Сусмька ЗОШ І-ІІІ ступенів № 27, м.Суми, Сумської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348000" y="209520"/>
            <a:ext cx="497196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 rot="21108000">
            <a:off x="5579640" y="1915920"/>
            <a:ext cx="2857680" cy="2904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 rot="21361800">
            <a:off x="2771280" y="907560"/>
            <a:ext cx="2467080" cy="2705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031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067280" y="692280"/>
            <a:ext cx="41940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3732" t="2631" r="0" b="35051"/>
          <a:stretch/>
        </p:blipFill>
        <p:spPr>
          <a:xfrm>
            <a:off x="2916360" y="907920"/>
            <a:ext cx="54100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215600" y="981000"/>
            <a:ext cx="352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Хвилинка відпочин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4210" r="0" b="3423"/>
          <a:stretch/>
        </p:blipFill>
        <p:spPr>
          <a:xfrm>
            <a:off x="2195640" y="1700280"/>
            <a:ext cx="673236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8426520" cy="6210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7800" cy="6262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8497800" cy="6261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24000" y="189000"/>
            <a:ext cx="8496000" cy="6251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8567640" cy="631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539640" y="574992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4912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4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0">
                                  <p:stCondLst>
                                    <p:cond delay="9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0">
                                  <p:stCondLst>
                                    <p:cond delay="1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0">
                                  <p:stCondLst>
                                    <p:cond delay="17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050920" y="953280"/>
            <a:ext cx="709308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елі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ші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ькі знайом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ужилис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варишувал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иятелюв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мами стали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и хрещени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тьками дити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воляйс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їж, пригощ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нівалася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сердила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ина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хід у гост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rcRect l="3732" t="2631" r="0" b="35051"/>
          <a:stretch/>
        </p:blipFill>
        <p:spPr>
          <a:xfrm>
            <a:off x="2916360" y="907920"/>
            <a:ext cx="5410080" cy="539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37800" y="549360"/>
            <a:ext cx="259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Читаємо каз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www.fantasy-c.narod.ru/russian-tales/fox-and-crane/036-fox_and_crane.jpg"/>
          <p:cNvPicPr/>
          <p:nvPr/>
        </p:nvPicPr>
        <p:blipFill>
          <a:blip r:embed="rId2"/>
          <a:srcRect l="0" t="13256" r="0" b="15098"/>
          <a:stretch/>
        </p:blipFill>
        <p:spPr>
          <a:xfrm>
            <a:off x="2843280" y="1387440"/>
            <a:ext cx="6300720" cy="4029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fantasy-c.narod.ru/russian-tales/fox-and-crane/038-fox_and_crane.jpg"/>
          <p:cNvPicPr/>
          <p:nvPr/>
        </p:nvPicPr>
        <p:blipFill>
          <a:blip r:embed="rId3"/>
          <a:stretch/>
        </p:blipFill>
        <p:spPr>
          <a:xfrm>
            <a:off x="3780000" y="765000"/>
            <a:ext cx="4324320" cy="5688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fantasy-c.narod.ru/russian-tales/fox-and-crane/035-fox_and_crane.jpg"/>
          <p:cNvPicPr/>
          <p:nvPr/>
        </p:nvPicPr>
        <p:blipFill>
          <a:blip r:embed="rId4"/>
          <a:stretch/>
        </p:blipFill>
        <p:spPr>
          <a:xfrm>
            <a:off x="2916360" y="765000"/>
            <a:ext cx="5813280" cy="568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rcRect l="13787" t="0" r="13787" b="0"/>
          <a:stretch/>
        </p:blipFill>
        <p:spPr>
          <a:xfrm>
            <a:off x="2843280" y="476280"/>
            <a:ext cx="5884920" cy="6092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8160" y="3933720"/>
            <a:ext cx="188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“</a:t>
            </a:r>
            <a:r>
              <a:rPr b="1" i="1" lang="uk-UA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ідпиш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люно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rcRect l="3732" t="2631" r="0" b="35051"/>
          <a:stretch/>
        </p:blipFill>
        <p:spPr>
          <a:xfrm>
            <a:off x="2916360" y="907920"/>
            <a:ext cx="5410080" cy="5399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9440" y="549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ра “Так-Ні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059280" y="692280"/>
            <a:ext cx="5715000" cy="521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55640" y="5605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826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97080" y="1269360"/>
            <a:ext cx="6382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ружба — найбільший скарб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Яке частуванн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аке й дякув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е той друг, хто медом маж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 той, хто правду ка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8604000" cy="5813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484520" y="4149720"/>
            <a:ext cx="150192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1206" r="0" b="1711"/>
          <a:stretch/>
        </p:blipFill>
        <p:spPr>
          <a:xfrm>
            <a:off x="4568760" y="692280"/>
            <a:ext cx="4575240" cy="4941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48243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-жу-ж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жу-жу-ж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вою нірку стережу,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аже жук і стереж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він і сам — як буква Ж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rcRect l="0" t="1206" r="0" b="1711"/>
          <a:stretch/>
        </p:blipFill>
        <p:spPr>
          <a:xfrm>
            <a:off x="4568760" y="692280"/>
            <a:ext cx="4575240" cy="4941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3644640"/>
            <a:ext cx="6767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Жовтий жук у житі жи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Жук із жабками друж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Жартувати жук умі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Жабок жук завжди дражни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Очікуванн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625920" cy="3309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rcRect l="0" t="1206" r="0" b="1711"/>
          <a:stretch/>
        </p:blipFill>
        <p:spPr>
          <a:xfrm>
            <a:off x="2987640" y="1557360"/>
            <a:ext cx="2938320" cy="326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rcRect l="7568" t="16634" r="4734" b="18334"/>
          <a:stretch/>
        </p:blipFill>
        <p:spPr>
          <a:xfrm>
            <a:off x="6480000" y="1413000"/>
            <a:ext cx="26640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Інтерв’ю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292720" y="3357720"/>
            <a:ext cx="3625920" cy="33098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1206" r="0" b="1711"/>
          <a:stretch/>
        </p:blipFill>
        <p:spPr>
          <a:xfrm>
            <a:off x="2987640" y="1557360"/>
            <a:ext cx="2938320" cy="3268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659640" y="141300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804000" y="1413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78217" t="86147" r="5201" b="3228"/>
          <a:stretch/>
        </p:blipFill>
        <p:spPr>
          <a:xfrm>
            <a:off x="6840360" y="3141720"/>
            <a:ext cx="230364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rcRect l="20101" t="86164" r="38377" b="5116"/>
          <a:stretch/>
        </p:blipFill>
        <p:spPr>
          <a:xfrm>
            <a:off x="1979640" y="3645000"/>
            <a:ext cx="496872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606920" y="2716200"/>
            <a:ext cx="4537080" cy="41418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rcRect l="0" t="1206" r="0" b="1711"/>
          <a:stretch/>
        </p:blipFill>
        <p:spPr>
          <a:xfrm>
            <a:off x="2340000" y="765000"/>
            <a:ext cx="3843360" cy="4276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635280" y="476280"/>
            <a:ext cx="4060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2559240" cy="360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227640" y="2924280"/>
            <a:ext cx="2565360" cy="3456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24360" y="692280"/>
            <a:ext cx="24447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1T17:30:51Z</dcterms:created>
  <dc:creator>Admin</dc:creator>
  <dc:description/>
  <dc:language>en-US</dc:language>
  <cp:lastModifiedBy>Admin</cp:lastModifiedBy>
  <dcterms:modified xsi:type="dcterms:W3CDTF">2017-02-06T17:57:40Z</dcterms:modified>
  <cp:revision>6</cp:revision>
  <dc:subject/>
  <dc:title>Слайд 1</dc:title>
</cp:coreProperties>
</file>