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86A-A943-4A31-AF60-DDB02382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61B-DA9E-4382-8B48-1966F80E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EDF-0378-4E0A-BD26-AA29DD14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264-2192-418E-A93E-111BF596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B99-C412-49F5-8688-AE69FA34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751-25B9-4ADF-B69D-F90CC30A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F6CE-BA87-4665-AE16-E8F3200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0326-2EF4-46F0-8FB1-99ED8422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85A1-3CCA-4B59-8877-AB359A05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672A-2019-43D0-8F61-FCE5CB15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77F3-011A-4988-A02D-EEB7637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A56-168B-4B10-87EC-C11C5386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221D-F247-4F81-AEAE-3CF7FB8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23DF-8197-414E-8ADF-79DA04D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F191-3422-4A3D-B5DC-3F3592C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F0EC-E3EE-49F8-A585-753D3A68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E601-5587-4A21-B811-4CF91596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8C0-1C80-454A-8B79-F2259266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5BC-39E4-4906-893F-FC0CF6F6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A2F-13D8-42CD-9A2A-837205B3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549-81E7-4D01-B226-78952181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6AD-B9BD-4FF9-92A4-2B33DB30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24B-2AC9-49FC-BD30-E78DABD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630-239D-4701-8F31-7EB77626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5960-BC7F-41FF-B95E-912183EA2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FE8A-D6F0-4ACC-8863-E8C979914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В_ш_ньк_ - ч_р_ш_ньк_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ч_рв_н_ї, сп_л_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ч_г_ ж  б_   в_  т_к  в_с_к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0000"/>
                </a:solidFill>
                <a:latin typeface="Arial"/>
              </a:rPr>
              <a:t>в_р_сл_  н_  г_лл_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260280"/>
            <a:ext cx="7201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 "Збери букви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9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300"/>
                            </p:stCondLst>
                            <p:childTnLst>
                              <p:par>
                                <p:cTn id="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533680" cy="3809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651640" y="2133720"/>
            <a:ext cx="24066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400560" cy="4176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3456000" cy="446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11280" y="404640"/>
            <a:ext cx="2905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лена Пчі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51280" y="6021360"/>
            <a:ext cx="509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тро Антонович Коса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1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4319640" cy="255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745080" cy="2698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35989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5400720" cy="2795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56000" y="3357720"/>
            <a:ext cx="61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3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260280"/>
            <a:ext cx="3456000" cy="20163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a010a0"/>
                </a:solidFill>
                <a:latin typeface="Arial"/>
              </a:rPr>
              <a:t>кві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19640" y="404640"/>
            <a:ext cx="3456000" cy="20163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ха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50864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429264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листяч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2421000"/>
            <a:ext cx="3456000" cy="201600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шеньки-черешень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ервонії, спілі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ого ж бо ви так висо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росли на гіллі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259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03280" y="1916280"/>
            <a:ext cx="57610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а "Хто уважніший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мо, іде вже зима!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 думаю, що усі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сніг з морозом поморозив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що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 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біда навчить,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837360"/>
            <a:ext cx="88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Мамо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, іде вже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зима!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 думаю, що усі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сніг з морозом поморозив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що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біда навчить,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ам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іде вже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зима!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 думаю, що усі </a:t>
            </a:r>
            <a:r>
              <a:rPr b="1" i="1" lang="uk-UA" sz="2800" spc="-1" strike="noStrike">
                <a:solidFill>
                  <a:srgbClr val="ffff66"/>
                </a:solidFill>
                <a:latin typeface="Arial"/>
              </a:rPr>
              <a:t>вишеньки-черешень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i="1" lang="uk-UA" sz="2800" spc="-1" strike="noStrike">
                <a:solidFill>
                  <a:srgbClr val="9900cc"/>
                </a:solidFill>
                <a:latin typeface="Arial"/>
              </a:rPr>
              <a:t>сніг з морозом поморозив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у нашому садочк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що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uk-UA" sz="2800" spc="-1" strike="noStrike">
                <a:solidFill>
                  <a:srgbClr val="ff6600"/>
                </a:solidFill>
                <a:latin typeface="Arial"/>
              </a:rPr>
              <a:t>на зеленому горбоч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-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Ні, дитинко, ми їх гарно утеплили перед морозами. А от інших ця </a:t>
            </a:r>
            <a:r>
              <a:rPr b="1" i="1" lang="uk-UA" sz="2800" spc="-1" strike="noStrike">
                <a:solidFill>
                  <a:srgbClr val="00ff00"/>
                </a:solidFill>
                <a:latin typeface="Arial"/>
              </a:rPr>
              <a:t>біда навчить,</a:t>
            </a:r>
            <a:r>
              <a:rPr b="1" i="1" lang="uk-UA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як потрібно готуватися до з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050920" y="907920"/>
            <a:ext cx="561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 "Жонглювання"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rot="970200">
            <a:off x="5292720" y="3429000"/>
            <a:ext cx="160956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2563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800" y="2637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989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413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2563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620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763560"/>
            <a:ext cx="5029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69228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060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1628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5640" y="9079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1197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1052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016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2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8880" y="1125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3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9440" y="6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5800" y="76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81440" y="981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13440" y="1268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1700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06160" y="21337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4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284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00720" y="4292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5084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5516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58136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551664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41497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3357720"/>
            <a:ext cx="503280" cy="50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3789360"/>
            <a:ext cx="50292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393372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4869000"/>
            <a:ext cx="50328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32360" y="551664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508360" y="3789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067280" y="580500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80000" y="4652640"/>
            <a:ext cx="7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3737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4437000"/>
            <a:ext cx="72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76720" y="3716280"/>
            <a:ext cx="3585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140000" y="371592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1800" y="4653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1016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6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1344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6580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404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90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888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088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85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81800" y="62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688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4160" y="76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a010a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958000" y="3500280"/>
            <a:ext cx="3186000" cy="33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2050920" y="2781360"/>
            <a:ext cx="561672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ся Украї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843280" y="83664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у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32000" y="4365720"/>
            <a:ext cx="432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авня вес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animClr clrSpc="rgb">
                                      <p:cBhvr>
                                        <p:cTn id="495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  <p:set>
                                      <p:cBhvr>
                                        <p:cTn id="49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4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3:05:00Z</dcterms:created>
  <dc:creator>Роман</dc:creator>
  <dc:description/>
  <dc:language>en-US</dc:language>
  <cp:lastModifiedBy>Роман</cp:lastModifiedBy>
  <dcterms:modified xsi:type="dcterms:W3CDTF">2012-02-20T20:17:26Z</dcterms:modified>
  <cp:revision>8</cp:revision>
  <dc:subject/>
  <dc:title>Слайд 1</dc:title>
</cp:coreProperties>
</file>