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4A0-6868-47AB-B491-03C0EA28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238-35D4-4BBB-87A8-4D45A45C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F3AC-33A4-4684-B687-40CD18D4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4EE-6D24-4243-81C0-16123B7D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30EC-4CA2-4E2E-AB7C-72141206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38D8-B013-4310-A2EA-A124FD53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E429-B3C1-4396-AEFF-F5339265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9C17-F22D-4C18-B591-58CFE2DC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33B4-5464-444C-ACC8-C8143986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347D-46A5-43C4-A6BD-E9701BD5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1D88-9EEA-4929-B451-C08AA69A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DDD-D782-42A6-8441-6664A905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2092-9DFD-4B17-83C5-87BFE6AC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4957-7F7D-4C34-8D50-1EE2DA91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3C25-662B-47B6-87D2-34EC69B7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81AF-DB04-4E8F-ACDF-D7A53AED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186E-F26B-4234-89A3-92668D9C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FCF-9746-49DE-BFDE-7512FF5B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9F6-BEB3-4B61-BEED-996F95D7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443-664F-4BF3-AF59-CAE169EF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1E7-C04D-4E08-882A-409A609A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392-7931-4D4A-948C-61AE63B2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6A4-F146-4CA6-8811-20BC04C9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A266-DB80-4EB6-A865-883625A1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72B7-F6C4-45D7-A183-2C4E946D1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269C-0594-41CE-A0A0-88B092E2D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1280" y="2421000"/>
            <a:ext cx="7056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В_ш_ньк_ - ч_р_ш_ньк_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ч_рв_н_ї, сп_л_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ч_г_ ж  б_   в_  т_к  в_с_к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в_р_сл_  н_  г_лл_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87280" y="260280"/>
            <a:ext cx="7201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 "Збери букви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9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300"/>
                            </p:stCondLst>
                            <p:childTnLst>
                              <p:par>
                                <p:cTn id="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2533680" cy="3809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651640" y="2133720"/>
            <a:ext cx="24066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400560" cy="4176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456000" cy="4465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611280" y="404640"/>
            <a:ext cx="2905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лена Пчі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51280" y="6021360"/>
            <a:ext cx="509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тро Антонович Кос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1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3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5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4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4319640" cy="255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3745080" cy="2698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35989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8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5400720" cy="2795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556000" y="3357720"/>
            <a:ext cx="619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3" dur="5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260280"/>
            <a:ext cx="3456000" cy="2016360"/>
          </a:xfrm>
          <a:prstGeom prst="irregularSeal1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a010a0"/>
                </a:solidFill>
                <a:latin typeface="Arial"/>
              </a:rPr>
              <a:t>кві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19640" y="404640"/>
            <a:ext cx="3456000" cy="2016360"/>
          </a:xfrm>
          <a:prstGeom prst="irregularSeal1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ха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508640"/>
            <a:ext cx="3456000" cy="2016000"/>
          </a:xfrm>
          <a:prstGeom prst="irregularSeal1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6600"/>
                </a:solidFill>
                <a:latin typeface="Arial"/>
              </a:rPr>
              <a:t>ш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0" y="4292640"/>
            <a:ext cx="3456000" cy="2016000"/>
          </a:xfrm>
          <a:prstGeom prst="irregularSeal1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листяч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56000" y="2421000"/>
            <a:ext cx="3456000" cy="2016000"/>
          </a:xfrm>
          <a:prstGeom prst="irregularSeal1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ff"/>
                </a:solidFill>
                <a:latin typeface="Arial"/>
              </a:rPr>
              <a:t>вес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6000"/>
                            </p:stCondLst>
                            <p:childTnLst>
                              <p:par>
                                <p:cTn id="6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шеньки-черешень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ервонії, спілі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ого ж бо ви так висо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росли на гіллі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12000" y="2708280"/>
            <a:ext cx="259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03280" y="1916280"/>
            <a:ext cx="57610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а "Хто уважніший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амо, іде вже зима!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 думаю, що усі 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вишеньки-черешень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сніг з морозом поморозив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у нашому садоч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що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 на зеленому горбоч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і, дитинко, ми їх гарно утеплили перед морозами. А от інших ця 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біда навчить,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к потрібно готуватися до з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837360"/>
            <a:ext cx="88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Мамо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, іде вже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зима!</a:t>
            </a:r>
            <a:r>
              <a:rPr b="1" i="1" lang="uk-UA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Я думаю, що усі </a:t>
            </a:r>
            <a:r>
              <a:rPr b="1" i="1" lang="uk-UA" sz="2800" spc="-1" strike="noStrike">
                <a:solidFill>
                  <a:srgbClr val="990000"/>
                </a:solidFill>
                <a:latin typeface="Arial"/>
              </a:rPr>
              <a:t>вишеньки-черешень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                 </a:t>
            </a:r>
            <a:r>
              <a:rPr b="1" i="1" lang="uk-UA" sz="2800" spc="-1" strike="noStrike">
                <a:solidFill>
                  <a:srgbClr val="990000"/>
                </a:solidFill>
                <a:latin typeface="Arial"/>
              </a:rPr>
              <a:t>сніг з морозом поморозив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у нашому садоч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               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що</a:t>
            </a:r>
            <a:r>
              <a:rPr b="1" i="1" lang="uk-UA" sz="2800" spc="-1" strike="noStrike">
                <a:solidFill>
                  <a:srgbClr val="990000"/>
                </a:solidFill>
                <a:latin typeface="Arial"/>
              </a:rPr>
              <a:t> на зеленому горбоч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-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Ні, дитинко, ми їх гарно утеплили перед морозами. А от інших ця </a:t>
            </a:r>
            <a:r>
              <a:rPr b="1" i="1" lang="uk-UA" sz="2800" spc="-1" strike="noStrike">
                <a:solidFill>
                  <a:srgbClr val="990000"/>
                </a:solidFill>
                <a:latin typeface="Arial"/>
              </a:rPr>
              <a:t>біда навчить,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як потрібно готуватися до з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Мам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, іде вже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зима!</a:t>
            </a:r>
            <a:r>
              <a:rPr b="1" i="1" lang="uk-UA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Я думаю, що усі </a:t>
            </a:r>
            <a:r>
              <a:rPr b="1" i="1" lang="uk-UA" sz="2800" spc="-1" strike="noStrike">
                <a:solidFill>
                  <a:srgbClr val="ffff66"/>
                </a:solidFill>
                <a:latin typeface="Arial"/>
              </a:rPr>
              <a:t>вишеньки-черешень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                 </a:t>
            </a:r>
            <a:r>
              <a:rPr b="1" i="1" lang="uk-UA" sz="2800" spc="-1" strike="noStrike">
                <a:solidFill>
                  <a:srgbClr val="9900cc"/>
                </a:solidFill>
                <a:latin typeface="Arial"/>
              </a:rPr>
              <a:t>сніг з морозом поморозив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у нашому садоч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               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що</a:t>
            </a:r>
            <a:r>
              <a:rPr b="1" i="1" lang="uk-UA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ff6600"/>
                </a:solidFill>
                <a:latin typeface="Arial"/>
              </a:rPr>
              <a:t>на зеленому горбоч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-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Ні, дитинко, ми їх гарно утеплили перед морозами. А от інших ця </a:t>
            </a:r>
            <a:r>
              <a:rPr b="1" i="1" lang="uk-UA" sz="2800" spc="-1" strike="noStrike">
                <a:solidFill>
                  <a:srgbClr val="00ff00"/>
                </a:solidFill>
                <a:latin typeface="Arial"/>
              </a:rPr>
              <a:t>біда навчить,</a:t>
            </a:r>
            <a:r>
              <a:rPr b="1" i="1" lang="uk-UA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як потрібно готуватися до з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050920" y="907920"/>
            <a:ext cx="5616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а "Жонглювання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rot="970200">
            <a:off x="5292720" y="3429000"/>
            <a:ext cx="160956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8000" y="256392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81800" y="2637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98900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41300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256392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62064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763560"/>
            <a:ext cx="5029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69228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206064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2360" y="162864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5640" y="90792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119700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105264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7016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2160" y="148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8880" y="1125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308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9440" y="6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5800" y="76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1440" y="981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3440" y="1268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3640" y="1700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06160" y="21337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94880" y="26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328464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00720" y="4292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508464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551664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458136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551664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35640" y="414972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3357720"/>
            <a:ext cx="503280" cy="50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3789360"/>
            <a:ext cx="5029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393372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16360" y="486900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932360" y="5516640"/>
            <a:ext cx="36036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508360" y="3789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067280" y="5805000"/>
            <a:ext cx="360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580000" y="4652640"/>
            <a:ext cx="7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53737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4437000"/>
            <a:ext cx="7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276720" y="3716280"/>
            <a:ext cx="3585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140000" y="371592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1800" y="46530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10160" y="17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580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3440" y="126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65800" y="62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404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216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888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1088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852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1800" y="62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6880" y="33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4160" y="76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958000" y="3500280"/>
            <a:ext cx="3186000" cy="3357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2050920" y="2781360"/>
            <a:ext cx="561672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Леся Украї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843280" y="836640"/>
            <a:ext cx="360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 уроку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32000" y="4365720"/>
            <a:ext cx="432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авня весн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495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496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4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3:05:00Z</dcterms:created>
  <dc:creator>Роман</dc:creator>
  <dc:description/>
  <dc:language>en-US</dc:language>
  <cp:lastModifiedBy>Роман</cp:lastModifiedBy>
  <dcterms:modified xsi:type="dcterms:W3CDTF">2012-02-20T20:17:26Z</dcterms:modified>
  <cp:revision>8</cp:revision>
  <dc:subject/>
  <dc:title>Слайд 1</dc:title>
</cp:coreProperties>
</file>