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12F-2B62-404A-943F-4711B982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B65-7B37-4D7D-8742-1CC3ADE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1F3-69B1-4A91-9240-82ADEB0F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94D1-1340-4E43-B3A1-1666B31D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581-AC66-4F4A-A5B3-A58D54C3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EB6-640D-46F2-BE8C-72F41BBE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F59-CA33-4407-B045-5781D7CF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3FD-C67A-412C-BA15-FC1076A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B1D-56FD-4ECD-B5B9-712B453E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00B-A3E7-4C89-95AD-2B51AC1A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CEF-ABA0-42A0-8252-D65DDB9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053-1BF5-4B5E-AE50-AD5D7A4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DA56-0599-4739-877E-3BEFAEDE2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800440" y="115920"/>
            <a:ext cx="6372000" cy="84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нтерактивний прий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ови помил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ек Лондон народився в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глії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Джек Лондон видат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ійський  письм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правжнє прізвище Дж. Лонд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юел Клеме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жек Лондон отримав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ну осві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 років Д. Лондо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ав навчат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Лондон ніколи не відвідув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ондай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юбов до життя» - це 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одниц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ман 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одії оповідання відбуваються  Афри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Джек Лондон прожив 33 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Лондон"/>
          <p:cNvPicPr/>
          <p:nvPr/>
        </p:nvPicPr>
        <p:blipFill>
          <a:blip r:embed="rId2"/>
          <a:stretch/>
        </p:blipFill>
        <p:spPr>
          <a:xfrm>
            <a:off x="30240" y="0"/>
            <a:ext cx="3173400" cy="3376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 rot="931800">
            <a:off x="5460840" y="485640"/>
            <a:ext cx="3235320" cy="35244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 rot="20356800">
            <a:off x="523800" y="668160"/>
            <a:ext cx="3281400" cy="342108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4"/>
          <a:stretch/>
        </p:blipFill>
        <p:spPr>
          <a:xfrm>
            <a:off x="706320" y="2249640"/>
            <a:ext cx="7675560" cy="920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93600" y="4411800"/>
            <a:ext cx="90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м я уявляю собі героя опові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Жага до житт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4640040" cy="36003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3"/>
          <a:stretch/>
        </p:blipFill>
        <p:spPr>
          <a:xfrm>
            <a:off x="1646280" y="12600"/>
            <a:ext cx="6491160" cy="920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66680" y="947880"/>
            <a:ext cx="86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характеризуйте героя оповідання, яким він постає з перших сторінок твору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6072120" y="2784600"/>
            <a:ext cx="3071880" cy="410184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103320" y="115920"/>
            <a:ext cx="826596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262080"/>
            <a:ext cx="7296120" cy="9205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324000" y="1484280"/>
            <a:ext cx="865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Чи варте золото того, щоб задля нього ризикувати і навіть віддавати житт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2"/>
          <a:stretch/>
        </p:blipFill>
        <p:spPr>
          <a:xfrm rot="20738400">
            <a:off x="720720" y="352080"/>
            <a:ext cx="2892600" cy="4726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3"/>
          <a:stretch/>
        </p:blipFill>
        <p:spPr>
          <a:xfrm rot="297000">
            <a:off x="5346360" y="136080"/>
            <a:ext cx="3382920" cy="4762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4"/>
          <a:stretch/>
        </p:blipFill>
        <p:spPr>
          <a:xfrm>
            <a:off x="3348000" y="2714760"/>
            <a:ext cx="2779920" cy="4060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1" descr=""/>
          <p:cNvPicPr/>
          <p:nvPr/>
        </p:nvPicPr>
        <p:blipFill>
          <a:blip r:embed="rId2"/>
          <a:stretch/>
        </p:blipFill>
        <p:spPr>
          <a:xfrm>
            <a:off x="1762200" y="189000"/>
            <a:ext cx="627228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2" descr=""/>
          <p:cNvPicPr/>
          <p:nvPr/>
        </p:nvPicPr>
        <p:blipFill>
          <a:blip r:embed="rId3"/>
          <a:stretch/>
        </p:blipFill>
        <p:spPr>
          <a:xfrm>
            <a:off x="274680" y="2346480"/>
            <a:ext cx="1487520" cy="9270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7" descr=""/>
          <p:cNvPicPr/>
          <p:nvPr/>
        </p:nvPicPr>
        <p:blipFill>
          <a:blip r:embed="rId4"/>
          <a:stretch/>
        </p:blipFill>
        <p:spPr>
          <a:xfrm>
            <a:off x="2328840" y="2346480"/>
            <a:ext cx="3718080" cy="17557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8" descr=""/>
          <p:cNvPicPr/>
          <p:nvPr/>
        </p:nvPicPr>
        <p:blipFill>
          <a:blip r:embed="rId5"/>
          <a:stretch/>
        </p:blipFill>
        <p:spPr>
          <a:xfrm>
            <a:off x="7381800" y="2346480"/>
            <a:ext cx="878040" cy="92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5887800" cy="9205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87280" y="1484280"/>
            <a:ext cx="871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"Любов до життя" - це розпові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ро мужню людину, яка вистояла  у таких  страшних випробуваннях, як самот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рада друга та боротьба із суворою північною природо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йголовніше - подолав себе, свій страх, свій бі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74920" y="907920"/>
            <a:ext cx="58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жек Лондон був людиною наполегливою, працьовитою. Його твори відкрили американцям Північ. Джека Лондона як письменника цікавили яскраві  особистост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а суворі умови дикої Півночі давали можливість розкрити їх у своїй повноті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298764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2852640"/>
            <a:ext cx="820872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дина, яка не скоряє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яна сильним дух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авжди для людства лишає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вним розрадником, друг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ставини, час, примхи до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знищать жаги до життя і до вол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33480" y="-171360"/>
            <a:ext cx="91105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60360" y="620640"/>
            <a:ext cx="52912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піграф нашого урок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878040" y="2133720"/>
            <a:ext cx="8076960" cy="22669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3756960" y="4365720"/>
            <a:ext cx="53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мас Карлейль, анг.письмен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істо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79280" y="692280"/>
            <a:ext cx="878544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Очікувані результа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знати тек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вміти відстоювати свою точку зору з опоро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кс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вміти складати характеристику головн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м тво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пояснювати сенс відсутності імені голов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зрозуміти й пояснити назву твору та визначити      його ідеї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1:21:11Z</dcterms:created>
  <dc:creator>Admin</dc:creator>
  <dc:description/>
  <dc:language>en-US</dc:language>
  <cp:lastModifiedBy>Учетная запись Майкрософт</cp:lastModifiedBy>
  <dcterms:modified xsi:type="dcterms:W3CDTF">2017-01-28T22:06:22Z</dcterms:modified>
  <cp:revision>24</cp:revision>
  <dc:subject/>
  <dc:title>Слайд 1</dc:title>
</cp:coreProperties>
</file>