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2.png" ContentType="image/png"/>
  <Override PartName="/ppt/media/image17.gif" ContentType="image/gif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16.png" ContentType="image/png"/>
  <Override PartName="/ppt/media/image15.jpeg" ContentType="image/jpe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B614-5C92-452F-B602-FB9C028A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674-800C-4245-8B1B-72F892F3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53B3-2D0F-4193-A4ED-DCFAF4A2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6681-92C5-41BA-B69F-D61CCDBD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96C6-8102-4AB7-B0DB-8A2FCB43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7E53-AABE-4B56-B5C7-1108CD28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7623-33F2-4F6C-8FCB-B4E036C7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D4FC-A06E-4F77-85E3-3EDFB624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D436-B7E7-4588-8E8F-14BEDD19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BD87-F152-4AAB-B9F7-A6FAFFB1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AE5F-0116-42F0-AA02-6EBF8A01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2181-7463-4814-B984-BF9E921B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5356-8E0E-4F7A-9F1B-25472F2E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B196-95C1-47E4-B359-0DC17055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52CB-ADD9-43DF-B7B0-4DEA19E1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CD84-1A97-415A-9396-95E40F20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9A72-C325-46DF-85FB-7A85DF68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1F6F2-79D7-49D7-B2B7-F2B0B07E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75CBC-D5BB-447D-8905-F901E5FC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8149D-5A9C-4BC9-9C4D-4D62BE77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B5277-08E7-4BFA-9B99-D427D75B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2DF16-79E8-4CD1-AE33-D27365E9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171-83C8-47F2-B24A-23743AAC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E2DF9-9670-42CB-AFA8-97AF3553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4E463-DD0D-45C0-B1EF-109D9AA1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0EF39-2004-4A44-8259-0BE05C61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55C95-0636-4C3D-9C29-9AF57468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6210B-885B-489D-8070-1434EB61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81A05-21C4-435B-A0EC-86830931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F2EDB-9B54-4DEF-BE70-1DAC96FB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EDDD2-4A20-4979-B601-E993C8C8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945C4-D2D9-48A8-B5CF-E451574B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1072C-41CB-46A4-8156-460124AD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D0F8-6E7A-4B6B-97CE-9FD9E450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49FC4-8BB4-4B51-9DBB-2C5BAF90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8EFA0-DB24-4892-8AE2-2E01B259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A5DB5-A364-4FEF-9DAA-CBE3E10E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6A30F-48E0-498A-AADD-01F45B87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FA551-F9AB-4746-B4B2-2A40BCD8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F2126-7F30-4006-919F-B6DD4ACF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1BD53-FD54-41FE-844A-FFB7BC1F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800D5-750C-44B9-A838-5EB97F26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061B3-D7DC-49D1-B39E-9B9AB15D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0473B-A215-4C10-AA88-345F1064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15EB-1D70-4DDD-9727-42CD5C57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C39CE-1CCB-402F-ABE3-DB74574E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8DC96-32B9-4C6A-8DA2-FAEBEEA6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AD1D9-1DE7-4122-A1FF-E56662F8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E7506-9DA0-4EBB-8EAD-125B1EC0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88B2A-BD99-4424-BBFA-376E2D14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6D220-5939-4E1E-A007-94344AE1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3F3D7-6CC7-42C3-8EA8-C301123D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E8C8A-A678-4714-B24C-F6E7F436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795D1-BB20-45EE-863E-83C21870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47A07-0279-4265-B713-03456147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94D-0B8C-4800-BDC9-F86D900A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28A3B-6AB0-4B68-A0C5-7B58CCFE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7D22-2CF6-41A9-927E-6477CAE1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E491-50AB-45BA-AC7F-37A11787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CA44-3732-4A43-A636-7545BF6A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64B5-8A49-4C30-B3F5-47CFED22CED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3B19-D499-4BDB-BC29-2585545D273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4A60-C1B0-4762-9D44-0A6A165A128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17FD-DDB6-4D4F-A678-576C25FD7C6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FBF1-7258-4138-ACC6-99DC3AB83F7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2060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476360" y="1413000"/>
            <a:ext cx="5905440" cy="25207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79766f"/>
                </a:solidFill>
                <a:latin typeface="Verdana"/>
              </a:rPr>
              <a:t>«Формули скороченого множення»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8353440" cy="27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5884" t="28334" r="32683" b="39544"/>
          <a:stretch/>
        </p:blipFill>
        <p:spPr>
          <a:xfrm>
            <a:off x="826920" y="1700280"/>
            <a:ext cx="7705800" cy="29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Колос Родоськи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692360" y="620640"/>
            <a:ext cx="5904000" cy="420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5911" t="13208" r="46851" b="54627"/>
          <a:stretch/>
        </p:blipFill>
        <p:spPr>
          <a:xfrm>
            <a:off x="755640" y="907920"/>
            <a:ext cx="7920000" cy="337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Arial"/>
              </a:rPr>
              <a:t>Галікарнаський мавзоле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827360" y="1052640"/>
            <a:ext cx="5472000" cy="387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</a:t>
            </a:r>
            <a:r>
              <a:rPr b="1" lang="uk-UA" sz="3600" spc="-1" strike="noStrike">
                <a:solidFill>
                  <a:srgbClr val="ff8d3e"/>
                </a:solidFill>
                <a:latin typeface="Verdana"/>
              </a:rPr>
              <a:t>ухливі вправ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39640" y="1773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Станьте біля парти, слідкуйте за осанкою, дивіться на екра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кщо відповідь правильна, хлопніть два рази в долоні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кщо відповідь хибна, підніміть високо руки догор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835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Verdana"/>
              </a:rPr>
              <a:t>Завдання 1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07880" y="3573000"/>
            <a:ext cx="8183520" cy="2303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Verdana"/>
              </a:rPr>
              <a:t>х² - 36 = (х + 6)(х – 6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6" descr="C:\Users\alla\Desktop\12345\Маткартинки\0_8e977_d62ec68e_orig.png"/>
          <p:cNvPicPr/>
          <p:nvPr/>
        </p:nvPicPr>
        <p:blipFill>
          <a:blip r:embed="rId1"/>
          <a:stretch/>
        </p:blipFill>
        <p:spPr>
          <a:xfrm>
            <a:off x="2987640" y="1844640"/>
            <a:ext cx="3143160" cy="272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2520" y="836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Verdana"/>
              </a:rPr>
              <a:t>Завдання 2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22280" y="2708280"/>
            <a:ext cx="8183520" cy="223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251640" indent="-25164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Verdana"/>
              </a:rPr>
              <a:t>(х + 3)² = х + 9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Picture 4" descr="11knop"/>
          <p:cNvPicPr/>
          <p:nvPr/>
        </p:nvPicPr>
        <p:blipFill>
          <a:blip r:embed="rId1"/>
          <a:stretch/>
        </p:blipFill>
        <p:spPr>
          <a:xfrm>
            <a:off x="2843280" y="1844640"/>
            <a:ext cx="388944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Verdana"/>
              </a:rPr>
              <a:t>Завдання 3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39640" y="3499920"/>
            <a:ext cx="8183520" cy="223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Verdana"/>
              </a:rPr>
              <a:t>(у – 9)(у + 9) = у² –  9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5" descr="C:\Users\alla\Desktop\12345\Маткартинки\x_33d714cc.jpg"/>
          <p:cNvPicPr/>
          <p:nvPr/>
        </p:nvPicPr>
        <p:blipFill>
          <a:blip r:embed="rId1"/>
          <a:stretch/>
        </p:blipFill>
        <p:spPr>
          <a:xfrm>
            <a:off x="2411280" y="1773360"/>
            <a:ext cx="4105440" cy="31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835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Verdana"/>
              </a:rPr>
              <a:t>Завдання 4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9280" y="364500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Verdana"/>
              </a:rPr>
              <a:t>(а²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4400" spc="-1" strike="noStrike">
                <a:solidFill>
                  <a:srgbClr val="000000"/>
                </a:solidFill>
                <a:latin typeface="Verdana"/>
              </a:rPr>
              <a:t> 2а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uk-UA" sz="4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²) = (a 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b)²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4" descr="C:\Users\alla\Desktop\12345\Маткартинки\0008-004-Teorema.png"/>
          <p:cNvPicPr/>
          <p:nvPr/>
        </p:nvPicPr>
        <p:blipFill>
          <a:blip r:embed="rId1"/>
          <a:stretch/>
        </p:blipFill>
        <p:spPr>
          <a:xfrm>
            <a:off x="2771640" y="1773360"/>
            <a:ext cx="3961080" cy="309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476360" y="765000"/>
            <a:ext cx="6120000" cy="43084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Arial"/>
              </a:rPr>
              <a:t>Храм Артеміди в Ефесі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d3e"/>
                </a:solidFill>
                <a:latin typeface="Verdana"/>
              </a:rPr>
              <a:t>Мета: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77336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могтися розуміння і засвоєння формул скороченого множення, вміти їх застосовувати до роз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зування задач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озвивати індивідуальн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здібності учнів шляхом зацікавленості до математ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4" descr="C:\Users\alla\Desktop\12345\Маткартинки\1271621565_r7.jpg"/>
          <p:cNvPicPr/>
          <p:nvPr/>
        </p:nvPicPr>
        <p:blipFill>
          <a:blip r:embed="rId1"/>
          <a:stretch/>
        </p:blipFill>
        <p:spPr>
          <a:xfrm>
            <a:off x="585720" y="476280"/>
            <a:ext cx="2330640" cy="22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3" name="Текст 3" descr=""/>
          <p:cNvPicPr/>
          <p:nvPr/>
        </p:nvPicPr>
        <p:blipFill>
          <a:blip r:embed="rId1"/>
          <a:srcRect l="6584" t="15920" r="16829" b="22155"/>
          <a:stretch/>
        </p:blipFill>
        <p:spPr>
          <a:xfrm>
            <a:off x="466560" y="549360"/>
            <a:ext cx="8139240" cy="38894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572000" y="836640"/>
            <a:ext cx="93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6" name="Текст 3" descr=""/>
          <p:cNvPicPr/>
          <p:nvPr/>
        </p:nvPicPr>
        <p:blipFill>
          <a:blip r:embed="rId1"/>
          <a:srcRect l="9232" t="53753" r="33563" b="17020"/>
          <a:stretch/>
        </p:blipFill>
        <p:spPr>
          <a:xfrm>
            <a:off x="900000" y="1052640"/>
            <a:ext cx="7632720" cy="29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Статуя  Зевса в Олімпії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5543640" cy="4251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1" name="Текст 3" descr=""/>
          <p:cNvPicPr/>
          <p:nvPr/>
        </p:nvPicPr>
        <p:blipFill>
          <a:blip r:embed="rId1"/>
          <a:srcRect l="10998" t="43446" r="37091" b="35939"/>
          <a:stretch/>
        </p:blipFill>
        <p:spPr>
          <a:xfrm>
            <a:off x="395280" y="836640"/>
            <a:ext cx="7993080" cy="25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Підведення підсумків уроку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360" y="22046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загальнення вивченого матеріалу та виставлення оцінок за роботу на уроці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4" descr="C41-07"/>
          <p:cNvPicPr/>
          <p:nvPr/>
        </p:nvPicPr>
        <p:blipFill>
          <a:blip r:embed="rId1"/>
          <a:stretch/>
        </p:blipFill>
        <p:spPr>
          <a:xfrm>
            <a:off x="3492360" y="3789360"/>
            <a:ext cx="2094120" cy="208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Verdana"/>
              </a:rPr>
              <a:t>Домашнє завданн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68360" y="2420640"/>
            <a:ext cx="8183520" cy="208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Повторити формули скороченого множен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Підготувати повідомлення про чудеса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280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8d3e"/>
                </a:solidFill>
                <a:latin typeface="Arial"/>
              </a:rPr>
              <a:t>План подорожі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9640" y="1557360"/>
            <a:ext cx="7848720" cy="4896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Єгипетські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рамід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лександрійський мая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сячі Сади Вавіло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лос Родось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авзолей в Галікарнасі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Храм Артемід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уя Зев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Verdana"/>
              </a:rPr>
              <a:t>Згадаємо формули скороченого множенн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71640" y="1773360"/>
            <a:ext cx="6913440" cy="2016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(а + в)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²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= а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²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+ 2ав + в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(а – в)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²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= а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²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– 2ав + в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(а + в) (а – в) = а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²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– в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5" descr="C:\Users\alla\Desktop\12345\Маткартинки\filin.jpg"/>
          <p:cNvPicPr/>
          <p:nvPr/>
        </p:nvPicPr>
        <p:blipFill>
          <a:blip r:embed="rId1"/>
          <a:stretch/>
        </p:blipFill>
        <p:spPr>
          <a:xfrm>
            <a:off x="2987640" y="3500280"/>
            <a:ext cx="3311640" cy="23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Текст 3" descr=""/>
          <p:cNvPicPr/>
          <p:nvPr/>
        </p:nvPicPr>
        <p:blipFill>
          <a:blip r:embed="rId1"/>
          <a:stretch/>
        </p:blipFill>
        <p:spPr>
          <a:xfrm>
            <a:off x="1755720" y="623880"/>
            <a:ext cx="5676840" cy="40006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Arial"/>
              </a:rPr>
              <a:t>Єгипетські пірамід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Текст 3" descr=""/>
          <p:cNvPicPr/>
          <p:nvPr/>
        </p:nvPicPr>
        <p:blipFill>
          <a:blip r:embed="rId1"/>
          <a:srcRect l="7915" t="32680" r="26964" b="19184"/>
          <a:stretch/>
        </p:blipFill>
        <p:spPr>
          <a:xfrm>
            <a:off x="755640" y="620640"/>
            <a:ext cx="7920000" cy="36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Олександрійський </a:t>
            </a:r>
            <a:br>
              <a:rPr sz="32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(Форосський) маяк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619280" y="692280"/>
            <a:ext cx="5545080" cy="398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9" name="Текст 3" descr=""/>
          <p:cNvPicPr/>
          <p:nvPr/>
        </p:nvPicPr>
        <p:blipFill>
          <a:blip r:embed="rId1"/>
          <a:srcRect l="6596" t="27937" r="31797" b="44546"/>
          <a:stretch/>
        </p:blipFill>
        <p:spPr>
          <a:xfrm>
            <a:off x="684360" y="1125360"/>
            <a:ext cx="7561080" cy="259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Висячі сади Семірамід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264360" cy="455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2:07:10Z</dcterms:created>
  <dc:creator>Катя</dc:creator>
  <dc:description/>
  <dc:language>en-US</dc:language>
  <cp:lastModifiedBy>Admin</cp:lastModifiedBy>
  <dcterms:modified xsi:type="dcterms:W3CDTF">2017-02-16T19:58:00Z</dcterms:modified>
  <cp:revision>96</cp:revision>
  <dc:subject/>
  <dc:title>Занимательная математика. (7 класс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e000000000001024140</vt:lpwstr>
  </property>
</Properties>
</file>