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6.jpeg" ContentType="image/jpeg"/>
  <Override PartName="/ppt/media/image7.png" ContentType="image/png"/>
  <Override PartName="/ppt/media/image1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6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png" ContentType="image/png"/>
  <Override PartName="/ppt/media/image11.jpeg" ContentType="image/jpe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2E4C-EC0F-4F0A-89FB-04C76E950D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2ACF-EFF9-4FE0-AA18-101C86E687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F909-1613-4663-B075-62B75E4F7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467-4C8E-4388-8CCC-D5D18033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A44F-32DA-47E0-9BB4-3C1B0DAE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2F1-F97B-4D41-98CF-4BE7D010C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6BCA-A507-44B4-B6D8-90603F70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6ED-7EC8-4EA4-9B5C-EEE6C35C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C075-A4A0-4B5C-8E6B-AB2E0135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397-C21D-4C6E-A400-247776E0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07FC-7952-45FB-A813-4D6A97FA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E3EF-A459-4D0D-86A4-91C658F9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9F5C-D396-45B2-9EC8-676D333D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4D68-C191-4E9D-B16B-73892752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F161-B590-45B0-AFE9-89000068EA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006.jpg"/>
          <p:cNvPicPr/>
          <p:nvPr/>
        </p:nvPicPr>
        <p:blipFill>
          <a:blip r:embed="rId1"/>
          <a:stretch/>
        </p:blipFill>
        <p:spPr>
          <a:xfrm>
            <a:off x="457200" y="3124080"/>
            <a:ext cx="2543040" cy="309096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4" descr="p022.jpg"/>
          <p:cNvPicPr/>
          <p:nvPr/>
        </p:nvPicPr>
        <p:blipFill>
          <a:blip r:embed="rId2"/>
          <a:stretch/>
        </p:blipFill>
        <p:spPr>
          <a:xfrm>
            <a:off x="3475080" y="2895480"/>
            <a:ext cx="5288040" cy="328608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5" descr="user1197_av_aa04e951e8.jpg"/>
          <p:cNvPicPr/>
          <p:nvPr/>
        </p:nvPicPr>
        <p:blipFill>
          <a:blip r:embed="rId3"/>
          <a:stretch/>
        </p:blipFill>
        <p:spPr>
          <a:xfrm>
            <a:off x="533520" y="457200"/>
            <a:ext cx="2460600" cy="23623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4"/>
          <a:stretch/>
        </p:blipFill>
        <p:spPr>
          <a:xfrm>
            <a:off x="3067200" y="1066680"/>
            <a:ext cx="5314680" cy="17622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"/>
          <p:cNvPicPr/>
          <p:nvPr/>
        </p:nvPicPr>
        <p:blipFill>
          <a:blip r:embed="rId1"/>
          <a:stretch/>
        </p:blipFill>
        <p:spPr>
          <a:xfrm>
            <a:off x="-6480" y="109440"/>
            <a:ext cx="5114880" cy="3395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tretch/>
        </p:blipFill>
        <p:spPr>
          <a:xfrm>
            <a:off x="179280" y="4149720"/>
            <a:ext cx="3810240" cy="2324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3"/>
          <a:stretch/>
        </p:blipFill>
        <p:spPr>
          <a:xfrm>
            <a:off x="5138640" y="109440"/>
            <a:ext cx="4011840" cy="2962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4"/>
          <a:stretch/>
        </p:blipFill>
        <p:spPr>
          <a:xfrm>
            <a:off x="4059360" y="3352680"/>
            <a:ext cx="463392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4"/>
          <p:cNvPicPr/>
          <p:nvPr/>
        </p:nvPicPr>
        <p:blipFill>
          <a:blip r:embed="rId1"/>
          <a:stretch/>
        </p:blipFill>
        <p:spPr>
          <a:xfrm>
            <a:off x="4589640" y="271440"/>
            <a:ext cx="4572000" cy="295740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3" descr=""/>
          <p:cNvPicPr/>
          <p:nvPr/>
        </p:nvPicPr>
        <p:blipFill>
          <a:blip r:embed="rId2"/>
          <a:stretch/>
        </p:blipFill>
        <p:spPr>
          <a:xfrm>
            <a:off x="1133640" y="76320"/>
            <a:ext cx="3456000" cy="4525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7"/>
          <p:cNvPicPr/>
          <p:nvPr/>
        </p:nvPicPr>
        <p:blipFill>
          <a:blip r:embed="rId3"/>
          <a:stretch/>
        </p:blipFill>
        <p:spPr>
          <a:xfrm>
            <a:off x="-382680" y="-324000"/>
            <a:ext cx="2664000" cy="55166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1"/>
          <p:cNvPicPr/>
          <p:nvPr/>
        </p:nvPicPr>
        <p:blipFill>
          <a:blip r:embed="rId4"/>
          <a:stretch/>
        </p:blipFill>
        <p:spPr>
          <a:xfrm>
            <a:off x="5584680" y="1341360"/>
            <a:ext cx="2197080" cy="2046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3"/>
          <p:cNvPicPr/>
          <p:nvPr/>
        </p:nvPicPr>
        <p:blipFill>
          <a:blip r:embed="rId5"/>
          <a:stretch/>
        </p:blipFill>
        <p:spPr>
          <a:xfrm>
            <a:off x="4788000" y="2590920"/>
            <a:ext cx="3510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1"/>
          <p:cNvSpPr/>
          <p:nvPr/>
        </p:nvSpPr>
        <p:spPr>
          <a:xfrm>
            <a:off x="179280" y="19584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Що  для  вас  означає  словосполучення 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«козацька Україна»? </a:t>
            </a:r>
            <a:r>
              <a:rPr b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Як  ви  розумієте  вислів  </a:t>
            </a:r>
            <a:r>
              <a:rPr b="1" lang="uk-UA" sz="3200" spc="-1" strike="noStrike">
                <a:solidFill>
                  <a:srgbClr val="ff0000"/>
                </a:solidFill>
                <a:latin typeface="Times New Roman"/>
                <a:ea typeface="Calibri"/>
              </a:rPr>
              <a:t>«Ми козацького роду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http://img1.liveinternet.ru/images/attach/c/9/107/400/107400043_kozak2.png"/>
          <p:cNvPicPr/>
          <p:nvPr/>
        </p:nvPicPr>
        <p:blipFill>
          <a:blip r:embed="rId1"/>
          <a:stretch/>
        </p:blipFill>
        <p:spPr>
          <a:xfrm>
            <a:off x="3529080" y="2462040"/>
            <a:ext cx="535932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2362320" y="1066680"/>
            <a:ext cx="4314600" cy="514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Любіть Україну,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шануйте її народ.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Хай кожен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з вас своїми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добрими справами і 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вчинками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 </a:t>
            </a: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доведе,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що козацькому роду,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omic Sans MS"/>
              </a:rPr>
              <a:t>нема переводу!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7200" spc="-1" strike="noStrike">
                <a:solidFill>
                  <a:srgbClr val="c00000"/>
                </a:solidFill>
                <a:latin typeface="Monotype Corsiva"/>
              </a:rPr>
              <a:t>ІСТОРІЇ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76520" y="3048120"/>
            <a:ext cx="54100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Ура! Ура! Ура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Рисунок 4" descr="Козак Повидло - Авторы Информационный портал &quot;Украинский Выб…"/>
          <p:cNvPicPr/>
          <p:nvPr/>
        </p:nvPicPr>
        <p:blipFill>
          <a:blip r:embed="rId1"/>
          <a:stretch/>
        </p:blipFill>
        <p:spPr>
          <a:xfrm>
            <a:off x="4705200" y="6997680"/>
            <a:ext cx="2683080" cy="33894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-686160" y="106200"/>
            <a:ext cx="10516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І</a:t>
            </a:r>
            <a:r>
              <a:rPr b="1" i="1" lang="en-US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V</a:t>
            </a:r>
            <a:r>
              <a:rPr b="1" i="1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. Домашнє завдан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 u="sng">
                <a:solidFill>
                  <a:srgbClr val="000000"/>
                </a:solidFill>
                <a:uFillTx/>
                <a:latin typeface="Georgia"/>
                <a:ea typeface="Times New Roman"/>
              </a:rPr>
              <a:t>На вибір</a:t>
            </a:r>
            <a:r>
              <a:rPr b="1" i="1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 написа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коротке есе - мініатюру на тему: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Що я хотів би запозичити для себе з рис характеру справжніх козаків?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твір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мініатюру: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«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 Що би я порадив сьогоднішнім керівникам держави, знаючи історію українського козацтва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»</a:t>
            </a:r>
            <a:r>
              <a:rPr b="0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eorgia"/>
              <a:buChar char="•"/>
              <a:tabLst>
                <a:tab algn="l" pos="90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Мої роздуми про те, як український народ зберіг традиції козацтва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"/>
          <p:cNvSpPr/>
          <p:nvPr/>
        </p:nvSpPr>
        <p:spPr>
          <a:xfrm>
            <a:off x="2286000" y="1459080"/>
            <a:ext cx="4572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користовувала </a:t>
            </a:r>
            <a:r>
              <a:rPr b="0" lang="uk-UA" sz="1800" spc="-1" strike="noStrike">
                <a:solidFill>
                  <a:srgbClr val="339966"/>
                </a:solidFill>
                <a:latin typeface="Times New Roman"/>
                <a:ea typeface="Times New Roman"/>
              </a:rPr>
              <a:t>фізкультхвилинки.</a:t>
            </a: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ь одна з ни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аки голосув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ки догори кидали (руки піднімаємо вгор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шового виби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дрого і сильного (руки до плеч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заченька вільного. (руки на пояс і поворо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ки високо летять (руки вгор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ці голосно галдя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, а ми галдіть не буде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, що знаєм, не забудем (руки опускаєм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Горизонтальный свиток 4"/>
          <p:cNvSpPr/>
          <p:nvPr/>
        </p:nvSpPr>
        <p:spPr>
          <a:xfrm>
            <a:off x="3809880" y="1066680"/>
            <a:ext cx="4724640" cy="39625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800" spc="-1" strike="noStrike">
                <a:solidFill>
                  <a:srgbClr val="000000"/>
                </a:solidFill>
                <a:latin typeface="Arial"/>
              </a:rPr>
              <a:t>Кліо́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(гр. 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vi-VN" sz="1800" spc="-1" strike="noStrike">
                <a:solidFill>
                  <a:srgbClr val="000000"/>
                </a:solidFill>
                <a:latin typeface="Arial"/>
              </a:rPr>
              <a:t>еіо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) — одна з дев’яти муз, покровителька історії; зображується, як правило, із сувоєм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(книгою)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та грифельною паличкою в руках. Іноді атрибутом Кліо був сонячний годинник, оскільки вона стежила за плином часу.</a:t>
            </a:r>
            <a:br>
              <a:rPr sz="1800"/>
            </a:b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Метафорично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Кліо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історія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vi-VN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6" descr="200px-Car_of_history.jpg"/>
          <p:cNvPicPr/>
          <p:nvPr/>
        </p:nvPicPr>
        <p:blipFill>
          <a:blip r:embed="rId1"/>
          <a:stretch/>
        </p:blipFill>
        <p:spPr>
          <a:xfrm>
            <a:off x="304920" y="457200"/>
            <a:ext cx="3352680" cy="5638680"/>
          </a:xfrm>
          <a:prstGeom prst="rect">
            <a:avLst/>
          </a:prstGeom>
          <a:ln w="0">
            <a:noFill/>
          </a:ln>
        </p:spPr>
      </p:pic>
      <p:pic>
        <p:nvPicPr>
          <p:cNvPr id="105" name="v.a.motsart_-_muzyka_angelov_ispolnyaet_robert_pattison_(zaycev.net).mp3" descr=""/>
          <p:cNvPicPr/>
          <p:nvPr/>
        </p:nvPicPr>
        <p:blipFill>
          <a:blip r:embed="rId2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185337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765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800" spc="-1" strike="noStrike">
                <a:solidFill>
                  <a:srgbClr val="cc3300"/>
                </a:solidFill>
                <a:latin typeface="Monotype Corsiva"/>
              </a:rPr>
              <a:t>УзагальненняІсторі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.a.motsart_-_muzyka_angelov_ispolnyaet_robert_pattison_(zaycev.net).mp3" descr=""/>
          <p:cNvPicPr/>
          <p:nvPr/>
        </p:nvPicPr>
        <p:blipFill>
          <a:blip r:embed="rId2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3736080" y="6156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5337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9"/>
          <p:cNvSpPr/>
          <p:nvPr/>
        </p:nvSpPr>
        <p:spPr>
          <a:xfrm>
            <a:off x="1378080" y="4419720"/>
            <a:ext cx="114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цер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10"/>
          <p:cNvSpPr/>
          <p:nvPr/>
        </p:nvSpPr>
        <p:spPr>
          <a:xfrm>
            <a:off x="1066680" y="1447920"/>
            <a:ext cx="746784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 ви можете пояснити вислів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 вважаю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ому що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приклад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же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Історія є вісницею старовини,  світочем істини, наставницею житт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v.a.motsart_-_muzyka_angelov_ispolnyaet_robert_pattison_(zaycev.net).mp3" descr=""/>
          <p:cNvPicPr/>
          <p:nvPr/>
        </p:nvPicPr>
        <p:blipFill>
          <a:blip r:embed="rId1"/>
          <a:stretch/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8533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179280" y="160560"/>
            <a:ext cx="84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адайте ребус</a:t>
            </a: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4228920" cy="3552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148360" y="2070720"/>
            <a:ext cx="35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КИ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547640" y="5229360"/>
          <a:ext cx="6096240" cy="107928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6280"/>
                <a:gridCol w="1015920"/>
              </a:tblGrid>
              <a:tr h="10792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Клименко Сергій. Фото. На південний захід від Києва, липень 2004 року. День восьмий: Черкаси - Городище - Корсунь-Шевченківський"/>
          <p:cNvPicPr/>
          <p:nvPr/>
        </p:nvPicPr>
        <p:blipFill>
          <a:blip r:embed="rId2"/>
          <a:stretch/>
        </p:blipFill>
        <p:spPr>
          <a:xfrm>
            <a:off x="1523880" y="533520"/>
            <a:ext cx="64008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28440" y="574560"/>
            <a:ext cx="8686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  <a:ea typeface="Tahoma"/>
            </a:endParaRPr>
          </a:p>
        </p:txBody>
      </p:sp>
      <p:pic>
        <p:nvPicPr>
          <p:cNvPr id="66" name="Рисунок 2" descr=""/>
          <p:cNvPicPr/>
          <p:nvPr/>
        </p:nvPicPr>
        <p:blipFill>
          <a:blip r:embed="rId1"/>
          <a:stretch/>
        </p:blipFill>
        <p:spPr>
          <a:xfrm>
            <a:off x="1030320" y="1336680"/>
            <a:ext cx="4081320" cy="26622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5176800" y="1336680"/>
            <a:ext cx="3476520" cy="2662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"/>
          <p:cNvPicPr/>
          <p:nvPr/>
        </p:nvPicPr>
        <p:blipFill>
          <a:blip r:embed="rId3"/>
          <a:stretch/>
        </p:blipFill>
        <p:spPr>
          <a:xfrm>
            <a:off x="4657680" y="4197240"/>
            <a:ext cx="3727440" cy="20592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5" descr=""/>
          <p:cNvPicPr/>
          <p:nvPr/>
        </p:nvPicPr>
        <p:blipFill>
          <a:blip r:embed="rId4"/>
          <a:stretch/>
        </p:blipFill>
        <p:spPr>
          <a:xfrm>
            <a:off x="746280" y="4689360"/>
            <a:ext cx="3725640" cy="107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414000"/>
            <a:ext cx="82296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2" descr=""/>
          <p:cNvPicPr/>
          <p:nvPr/>
        </p:nvPicPr>
        <p:blipFill>
          <a:blip r:embed="rId1"/>
          <a:stretch/>
        </p:blipFill>
        <p:spPr>
          <a:xfrm>
            <a:off x="755640" y="1295280"/>
            <a:ext cx="4829040" cy="24051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"/>
          <p:cNvPicPr/>
          <p:nvPr/>
        </p:nvPicPr>
        <p:blipFill>
          <a:blip r:embed="rId2"/>
          <a:stretch/>
        </p:blipFill>
        <p:spPr>
          <a:xfrm>
            <a:off x="5651640" y="1371600"/>
            <a:ext cx="3379680" cy="253224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4" descr=""/>
          <p:cNvPicPr/>
          <p:nvPr/>
        </p:nvPicPr>
        <p:blipFill>
          <a:blip r:embed="rId3"/>
          <a:stretch/>
        </p:blipFill>
        <p:spPr>
          <a:xfrm>
            <a:off x="5148360" y="4149720"/>
            <a:ext cx="3566880" cy="20588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5" descr=""/>
          <p:cNvPicPr/>
          <p:nvPr/>
        </p:nvPicPr>
        <p:blipFill>
          <a:blip r:embed="rId4"/>
          <a:stretch/>
        </p:blipFill>
        <p:spPr>
          <a:xfrm>
            <a:off x="755640" y="3811680"/>
            <a:ext cx="4332240" cy="24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Истории от Олеся Бузины. Конец эпохи полуботков - Последние новости Украины - &quot;Кого бы еще почтить?&quot;, - наверное, подумал Виктор"/>
          <p:cNvPicPr/>
          <p:nvPr/>
        </p:nvPicPr>
        <p:blipFill>
          <a:blip r:embed="rId2"/>
          <a:srcRect l="0" t="0" r="0" b="21575"/>
          <a:stretch/>
        </p:blipFill>
        <p:spPr>
          <a:xfrm>
            <a:off x="685800" y="685800"/>
            <a:ext cx="8050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676520" y="2209320"/>
            <a:ext cx="6400800" cy="268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8800" spc="-1" strike="noStrike">
              <a:solidFill>
                <a:srgbClr val="cc3300"/>
              </a:solidFill>
              <a:latin typeface="Monotype Corsiva"/>
            </a:endParaRPr>
          </a:p>
        </p:txBody>
      </p:sp>
      <p:pic>
        <p:nvPicPr>
          <p:cNvPr id="79" name="v.a.motsart_-_muzyka_angelov_ispolnyaet_robert_pattison_(zaycev.net).mp3" descr=""/>
          <p:cNvPicPr/>
          <p:nvPr/>
        </p:nvPicPr>
        <p:blipFill>
          <a:blip r:embed="rId1"/>
          <a:stretch/>
        </p:blipFill>
        <p:spPr>
          <a:xfrm>
            <a:off x="84582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0" name="TextBox 1"/>
          <p:cNvSpPr/>
          <p:nvPr/>
        </p:nvSpPr>
        <p:spPr>
          <a:xfrm>
            <a:off x="3736080" y="6156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8086680" cy="5546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85337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8:46:57Z</dcterms:created>
  <dc:creator>User</dc:creator>
  <dc:description/>
  <dc:language>en-US</dc:language>
  <cp:lastModifiedBy>Денис</cp:lastModifiedBy>
  <dcterms:modified xsi:type="dcterms:W3CDTF">2015-03-03T21:29:5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